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8225B-2E58-4C8D-832C-A5036CE7AC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DCC5-2677-47AC-A862-105BFA1D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D85DF-5905-4214-A7D8-F9A89497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3652-B5D7-4FAE-B110-2C07ACF8E0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E353F-5E1D-45BC-95F6-804F40BD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74DBD-4BA3-4431-81C9-6D391904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0EF3C-7A01-4C6B-83E5-0BA0B219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1A204-669D-4157-BA47-475776FBC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C2FD8-7707-45EA-8396-6C35D81E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A43AD-BF3D-4AF2-8C62-497CE2D3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83836-C7D2-4D12-A1A6-7A4A4409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72FCA-6460-4472-91FC-D6986605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F744-F19E-4E2F-8898-8D088CDE9B6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拟胆碱药和抗胆碱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560160"/>
            <a:ext cx="8077320" cy="56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胆碱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胆碱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完全拟胆碱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激动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毛果芸香碱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iloca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：缩瞳 降低眼压 调节痉挛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点眼治疗青光眼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抗胆碱酯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易逆行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新斯的明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eostigm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：重症肌无力、 术后腹胀气和尿潴留、 阵发性室上性心动过速、肌松药过量中毒解救、对抗阿拖品中毒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吡斯的明、安具氯胺、加兰他敏、毒扁豆碱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难逆性抗胆碱酯酶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有机磷酸酯类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急性中毒表现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轻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为主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中度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重度：除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M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样作用，还有中枢神经系统症状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中毒解救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阿托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胆碱酯酶复活药：碘解磷定、氯解磷定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胆碱药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阿托品类生物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阿托品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trop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良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东莨菪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作用和应用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不反应和药物监护须知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</a:t>
            </a:r>
            <a:r>
              <a:rPr b="1" lang="en-US" sz="2800" spc="-1" strike="noStrike" baseline="-25000">
                <a:solidFill>
                  <a:srgbClr val="3582a3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胆碱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骨骼肌松弛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去极化型肌松药：琥珀胆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(scoline)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非去极化肌松药：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筒箭毒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7T05:28:18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