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4B69-AAB0-4A03-B7EE-11BCE09FB7D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1F43D-4FE9-4E97-AFA7-19F316BC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B51CF-9761-420A-BB2B-38B622E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7BE2-E563-40AC-8E60-62F1FA5FDA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E4CF-E5EA-47C0-BE52-E74CBF8F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E59A-9AC8-4C6B-89CE-C7EC70AE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3758-5B8F-4845-81BA-8A737B6A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B536C-E133-4F76-BD32-C56F23DF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680F-DDD9-4CB4-B6CC-AF66537B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0F11-F416-41BE-AB9E-BFDCD488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0369D-09C3-4B07-985E-FA32BF39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34B2-AB24-4B1F-B135-E4F114B0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3143-B2AA-41E7-9FA1-C9CBA56EE5A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08000" y="2276640"/>
            <a:ext cx="691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影响药物作用的因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药物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剂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给药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的相互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耐受性和药物依赖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机体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生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年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性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营养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精神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遗传因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病理状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发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肝、肾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枢神经系统状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三、饮食对药物作用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四、时间药理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五、心理因素与用药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药物对病人心理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心理因素对药物作用的影响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情绪的影响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对药物的信赖度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医护人员的语言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用药的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11:2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