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38E4-4753-4161-BD67-9466FD0D0F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E438-FA8B-469C-861D-10FCD607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3C95-A988-4444-98D1-9BBEE74C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932B-1A45-453D-AAA4-45C69DE05F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5D5D-14D9-45FC-9923-D5175CAF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494A8-1691-44AA-BDA1-F5B08E1C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5AE7-BB48-4F7F-822C-8FE1ED9F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467AD-82D4-49FF-9497-F1ABF3E1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A3BD-A69E-4F01-A4B1-A7051ADA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580C-2050-49CE-92BF-DBF5EAE4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7D9E-26DA-4F9B-9FD0-C0FAE6F0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DA04-96C6-4945-B8C9-05C613E9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D99D-8BBA-4CDA-8A51-6723304E129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56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效应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Times New Roman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的基本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基本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兴奋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选择性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在治疗剂量时，药物通常只选择性地对某一个或几个器官组织产生明显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的适应证取决于药物作用的选择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作用方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局部作用和吸收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直接作用和间接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作用的临床效果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不良反应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副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毒性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变态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后遗效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继发反应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致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个体差异：个体之间对同一药物的反应可有明显差异称为药物作用的个体差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高敏性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耐受性（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toler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抗药性（耐药性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resistance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量效关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剂量的概念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量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极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量反应和质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量反应：药物效应凡能用具体数量来表示的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质反应：药物效应不能用数量表示，需用阴性或阳性、有或无来表示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指数：是用来估计一个药物安全性的指标，常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L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/ED</a:t>
            </a:r>
            <a:r>
              <a:rPr b="1" lang="en-US" sz="2400" spc="-1" strike="noStrike" baseline="-25000">
                <a:solidFill>
                  <a:srgbClr val="3582a3"/>
                </a:solidFill>
                <a:latin typeface="Arial"/>
                <a:ea typeface="宋体"/>
              </a:rPr>
              <a:t>50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的比值表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作用机制和受体学说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从构效关系归纳作用机制的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细胞周围环境的理化条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参与或干扰细胞物质代谢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通过抑制或促进体内某些酶而起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细胞膜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改变体内生理递质激素的释放或分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药物和受体学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完全激动剂：药物与受体有较强的亲和力，并有较强的内在活性，能兴奋受体产生明显效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拮抗剂：药物与受体有较强的亲和力，没有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部分激动剂：药物与受体有亲和力，但只有弱的内在活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联合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一）相加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二）增强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（三）对抗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06:2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