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940C-CA4E-4FAB-AFFC-F5F5DF8813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60FBB-17D4-4EC6-BFC3-DC43C01D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96165-55EF-40A9-9171-29F511F1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297A1-CA49-4F54-82EE-0F93F831E4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3E5D3-1DDA-429C-8C29-E3C7631A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57F3F-C0F4-4F0C-A09D-81E32125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12E1F-6167-44F0-88F4-4ED91066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3D38-1535-4A39-93BB-4C3CAB53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0C491-56E0-480A-A252-DD874ADD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38E2-1B2C-42C9-8307-F165C33A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400C-5531-43BA-B2AE-67D35E9C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502D8-E41C-4570-9F12-D3ECF3FC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27B9-81B9-4063-8FB9-A6BF74DD229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绪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5840" y="267840"/>
            <a:ext cx="8076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药理学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药理学（</a:t>
            </a:r>
            <a:r>
              <a:rPr b="1" lang="en-US" sz="2800" spc="-1" strike="noStrike">
                <a:solidFill>
                  <a:srgbClr val="3582a3"/>
                </a:solidFill>
                <a:latin typeface="Verdana"/>
                <a:ea typeface="宋体"/>
              </a:rPr>
              <a:t>Pharmacology</a:t>
            </a: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）：是研究药物与机体相互作用规律和机制的科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效动力学：阐明药物对机体的作用和作用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582a3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3582a3"/>
                </a:solidFill>
                <a:latin typeface="Arial"/>
                <a:ea typeface="宋体"/>
              </a:rPr>
              <a:t>药物代谢动力学：阐明药物在机体内吸收、分布、代谢和排泄等过程 和血药浓度随时间消长的规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护理药理学：以人为对象，阐述临床如何合理用药和护士在合理用药中的地位及作用，做好药疗监护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士在临床用药中的作用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协助医生合理用药，注意观察药效和不良反应。防治和减少药源性疾病和事故发生，使药物治疗达到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4888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药物治疗中的护理须知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一）严格按医嘱用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二）用药前“三查七对”，并充分了解有关新用药物的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三）指导患者按时服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582a3"/>
                </a:solidFill>
                <a:latin typeface="Verdana"/>
                <a:ea typeface="宋体"/>
              </a:rPr>
              <a:t>（四）注意观察药效和不良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582a3"/>
                </a:solidFill>
                <a:latin typeface="Verdana"/>
                <a:ea typeface="宋体"/>
              </a:rPr>
              <a:t>谢谢大家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6-03-11T03:04:05Z</dcterms:modified>
  <cp:revision>2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