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45D03-4852-42FC-B707-58BD6299FD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61D3-A5E4-4F55-AB65-F7F855F2B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9EE7C-0A57-4BB2-8AFF-D58FA365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2BEC-31B5-40C7-A8D7-ED39859A8D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EF25D-4560-4C3A-A032-A54E24365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7935-CA74-4DA3-873C-435B6C26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F54E-6889-4F49-B781-266ACD4F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5CBF-D0C0-455E-8A03-1CB149A1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251A-0A19-4593-8527-E429AC84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6816B-0D24-42B6-9881-0FA0DC80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1FA8-980B-428D-A9E2-B58C2774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2044-5564-4319-B652-1E232877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139D-96E2-42EE-AD8E-80914364DC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脑功能改善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28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M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受体激动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占诺美林（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xanomeline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易吸收，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选择性激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受体，可明显改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功能和行为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本品具有安全、耐受性好、且不良反应较轻等优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高剂量易引起胃肠和心血管方面的不良反应，现拟改为皮肤给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  改善脑代谢或脑循环的药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吡拉西坦（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piracetam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茴拉西坦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aniracetam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海特琴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hydergin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，双氢麦角碱，喜得镇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尼麦角林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(nicergoline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银杏叶制剂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539640" y="4365720"/>
            <a:ext cx="77058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能加快脑血液循环，加强脑细胞的新陈代谢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增加氧和葡萄糖的利用，从而改善阿尔茨海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人的记忆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670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吡拉西坦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（一）体内过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服很快从消化道吸收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钟血药浓度达到峰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易通过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脊液屏障和胎盘屏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浆蛋白结合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半衰期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小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原形形式从尿和粪便中排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理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进脑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，可促进乙酰胆碱合成并增强神经兴奋的传导，具有促进脑内代谢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对抗由物理因素、化学因素所致的脑功能损伤， 对缺氧所致的逆行性健忘有改进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可以增强记忆，提高学习能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临床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适用于急、慢性脑血管病、脑外伤、各种中毒性脑病等多种原因所致的记忆减退及轻、中度脑功能障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也可用于儿童智能发育迟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93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消化道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腹部不适、纳差、腹胀、腹痛等，症状的轻重与服药剂量直接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中枢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包括兴奋、易激动、头晕、头痛和失眠等，但症状轻微，且与服用剂量大小无关停药后以上症状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偶见轻度肝功能损害，表现为轻度转氨酶升高，但与药物剂量无关。肝肾功能障碍者慎用并应适当减少剂量；本品易通过胎盘屏障，孕妇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神经营养因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0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属基因工程药物，包括神经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N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脑源性神经营养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DN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成纤维细胞生长因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BFGF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神经营养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类能促进神经系统发育和维持神经系统功能的蛋白质：同时具有保护和促进神经元生长、分化、存活、修复损伤以及延缓中枢神经退行性病变等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5000"/>
              </a:lnSpc>
              <a:spcBef>
                <a:spcPts val="876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望成为新的抗老年痴呆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神经保护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79930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钙通道阻滞药：如尼莫地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210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因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超载，可导致线粒体膜破坏和过度活化蛋白激酶、磷酯酶，触发神经细胞的凋亡。此类药物能抑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a2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流，起到保护神经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抗炎及抗淀粉样蛋白治疗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多奈哌齐、卡巴拉汀等和免疫球蛋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能阻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淀粉样蛋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和促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，可降低大脑皮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沉积物，改善轻、中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认知和行为能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合用非类固醇消炎镇痛药抗炎治疗，有益于防止淀粉样蛋白的产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四、抗氧化治疗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65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药物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维生素、维生素、艾地苯醌、褪黑素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作用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通过消除自由基和活性氧或者阻止其形成，保护神经细胞不被损伤，是一种安全、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20000"/>
              </a:lnSpc>
              <a:spcBef>
                <a:spcPts val="1749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特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此类药物不良反应少，相对安全性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0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列举治疗阿尔茨海默病的药物的分类、作用环节及代表性药物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应用多奈哌齐治疗阿尔茨海默病时应注意哪些事项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2421000"/>
            <a:ext cx="763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治疗老年性痴呆症药的分类、代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药的作用特点、不良反应及药疗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事项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老年性痴呆症简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分类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为原发性痴呆症、血管性痴呆症和混合性痴呆，前者又称为阿尔茨海默病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主要临床表现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进行性认知和记忆障碍，并伴有行为和情感异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发病机制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不明确，主要病理特征脑脊髓神经元细胞发生退行性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治疗药物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目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尚无十分有效的治疗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胆碱酯酶抑制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受体激动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脑代谢等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宋体"/>
              </a:rPr>
              <a:t>知识链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755640" y="1197000"/>
            <a:ext cx="7848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阿尔茨海默病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AD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引起老年性痴呆最主要的原因，约占老年性痴呆患者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年龄高度相关，其发病率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，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岁人群则高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％。随着人类寿命的延长和社会人口老龄化的进展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患者的数量和比例会持续增高，将给家庭和社会带来沉重的负担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尚无十分有效的治疗方法，对晚期、重症患者基本无药可治，而早期或轻中度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可用治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阿尔茨海默病药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胆碱酯酶抑制药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2004840" y="1310760"/>
            <a:ext cx="573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一、多奈哌齐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donepezil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宋体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39640" y="2060640"/>
            <a:ext cx="78487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（一） 体内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口服吸收良好，生物利用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药浓度达峰时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浆蛋白结合率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％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0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时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代谢产物主要经肾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二）药理作用与临床应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22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药理作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第二代可逆性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ChE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药，能明显抑制脑组织中的胆碱酯酶的活性，提高乙酰胆碱的含量，能改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人的认知能力和临床综合能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临床应用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用于轻、中度阿尔茨海默病，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的记忆力减退等症状有一定的改善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（三）不良反应和药疗监护须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865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胃肠道症状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恶心、呕吐、腹痛、腹泻、便秘畏食、胃肠道出血等。消化性溃疡患者慎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全身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常见有流感样胸痛、牙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神经系统反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眩晕、失眠、易激惹、癫痫。减量或停止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心血管系统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心动过缓，患有“病窦综合征”或其他室上性心脏传导疾病患者需尤其注意，严重心血管疾患禁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宋体"/>
              </a:rPr>
              <a:t>.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其他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肌肉痉挛尿失禁乏力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四）药物相互作用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2421000"/>
            <a:ext cx="861048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拟胆碱药或其他胆碱酯酶抑制药可加重多奈哌齐的不良反应，应避免合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21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与抗胆碱药有拮抗作用，不宜联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其他胆碱酯酶抑制药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341360"/>
          <a:ext cx="8610480" cy="5149800"/>
        </p:xfrm>
        <a:graphic>
          <a:graphicData uri="http://schemas.openxmlformats.org/drawingml/2006/table">
            <a:tbl>
              <a:tblPr/>
              <a:tblGrid>
                <a:gridCol w="1368360"/>
                <a:gridCol w="4681440"/>
                <a:gridCol w="2560680"/>
              </a:tblGrid>
              <a:tr h="57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药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作用特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Verdana"/>
                          <a:ea typeface="宋体"/>
                        </a:rPr>
                        <a:t>临床应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利凡斯的明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改善阿尔茨海默病患者胆碱能介导的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认知功能障碍，还可减慢淀粉样蛋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β-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淀粉样前体蛋白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APP)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片段的形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成而淀粉样斑块是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主要病理特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征之一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阿尔茨海默病性痴呆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4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加兰他敏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对神经元中的胆碱酯酶有高度选择性且有一定的中枢拟胆碱作用，具有神经保护功能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治疗轻、中度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有效率为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5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～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％，有望成为治疗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D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的首选药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石杉碱甲 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为强效、可逆性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ChE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抑制药，能改善其记忆和认知能力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用于老年性记忆功能减退及老年痴呆患者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sxm</cp:lastModifiedBy>
  <cp:lastPrinted>1899-12-30T00:00:00Z</cp:lastPrinted>
  <dcterms:modified xsi:type="dcterms:W3CDTF">2016-03-11T02:00:57Z</dcterms:modified>
  <cp:revision>1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