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1EA57A-4034-42A7-8BA1-E028636379D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B9B88A-07A3-4D91-B576-E4830689C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4DE7AA-2FDA-4AF2-8733-930399B04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FA303B-25C5-463F-9338-37F1AB42F25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7748BB-29DD-4521-825B-E58D99E53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E11FE1-E9D0-4FB3-8083-AD51841B3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C8244A-A327-4CC5-B567-9DF3AB842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E7AACB-4BEC-47E2-A514-EA125C597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043EAC-A51E-4C75-B666-B8A6CD881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173E20-C22B-432F-B516-5032A9A74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76FE0F-EC00-4CE5-86E5-B18C6907B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A28847-E450-49AE-996E-E94E1ED27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B4EDF-A21B-43A0-BA03-8682B24D59C1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八章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拟肾上腺素药和抗肾上腺素药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41724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、拟肾上腺素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一、激动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α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和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β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受体的拟肾上腺素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表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8.1 α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β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受体分布和效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（一）肾上腺素（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adrenaline  AD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作用：兴奋心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血管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:     </a:t>
            </a:r>
            <a:r>
              <a:rPr b="1" lang="el-GR" sz="2400" spc="-1" strike="noStrike">
                <a:solidFill>
                  <a:srgbClr val="3582a3"/>
                </a:solidFill>
                <a:latin typeface="Arial"/>
                <a:ea typeface="宋体"/>
              </a:rPr>
              <a:t>α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受体兴奋，血管收缩，血压升高。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平滑肌：</a:t>
            </a:r>
            <a:r>
              <a:rPr b="1" lang="el-GR" sz="2400" spc="-1" strike="noStrike">
                <a:solidFill>
                  <a:srgbClr val="3582a3"/>
                </a:solidFill>
                <a:latin typeface="Arial"/>
                <a:ea typeface="宋体"/>
              </a:rPr>
              <a:t>β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受体兴奋，支气管平滑肌舒张。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血糖升高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。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应用：过敏休克 心脏骤停、急性支气管哮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不良反应和药物监护须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4082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（二）多巴胺 （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dopamine DA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作用：口服无效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可激动</a:t>
            </a:r>
            <a:r>
              <a:rPr b="1" lang="el-GR" sz="2400" spc="-1" strike="noStrike">
                <a:solidFill>
                  <a:srgbClr val="3582a3"/>
                </a:solidFill>
                <a:latin typeface="Arial"/>
                <a:ea typeface="宋体"/>
              </a:rPr>
              <a:t>α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、</a:t>
            </a:r>
            <a:r>
              <a:rPr b="1" lang="el-GR" sz="2400" spc="-1" strike="noStrike">
                <a:solidFill>
                  <a:srgbClr val="3582a3"/>
                </a:solidFill>
                <a:latin typeface="Arial"/>
                <a:ea typeface="宋体"/>
              </a:rPr>
              <a:t>β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受体和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DA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受体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激动肾多巴胺受体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: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使肾血管扩张，使肾血流量及肾虑过率均增加，及可排钠利尿。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应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治疗各种休克 、急性肾衰竭 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不良反应和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4082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（三）麻黄碱 （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ephedrine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作用：激动</a:t>
            </a:r>
            <a:r>
              <a:rPr b="1" lang="el-GR" sz="2800" spc="-1" strike="noStrike">
                <a:solidFill>
                  <a:srgbClr val="3582a3"/>
                </a:solidFill>
                <a:latin typeface="Verdana"/>
                <a:ea typeface="宋体"/>
              </a:rPr>
              <a:t>α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</a:t>
            </a:r>
            <a:r>
              <a:rPr b="1" lang="el-GR" sz="2800" spc="-1" strike="noStrike">
                <a:solidFill>
                  <a:srgbClr val="3582a3"/>
                </a:solidFill>
                <a:latin typeface="Verdana"/>
                <a:ea typeface="宋体"/>
              </a:rPr>
              <a:t>β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受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特点：起效慢、作用弱、持续时间长可引起中枢兴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应用：防治腰麻引起的低血压，防治轻度哮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不良反应和药物监护须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41724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主要激动</a:t>
            </a:r>
            <a:r>
              <a:rPr b="1" lang="el-GR" sz="3200" spc="-1" strike="noStrike">
                <a:solidFill>
                  <a:srgbClr val="ffffff"/>
                </a:solidFill>
                <a:latin typeface="Verdana"/>
                <a:ea typeface="宋体"/>
              </a:rPr>
              <a:t>α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的拟肾上腺素药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去甲肾上腺素（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NA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间羟胺（阿拉明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去氧肾上腺素（新福林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41724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主要激动</a:t>
            </a:r>
            <a:r>
              <a:rPr b="1" lang="el-GR" sz="3200" spc="-1" strike="noStrike">
                <a:solidFill>
                  <a:srgbClr val="ffffff"/>
                </a:solidFill>
                <a:latin typeface="Verdana"/>
                <a:ea typeface="宋体"/>
              </a:rPr>
              <a:t>β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的拟肾上腺素药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（一）异丙肾上腺素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作用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应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心脏骤停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房室传导阻滞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休克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支气管哮喘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  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不良反应和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（二）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多巴酚丁胺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41724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抗肾上腺素药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一、</a:t>
            </a:r>
            <a:r>
              <a:rPr b="1" lang="el-GR" sz="2800" spc="-1" strike="noStrike">
                <a:solidFill>
                  <a:srgbClr val="3582a3"/>
                </a:solidFill>
                <a:latin typeface="Verdana"/>
                <a:ea typeface="宋体"/>
              </a:rPr>
              <a:t>α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受体阻断药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酚妥拉明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妥拉唑啉和酚苄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55280" y="549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</a:t>
            </a:r>
            <a:r>
              <a:rPr b="1" lang="el-GR" sz="3200" spc="-1" strike="noStrike">
                <a:solidFill>
                  <a:srgbClr val="ffffff"/>
                </a:solidFill>
                <a:latin typeface="Verdana"/>
                <a:ea typeface="宋体"/>
              </a:rPr>
              <a:t>β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（一）普萘洛尔（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propranolod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，心得安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作用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应用：抗心绞痛、抗心律失常、抗高血压、抗血小板聚集作用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。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不良反应和药物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常用</a:t>
            </a:r>
            <a:r>
              <a:rPr b="1" lang="el-GR" sz="2800" spc="-1" strike="noStrike">
                <a:solidFill>
                  <a:srgbClr val="3582a3"/>
                </a:solidFill>
                <a:latin typeface="Verdana"/>
                <a:ea typeface="宋体"/>
              </a:rPr>
              <a:t>β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受体阻断药的比较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选择性</a:t>
            </a:r>
            <a:r>
              <a:rPr b="1" lang="el-GR" sz="2400" spc="-1" strike="noStrike">
                <a:solidFill>
                  <a:srgbClr val="3582a3"/>
                </a:solidFill>
                <a:latin typeface="Arial"/>
                <a:ea typeface="宋体"/>
              </a:rPr>
              <a:t>β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1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受体阻断药：美托洛尔、比索洛尔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4082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3582a3"/>
                </a:solidFill>
                <a:latin typeface="Verdana"/>
                <a:ea typeface="宋体"/>
              </a:rPr>
              <a:t>谢谢大家</a:t>
            </a:r>
            <a:endParaRPr b="1" lang="en-US" sz="9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sxm</cp:lastModifiedBy>
  <cp:lastPrinted>1899-12-30T00:00:00Z</cp:lastPrinted>
  <dcterms:modified xsi:type="dcterms:W3CDTF">2016-03-11T01:36:21Z</dcterms:modified>
  <cp:revision>33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