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56603-9346-4BBB-9543-82EDF92C1C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C33B5-A759-44CB-8C26-B3FE10827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0BE42-071B-417F-90A0-58ECE562B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44284-A1F6-44A4-A293-1EB81EFD41D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0B316-F46E-49C1-A9F9-9B69DF46D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DFCC4-85FD-4CF0-9202-7E384DF29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BB50E-0177-4BD0-BD42-1B659C01D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EC389-EF4A-45D9-9547-47EE845A1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EC8D5-6A9A-4776-9DE7-2CF6FAAA7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BF9DF-F6FB-41D4-99F4-C4AA61582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E7CE4-055E-4741-A347-FF9D76294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74557-8F97-4F72-B2E3-347848AFD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0FE34-6488-45DA-9394-115A21F51FA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七章  拟胆碱药和抗胆碱药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560160"/>
            <a:ext cx="8077320" cy="56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、拟胆碱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胆碱受体激动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完全拟胆碱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M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激动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毛果芸香碱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pilocapine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作用：缩瞳 降低眼压 调节痉挛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应用：点眼治疗青光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二、抗胆碱酯酶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易逆行抗胆碱酯酶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1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新斯的明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neostigmine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应用：重症肌无力、 术后腹胀气和尿潴留、 阵发性室上性心动过速、肌松药过量中毒解救、对抗阿拖品中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不良反应和药物监护须知。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2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吡斯的明、安具氯胺、加兰他敏、毒扁豆碱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二）难逆性抗胆碱酯酶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有机磷酸酯类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1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急性中毒表现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轻度：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M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样作用为主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中度：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M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样和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N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样作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。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重度：除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M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、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N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样作用，还有中枢神经系统症状。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2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中毒解救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阿托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胆碱酯酶复活药：碘解磷定、氯解磷定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胆碱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M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胆碱受体阻断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阿托品类生物碱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阿托品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atropine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作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应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不良反应和药物监护须知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东莨菪碱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作用和应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不反应和药物监护须知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二、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N</a:t>
            </a:r>
            <a:r>
              <a:rPr b="1" lang="en-US" sz="2800" spc="-1" strike="noStrike" baseline="-25000">
                <a:solidFill>
                  <a:srgbClr val="3582a3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胆碱受体阻断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(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骨骼肌松弛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去极化型肌松药：琥珀胆碱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(scoline)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非去极化肌松药：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筒箭毒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582a3"/>
                </a:solidFill>
                <a:latin typeface="Verdana"/>
                <a:ea typeface="宋体"/>
              </a:rPr>
              <a:t>谢谢大家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7T05:28:18Z</dcterms:modified>
  <cp:revision>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