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2CE7-AEB8-4620-900C-B3A8B7B1D7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3284-CA50-46BC-8BDC-C488B5C9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9A95-946D-455B-9446-C68DA3B1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71F0-AE13-4108-BEA1-2AEDF92F62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E93F8-1704-4FBD-BADF-5F8AAF5F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0949-DA7E-423F-9C20-475AB608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B66B-3F87-4F5F-88E6-0E13D1E4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53B3-ACEE-4E48-A1B0-3D89338D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F9756-742F-43ED-9D65-E060108F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8FC2F-C062-4D1C-87FD-4272E22F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012BC-3FEC-46E6-A919-69F658B3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6FFC-71DB-4596-8599-1F098006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BC0C-989E-47C6-AD21-97457E6D364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效应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Times New Roman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的基本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基本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兴奋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选择性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在治疗剂量时，药物通常只选择性地对某一个或几个器官组织产生明显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的适应证取决于药物作用的选择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作用方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局部作用和吸收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直接作用和间接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临床效果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不良反应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副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毒性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变态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后遗效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继发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致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个体差异：个体之间对同一药物的反应可有明显差异称为药物作用的个体差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高敏性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耐受性（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toler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抗药性（耐药性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resist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量效关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剂量的概念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量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量反应和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量反应：药物效应凡能用具体数量来表示的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质反应：药物效应不能用数量表示，需用阴性或阳性、有或无来表示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指数：是用来估计一个药物安全性的指标，常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的比值表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机制和受体学说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从构效关系归纳作用机制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细胞周围环境的理化条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参与或干扰细胞物质代谢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通过抑制或促进体内某些酶而起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细胞膜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体内生理递质激素的释放或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药物和受体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完全激动剂：药物与受体有较强的亲和力，并有较强的内在活性，能兴奋受体产生明显效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拮抗剂：药物与受体有较强的亲和力，没有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部分激动剂：药物与受体有亲和力，但只有弱的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相加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增强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对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06:2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