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C05330-8675-4328-AD77-BD46320E75F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0A2D38-0567-444D-B075-E3C85CFAF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E0ADEF-CC09-4526-AFD9-852280CD3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BC27DF-ECD0-46DB-A1BD-3D64E831FDD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47FD57-0391-4B58-8775-01E54FE60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50EB8F-C1EF-417D-94B3-117B72715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E0C2CF-023C-4E55-8F2C-D49B10D4E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FEA1EA-4B9A-4AA6-8DE7-AB8574EFE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548207-EC86-4376-97E4-DC992E7BE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ACBDD2-F78D-4DC1-AED6-A87D2884B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2882AF-81B7-4F50-AE32-751BE11B1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028BD6-1CBD-433C-9370-25AA58CAE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C0B5E-C02D-490D-AEED-C192FE272904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八章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拟肾上腺素药和抗肾上腺素药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41724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、拟肾上腺素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一、激动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α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和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β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受体的拟肾上腺素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表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8.1 α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β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受体分布和效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（一）肾上腺素（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adrenaline  AD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作用：兴奋心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血管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:     </a:t>
            </a:r>
            <a:r>
              <a:rPr b="1" lang="el-GR" sz="2400" spc="-1" strike="noStrike">
                <a:solidFill>
                  <a:srgbClr val="3582a3"/>
                </a:solidFill>
                <a:latin typeface="Arial"/>
                <a:ea typeface="宋体"/>
              </a:rPr>
              <a:t>α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受体兴奋，血管收缩，血压升高。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平滑肌：</a:t>
            </a:r>
            <a:r>
              <a:rPr b="1" lang="el-GR" sz="2400" spc="-1" strike="noStrike">
                <a:solidFill>
                  <a:srgbClr val="3582a3"/>
                </a:solidFill>
                <a:latin typeface="Arial"/>
                <a:ea typeface="宋体"/>
              </a:rPr>
              <a:t>β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受体兴奋，支气管平滑肌舒张。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血糖升高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。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应用：过敏休克 心脏骤停、急性支气管哮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不良反应和药物监护须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4082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（二）多巴胺 （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dopamine DA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作用：口服无效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可激动</a:t>
            </a:r>
            <a:r>
              <a:rPr b="1" lang="el-GR" sz="2400" spc="-1" strike="noStrike">
                <a:solidFill>
                  <a:srgbClr val="3582a3"/>
                </a:solidFill>
                <a:latin typeface="Arial"/>
                <a:ea typeface="宋体"/>
              </a:rPr>
              <a:t>α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、</a:t>
            </a:r>
            <a:r>
              <a:rPr b="1" lang="el-GR" sz="2400" spc="-1" strike="noStrike">
                <a:solidFill>
                  <a:srgbClr val="3582a3"/>
                </a:solidFill>
                <a:latin typeface="Arial"/>
                <a:ea typeface="宋体"/>
              </a:rPr>
              <a:t>β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受体和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DA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受体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激动肾多巴胺受体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: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使肾血管扩张，使肾血流量及肾虑过率均增加，及可排钠利尿。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应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治疗各种休克 、急性肾衰竭 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不良反应和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4082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（三）麻黄碱 （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ephedrine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作用：激动</a:t>
            </a:r>
            <a:r>
              <a:rPr b="1" lang="el-GR" sz="2800" spc="-1" strike="noStrike">
                <a:solidFill>
                  <a:srgbClr val="3582a3"/>
                </a:solidFill>
                <a:latin typeface="Verdana"/>
                <a:ea typeface="宋体"/>
              </a:rPr>
              <a:t>α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</a:t>
            </a:r>
            <a:r>
              <a:rPr b="1" lang="el-GR" sz="2800" spc="-1" strike="noStrike">
                <a:solidFill>
                  <a:srgbClr val="3582a3"/>
                </a:solidFill>
                <a:latin typeface="Verdana"/>
                <a:ea typeface="宋体"/>
              </a:rPr>
              <a:t>β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受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特点：起效慢、作用弱、持续时间长可引起中枢兴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应用：防治腰麻引起的低血压，防治轻度哮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不良反应和药物监护须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41724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主要激动</a:t>
            </a:r>
            <a:r>
              <a:rPr b="1" lang="el-GR" sz="3200" spc="-1" strike="noStrike">
                <a:solidFill>
                  <a:srgbClr val="ffffff"/>
                </a:solidFill>
                <a:latin typeface="Verdana"/>
                <a:ea typeface="宋体"/>
              </a:rPr>
              <a:t>α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的拟肾上腺素药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去甲肾上腺素（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NA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间羟胺（阿拉明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去氧肾上腺素（新福林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41724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主要激动</a:t>
            </a:r>
            <a:r>
              <a:rPr b="1" lang="el-GR" sz="3200" spc="-1" strike="noStrike">
                <a:solidFill>
                  <a:srgbClr val="ffffff"/>
                </a:solidFill>
                <a:latin typeface="Verdana"/>
                <a:ea typeface="宋体"/>
              </a:rPr>
              <a:t>β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的拟肾上腺素药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（一）异丙肾上腺素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作用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应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心脏骤停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房室传导阻滞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休克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支气管哮喘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  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不良反应和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（二）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多巴酚丁胺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41724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抗肾上腺素药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一、</a:t>
            </a:r>
            <a:r>
              <a:rPr b="1" lang="el-GR" sz="2800" spc="-1" strike="noStrike">
                <a:solidFill>
                  <a:srgbClr val="3582a3"/>
                </a:solidFill>
                <a:latin typeface="Verdana"/>
                <a:ea typeface="宋体"/>
              </a:rPr>
              <a:t>α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受体阻断药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酚妥拉明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妥拉唑啉和酚苄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55280" y="549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</a:t>
            </a:r>
            <a:r>
              <a:rPr b="1" lang="el-GR" sz="3200" spc="-1" strike="noStrike">
                <a:solidFill>
                  <a:srgbClr val="ffffff"/>
                </a:solidFill>
                <a:latin typeface="Verdana"/>
                <a:ea typeface="宋体"/>
              </a:rPr>
              <a:t>β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（一）普萘洛尔（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propranolod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，心得安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作用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应用：抗心绞痛、抗心律失常、抗高血压、抗血小板聚集作用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。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不良反应和药物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常用</a:t>
            </a:r>
            <a:r>
              <a:rPr b="1" lang="el-GR" sz="2800" spc="-1" strike="noStrike">
                <a:solidFill>
                  <a:srgbClr val="3582a3"/>
                </a:solidFill>
                <a:latin typeface="Verdana"/>
                <a:ea typeface="宋体"/>
              </a:rPr>
              <a:t>β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受体阻断药的比较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选择性</a:t>
            </a:r>
            <a:r>
              <a:rPr b="1" lang="el-GR" sz="2400" spc="-1" strike="noStrike">
                <a:solidFill>
                  <a:srgbClr val="3582a3"/>
                </a:solidFill>
                <a:latin typeface="Arial"/>
                <a:ea typeface="宋体"/>
              </a:rPr>
              <a:t>β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1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受体阻断药：美托洛尔、比索洛尔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4082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3582a3"/>
                </a:solidFill>
                <a:latin typeface="Verdana"/>
                <a:ea typeface="宋体"/>
              </a:rPr>
              <a:t>谢谢大家</a:t>
            </a:r>
            <a:endParaRPr b="1" lang="en-US" sz="9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sxm</cp:lastModifiedBy>
  <cp:lastPrinted>1899-12-30T00:00:00Z</cp:lastPrinted>
  <dcterms:modified xsi:type="dcterms:W3CDTF">2016-03-11T01:36:21Z</dcterms:modified>
  <cp:revision>33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