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038B4-8385-4301-8E87-4AE18988C8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530B9-FF88-484C-980B-C36D2363B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CB8F2-E1F0-44FA-B1F5-9525C8FD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4DEA5-18F4-4D1C-B764-5B1509A276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13C0B-7603-4635-AFE2-950C596BD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3F248-6419-444B-90A4-8D971B1EA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97627-B64F-4C55-98B8-530E30DB6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6E135-9732-4CBE-B88D-27EEA9452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42BB7-2253-4B6E-8B63-25ECE4724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9F01E-6E65-4871-8689-91346B6AA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3FE87-45EC-42C4-BD14-8F6C3820F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03ADA-42E8-4EFC-85D8-775298C73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A1ED0-4FE3-42E0-94EC-F731EB932FC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七章  拟胆碱药和抗胆碱药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560160"/>
            <a:ext cx="8077320" cy="56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、拟胆碱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胆碱受体激动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完全拟胆碱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M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激动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毛果芸香碱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pilocapine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作用：缩瞳 降低眼压 调节痉挛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应用：点眼治疗青光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二、抗胆碱酯酶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易逆行抗胆碱酯酶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1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新斯的明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neostigmine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应用：重症肌无力、 术后腹胀气和尿潴留、 阵发性室上性心动过速、肌松药过量中毒解救、对抗阿拖品中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不良反应和药物监护须知。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2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吡斯的明、安具氯胺、加兰他敏、毒扁豆碱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二）难逆性抗胆碱酯酶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有机磷酸酯类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1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急性中毒表现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轻度：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M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样作用为主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中度：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M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样和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N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样作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。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重度：除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M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、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N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样作用，还有中枢神经系统症状。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2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中毒解救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阿托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胆碱酯酶复活药：碘解磷定、氯解磷定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胆碱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M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胆碱受体阻断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阿托品类生物碱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阿托品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atropine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作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应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不良反应和药物监护须知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东莨菪碱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作用和应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不反应和药物监护须知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二、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N</a:t>
            </a:r>
            <a:r>
              <a:rPr b="1" lang="en-US" sz="2800" spc="-1" strike="noStrike" baseline="-25000">
                <a:solidFill>
                  <a:srgbClr val="3582a3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胆碱受体阻断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(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骨骼肌松弛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去极化型肌松药：琥珀胆碱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(scoline)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非去极化肌松药：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筒箭毒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582a3"/>
                </a:solidFill>
                <a:latin typeface="Verdana"/>
                <a:ea typeface="宋体"/>
              </a:rPr>
              <a:t>谢谢大家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7T05:28:18Z</dcterms:modified>
  <cp:revision>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