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291F1-D452-45C7-9FD6-C43C82DE50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08A5-2552-481C-9D6C-3182DF97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5F00-F309-4B60-99BB-B9D25E34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330E-DC26-4152-A778-A08045C8A9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126B-95F6-4297-A1B3-2B98119A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4695-109D-4947-A381-9B451081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F578-0A5E-41FB-B03A-99785401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1D8E-2B13-4FE5-9BD7-5C7E9E0B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C44C-D2CC-459D-8AB6-4808638B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C2BA-905F-40BA-B775-F6F0472B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B0C8-3DDC-4E3A-AF93-8A8A1F68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4BCA-2490-4A63-9E23-D8A24627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F6AE-FA33-4A41-8217-F7B62EA01D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08000" y="2276640"/>
            <a:ext cx="691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影响药物作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剂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给药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耐受性和药物依赖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机体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生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年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营养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精神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遗传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病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肝、肾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枢神经系统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饮食对药物作用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时间药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心理因素与用药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对病人心理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因素对药物作用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情绪的影响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药物的信赖度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医护人员的语言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用药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1:2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