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11.wmf" ContentType="image/x-wmf"/>
  <Override PartName="/ppt/media/image12.png" ContentType="image/png"/>
  <Override PartName="/ppt/media/image9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  <p:sldId id="289" r:id="rId48"/>
    <p:sldId id="290" r:id="rId49"/>
    <p:sldId id="291" r:id="rId50"/>
    <p:sldId id="292" r:id="rId51"/>
    <p:sldId id="293" r:id="rId52"/>
    <p:sldId id="294" r:id="rId53"/>
    <p:sldId id="295" r:id="rId54"/>
    <p:sldId id="296" r:id="rId55"/>
    <p:sldId id="297" r:id="rId56"/>
    <p:sldId id="298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slide" Target="slides/slide34.xml"/><Relationship Id="rId49" Type="http://schemas.openxmlformats.org/officeDocument/2006/relationships/slide" Target="slides/slide35.xml"/><Relationship Id="rId50" Type="http://schemas.openxmlformats.org/officeDocument/2006/relationships/slide" Target="slides/slide36.xml"/><Relationship Id="rId51" Type="http://schemas.openxmlformats.org/officeDocument/2006/relationships/slide" Target="slides/slide37.xml"/><Relationship Id="rId52" Type="http://schemas.openxmlformats.org/officeDocument/2006/relationships/slide" Target="slides/slide38.xml"/><Relationship Id="rId53" Type="http://schemas.openxmlformats.org/officeDocument/2006/relationships/slide" Target="slides/slide39.xml"/><Relationship Id="rId54" Type="http://schemas.openxmlformats.org/officeDocument/2006/relationships/slide" Target="slides/slide40.xml"/><Relationship Id="rId55" Type="http://schemas.openxmlformats.org/officeDocument/2006/relationships/slide" Target="slides/slide41.xml"/><Relationship Id="rId56" Type="http://schemas.openxmlformats.org/officeDocument/2006/relationships/slide" Target="slides/slide42.xml"/><Relationship Id="rId57" Type="http://schemas.openxmlformats.org/officeDocument/2006/relationships/slide" Target="slides/slide43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93752B-5148-4630-9C1A-01B623865C7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A685A-61E7-4359-8597-36B241CC4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AB4A59D-FF04-44EE-A9DC-86DC1959B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17B7554-05B7-46CA-B4BA-9DFFE9C23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AFF93D0-D770-460E-A841-0A7FAE13D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C88F128-4505-499A-A391-27C3C9A84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CE18750-0B4B-4CCC-8CB3-DC6D7AB46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43C0512-79E8-49E9-9B89-BA7477821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F0F3110-58AD-4D30-9101-7E018863B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64C7663-C98A-4D4B-AC1C-DCC41450A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31327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08616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1789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/>
          </p:nvPr>
        </p:nvSpPr>
        <p:spPr>
          <a:xfrm>
            <a:off x="31327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04" name="PlaceHolder 7"/>
          <p:cNvSpPr>
            <a:spLocks noGrp="1"/>
          </p:cNvSpPr>
          <p:nvPr>
            <p:ph/>
          </p:nvPr>
        </p:nvSpPr>
        <p:spPr>
          <a:xfrm>
            <a:off x="608616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99FEBAA-9C11-4C7D-9208-C503361AEDC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D1853D1-E69A-4632-B11D-555EE982D7C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45728D-C78F-4BB9-95A1-4DFBDAC6F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57DC9A1-9B6C-42AB-8C02-8DE25C68B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4820971-D22C-450F-96B7-EA9FCD6FA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7A0A747-D2EF-4488-B732-2CD0F0A02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258A12E-2F29-4201-865C-2685F68F4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6031B25-3829-4910-988F-3DEAFF9F3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A0AE23D-D320-4800-AC1E-73F2276F6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413D649-32A5-499E-BF42-A1A13D887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399F508-67F3-4D3B-8308-83717069F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399F484-CE68-4474-AE7B-9ECC9C8C0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2B194BC-3FC6-4299-A597-D31DAFB9E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327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8616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789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327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8616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8B4733-2C5E-46B3-8508-CE8D5A0C8DB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1327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8616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1789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1327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8616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33379D7-5827-4042-84A9-412F08A44F8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C1028D-7EA8-4ABA-9146-217F9FADE5A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D69864-9637-4328-B53A-A64B3B1D6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CA932D-5670-4BCB-B853-D14B75CA9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FA59DE-0D88-4752-A50D-BA73F393A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6898C5-E8EA-41E3-B9FA-BC814141D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5B8DDE-1798-4A39-9E12-5AFEF9DF8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6BAD0E-7987-427F-B50C-FD7E86971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DF6B59-C95D-4D28-8D3E-E6EAAA41C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E5A1C3-5946-4C55-B2EA-CFB1669DA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5CA76-E51B-4866-957D-31AB42B6B58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C22A9B-CFA3-497B-893D-E3E61640F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9BC8F3-A8E0-44F4-B442-D879EDE73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327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8616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1789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327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8616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ECDE9C-C5ED-4F0D-937B-847AD45B6A7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D441224-2787-453A-8575-5DCA844AD04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subTitle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C08F842-BC97-4444-80E1-36C43050A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1552C4C-9FCB-45EA-9A3B-CA5901DC2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66197F5-E20F-42F9-8172-25B8E5BA7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E7C81D4-1DDB-476D-A9A6-850218B6E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BF4BEDA-32A1-44B9-BC66-4D1C6892F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49F7501-9B36-4A74-9FCB-AC67A359D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878C2-D909-494A-815F-E96844A7F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2B08822-A2B0-476D-AECA-9BD5D2477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0D847F1-5264-4262-A422-64CD6C225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A909146-65C4-4333-9F9D-9B2BD6264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1102D03-971B-4A91-8DBD-43DEA1696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31327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608616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1789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38" name="PlaceHolder 6"/>
          <p:cNvSpPr>
            <a:spLocks noGrp="1"/>
          </p:cNvSpPr>
          <p:nvPr>
            <p:ph/>
          </p:nvPr>
        </p:nvSpPr>
        <p:spPr>
          <a:xfrm>
            <a:off x="31327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39" name="PlaceHolder 7"/>
          <p:cNvSpPr>
            <a:spLocks noGrp="1"/>
          </p:cNvSpPr>
          <p:nvPr>
            <p:ph/>
          </p:nvPr>
        </p:nvSpPr>
        <p:spPr>
          <a:xfrm>
            <a:off x="608616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0DE2CDB-8352-4A92-858C-AEC9C3DA2BB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B7F1817-4D99-4D67-979C-D354DFB498F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subTitle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E688FA3-93C8-4558-9238-5D45E5F11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8C03895-5B54-485C-AEB7-57C26E204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225D471-B929-4017-AADF-1DB55A893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F595213-A6FE-4A0E-8909-0F84D5E5D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37944-6C6B-4D7A-8F75-F36002CE5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534E5D2-BB25-4E92-84A6-01BBD051A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E78A677-C3B5-4445-AA53-3B003884C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17763B3-D73C-4962-85EF-7DF964977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28D1FD7-F68B-4A1C-B000-59231F4FE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02AEF64-C092-485A-9AA9-0EC9E5EEB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538287F-C8BB-4FA8-B1B7-265966A31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31327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608616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1789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83" name="PlaceHolder 6"/>
          <p:cNvSpPr>
            <a:spLocks noGrp="1"/>
          </p:cNvSpPr>
          <p:nvPr>
            <p:ph/>
          </p:nvPr>
        </p:nvSpPr>
        <p:spPr>
          <a:xfrm>
            <a:off x="31327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84" name="PlaceHolder 7"/>
          <p:cNvSpPr>
            <a:spLocks noGrp="1"/>
          </p:cNvSpPr>
          <p:nvPr>
            <p:ph/>
          </p:nvPr>
        </p:nvSpPr>
        <p:spPr>
          <a:xfrm>
            <a:off x="608616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1E87B28-ED9E-4AFB-A700-0291082778D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ED0B9-5652-4369-9CA3-E3A708D77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51A97-5651-4EC9-8FAE-B716E86F7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6728C-5BA8-45CE-8F49-BFE4EF752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50725-54C6-440A-B5BD-C5334336A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B4D647-C894-4906-B373-2AB1AD14E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C450B-A340-42D4-9B9B-9945D2D4C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81D6C-6EDE-45C6-B651-A721DA0A3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2F6FC-7556-49F5-9A82-59295ED0F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E1AF9-67EF-482D-8086-AD3DB2A2D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1327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8616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789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1327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8616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D2D51-F6B6-4A09-87C3-742F6837D47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68D37F-13B0-45A0-8B96-21C9205E947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77B2D2-6869-463B-AAD1-C571A1611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CC054D-E9F3-4FFD-A616-BFEAD4DE2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BB0B5D-8AC0-49FC-AC67-79008ABA0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1989DE-27BE-4819-94FC-60CEA2E83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E4267A-1618-4736-833B-441D79171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71C397-7E6D-4781-81EA-66C8201AF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A03672-9C4B-4444-8B5F-32AD9C395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DBB610-1221-4EA9-9616-B5687F4D0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811AAA-0A06-449E-AAC7-6C533B07E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5804D3-82E8-417C-8AE0-749F0D6BF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8D8AF3-0352-43F1-B2DA-376DDDDB5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327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8616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1789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327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8616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9F1C93-6A8F-4D15-AD13-49842DC432A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FFF1104-CBA1-47E5-A167-D922F70472D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DC295E0-35C6-4202-B720-E52897511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208089C-A6E3-445C-9D2E-35C071FC6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F48223-BEB6-47EF-9C9A-3CF50593E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AC10848-847B-41CD-A144-BEC1C03FC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21EB1E2-9014-404C-A38D-3A23B3089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F7E6BC5-40BE-41AF-A1A3-4C3917432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70AC275-1CC6-4849-A548-43AB33FE6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9BA9487-0F50-4153-BB7B-6C755036A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EE997A5-3F40-4382-926B-724D5CC53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8BCA9B1-A838-4F01-864B-5AC895E74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635C4A9-69BF-4C18-ABA6-B71343EAC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1327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08616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1789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1327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08616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4DBB444-D3C0-4EF7-A562-6D9E92CF10B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E17D28-B5E6-4281-8B42-6C22C388017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BD86EA-30AF-4CE0-A313-8B4A4D349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794893-3E2A-4F0B-9454-A107732B8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540BDB-DE8A-4C81-B6DF-FF0D17B97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7DB945-C38A-4B69-9A3A-1D48FAC38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B20753-D52D-4B70-AE8D-D69D70621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3DCB60-C44E-4C1F-AB32-E2355B8C7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06BF9E-59DC-428D-9645-85DA1308A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C59D8A-C421-47EC-90C0-F68CA040A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F0BEB2-0234-42A1-A278-10DDEAA4D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E5AC61-A9DC-4D63-9419-D54376CAD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F76C3D-EC6B-47DB-9454-CB383E3B8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FEE01E-4A81-4D67-8CBB-7A85BAF65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1327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8616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1789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1327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8616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8633CB-3F2E-46FA-8B14-E2AA2EF028B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E30C162-1032-49FB-984D-ECAF065D6B6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30E1CD0-5D7E-48BF-A243-144F04614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4984360-2D8D-40DB-B213-E37A9B7DB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319A4D4-2309-47FC-AAA3-B2744D18E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D157868-32BC-4DBD-A4D9-4D341C19E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DC1674F-4221-4A37-A8E1-FBFE4FA32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BB993B7-6B22-4D5B-BE70-693D183CE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1FFCA60-9848-474B-9DA8-8F9308BC7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5E5B58A-68B7-4ABD-B743-AEC6A5B43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BA543A-3881-432C-88D2-F4DFA4B63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14F6A81-23A6-433F-8301-B0CFF9FEB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B87CA1D-7506-424E-B36C-6B4FB6DCA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1327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08616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1789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1327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08616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E3A1BFA-191A-42C9-8C5F-274127E8B2E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995DF3E-7567-497D-8649-BE3081AD1E0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102E89A-D28A-4AC3-B017-22BAF220D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8F1D471-0D6B-4425-9AFA-D287F24E3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2CF71FF-5DD6-4440-A5B9-D52BACCBE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7C13AD0-3847-4077-836C-2C72EF9A1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70510D8-5980-4C05-879F-108AD4FFF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BDD92EB-49A8-4746-AF58-18C458238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F69A6E-339A-450E-A99C-10FC2E008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A508DCF-BFDA-46CA-BB14-C2C05D86D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8B322B3-9B18-420D-B2A3-95886BE59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EB81769-0AE1-4BDF-B020-487F160C0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26B10EB-870A-469E-913F-B12F5DB88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1327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08616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1789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1327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608616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6AC59AA-3B51-4ACC-95CA-83BA580A979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BA46A3-D407-44CA-BA19-6E8F6727216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768B15-ABE3-4C73-9532-F3FB29905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91E6CF-B731-49B6-9F87-5E068DD89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879D8D-B697-419F-B07B-4DECC3FC0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F14B78-462B-4F9A-A824-7540B9801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2E2A9C-DD0C-478F-95C3-382E39D70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25FA53-5893-40BA-A49F-6D6ADD3D9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086A78-F54B-4BDA-A773-793FBC6C6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EBAA1A-BC85-4E5C-9610-83588E832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7269CA-7F5E-4ADF-A048-E14765616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80FB77-1905-44E6-B164-DB1983F40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E6F7C2-5112-4454-B548-F5E7435F6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31327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608616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1789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/>
          </p:nvPr>
        </p:nvSpPr>
        <p:spPr>
          <a:xfrm>
            <a:off x="31327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59" name="PlaceHolder 7"/>
          <p:cNvSpPr>
            <a:spLocks noGrp="1"/>
          </p:cNvSpPr>
          <p:nvPr>
            <p:ph/>
          </p:nvPr>
        </p:nvSpPr>
        <p:spPr>
          <a:xfrm>
            <a:off x="608616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8CE9C8-2DD1-422F-BF97-E286486BF2A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3907AFC-FA56-4C99-A967-87370FAEC30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EF72D78-8E0D-494A-B56D-0F45C131B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66C4DE2-1DF5-4F86-9C41-68CF0E2B8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13160" indent="-27432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con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2" marL="109728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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Thir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3" marL="153612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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our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4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if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5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ix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6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ven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286C0-F4DE-4532-8B4E-DBAD8E6799F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406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7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8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09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13160" indent="-27432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con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2" marL="109728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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Thir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3" marL="153612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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our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4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if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5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ix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6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ven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sldNum" idx="19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CBB68-5474-44E4-B6AD-F9FD6724986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dt" idx="20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45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5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53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54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455" name="PlaceHolder 1"/>
          <p:cNvSpPr>
            <a:spLocks noGrp="1"/>
          </p:cNvSpPr>
          <p:nvPr>
            <p:ph type="body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13160" indent="-27432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con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2" marL="109728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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Thir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3" marL="153612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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our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4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if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5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ix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6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ven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sldNum" idx="2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5010A-5E5E-4214-A9B5-9D9595C6029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 type="dt" idx="2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496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7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8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99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500" name="PlaceHolder 1"/>
          <p:cNvSpPr>
            <a:spLocks noGrp="1"/>
          </p:cNvSpPr>
          <p:nvPr>
            <p:ph type="body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13160" indent="-27432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con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2" marL="109728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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Thir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3" marL="153612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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our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4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if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5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ix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6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ven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 type="sldNum" idx="23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EA5F7-A16F-4B8B-8974-7D39D131C3E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 type="dt" idx="24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54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3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544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545" name="PlaceHolder 1"/>
          <p:cNvSpPr>
            <a:spLocks noGrp="1"/>
          </p:cNvSpPr>
          <p:nvPr>
            <p:ph type="body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13160" indent="-27432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con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2" marL="109728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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Thir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3" marL="153612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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our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4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if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5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ix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6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ven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 type="sldNum" idx="25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12270-4552-4DA9-B1E0-7604ADAD77AF}" type="slidenum">
              <a:rPr b="0" lang="zh-CN" sz="14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 type="dt" idx="26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9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body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13160" indent="-27432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con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2" marL="109728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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Thir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3" marL="153612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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our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4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if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5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ix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6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ven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3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10AC7-4038-48D0-B475-3F0897FCBE6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dt" idx="4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3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94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body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13160" indent="-27432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con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2" marL="109728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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Thir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3" marL="153612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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our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4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if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5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ix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6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ven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Num" idx="5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D8CB5-7CD9-4416-9E83-7D067C0D5ED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dt" idx="6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9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 type="body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13160" indent="-27432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con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2" marL="109728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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Thir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3" marL="153612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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our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4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if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5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ix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6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ven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sldNum" idx="7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98DBF-5428-4127-9316-8986397A529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dt" idx="8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8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3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4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13160" indent="-27432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con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2" marL="109728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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Thir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3" marL="153612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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our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4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if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5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ix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6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ven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sldNum" idx="9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A2D92-0061-459F-B9C5-B39CC4ABA1B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dt" idx="10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26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8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29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30" name="PlaceHolder 1"/>
          <p:cNvSpPr>
            <a:spLocks noGrp="1"/>
          </p:cNvSpPr>
          <p:nvPr>
            <p:ph type="body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13160" indent="-27432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con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2" marL="109728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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Thir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3" marL="153612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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our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4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if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5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ix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6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ven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sldNum" idx="1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4C3E8-29CA-45E4-9B87-A63460C0377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 type="dt" idx="1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7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3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74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75" name="PlaceHolder 1"/>
          <p:cNvSpPr>
            <a:spLocks noGrp="1"/>
          </p:cNvSpPr>
          <p:nvPr>
            <p:ph type="body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13160" indent="-27432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con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2" marL="109728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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Thir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3" marL="153612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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our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4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if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5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ix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6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ven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 type="sldNum" idx="13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38B17-99E0-4BB9-AC07-869254565A4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 type="dt" idx="14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316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7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8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19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320" name="PlaceHolder 1"/>
          <p:cNvSpPr>
            <a:spLocks noGrp="1"/>
          </p:cNvSpPr>
          <p:nvPr>
            <p:ph type="body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13160" indent="-27432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con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2" marL="109728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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Thir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3" marL="153612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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our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4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if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5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ix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6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ven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 type="sldNum" idx="15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00C7A-58A5-4008-A78A-2D0A5873FAA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 type="dt" idx="16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36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3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64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body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13160" indent="-27432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con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2" marL="109728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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Thir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3" marL="153612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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our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4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if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5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ix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6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ven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sldNum" idx="17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37F81-C28A-493E-A440-D928489AF7E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dt" idx="18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4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4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4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4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5" name="Picture 2" descr="21"/>
          <p:cNvPicPr/>
          <p:nvPr/>
        </p:nvPicPr>
        <p:blipFill>
          <a:blip r:embed="rId1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58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58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58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58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9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9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9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9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9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9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9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9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9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0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0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0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0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05" name="Picture 24" descr=""/>
          <p:cNvPicPr/>
          <p:nvPr/>
        </p:nvPicPr>
        <p:blipFill>
          <a:blip r:embed="rId2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108000" y="2276640"/>
            <a:ext cx="4968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二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以社区为中心的护理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1600200" y="5311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endParaRPr b="1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3059280" y="333000"/>
            <a:ext cx="58435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一、社区评估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7" name=""/>
          <p:cNvSpPr txBox="1"/>
          <p:nvPr/>
        </p:nvSpPr>
        <p:spPr>
          <a:xfrm>
            <a:off x="394920" y="1236600"/>
            <a:ext cx="8520120" cy="50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资料整理与分析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资料复核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资料分析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报告评估结果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2123640" y="304560"/>
            <a:ext cx="6791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二、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诊断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0" name=""/>
          <p:cNvSpPr txBox="1"/>
          <p:nvPr/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定义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ff6600"/>
                </a:solidFill>
                <a:latin typeface="Verdana"/>
                <a:ea typeface="宋体"/>
              </a:rPr>
              <a:t>社区护理诊断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是指对于个人、家庭、群体或社区现存的或潜在的不健康和（或）健康问题，以及与其相关原因的陈述。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842920" y="304560"/>
            <a:ext cx="6072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二、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诊断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3" name=""/>
          <p:cNvSpPr txBox="1"/>
          <p:nvPr/>
        </p:nvSpPr>
        <p:spPr>
          <a:xfrm>
            <a:off x="178920" y="1268280"/>
            <a:ext cx="8736120" cy="498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护理诊断系统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北美护理诊断协会护理诊断系统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en-US" sz="2400" spc="-1" strike="noStrike">
                <a:solidFill>
                  <a:srgbClr val="ff6600"/>
                </a:solidFill>
                <a:latin typeface="Verdana"/>
                <a:ea typeface="宋体"/>
              </a:rPr>
              <a:t>PSE</a:t>
            </a:r>
            <a:r>
              <a:rPr b="1" lang="zh-CN" sz="2400" spc="-1" strike="noStrike">
                <a:solidFill>
                  <a:srgbClr val="ff6600"/>
                </a:solidFill>
                <a:latin typeface="Verdana"/>
                <a:ea typeface="宋体"/>
              </a:rPr>
              <a:t>陈述公式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3" marL="16002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P=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健康问题（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problem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）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3" marL="16002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S=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症状或体征（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sign 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＆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symptoms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）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3" marL="16002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E=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原因（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etiology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）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2842920" y="304560"/>
            <a:ext cx="6072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二、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诊断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6" name=""/>
          <p:cNvSpPr txBox="1"/>
          <p:nvPr/>
        </p:nvSpPr>
        <p:spPr>
          <a:xfrm>
            <a:off x="178920" y="1268280"/>
            <a:ext cx="8736120" cy="498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护理诊断系统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Omaha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护理诊断系统  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护理诊断（问题）分类系统（表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2-1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）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护理干预分类系统（表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2-2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）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护理结果评量系统（表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2-3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）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2842920" y="304560"/>
            <a:ext cx="6072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二、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诊断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650" name=""/>
          <p:cNvGraphicFramePr/>
          <p:nvPr/>
        </p:nvGraphicFramePr>
        <p:xfrm>
          <a:off x="324000" y="2171880"/>
          <a:ext cx="8496000" cy="4213080"/>
        </p:xfrm>
        <a:graphic>
          <a:graphicData uri="http://schemas.openxmlformats.org/drawingml/2006/table">
            <a:tbl>
              <a:tblPr/>
              <a:tblGrid>
                <a:gridCol w="1742760"/>
                <a:gridCol w="6753240"/>
              </a:tblGrid>
              <a:tr h="4856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6600"/>
                          </a:solidFill>
                          <a:latin typeface="Verdana"/>
                        </a:rPr>
                        <a:t>领域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6600"/>
                          </a:solidFill>
                          <a:latin typeface="Verdana"/>
                        </a:rPr>
                        <a:t>护理诊断（问题）分类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4824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环境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收入，卫生，住宅，邻居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/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工作场所的安全，其他心理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11019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心理社会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与社区资源的联系，社会接触，角色改变，人际关系，精神压力，哀伤，情绪稳定性，照顾，忽略儿童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/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成人，虐待儿童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/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成人，生长与发育，其他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10792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生理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听觉，视觉，说话与语言，咀嚼，认知，疼痛，意识，皮肤，神经运动（肌肉、骨骼）系统与功能，呼吸，循环，消化，排便功能，生殖泌尿功能，产前产后，其他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10638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健康相关行为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营养，睡眠与休息形态，身体活动，个人卫生，物质滥用（酒精或药品），家庭计划，健康指导，处方用药，特殊护理技术，其他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</a:tbl>
          </a:graphicData>
        </a:graphic>
      </p:graphicFrame>
      <p:sp>
        <p:nvSpPr>
          <p:cNvPr id="651" name="矩形 5"/>
          <p:cNvSpPr/>
          <p:nvPr/>
        </p:nvSpPr>
        <p:spPr>
          <a:xfrm>
            <a:off x="1867320" y="1484280"/>
            <a:ext cx="546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Verdana"/>
              </a:rPr>
              <a:t>表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Verdana"/>
              </a:rPr>
              <a:t>2-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Verdana"/>
              </a:rPr>
              <a:t>　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Verdana"/>
              </a:rPr>
              <a:t>Omaha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Verdana"/>
              </a:rPr>
              <a:t>护理诊断（问题）分类系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2842920" y="304560"/>
            <a:ext cx="6072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二、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诊断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54" name="矩形 5"/>
          <p:cNvSpPr/>
          <p:nvPr/>
        </p:nvSpPr>
        <p:spPr>
          <a:xfrm>
            <a:off x="2336400" y="1341360"/>
            <a:ext cx="461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Verdana"/>
              </a:rPr>
              <a:t>表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Verdana"/>
              </a:rPr>
              <a:t>2-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Verdana"/>
              </a:rPr>
              <a:t>　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Verdana"/>
              </a:rPr>
              <a:t>Omaha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Verdana"/>
              </a:rPr>
              <a:t>护理干预分类系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655" name=""/>
          <p:cNvGraphicFramePr/>
          <p:nvPr/>
        </p:nvGraphicFramePr>
        <p:xfrm>
          <a:off x="395280" y="1989000"/>
          <a:ext cx="8209080" cy="4518000"/>
        </p:xfrm>
        <a:graphic>
          <a:graphicData uri="http://schemas.openxmlformats.org/drawingml/2006/table">
            <a:tbl>
              <a:tblPr/>
              <a:tblGrid>
                <a:gridCol w="1101600"/>
                <a:gridCol w="7107480"/>
              </a:tblGrid>
              <a:tr h="3384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6600"/>
                          </a:solidFill>
                          <a:latin typeface="Verdana"/>
                        </a:rPr>
                        <a:t>项目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6600"/>
                          </a:solidFill>
                          <a:latin typeface="Verdana"/>
                        </a:rPr>
                        <a:t>内容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3380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类别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指导、指引和咨询，处理和程序，个案管理，监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38415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目标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解剖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/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生理，行为修正，膀胱功能护理，与他人感情，肠道功能护理，维持呼吸道的通畅，心脏功能护理，照顾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/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为人父母，长期卧床护理，沟通，应对技巧，日间护理，管教，伤口护理，医疗设备，教育，职业，环境，运动，家庭计划，喂养方法，财务，食物，行走训练与康复，生长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/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发育，家务管理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/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居住环境，人际关系，检验结果，相关法规，医疗照顾，药物作用及副作用，用药管理，协助用药安排，身体活动，辅助性护理活动，营养，营养咨询，造瘘口护理，其他社区资源，个人照护，体位，康复，放松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/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呼吸技巧，休息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/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睡眠，安全，筛选，受伤护理，精神及情绪的症状，体征，皮肤护理，社会福利与咨询，化验标本收集，精神护理，促进身心发展的活动，压力管理，物质滥用，医疗器材，支持团体，交通运送，促进健康，其他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2842920" y="304560"/>
            <a:ext cx="6072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二、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诊断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58" name="矩形 5"/>
          <p:cNvSpPr/>
          <p:nvPr/>
        </p:nvSpPr>
        <p:spPr>
          <a:xfrm>
            <a:off x="2310840" y="1341360"/>
            <a:ext cx="461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Verdana"/>
              </a:rPr>
              <a:t>表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Verdana"/>
              </a:rPr>
              <a:t>2-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Verdana"/>
              </a:rPr>
              <a:t>　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Verdana"/>
              </a:rPr>
              <a:t>Omaha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Verdana"/>
              </a:rPr>
              <a:t>护理结果评量系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659" name=""/>
          <p:cNvGraphicFramePr/>
          <p:nvPr/>
        </p:nvGraphicFramePr>
        <p:xfrm>
          <a:off x="324000" y="1989000"/>
          <a:ext cx="8424720" cy="4175280"/>
        </p:xfrm>
        <a:graphic>
          <a:graphicData uri="http://schemas.openxmlformats.org/drawingml/2006/table">
            <a:tbl>
              <a:tblPr/>
              <a:tblGrid>
                <a:gridCol w="787320"/>
                <a:gridCol w="1884240"/>
                <a:gridCol w="1027080"/>
                <a:gridCol w="1198800"/>
                <a:gridCol w="1198440"/>
                <a:gridCol w="1123920"/>
                <a:gridCol w="1204920"/>
              </a:tblGrid>
              <a:tr h="5968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6600"/>
                          </a:solidFill>
                          <a:latin typeface="Verdana"/>
                        </a:rPr>
                        <a:t>概念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6600"/>
                          </a:solidFill>
                          <a:latin typeface="Verdana"/>
                        </a:rPr>
                        <a:t>含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6600"/>
                          </a:solidFill>
                          <a:latin typeface="Verdana"/>
                        </a:rPr>
                        <a:t>1</a:t>
                      </a:r>
                      <a:r>
                        <a:rPr b="1" lang="zh-CN" sz="2000" spc="-1" strike="noStrike">
                          <a:solidFill>
                            <a:srgbClr val="ff6600"/>
                          </a:solidFill>
                          <a:latin typeface="Verdana"/>
                        </a:rPr>
                        <a:t>分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6600"/>
                          </a:solidFill>
                          <a:latin typeface="Verdana"/>
                        </a:rPr>
                        <a:t>2</a:t>
                      </a:r>
                      <a:r>
                        <a:rPr b="1" lang="zh-CN" sz="2000" spc="-1" strike="noStrike">
                          <a:solidFill>
                            <a:srgbClr val="ff6600"/>
                          </a:solidFill>
                          <a:latin typeface="Verdana"/>
                        </a:rPr>
                        <a:t>分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6600"/>
                          </a:solidFill>
                          <a:latin typeface="Verdana"/>
                        </a:rPr>
                        <a:t>3</a:t>
                      </a:r>
                      <a:r>
                        <a:rPr b="1" lang="zh-CN" sz="2000" spc="-1" strike="noStrike">
                          <a:solidFill>
                            <a:srgbClr val="ff6600"/>
                          </a:solidFill>
                          <a:latin typeface="Verdana"/>
                        </a:rPr>
                        <a:t>分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6600"/>
                          </a:solidFill>
                          <a:latin typeface="Verdana"/>
                        </a:rPr>
                        <a:t>4</a:t>
                      </a:r>
                      <a:r>
                        <a:rPr b="1" lang="zh-CN" sz="2000" spc="-1" strike="noStrike">
                          <a:solidFill>
                            <a:srgbClr val="ff6600"/>
                          </a:solidFill>
                          <a:latin typeface="Verdana"/>
                        </a:rPr>
                        <a:t>分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6600"/>
                          </a:solidFill>
                          <a:latin typeface="Verdana"/>
                        </a:rPr>
                        <a:t>5</a:t>
                      </a:r>
                      <a:r>
                        <a:rPr b="1" lang="zh-CN" sz="2000" spc="-1" strike="noStrike">
                          <a:solidFill>
                            <a:srgbClr val="ff6600"/>
                          </a:solidFill>
                          <a:latin typeface="Verdana"/>
                        </a:rPr>
                        <a:t>分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9273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知识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个案记忆与解释信息的能力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完全没有知识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具有一点知识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具有基本知识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认知程度适当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认知良好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12603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行为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个案表现出的可被观察的反应或行为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完全不适当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有一些适当的行为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不是非常一致的行为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通常是合适的行为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一致且合适的行为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13906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症状、体征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个案表现的主、客观症状、体征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非常严重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严重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普通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很少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没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6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662" name="图片 6" descr="4.png"/>
          <p:cNvPicPr/>
          <p:nvPr/>
        </p:nvPicPr>
        <p:blipFill>
          <a:blip r:embed="rId1"/>
          <a:stretch/>
        </p:blipFill>
        <p:spPr>
          <a:xfrm>
            <a:off x="468360" y="1628640"/>
            <a:ext cx="8280360" cy="4870440"/>
          </a:xfrm>
          <a:prstGeom prst="rect">
            <a:avLst/>
          </a:prstGeom>
          <a:ln w="0">
            <a:noFill/>
          </a:ln>
        </p:spPr>
      </p:pic>
      <p:sp>
        <p:nvSpPr>
          <p:cNvPr id="663" name="TextBox 6"/>
          <p:cNvSpPr/>
          <p:nvPr/>
        </p:nvSpPr>
        <p:spPr>
          <a:xfrm>
            <a:off x="2400480" y="2205000"/>
            <a:ext cx="633708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第二节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社区护理计划的制订与实施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一、社区护理计划的制定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5" name=""/>
          <p:cNvSpPr txBox="1"/>
          <p:nvPr/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ff6600"/>
                </a:solidFill>
                <a:latin typeface="Verdana"/>
                <a:ea typeface="宋体"/>
              </a:rPr>
              <a:t>护理计划</a:t>
            </a: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是护理活动的指南，其目的是明确护理目标、确定护理要点、提供评价标准、设计实施方案。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ff6600"/>
                </a:solidFill>
                <a:latin typeface="Verdana"/>
                <a:ea typeface="宋体"/>
              </a:rPr>
              <a:t>社区护理计划</a:t>
            </a: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是一种合作性的、有顺序的、循环的程序，以达到预期的目标。 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一、社区护理计划的制定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8" name=""/>
          <p:cNvSpPr txBox="1"/>
          <p:nvPr/>
        </p:nvSpPr>
        <p:spPr>
          <a:xfrm>
            <a:off x="178920" y="1052280"/>
            <a:ext cx="9001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护理诊断的排序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Muecke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与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Stanhope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＆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Lancaster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的优先顺序确定方法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社区对问题的了解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社区对解决问题的动机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问题的严重程度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可利用资源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70" name="文本框 5"/>
          <p:cNvSpPr/>
          <p:nvPr/>
        </p:nvSpPr>
        <p:spPr>
          <a:xfrm>
            <a:off x="3780000" y="3068640"/>
            <a:ext cx="5184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预防效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护士解决问题的能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健康政策与目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解决问题的迅速性与持续的效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0" name=""/>
          <p:cNvSpPr txBox="1"/>
          <p:nvPr/>
        </p:nvSpPr>
        <p:spPr>
          <a:xfrm>
            <a:off x="252360" y="1052640"/>
            <a:ext cx="863928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i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掌握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社区护理评估的内容、方法；社区居民健康档案的主要内容。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i="1" lang="zh-CN" sz="3200" spc="-1" strike="noStrike">
                <a:solidFill>
                  <a:srgbClr val="692aa2"/>
                </a:solidFill>
                <a:latin typeface="Verdana"/>
                <a:ea typeface="宋体"/>
              </a:rPr>
              <a:t>熟悉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Omaha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护理诊断系统；社区护理中护理诊断排列顺序的原则；实施护理措施时的注意事项。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i="1" lang="zh-CN" sz="3200" spc="-1" strike="noStrike">
                <a:solidFill>
                  <a:srgbClr val="ff6600"/>
                </a:solidFill>
                <a:latin typeface="Verdana"/>
                <a:ea typeface="宋体"/>
              </a:rPr>
              <a:t>了解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社区护理评价的步骤与内容；社区健康档案的管理与使用要求。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</a:tabLst>
            </a:pP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672" name=""/>
          <p:cNvGraphicFramePr/>
          <p:nvPr/>
        </p:nvGraphicFramePr>
        <p:xfrm>
          <a:off x="395280" y="1844640"/>
          <a:ext cx="8353440" cy="4146480"/>
        </p:xfrm>
        <a:graphic>
          <a:graphicData uri="http://schemas.openxmlformats.org/drawingml/2006/table">
            <a:tbl>
              <a:tblPr/>
              <a:tblGrid>
                <a:gridCol w="1079640"/>
                <a:gridCol w="1025280"/>
                <a:gridCol w="808200"/>
                <a:gridCol w="809640"/>
                <a:gridCol w="809640"/>
                <a:gridCol w="809640"/>
                <a:gridCol w="777960"/>
                <a:gridCol w="841320"/>
                <a:gridCol w="807840"/>
                <a:gridCol w="584280"/>
              </a:tblGrid>
              <a:tr h="10796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社区诊断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社区对问题的了解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社区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动机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问题的严重性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可利用的资源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预防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效果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护理人员能力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政策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快速性及持续效果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总和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636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预防性的行为不足（乳腺癌筛检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2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2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2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2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2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1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0224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儿童龋齿预防知识缺乏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2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2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8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807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发生火灾的可能性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2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2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2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73" name="Rectangle 1"/>
          <p:cNvSpPr/>
          <p:nvPr/>
        </p:nvSpPr>
        <p:spPr>
          <a:xfrm>
            <a:off x="684360" y="1197720"/>
            <a:ext cx="76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表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2-4    Muecke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护理诊断优先顺序确定方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675" name=""/>
          <p:cNvGraphicFramePr/>
          <p:nvPr/>
        </p:nvGraphicFramePr>
        <p:xfrm>
          <a:off x="130320" y="1773360"/>
          <a:ext cx="8864280" cy="4406760"/>
        </p:xfrm>
        <a:graphic>
          <a:graphicData uri="http://schemas.openxmlformats.org/drawingml/2006/table">
            <a:tbl>
              <a:tblPr/>
              <a:tblGrid>
                <a:gridCol w="1017360"/>
                <a:gridCol w="615960"/>
                <a:gridCol w="328680"/>
                <a:gridCol w="463680"/>
                <a:gridCol w="287280"/>
                <a:gridCol w="628560"/>
                <a:gridCol w="436680"/>
                <a:gridCol w="436320"/>
                <a:gridCol w="508320"/>
                <a:gridCol w="507960"/>
                <a:gridCol w="436320"/>
                <a:gridCol w="436680"/>
                <a:gridCol w="434880"/>
                <a:gridCol w="412920"/>
                <a:gridCol w="436320"/>
                <a:gridCol w="524160"/>
                <a:gridCol w="417240"/>
                <a:gridCol w="534960"/>
              </a:tblGrid>
              <a:tr h="958680"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社区诊断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社区对问题的了解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社区动机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问题的严重性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可利用的资源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预防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效果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护理人员能力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政策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快速性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及持续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效果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总和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1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比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重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资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源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比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重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资源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比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重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资源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比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重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资源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比重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资源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比重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资源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比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重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资源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比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重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资源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7964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预防性的行为不足（乳腺癌筛检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2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6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5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5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8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6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8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453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79200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儿童龋齿预防知识缺乏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9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2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3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6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5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4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6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5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4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5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205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3512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发生火灾的可能性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3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6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2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4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2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2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2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3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5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285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76" name="Rectangle 1"/>
          <p:cNvSpPr/>
          <p:nvPr/>
        </p:nvSpPr>
        <p:spPr>
          <a:xfrm>
            <a:off x="1191240" y="1198080"/>
            <a:ext cx="67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表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2-5   Stanhope &amp; Lancaster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护理诊断优先顺序确定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一、社区护理计划的制定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8" name=""/>
          <p:cNvSpPr txBox="1"/>
          <p:nvPr/>
        </p:nvSpPr>
        <p:spPr>
          <a:xfrm>
            <a:off x="178920" y="1196640"/>
            <a:ext cx="873612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制订目标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ff6600"/>
                </a:solidFill>
                <a:latin typeface="Verdana"/>
                <a:ea typeface="宋体"/>
              </a:rPr>
              <a:t>预期目标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是期望服务对象在接受护理干预后所能达到的结果，包括功能、认知、情感及行为等方面的改变。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目标的制订应做到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特定的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可测量的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可达到的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相关的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有时间期限的 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一、社区护理计划的制定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1" name=""/>
          <p:cNvSpPr txBox="1"/>
          <p:nvPr/>
        </p:nvSpPr>
        <p:spPr>
          <a:xfrm>
            <a:off x="108000" y="1196640"/>
            <a:ext cx="89280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制订目标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护理目标可分为长期目标和短期目标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例如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护理问题：婴儿营养不良。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相关因素：社区内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60%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母亲对婴儿喂养方法的认识不足。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ff6600"/>
                </a:solidFill>
                <a:latin typeface="Verdana"/>
                <a:ea typeface="宋体"/>
              </a:rPr>
              <a:t>长期目标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：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80%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营养不良婴儿的营养状况得到改善。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ff6600"/>
                </a:solidFill>
                <a:latin typeface="Verdana"/>
                <a:ea typeface="宋体"/>
              </a:rPr>
              <a:t>短期目标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：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周内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80%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营养不良婴儿的母亲能正确演示。婴儿食品的制作；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周内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100%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营养不良婴儿的母亲能按照营养师的建议为婴儿正确添加辅食。 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一、社区护理计划的制定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4" name=""/>
          <p:cNvSpPr txBox="1"/>
          <p:nvPr/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制订目标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书写目标时应注意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简单明了，使用可测量或可观察得到的词汇。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一个护理诊断可制订多个目标，但是一个目标只针对一个护理诊断。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目标陈述中要包括具体的评价日期和时间。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可以使用长期目标与短期目标相结合的方法，实施起来更有针对性。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一、社区护理计划的制定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7" name=""/>
          <p:cNvSpPr txBox="1"/>
          <p:nvPr/>
        </p:nvSpPr>
        <p:spPr>
          <a:xfrm>
            <a:off x="179280" y="1052640"/>
            <a:ext cx="87854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拟定护理措施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原则：合理性和可行性 。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分类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（社区护理措施以</a:t>
            </a:r>
            <a:r>
              <a:rPr b="1" lang="zh-CN" sz="2400" spc="-1" strike="noStrike">
                <a:solidFill>
                  <a:srgbClr val="ff6600"/>
                </a:solidFill>
                <a:latin typeface="Verdana"/>
                <a:ea typeface="宋体"/>
              </a:rPr>
              <a:t>协作性和独立性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为主）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en-US" sz="2400" spc="-1" strike="noStrike">
                <a:solidFill>
                  <a:srgbClr val="ff6600"/>
                </a:solidFill>
                <a:latin typeface="Verdana"/>
              </a:rPr>
              <a:t>	</a:t>
            </a:r>
            <a:r>
              <a:rPr b="1" lang="zh-CN" sz="2400" spc="-1" strike="noStrike">
                <a:solidFill>
                  <a:srgbClr val="ff6600"/>
                </a:solidFill>
                <a:latin typeface="Verdana"/>
                <a:ea typeface="宋体"/>
              </a:rPr>
              <a:t>依赖性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护理措施：指在医生指示下进行，如“遵医嘱给药”。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ff6600"/>
                </a:solidFill>
                <a:latin typeface="Verdana"/>
                <a:ea typeface="宋体"/>
              </a:rPr>
              <a:t>协作性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护理措施：指与其他卫生专业人员商讨完成，如“协助理疗师共同为服务对象进行康复评定”。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ff6600"/>
                </a:solidFill>
                <a:latin typeface="Verdana"/>
                <a:ea typeface="宋体"/>
              </a:rPr>
              <a:t>独立性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护理措施：指护士独立完成，如“为服务对象提供健康教育和咨询”。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一、社区护理计划的制定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0" name=""/>
          <p:cNvSpPr txBox="1"/>
          <p:nvPr/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计划成文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表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2-6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　社区护理计划表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692" name=""/>
          <p:cNvGraphicFramePr/>
          <p:nvPr/>
        </p:nvGraphicFramePr>
        <p:xfrm>
          <a:off x="395280" y="2781360"/>
          <a:ext cx="8353440" cy="3014640"/>
        </p:xfrm>
        <a:graphic>
          <a:graphicData uri="http://schemas.openxmlformats.org/drawingml/2006/table">
            <a:tbl>
              <a:tblPr/>
              <a:tblGrid>
                <a:gridCol w="1392120"/>
                <a:gridCol w="1392480"/>
                <a:gridCol w="1392120"/>
                <a:gridCol w="1392120"/>
                <a:gridCol w="1392480"/>
                <a:gridCol w="1392120"/>
              </a:tblGrid>
              <a:tr h="647640"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相关因素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具体目标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实施计划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92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实施内容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执行者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时间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场所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750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二、社区护理计划的实施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4" name=""/>
          <p:cNvSpPr txBox="1"/>
          <p:nvPr/>
        </p:nvSpPr>
        <p:spPr>
          <a:xfrm>
            <a:off x="179280" y="1125360"/>
            <a:ext cx="864072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将所制订计划付诸实践，是针对护理目标而采取的行动。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实施前的准备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实施计划行动 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实施后的记录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</a:rPr>
              <a:t>  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记录方式：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PIO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problem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，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intervention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，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outcome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）格式，即问题、措施、结果的记录。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记录要求及时、准确、真实、重点突出，为下一步的评价工作奠定基础。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69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698" name="图片 6" descr="4.png"/>
          <p:cNvPicPr/>
          <p:nvPr/>
        </p:nvPicPr>
        <p:blipFill>
          <a:blip r:embed="rId1"/>
          <a:stretch/>
        </p:blipFill>
        <p:spPr>
          <a:xfrm>
            <a:off x="468360" y="1628640"/>
            <a:ext cx="8280360" cy="4870440"/>
          </a:xfrm>
          <a:prstGeom prst="rect">
            <a:avLst/>
          </a:prstGeom>
          <a:ln w="0">
            <a:noFill/>
          </a:ln>
        </p:spPr>
      </p:pic>
      <p:sp>
        <p:nvSpPr>
          <p:cNvPr id="699" name="TextBox 6"/>
          <p:cNvSpPr/>
          <p:nvPr/>
        </p:nvSpPr>
        <p:spPr>
          <a:xfrm>
            <a:off x="2400480" y="2205000"/>
            <a:ext cx="633708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第三节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社区护理的效果评价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701" name=""/>
          <p:cNvSpPr txBox="1"/>
          <p:nvPr/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评价形式</a:t>
            </a: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	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en-US" sz="2800" spc="-1" strike="noStrike">
                <a:solidFill>
                  <a:srgbClr val="0070c0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</a:rPr>
              <a:t>	</a:t>
            </a:r>
            <a:r>
              <a:rPr b="1" lang="zh-CN" sz="2800" spc="-1" strike="noStrike">
                <a:solidFill>
                  <a:srgbClr val="ff6600"/>
                </a:solidFill>
                <a:latin typeface="Verdana"/>
                <a:ea typeface="宋体"/>
              </a:rPr>
              <a:t>过程评价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：也称形成性评价，是在护理程序的各个阶段进行评价，一直到护理活动不断完善。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en-US" sz="2800" spc="-1" strike="noStrike">
                <a:solidFill>
                  <a:srgbClr val="0070c0"/>
                </a:solidFill>
                <a:latin typeface="Verdana"/>
              </a:rPr>
              <a:t>	</a:t>
            </a:r>
            <a:r>
              <a:rPr b="1" lang="zh-CN" sz="2800" spc="-1" strike="noStrike">
                <a:solidFill>
                  <a:srgbClr val="ff6600"/>
                </a:solidFill>
                <a:latin typeface="Verdana"/>
                <a:ea typeface="宋体"/>
              </a:rPr>
              <a:t>结果评价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：也称终结性评价，是在服务对象经过各项计划执行后，针对护理活动的近期和远期效果进行评价，判断实施计划后的效果是否与预期目标相一致。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6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613" name="Picture 15" descr="Chalkboard3"/>
          <p:cNvPicPr/>
          <p:nvPr/>
        </p:nvPicPr>
        <p:blipFill>
          <a:blip r:embed="rId1"/>
          <a:srcRect l="0" t="2168" r="0" b="0"/>
          <a:stretch/>
        </p:blipFill>
        <p:spPr>
          <a:xfrm>
            <a:off x="-181080" y="836640"/>
            <a:ext cx="9577440" cy="6121440"/>
          </a:xfrm>
          <a:prstGeom prst="rect">
            <a:avLst/>
          </a:prstGeom>
          <a:ln w="0">
            <a:noFill/>
          </a:ln>
        </p:spPr>
      </p:pic>
      <p:sp>
        <p:nvSpPr>
          <p:cNvPr id="614" name="文本框 2"/>
          <p:cNvSpPr/>
          <p:nvPr/>
        </p:nvSpPr>
        <p:spPr>
          <a:xfrm>
            <a:off x="1260360" y="1268280"/>
            <a:ext cx="6480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1" lang="zh-CN" sz="2000" spc="-1" strike="noStrike">
                <a:solidFill>
                  <a:srgbClr val="ffffff"/>
                </a:solidFill>
                <a:latin typeface="Verdana"/>
              </a:rPr>
              <a:t>位于某城市高校区附件的宏宇小区是一个新兴的居民住宅小区。该小区内住户大部分为高级知识分子，少部分为在该小区旁菜市场、商店里工作的民工。该小区内的人群年龄分布以中年人和老年人为主。大部分仍然工作在教学科研一线，工作压力较大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1" lang="zh-CN" sz="2000" spc="-1" strike="noStrike">
                <a:solidFill>
                  <a:srgbClr val="ffffff"/>
                </a:solidFill>
                <a:latin typeface="Verdana"/>
              </a:rPr>
              <a:t>小区内均为高层楼房，由于是新建小区，因此楼梯走廊比较明亮、少堆积物，但有部分楼道内的灭火器缺失。多数住户数值火警电话，但不会使用防火器械。小区内绿化好，水泥路面平整通畅。地下车库还没有建成使用，因此小区内停车比较拥堵，机动车占用了一半的人行道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pic>
        <p:nvPicPr>
          <p:cNvPr id="704" name="内容占位符 6" descr=""/>
          <p:cNvPicPr/>
          <p:nvPr/>
        </p:nvPicPr>
        <p:blipFill>
          <a:blip r:embed="rId1"/>
          <a:stretch/>
        </p:blipFill>
        <p:spPr>
          <a:xfrm>
            <a:off x="665280" y="1395360"/>
            <a:ext cx="7740360" cy="4462560"/>
          </a:xfrm>
          <a:prstGeom prst="rect">
            <a:avLst/>
          </a:prstGeom>
          <a:ln w="0">
            <a:noFill/>
          </a:ln>
        </p:spPr>
      </p:pic>
      <p:sp>
        <p:nvSpPr>
          <p:cNvPr id="7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707" name=""/>
          <p:cNvSpPr txBox="1"/>
          <p:nvPr/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常用社区护理相关评价指标 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社区卫生服务数量和质量的评价指标。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社区卫生资源投入评价指标。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</a:rPr>
              <a:t>  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服务满意度评价指标。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社区卫生服务影响力评价指标。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7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711" name="图片 6" descr="4.png"/>
          <p:cNvPicPr/>
          <p:nvPr/>
        </p:nvPicPr>
        <p:blipFill>
          <a:blip r:embed="rId1"/>
          <a:stretch/>
        </p:blipFill>
        <p:spPr>
          <a:xfrm>
            <a:off x="468360" y="1628640"/>
            <a:ext cx="8280360" cy="4870440"/>
          </a:xfrm>
          <a:prstGeom prst="rect">
            <a:avLst/>
          </a:prstGeom>
          <a:ln w="0">
            <a:noFill/>
          </a:ln>
        </p:spPr>
      </p:pic>
      <p:sp>
        <p:nvSpPr>
          <p:cNvPr id="712" name="TextBox 6"/>
          <p:cNvSpPr/>
          <p:nvPr/>
        </p:nvSpPr>
        <p:spPr>
          <a:xfrm>
            <a:off x="2340000" y="1628640"/>
            <a:ext cx="6408720" cy="28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第四节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社区居民健康档案的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建立与管理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714" name=""/>
          <p:cNvSpPr txBox="1"/>
          <p:nvPr/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ff6600"/>
                </a:solidFill>
                <a:latin typeface="Verdana"/>
                <a:ea typeface="宋体"/>
              </a:rPr>
              <a:t>社区居民健康档案</a:t>
            </a: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是记录与社区居民健康有关信息的系统性文件，是社区卫生技术人员全面掌握居民健康状况的基本工具，是居民提供连续性、综合性、协调性的社区卫生服务的重要依据，同时还是社区护理教学、社区护理研究和司法工作的重要参考资料。 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一、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健康档案的类型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7" name=""/>
          <p:cNvSpPr txBox="1"/>
          <p:nvPr/>
        </p:nvSpPr>
        <p:spPr>
          <a:xfrm>
            <a:off x="304560" y="1371240"/>
            <a:ext cx="4228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根据档案主体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个人健康档案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家庭健康档案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社区健康档案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18" name=""/>
          <p:cNvSpPr txBox="1"/>
          <p:nvPr/>
        </p:nvSpPr>
        <p:spPr>
          <a:xfrm>
            <a:off x="4686120" y="1371240"/>
            <a:ext cx="4228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根据记录材质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纸质健康档案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电子健康档案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二、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健康档案的内容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1" name=""/>
          <p:cNvSpPr txBox="1"/>
          <p:nvPr/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个人健康档案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主要针对社区卫生服务中心管辖范围内常住居民，包括居住半年以上的户籍及非户籍居民。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以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0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岁儿童、孕产妇、老年人、慢性病患者和重性精神疾病患者等人群为重点。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二、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健康档案的内容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4" name=""/>
          <p:cNvSpPr txBox="1"/>
          <p:nvPr/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个人健康档案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ff6600"/>
                </a:solidFill>
                <a:latin typeface="Verdana"/>
                <a:ea typeface="宋体"/>
              </a:rPr>
              <a:t>以问题为导向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的健康记录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个人基本信息、健康体检、重点人群健康管理记录和其他医疗卫生服务记录。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ff6600"/>
                </a:solidFill>
                <a:latin typeface="Verdana"/>
                <a:ea typeface="宋体"/>
              </a:rPr>
              <a:t>以预防为导向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的健康记录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周期性健康检查记录表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免疫接种记录表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3" marL="1600200" indent="-228600">
              <a:lnSpc>
                <a:spcPct val="150000"/>
              </a:lnSpc>
              <a:buClr>
                <a:srgbClr val="046ca6"/>
              </a:buClr>
              <a:buFont typeface="Wingdings" charset="2"/>
              <a:buChar char=""/>
            </a:pP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45760" y="1052280"/>
            <a:ext cx="807732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以“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S-O-A-P”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的形式对个人健康问题描述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7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28" name="Text Box 2"/>
          <p:cNvSpPr/>
          <p:nvPr/>
        </p:nvSpPr>
        <p:spPr>
          <a:xfrm>
            <a:off x="395280" y="1700280"/>
            <a:ext cx="8379000" cy="4897440"/>
          </a:xfrm>
          <a:prstGeom prst="rect">
            <a:avLst/>
          </a:prstGeom>
          <a:gradFill rotWithShape="0">
            <a:gsLst>
              <a:gs pos="0">
                <a:srgbClr val="bbd5f0"/>
              </a:gs>
              <a:gs pos="100000">
                <a:srgbClr val="9cbee0"/>
              </a:gs>
            </a:gsLst>
            <a:lin ang="5400000"/>
          </a:gradFill>
          <a:ln w="15840">
            <a:solidFill>
              <a:srgbClr val="739c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Verdana"/>
              </a:rPr>
              <a:t>--S</a:t>
            </a:r>
            <a:r>
              <a:rPr b="1" lang="zh-CN" sz="2400" spc="-1" strike="noStrike">
                <a:solidFill>
                  <a:srgbClr val="ff6600"/>
                </a:solidFill>
                <a:latin typeface="Verdana"/>
              </a:rPr>
              <a:t>（</a:t>
            </a:r>
            <a:r>
              <a:rPr b="1" lang="en-US" sz="2400" spc="-1" strike="noStrike">
                <a:solidFill>
                  <a:srgbClr val="ff6600"/>
                </a:solidFill>
                <a:latin typeface="Verdana"/>
              </a:rPr>
              <a:t>subjective data</a:t>
            </a:r>
            <a:r>
              <a:rPr b="1" lang="zh-CN" sz="2400" spc="-1" strike="noStrike">
                <a:solidFill>
                  <a:srgbClr val="ff6600"/>
                </a:solidFill>
                <a:latin typeface="Verdana"/>
              </a:rPr>
              <a:t>）</a:t>
            </a:r>
            <a:r>
              <a:rPr b="1" lang="en-US" sz="2400" spc="-1" strike="noStrike">
                <a:solidFill>
                  <a:srgbClr val="ff6600"/>
                </a:solidFill>
                <a:latin typeface="Verdana"/>
              </a:rPr>
              <a:t>=</a:t>
            </a:r>
            <a:r>
              <a:rPr b="1" lang="zh-CN" sz="2400" spc="-1" strike="noStrike">
                <a:solidFill>
                  <a:srgbClr val="ff6600"/>
                </a:solidFill>
                <a:latin typeface="Verdana"/>
              </a:rPr>
              <a:t>个体的主观资料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Verdana"/>
              </a:rPr>
              <a:t>     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</a:rPr>
              <a:t>是由个体提供的主诉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</a:rPr>
              <a:t>/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</a:rPr>
              <a:t>症状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</a:rPr>
              <a:t>/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</a:rPr>
              <a:t>病史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</a:rPr>
              <a:t>/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</a:rPr>
              <a:t>家族史等。填写时尽量用个体的语言来描述，医护人员的主观看法不可加入其中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Verdana"/>
              </a:rPr>
              <a:t>--O</a:t>
            </a:r>
            <a:r>
              <a:rPr b="1" lang="zh-CN" sz="2400" spc="-1" strike="noStrike">
                <a:solidFill>
                  <a:srgbClr val="ff6600"/>
                </a:solidFill>
                <a:latin typeface="Verdana"/>
              </a:rPr>
              <a:t>（</a:t>
            </a:r>
            <a:r>
              <a:rPr b="1" lang="en-US" sz="2400" spc="-1" strike="noStrike">
                <a:solidFill>
                  <a:srgbClr val="ff6600"/>
                </a:solidFill>
                <a:latin typeface="Verdana"/>
              </a:rPr>
              <a:t>objective data</a:t>
            </a:r>
            <a:r>
              <a:rPr b="1" lang="zh-CN" sz="2400" spc="-1" strike="noStrike">
                <a:solidFill>
                  <a:srgbClr val="ff6600"/>
                </a:solidFill>
                <a:latin typeface="Verdana"/>
              </a:rPr>
              <a:t>）</a:t>
            </a:r>
            <a:r>
              <a:rPr b="1" lang="en-US" sz="2400" spc="-1" strike="noStrike">
                <a:solidFill>
                  <a:srgbClr val="ff6600"/>
                </a:solidFill>
                <a:latin typeface="Verdana"/>
              </a:rPr>
              <a:t>=</a:t>
            </a:r>
            <a:r>
              <a:rPr b="1" lang="zh-CN" sz="2400" spc="-1" strike="noStrike">
                <a:solidFill>
                  <a:srgbClr val="ff6600"/>
                </a:solidFill>
                <a:latin typeface="Verdana"/>
              </a:rPr>
              <a:t>客观资料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Verdana"/>
              </a:rPr>
              <a:t>     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</a:rPr>
              <a:t>是医生诊疗过程中观察到的个体资料，包括体征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</a:rPr>
              <a:t>/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</a:rPr>
              <a:t>实验室检查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</a:rPr>
              <a:t>/X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</a:rPr>
              <a:t>线检查的资料以及个体的态度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</a:rPr>
              <a:t>/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</a:rPr>
              <a:t>行为等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Verdana"/>
              </a:rPr>
              <a:t>--A</a:t>
            </a:r>
            <a:r>
              <a:rPr b="1" lang="zh-CN" sz="2400" spc="-1" strike="noStrike">
                <a:solidFill>
                  <a:srgbClr val="ff6600"/>
                </a:solidFill>
                <a:latin typeface="Verdana"/>
              </a:rPr>
              <a:t>（</a:t>
            </a:r>
            <a:r>
              <a:rPr b="1" lang="en-US" sz="2400" spc="-1" strike="noStrike">
                <a:solidFill>
                  <a:srgbClr val="ff6600"/>
                </a:solidFill>
                <a:latin typeface="Verdana"/>
              </a:rPr>
              <a:t>assessment</a:t>
            </a:r>
            <a:r>
              <a:rPr b="1" lang="zh-CN" sz="2400" spc="-1" strike="noStrike">
                <a:solidFill>
                  <a:srgbClr val="ff6600"/>
                </a:solidFill>
                <a:latin typeface="Verdana"/>
              </a:rPr>
              <a:t>）</a:t>
            </a:r>
            <a:r>
              <a:rPr b="1" lang="en-US" sz="2400" spc="-1" strike="noStrike">
                <a:solidFill>
                  <a:srgbClr val="ff6600"/>
                </a:solidFill>
                <a:latin typeface="Verdana"/>
              </a:rPr>
              <a:t>=</a:t>
            </a:r>
            <a:r>
              <a:rPr b="1" lang="zh-CN" sz="2400" spc="-1" strike="noStrike">
                <a:solidFill>
                  <a:srgbClr val="ff6600"/>
                </a:solidFill>
                <a:latin typeface="Verdana"/>
              </a:rPr>
              <a:t>评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Verdana"/>
              </a:rPr>
              <a:t>     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</a:rPr>
              <a:t>是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</a:rPr>
              <a:t>SOAP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</a:rPr>
              <a:t>中最重要的部分，应包括诊断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</a:rPr>
              <a:t>/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</a:rPr>
              <a:t>鉴别诊断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</a:rPr>
              <a:t>/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</a:rPr>
              <a:t>与其他问题的关系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</a:rPr>
              <a:t>/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</a:rPr>
              <a:t>问题的轻重程度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</a:rPr>
              <a:t>/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</a:rPr>
              <a:t>预后等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Verdana"/>
              </a:rPr>
              <a:t>--P</a:t>
            </a:r>
            <a:r>
              <a:rPr b="1" lang="zh-CN" sz="2400" spc="-1" strike="noStrike">
                <a:solidFill>
                  <a:srgbClr val="ff6600"/>
                </a:solidFill>
                <a:latin typeface="Verdana"/>
              </a:rPr>
              <a:t>（</a:t>
            </a:r>
            <a:r>
              <a:rPr b="1" lang="en-US" sz="2400" spc="-1" strike="noStrike">
                <a:solidFill>
                  <a:srgbClr val="ff6600"/>
                </a:solidFill>
                <a:latin typeface="Verdana"/>
              </a:rPr>
              <a:t>plan</a:t>
            </a:r>
            <a:r>
              <a:rPr b="1" lang="zh-CN" sz="2400" spc="-1" strike="noStrike">
                <a:solidFill>
                  <a:srgbClr val="ff6600"/>
                </a:solidFill>
                <a:latin typeface="Verdana"/>
              </a:rPr>
              <a:t>）</a:t>
            </a:r>
            <a:r>
              <a:rPr b="1" lang="en-US" sz="2400" spc="-1" strike="noStrike">
                <a:solidFill>
                  <a:srgbClr val="ff6600"/>
                </a:solidFill>
                <a:latin typeface="Verdana"/>
              </a:rPr>
              <a:t>=</a:t>
            </a:r>
            <a:r>
              <a:rPr b="1" lang="zh-CN" sz="2400" spc="-1" strike="noStrike">
                <a:solidFill>
                  <a:srgbClr val="ff6600"/>
                </a:solidFill>
                <a:latin typeface="Verdana"/>
              </a:rPr>
              <a:t>计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Verdana"/>
              </a:rPr>
              <a:t>     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</a:rPr>
              <a:t>是针对问题而提出的，每一问题都有相应的计划，包括诊断计划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</a:rPr>
              <a:t>/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</a:rPr>
              <a:t>治疗计划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</a:rPr>
              <a:t>/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</a:rPr>
              <a:t>个体指导等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二、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健康档案的内容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0" name=""/>
          <p:cNvSpPr txBox="1"/>
          <p:nvPr/>
        </p:nvSpPr>
        <p:spPr>
          <a:xfrm>
            <a:off x="468360" y="1236600"/>
            <a:ext cx="8447040" cy="50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家庭健康档案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家庭基本资料　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家庭评估资料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</a:rPr>
              <a:t>  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家庭主要健康问题目录及健康问题描述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家庭成员健康记录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"/>
          <p:cNvSpPr txBox="1"/>
          <p:nvPr/>
        </p:nvSpPr>
        <p:spPr>
          <a:xfrm>
            <a:off x="468360" y="1236600"/>
            <a:ext cx="8447040" cy="50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社区</a:t>
            </a: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健康档案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社区基本资料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社区卫生服务资源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社区卫生服务状况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社区居民健康状况 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Wingdings" charset="2"/>
              <a:buChar char=""/>
            </a:pP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34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</a:rPr>
              <a:t>二、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健康档案的内容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6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617" name="Picture 15" descr="Chalkboard3"/>
          <p:cNvPicPr/>
          <p:nvPr/>
        </p:nvPicPr>
        <p:blipFill>
          <a:blip r:embed="rId1"/>
          <a:srcRect l="0" t="2168" r="0" b="0"/>
          <a:stretch/>
        </p:blipFill>
        <p:spPr>
          <a:xfrm>
            <a:off x="-181080" y="836640"/>
            <a:ext cx="9577440" cy="6121440"/>
          </a:xfrm>
          <a:prstGeom prst="rect">
            <a:avLst/>
          </a:prstGeom>
          <a:ln w="0">
            <a:noFill/>
          </a:ln>
        </p:spPr>
      </p:pic>
      <p:sp>
        <p:nvSpPr>
          <p:cNvPr id="618" name="文本框 2"/>
          <p:cNvSpPr/>
          <p:nvPr/>
        </p:nvSpPr>
        <p:spPr>
          <a:xfrm>
            <a:off x="1260360" y="1268280"/>
            <a:ext cx="6480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1" lang="zh-CN" sz="2000" spc="-1" strike="noStrike">
                <a:solidFill>
                  <a:srgbClr val="ffffff"/>
                </a:solidFill>
                <a:latin typeface="Verdana"/>
              </a:rPr>
              <a:t>小区内有一所小学，但校门开放方向正好面对社区外的马路，距离马路的距离也较近。小区内有棋牌室、麻将室，但是光顾的人不多。小区内无正式宗教团体。小区内有药店，但离社区医疗服务中心距离比较远，需要换乘公交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2</a:t>
            </a:r>
            <a:r>
              <a:rPr b="1" lang="zh-CN" sz="2000" spc="-1" strike="noStrike">
                <a:solidFill>
                  <a:srgbClr val="ffffff"/>
                </a:solidFill>
                <a:latin typeface="Verdana"/>
              </a:rPr>
              <a:t>次才能到达。社区卫生服务中心以白天门诊服务为主，夜晚无就医条件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1" lang="zh-CN" sz="2000" spc="-1" strike="noStrike">
                <a:solidFill>
                  <a:srgbClr val="ffffff"/>
                </a:solidFill>
                <a:latin typeface="Verdana"/>
              </a:rPr>
              <a:t>社区医护人员在建档时发现该社区居民的高血压患病率为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23.2%</a:t>
            </a:r>
            <a:r>
              <a:rPr b="1" lang="zh-CN" sz="2000" spc="-1" strike="noStrike">
                <a:solidFill>
                  <a:srgbClr val="ffffff"/>
                </a:solidFill>
                <a:latin typeface="Verdana"/>
              </a:rPr>
              <a:t>，相比于全国成人高血压患病率平均水平高（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18.8%</a:t>
            </a:r>
            <a:r>
              <a:rPr b="1" lang="zh-CN" sz="2000" spc="-1" strike="noStrike">
                <a:solidFill>
                  <a:srgbClr val="ffffff"/>
                </a:solidFill>
                <a:latin typeface="Verdana"/>
              </a:rPr>
              <a:t>）。通过与居民交谈后得知多数居民喜欢吃咸食，少运动，居民们对高血压疾病的相关知识了解不够，缺乏自我保护意识和保健知识。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    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社区居民健康档案的管理与使用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37" name="内容占位符 1" descr=""/>
          <p:cNvPicPr/>
          <p:nvPr/>
        </p:nvPicPr>
        <p:blipFill>
          <a:blip r:embed="rId1"/>
          <a:stretch/>
        </p:blipFill>
        <p:spPr>
          <a:xfrm>
            <a:off x="-6480" y="1352520"/>
            <a:ext cx="9406080" cy="48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739" name="Object 2"/>
          <p:cNvGraphicFramePr/>
          <p:nvPr/>
        </p:nvGraphicFramePr>
        <p:xfrm>
          <a:off x="928800" y="214200"/>
          <a:ext cx="6858000" cy="6367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8800" y="214200"/>
                    <a:ext cx="6858000" cy="6367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41" name="TextBox 4"/>
          <p:cNvSpPr/>
          <p:nvPr/>
        </p:nvSpPr>
        <p:spPr>
          <a:xfrm>
            <a:off x="7732080" y="1143000"/>
            <a:ext cx="9118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</a:rPr>
              <a:t>图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</a:rPr>
              <a:t>1 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</a:rPr>
              <a:t>确定建档对象流程图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43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744" name="Object 1"/>
          <p:cNvGraphicFramePr/>
          <p:nvPr/>
        </p:nvGraphicFramePr>
        <p:xfrm>
          <a:off x="571680" y="214200"/>
          <a:ext cx="7362720" cy="6421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5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1680" y="214200"/>
                    <a:ext cx="7362720" cy="642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6" name="TextBox 5"/>
          <p:cNvSpPr/>
          <p:nvPr/>
        </p:nvSpPr>
        <p:spPr>
          <a:xfrm>
            <a:off x="7732080" y="1143000"/>
            <a:ext cx="9118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</a:rPr>
              <a:t>图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</a:rPr>
              <a:t>2 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</a:rPr>
              <a:t>居民健康档案管理流程图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"/>
          <p:cNvSpPr txBox="1"/>
          <p:nvPr/>
        </p:nvSpPr>
        <p:spPr>
          <a:xfrm>
            <a:off x="179280" y="1196640"/>
            <a:ext cx="885672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建档工作的考核指标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1. 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健康档案建档率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=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建档人数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/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辖区内常住居民数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×100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％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2. 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电子健康档案建档率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=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建立电子健康档案人数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/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辖区内常住居民数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×100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％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3. 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健康档案合格率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=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抽查填写合格的档案份数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/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抽查档案总份数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×100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％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4. 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健康档案使用率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=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抽查档案中有动态记录的档案份数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/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抽查档案总份数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×100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％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Verdana"/>
                <a:ea typeface="宋体"/>
              </a:rPr>
              <a:t>(</a:t>
            </a:r>
            <a:r>
              <a:rPr b="1" lang="zh-CN" sz="1800" spc="-1" strike="noStrike">
                <a:solidFill>
                  <a:srgbClr val="0070c0"/>
                </a:solidFill>
                <a:latin typeface="Verdana"/>
                <a:ea typeface="宋体"/>
              </a:rPr>
              <a:t>有动态记录的档案是指</a:t>
            </a:r>
            <a:r>
              <a:rPr b="1" lang="en-US" sz="1800" spc="-1" strike="noStrike">
                <a:solidFill>
                  <a:srgbClr val="0070c0"/>
                </a:solidFill>
                <a:latin typeface="Verdana"/>
                <a:ea typeface="宋体"/>
              </a:rPr>
              <a:t>1</a:t>
            </a:r>
            <a:r>
              <a:rPr b="1" lang="zh-CN" sz="1800" spc="-1" strike="noStrike">
                <a:solidFill>
                  <a:srgbClr val="0070c0"/>
                </a:solidFill>
                <a:latin typeface="Verdana"/>
                <a:ea typeface="宋体"/>
              </a:rPr>
              <a:t>年内有符合各项服务规范要求的相关服务记录的健康档案</a:t>
            </a:r>
            <a:r>
              <a:rPr b="1" lang="en-US" sz="1800" spc="-1" strike="noStrike">
                <a:solidFill>
                  <a:srgbClr val="0070c0"/>
                </a:solidFill>
                <a:latin typeface="Verdana"/>
                <a:ea typeface="宋体"/>
              </a:rPr>
              <a:t>)</a:t>
            </a:r>
            <a:endParaRPr b="1" lang="en-US" sz="1800" spc="-1" strike="noStrike">
              <a:solidFill>
                <a:srgbClr val="0070c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endParaRPr b="1" lang="en-US" sz="18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49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三、社区居民健康档案的管理与使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6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21" name="TextBox 7"/>
          <p:cNvSpPr/>
          <p:nvPr/>
        </p:nvSpPr>
        <p:spPr>
          <a:xfrm>
            <a:off x="468360" y="1484280"/>
            <a:ext cx="7920000" cy="39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Verdana"/>
              </a:rPr>
              <a:t>作为一名工作在这个社区的护士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除了目前已有的评估资料外，你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需要对这个社区补充哪些评估资料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本例中所得到的社区护理问题较多，你将以何种原则对这些社区护理问题进行排序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为这个社区的人群设计干预计划时，如何根据社区人群的文化程度来考虑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622" name="Picture 2" descr="http://down.tutu001.com/d/file/20120217/373dcfb4c8f401a2c8be033836_560.jpg"/>
          <p:cNvPicPr/>
          <p:nvPr/>
        </p:nvPicPr>
        <p:blipFill>
          <a:blip r:embed="rId1"/>
          <a:srcRect l="9449" t="12529" r="9550" b="12292"/>
          <a:stretch/>
        </p:blipFill>
        <p:spPr>
          <a:xfrm>
            <a:off x="6875640" y="1197000"/>
            <a:ext cx="192060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6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625" name="图片 6" descr="4.png"/>
          <p:cNvPicPr/>
          <p:nvPr/>
        </p:nvPicPr>
        <p:blipFill>
          <a:blip r:embed="rId1"/>
          <a:stretch/>
        </p:blipFill>
        <p:spPr>
          <a:xfrm>
            <a:off x="468360" y="1628640"/>
            <a:ext cx="8280360" cy="4870440"/>
          </a:xfrm>
          <a:prstGeom prst="rect">
            <a:avLst/>
          </a:prstGeom>
          <a:ln w="0">
            <a:noFill/>
          </a:ln>
        </p:spPr>
      </p:pic>
      <p:sp>
        <p:nvSpPr>
          <p:cNvPr id="626" name="TextBox 6"/>
          <p:cNvSpPr/>
          <p:nvPr/>
        </p:nvSpPr>
        <p:spPr>
          <a:xfrm>
            <a:off x="3059280" y="2421000"/>
            <a:ext cx="540036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第一节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社区评估与诊断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2771640" y="304560"/>
            <a:ext cx="61437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一、社区评估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8" name=""/>
          <p:cNvSpPr txBox="1"/>
          <p:nvPr/>
        </p:nvSpPr>
        <p:spPr>
          <a:xfrm>
            <a:off x="178920" y="1125000"/>
            <a:ext cx="8736120" cy="512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社区评估的</a:t>
            </a:r>
            <a:r>
              <a:rPr b="1" lang="zh-CN" sz="3200" spc="-1" strike="noStrike">
                <a:solidFill>
                  <a:srgbClr val="ff6600"/>
                </a:solidFill>
                <a:latin typeface="Verdana"/>
                <a:ea typeface="宋体"/>
              </a:rPr>
              <a:t>定义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是指收集社区实际存在和潜在健康问题有关资料的过程。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社区评估的</a:t>
            </a:r>
            <a:r>
              <a:rPr b="1" lang="zh-CN" sz="3200" spc="-1" strike="noStrike">
                <a:solidFill>
                  <a:srgbClr val="ff6600"/>
                </a:solidFill>
                <a:latin typeface="Verdana"/>
                <a:ea typeface="宋体"/>
              </a:rPr>
              <a:t>目的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发现社区健康问题。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找出导致问题的相关因素。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为社区护理诊断和计划提供依据。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2771640" y="304560"/>
            <a:ext cx="61437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一、社区评估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31" name="内容占位符 5" descr=""/>
          <p:cNvPicPr/>
          <p:nvPr/>
        </p:nvPicPr>
        <p:blipFill>
          <a:blip r:embed="rId1"/>
          <a:stretch/>
        </p:blipFill>
        <p:spPr>
          <a:xfrm>
            <a:off x="-476280" y="974880"/>
            <a:ext cx="12760200" cy="5591160"/>
          </a:xfrm>
          <a:prstGeom prst="rect">
            <a:avLst/>
          </a:prstGeom>
          <a:ln w="0">
            <a:noFill/>
          </a:ln>
        </p:spPr>
      </p:pic>
      <p:sp>
        <p:nvSpPr>
          <p:cNvPr id="6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6326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一、社区评估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4" name=""/>
          <p:cNvSpPr txBox="1"/>
          <p:nvPr/>
        </p:nvSpPr>
        <p:spPr>
          <a:xfrm>
            <a:off x="179280" y="1125360"/>
            <a:ext cx="885672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社区评估的</a:t>
            </a:r>
            <a:r>
              <a:rPr b="1" lang="zh-CN" sz="3200" spc="-1" strike="noStrike">
                <a:solidFill>
                  <a:srgbClr val="ff6600"/>
                </a:solidFill>
                <a:latin typeface="Verdana"/>
                <a:ea typeface="宋体"/>
              </a:rPr>
              <a:t>方法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社区实地考察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挡风玻璃式调查（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windshield survey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） 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重点人物访谈（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key informants interview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问卷调查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查阅文献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参与式观察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社区讨论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6-03-11T03:15:35Z</dcterms:modified>
  <cp:revision>53</cp:revision>
  <dc:subject/>
  <dc:title>第二章 以社区为中心的护理</dc:title>
</cp:coreProperties>
</file>