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6F3D-427D-47B1-9EA0-1C3C8E42ACE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48C9-987A-4EBA-ACFC-B6BD37381F0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7D88-AB7F-44A1-B156-D23BFC39DB7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9881-165C-44BA-93E6-85439EB9393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C623-623A-4DE5-BD27-877918B8C4E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9EA2-7AEA-42DF-A790-10CAF63D215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03ED-F200-484B-A836-3D8BD1E5E67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0569-ADE5-430D-A244-1EF3720B8C2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2710-8F1A-4133-B50C-9FCA9E174B5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5F96-DDBA-445A-9FCF-D1F7DF3C80E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B5AF-F983-4731-B2A8-E1A46067DAE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56FD-00C1-4DB2-8EE6-D39EA437352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2855-FB77-4DAC-8B2D-C235CE57066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393A-5795-4D1E-9847-0C5C6B8ED19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C863-4BA8-4DE6-9831-00977121278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4E54B-2B6F-4510-B88E-99BB6CD0D1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64761-37B5-414F-98B1-CA2638B0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4A930-4FED-4ABB-BAF8-6411A8EE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02EEB-4743-4129-AAE4-18C78ADA94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E34C9-845B-4D1D-A2A7-CF55B872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04264-D446-4F24-B453-79D6A7B1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EFF1A-A5B7-48E4-8DE6-E27FDED4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8E0F4-0F02-426A-B163-1E1536BA6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93CE6-B8E5-4246-B151-5A12BE659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00C2F-46BC-4E76-8EE7-1CFA06DC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99073-8415-4788-B7B4-48BD1969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8B8ED-4ED8-40DF-AF65-FD75D397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6329-E799-4091-B1BC-BABA0C3A26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2050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危重患者的急救与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75840" y="1628280"/>
            <a:ext cx="847404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颤器的使用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法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通气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常用急救技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ardiopulmonary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对由于外伤、疾病、中毒、意外低温、淹溺和电击等各种原因，导致呼吸、心搏骤停，必须紧急采取重建和促进心脏、呼吸有效功能恢复的一系列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3640" y="942840"/>
            <a:ext cx="84740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脑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rdiopulmonary cerebral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C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复苏可分为三个阶段：基础生命支持、高级生命支持和复苏后治疗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基础生命支持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asic life suppor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L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心搏骤停后挽救患者生命的基本急救措施，包括胸外心脏按压、开放气道、人工呼吸三个步骤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23640" y="1628280"/>
            <a:ext cx="84740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各种意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神经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循环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药物中毒或过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代谢及电解质紊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80720" y="1844640"/>
            <a:ext cx="8723160" cy="34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意识突然丧失或伴有抽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断续，喘息，随后呼吸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皮肤苍白或明显发绀，瞳孔散大，二便失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颈、股动脉搏动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心音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56760" y="1356840"/>
            <a:ext cx="847404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基础生命支持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通过实施基础生命支持技术，建立患者的循环、呼吸功能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保证重要脏器的血液供应，尽快促进心搏、呼吸功能的恢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评估患者的病情、意识状态、呼吸、脉搏、有无活动义齿等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环境准备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23640" y="1700280"/>
            <a:ext cx="8474040" cy="40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步骤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患者仰卧，争分夺秒就地抢救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按压部位要准确，用力适度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清除口咽分泌物、异物，保持气道通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胸外心脏按压与人工呼吸同时进行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21840" y="1916280"/>
            <a:ext cx="8474040" cy="32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除颤仪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efibrillat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应用电击来抢救和治疗心律失常的一种医疗电子设备。临床上分为非同步电复律，又称为心脏电除颤和同步电复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267920"/>
            <a:ext cx="8474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适应证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心室颤动、心室扑动、无脉性室性心动过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患者病情状况、评估患者意识、颈动脉搏动及心电图情况，确认需为患者立即进行电除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39996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确掌握适应证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安全管理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监测病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2160" y="1988640"/>
            <a:ext cx="8786880" cy="32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gastric lavag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将胃管插入患者胃内，反复注入和吸出一定量的溶液，以冲洗并排除胃内容物，减轻或避免吸收中毒的胃灌洗方法。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5840" y="1844640"/>
            <a:ext cx="8474040" cy="33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危重患者的急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957240"/>
            <a:ext cx="726732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毒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轻胃黏膜水肿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患者并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次灌液量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宜，每次灌入量与吸出量应基本保持一致，总洗胃量一般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0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液应悬挂于高于胃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c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处，吸引器负压应保持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3.3k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为幽门梗阻者洗胃，宜在饭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或空腹进行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服毒者洗胃完毕后，按医嘱保留胃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，必要时反复、间断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中毒物质不明时，及时抽取胃内容物送检，应用温开水或生理盐水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后注意患者胃内毒物清除状况，中毒症状有无得到缓解或控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4760" y="1699920"/>
            <a:ext cx="878688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由于各种原因导致呼吸器官不能维持正常的气体交换，即发生呼吸衰竭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respiratory failure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者，以人工机械装置（主要是呼吸机）的通气代替、控制或辅助患者呼吸，以达到增加通气量、改善气体交换和维持呼吸功能等目的，此疗法称为机械通气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echanical ventilation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V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或通气支持疗法。 </a:t>
            </a:r>
            <a:endParaRPr b="1" lang="en-US" sz="3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17360" y="1557360"/>
            <a:ext cx="878688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维持代谢所需的肺泡通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低氧血症和改善氧运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呼吸肌做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与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840" y="1844280"/>
            <a:ext cx="878688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密监测病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防院内感染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安全管理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危重患者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55640" y="1989000"/>
            <a:ext cx="7469280" cy="31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评估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意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为疾病的诊断、治疗和护理提供科学依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判断疾病的发展趋势和转归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及时了解治疗效果和用药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及时发现危重症患者病情变化的征象等，以便采取有效措施及处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程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维护和颈椎保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通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功能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意识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监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系统功能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系统功能监测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功能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肾功能监测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5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基础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支持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的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7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心肺复苏、基本生命支持、洗胃法、意识障碍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呼吸心搏骤停的原因和临床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洗胃的目的、适应证和禁忌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毒物中毒的洗胃溶液和禁忌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能准确说出病情评估的内容及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发生心搏骤停时进行心脏按压，正确的方法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频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部位为胸骨中上半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胸骨下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cm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时依靠腕部的力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在患者背部垫硬板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最后成功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脑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肺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肾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美曲膦酯中毒忌用洗胃溶液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盐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乐果中毒时禁用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患者眼睑不能闭合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敷眼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摩眼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眼药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消毒巾遮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盖凡士林纱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中毒者，当诊断不明时，应选择的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或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牛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3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氧化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碳酸氢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吞服强酸、强碱类腐蚀性药物的患者，切忌进行的护理操作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昏迷深浅度的最可靠指标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命体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反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张力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肤的温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疼痛刺激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处于持续睡眠状态，但能被言语或轻度刺激唤醒，刺激去除后又很快入睡，此时患者处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需要密切观察血压的病情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哮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恶心、呕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96472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抢救工作管理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除颤器使用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危重患者病情评估的内容、方法和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和不同程度意识障碍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糖尿病昏迷患者呼气中带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硫化氢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氨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烂苹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别臭味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哪项外都属于中枢神经系统功能障碍的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障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烦躁不安、谵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闭目养神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体温升高伴有高血压下降常提示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源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4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呕吐呈喷射状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幽门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低位性肠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肠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颅内压增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食物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护理中，下列哪项是不必要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密观察病情变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足够的营养和水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严密隔离原则处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角膜反射消失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迷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胸外心脏按压的频率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7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9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人工呼吸与胸外心脏按压的比例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: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5: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2:1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15: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:30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瞳孔时应注意瞳孔的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径大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称情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呕吐时，应观察的内容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伴随症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6108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正确评估并识别心搏骤停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基本生命支持技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洗胃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基本步骤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气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工呼吸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静脉通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危重患者护理可预防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入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坠积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泌尿系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肢静脉血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病情贯穿在下列哪些护理过程中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晨间护理了解饮食和睡眠状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定时测量体温、脉搏、呼吸、血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患者交谈，了解心理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前做好三查七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药后注意药物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昏迷患者呼吸道通畅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吸出呼吸道分泌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监测患者体温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平卧位时头偏向一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观察患者有无缺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有无下颌式呼吸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患者进行肢体被动运动的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肌肉萎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关节僵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下肢静脉血栓形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足下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坠积性肺炎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幽门梗阻患者洗胃时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液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次灌入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0ml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宜在饭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进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洗出液的颜色、气味、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胃内潴留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瞳孔的表现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呈圆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边缘整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应灵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侧对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自然光线下，瞳孔直径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m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有效指征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面、口唇、皮肤转红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回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主呼吸恢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扪到颈动脉搏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扩大，血压下降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时每次灌洗的液量不可过多，是为了防止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速毒物的吸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扩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浓度降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分泌减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利于消化吸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758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分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某，男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脑外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急诊入院。查体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7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110/7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等大等圆，对光反应存在，神志不清，压眶上神经有痛苦表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处于何种意识状态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次晨患者出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84/40mn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不等大，对光反射消失。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理应重点观察哪些内容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危重患者的急救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915920"/>
            <a:ext cx="84740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急救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的组织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工作的准备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抢救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建立责任明确的系统组织结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制订抢救方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做好核对工作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及时、准确、如实做好各项记录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安排护士参加医院组织的查房、会诊、病例讨论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床单位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车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器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制度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内抢救设备、物品、药品管理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车专人管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物品的日常维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14:26:20Z</dcterms:created>
  <dc:creator>Microsoft Office 用户</dc:creator>
  <dc:description/>
  <dc:language>en-US</dc:language>
  <cp:lastModifiedBy>赵欣</cp:lastModifiedBy>
  <dcterms:modified xsi:type="dcterms:W3CDTF">2016-01-22T08:39:48Z</dcterms:modified>
  <cp:revision>2</cp:revision>
  <dc:subject/>
  <dc:title>第十八章  危重患者的急救与护理 </dc:title>
</cp:coreProperties>
</file>