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E381-FC38-425A-9656-6BAE6D0898A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2326-4F5D-4404-8B4D-33427FB2E1B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1D96-45E2-480C-8B09-D87EE7A5455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DBF95-77F7-4970-B3DF-7BC8DFA52A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F4BE1-188F-4CBC-9C0E-AAE732F4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93DEA-600F-4AFD-81EC-A41674F2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4E9D0-A336-4377-9378-59E6F0F8DC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3ADB3-3800-4236-A4C1-E3491C26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717A1-A31D-4EE2-85D2-BC067172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BFF19-696E-4108-A65D-A32D6478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FCD8C-5CCD-46FC-B2C1-CBAABAA7A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3CC2D-7709-4867-BC39-EA034F80F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178C8-BC64-4214-9B75-EF6E55CD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27AEF-0F71-4195-8395-CA029B80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6C09D-90D8-40F4-A061-8FAABDE3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F7F5-C4F8-4D68-89E4-04721A584C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六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排泄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24000" y="10476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每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尿或尿闭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无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24000" y="10526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刺激征：主要表现为尿频、尿急、尿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潴留：尿液大量存留于膀胱内而不能自主排出；分为机械性尿潴留、动力性尿潴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失禁：指排尿失去意识控制或不受意识控制，尿液不自主地流出，分为真性尿失禁、假性尿失禁、压力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人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液体和饮食摄入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及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候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24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失禁患者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部引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建正常的排尿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隐蔽的排尿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体位和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导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热敷与按摩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可使用导尿术，协助患者排尿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导尿术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指在严格无菌操作下，将导尿管经尿道插入膀胱引流尿液的方法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潴留患者引流尿液，减轻其痛苦；使尿失禁患者保持会阴清洁干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临床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盆腔内器官手术或检查前排空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膀胱肿瘤患者进行膀胱化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患者的年龄、病情、意识状态、心肺功能，以及心理状态和合作程度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充盈度及会阴部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排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排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排气护理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内容占位符 2"/>
          <p:cNvSpPr/>
          <p:nvPr/>
        </p:nvSpPr>
        <p:spPr>
          <a:xfrm>
            <a:off x="301680" y="1197000"/>
            <a:ext cx="87343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“三查七对”制度，防止发生差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操作，预防感染的发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管如误入阴道，应更换导尿管后重新插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光滑和粗细适宜的导尿管，插管动作应轻慢，以免损伤尿道黏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膀胱高度膨胀，患者又极度衰弱时，第一次放尿不应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危重、休克患者时正确记录每小时尿量、测量尿比重，以密切观察患者的病情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盆腔手术前应为患者排空膀胱，使膀胱保持空虚状态以避免手术中误伤膀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泌尿系统疾病手术的患者进行留置导尿，便于减轻手术切口的张力，利于手术切口的愈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或会阴部有伤口的患者引流尿液，用以保持会阴部的清洁干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患者行膀胱功能训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内容占位符 2"/>
          <p:cNvSpPr/>
          <p:nvPr/>
        </p:nvSpPr>
        <p:spPr>
          <a:xfrm>
            <a:off x="324000" y="16178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病情、留置导尿术的目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的意识状态、身体状态、心理状态、对导尿的认识及配合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情况、膀胱充盈及局部皮肤情况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内容占位符 2"/>
          <p:cNvSpPr/>
          <p:nvPr/>
        </p:nvSpPr>
        <p:spPr>
          <a:xfrm>
            <a:off x="395280" y="1484280"/>
            <a:ext cx="79218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讲解留置导尿管的目的和护理方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保持导管引流通畅，避免引流管受压、打折、堵塞等造成引流不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双腔气囊导尿管时应避免膨胀的气囊卡在尿道内口，以免气囊压迫膀胱壁造成黏膜的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健康教育，防止逆行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长期留置导尿的患者进行膀胱功能和骨盆底肌肉的训练，帮助其维持或重建排尿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内容占位符 2"/>
          <p:cNvSpPr/>
          <p:nvPr/>
        </p:nvSpPr>
        <p:spPr>
          <a:xfrm>
            <a:off x="324000" y="1844640"/>
            <a:ext cx="84740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尿道口清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时更换导尿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及时倾倒集尿袋内尿液并做好记录，避免引流管末端触及集尿袋内尿液；每日定时更换集尿袋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内容占位符 2"/>
          <p:cNvSpPr/>
          <p:nvPr/>
        </p:nvSpPr>
        <p:spPr>
          <a:xfrm>
            <a:off x="324000" y="1484280"/>
            <a:ext cx="84740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患者多饮水，每日饮水量应不少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训练膀胱反射功能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观察尿液情况，及时倾听患者主诉，每周检查尿常规一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离床活动或作检查时，可携集尿袋前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异常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3336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排便护理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次数：正常情况下，成人排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，婴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量：正常情况下，成人每日粪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和性状：一般粪便呈黄褐色或棕黄色、成形、软便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多尿、少尿、无尿、尿潴留、尿失禁、导尿术、便秘、粪便嵌塞、排便失禁、灌肠法、肠胀气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排尿、排便观察的要点和正常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排尿异常的类型、原因和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尿失禁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排尿、排便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内容物：主要由食物残渣、脱落的大量上皮细胞、细菌以及代谢废物等组成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一般情况下，食肉者粪便气味较重，素食者粪便气味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指正常的排便型态改变或排便次数减少，排出过于干硬的粪便且排便不畅或困难排便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：指粪便持久滞留于直肠内，变得坚硬且不能自行排出，常见于不能缓解的慢性便秘者便内容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泻：指正常排便型态改变，频繁排出松散稀薄的粪便甚至呈水样便，是消化道消化、吸收和分泌功能紊乱的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：指肛门括约肌不受意识控制而出现不自主排便，可由神经系统病变、胃肠疾病、心理因素引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和液体摄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和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隐蔽的排便环境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的排便姿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环形按摩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建正常的排便习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医嘱口服缓泻药物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方法均无效时，遵医嘱使用灌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嵌塞患者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使用口服缓泻剂、栓剂等，达到通便目的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先行油剂保留灌肠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行清洁灌肠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清洁灌肠仍无效时，遵医嘱执行人工取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，注意腹部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、电解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皮肤完整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排尿异常和排便异常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肠胀气患者的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女性导尿、男性导尿和留置导尿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小量不保留灌肠、大量不保留灌肠和保留灌肠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失禁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皮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帮助患者重建控制排便的能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食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环境整洁，空气清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法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nem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指将一定量液体由肛门经直肠灌入结肠，帮助患者清洁肠道、排便、排气或经肠道给药或营养，以达到诊断和治疗目的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留灌肠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简易通便法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洁肠道，为手术、检查和分娩作准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和肠胀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稀释或清除肠道内有毒物质，减轻中毒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低温溶液可为高热患者降低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身心状况患者的年龄、病情、意识状态、心肺功能、心理状态及合作程度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门周围皮肤情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800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入肛管前应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肛管前排净导管内气体，避免将气体灌入肠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时动作宜轻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中观察溶液流入情况；灌肠过程中患者如有便意，鼓励患者张口呼吸，同时降低灌肠筒高度；灌肠完毕不宜立即排便，使灌肠液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患者反应，如发现患者出现面色苍白、出冷汗、剧烈腹痛时应立即停止灌肠并采取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灌肠液时，不可将灌肠液全部流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拔出肛管前，灌肠筒不可低于臀部，以免液体回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降温灌肠时灌肠液应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排便并监测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禁用肥皂水灌肠，减少氨的产生和吸收；充血性心力衰竭和水钠潴留者禁用生理盐水灌肠，由于生理盐水是等渗溶液，易从肠道吸收而加重已有的水钠潴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出肠内积气，减轻腹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用于腹部或盆腔手术后肠胀气，为危重症患者、年老体弱者、小儿和孕妇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排尿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异常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次性导尿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尿管留置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53760" indent="-251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心状况：①患者的年龄、病情、意识状态、心肺功能等。②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皮肤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前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动作宜轻柔，注意观察患者的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灌肠液的温度和灌肠速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小容量灌肠筒时，灌肠液液面距肛门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完毕不宜立即排便，应嘱患者保留灌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、消化道出血、妊娠、严重心血管疾病等患者禁忌灌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，若灌肠中患者感觉腹胀或便意，应嘱患者做深呼吸；若患者面色苍白、出汗，应立即停止灌肠并给予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排气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管排气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胀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latulenc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指胃肠道内积聚过多气体且不能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除病因  如积极治疗肠道疾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指导患者养成良好饮食习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适当活动如散步、做体操、打太极拳等；卧床患者可适当进行床上活动或定时更换体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酌情可进行腹部热敷或腹部按摩、针刺疗法。严重者可遵医嘱给予药物治疗或行肛管排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出肠腔内积气，缓解腹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：患者的年龄、病情、意识状态、心肺功能等；心理状态及合作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门皮肤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内容占位符 2"/>
          <p:cNvSpPr/>
          <p:nvPr/>
        </p:nvSpPr>
        <p:spPr>
          <a:xfrm>
            <a:off x="324000" y="1641600"/>
            <a:ext cx="847404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气过程中注意观察瓶液面下气泡逸出情况，若排气不畅，应及时变换体位或对腹部进行按摩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管保留时间不宜超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尿量和次数：成人白天排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夜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。每次排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尿量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排出的尿液有酮味提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机磷农药中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毒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尿病酮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少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潴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衰竭膀胱高度膨胀的患者，导尿首次排完膀胱会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剧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尿、虚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灌肠时禁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皂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醋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留灌肠仅适用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妊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痢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失禁患者的护理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尊重患者，给予安慰和鼓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皮肤护理，保持床单位清洁、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部引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训练膀胱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每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插导尿管一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患者行一次性导尿术，下列步骤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技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取屈膝仰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初次消毒首先消毒大阴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管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cm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见尿后再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误入阴道，应立即拔出原管重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灌肠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液是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l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m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ml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尿潴留的护理措施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敷、按摩下腹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让患者听流水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温水冲洗会阴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双氢克尿噻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女士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行子宫切除术，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仍未排尿，主诉下腹胀痛难忍，有尿意，但排尿困难，患者烦躁不安。检查：耻骨联合上方膨隆，可触及一囊性包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如何护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7120" y="1212840"/>
            <a:ext cx="8607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：正常新鲜尿液为淡黄色或深黄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状态下：血尿；血红蛋白尿；胆红素尿；乳糜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透明度：正常新鲜尿液为清澈透明，放置后可出现微量絮状沉淀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尿液久置后尿素分解产生氨，有氨臭味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新鲜尿液有氨臭味，疑有泌尿道感染。糖尿病酮症酸中毒时，尿液中因含有丙酮，故有烂苹果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酸碱反应：正常尿液呈弱酸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重：尿液比重是尿液与纯水的重量之比。一般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尿量成反比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03:07:06Z</dcterms:created>
  <dc:creator>Microsoft Office 用户</dc:creator>
  <dc:description/>
  <dc:language>en-US</dc:language>
  <cp:lastModifiedBy>赵欣</cp:lastModifiedBy>
  <dcterms:modified xsi:type="dcterms:W3CDTF">2016-01-22T08:30:57Z</dcterms:modified>
  <cp:revision>76</cp:revision>
  <dc:subject/>
  <dc:title>第十六章  排泄护理 </dc:title>
</cp:coreProperties>
</file>