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96CD-8E8A-48DF-8540-B093B687E6B7}" type="datetime">
              <a:rPr b="0" lang="zh-CN" sz="1200" spc="-1" strike="noStrike">
                <a:solidFill>
                  <a:srgbClr val="000000"/>
                </a:solidFill>
                <a:latin typeface="Times New Roman"/>
                <a:ea typeface="Arial"/>
              </a:rPr>
              <a:t>26/7/31</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89D7-800F-4FFB-BB46-3C26E17A93CE}"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8A5E-B153-49BC-826F-91D0B66D307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893A0-BD2E-4A76-8F15-DA91761A25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56BCCB-1DBA-4679-A639-CD8397B3FD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B1D46B-BEBF-4BA3-B35C-75AFD6D0B5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F1207BD-BE3F-4E7F-9C7B-C77F5394C5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EF2CE7-2B1A-4A57-BA85-B491F06D4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ECA804-91F6-406F-95A7-D1A5F1E55B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025F4E-0F42-4059-8C34-FD54FCFAC0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138379-77F2-41F4-AF6E-96F6C9745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09DA13-019D-46D3-9D12-CA295EC8D4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487106-1C84-4467-8FB9-7C197C124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BEC557-122A-4408-8BF2-378788E15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943DF4-A532-45D0-B412-B0A2C3110F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145EC-EADF-4EDE-9439-A009DEC49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3C45F8-516B-4B97-8A97-FBF4159F5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2C3C8A-7B8B-4114-9A59-C42E0C6A66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891B47-7328-4BAD-B091-9BE69991E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594EEF-ABF2-4946-B003-2A21A941E0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F608A9-D81B-4934-8DB0-66C74BC4E0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297225-DB47-446A-87DA-9B3375EFA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B5E776-EB2F-409D-9A1B-52041C0C18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A622B0-0932-4E38-94A8-58B4593A32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8D5774-E6C6-4423-A483-A1C9297CC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6436E3-6DD9-4E64-A3AB-1DD0C1AB8C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4F7014-6715-4064-A78B-315AE4A93E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FF58-1A21-494D-A7C8-6E549876824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249F-A093-4BE5-923C-8DFBA2247A58}"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