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2417-E025-43ED-A502-864F9D40B1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0D01-013A-4D61-A6B0-411F8A41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D4D8-94C9-4F2A-8073-3F87A62B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661A-D457-4CEA-B78B-57C73D2B06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39BE3-6A9E-478C-9F6D-F4762D91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0BB9-F296-4D42-9F0A-84BAB0EE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7A9CC-38FC-4FE8-BF59-62E7DF2B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9B60-002F-4BE9-B831-84A042B0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5291-88BC-441E-91B7-33FF6387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039F-7875-47E0-B5AB-583E4D87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CF7F-E6F0-4DE6-A3B2-C57FFCD2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0E1D-FF40-4952-9B0C-70C45684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276F-4163-48A8-B62A-67726E150E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AD15-10F4-4E77-A6B1-FB7629A4B81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648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八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抽搐与惊厥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3E78-CB87-44C6-A4D0-BF195CDDD36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抽搐与惊厥起病的年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无发作诱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发作的频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持续时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部位是全身性还是局限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持续强直性还是间歇阵挛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患儿需询问喂养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85" name="AutoShape 7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9" name="Picture 12" descr="MCj03474310000[1]"/>
          <p:cNvPicPr/>
          <p:nvPr/>
        </p:nvPicPr>
        <p:blipFill>
          <a:blip r:embed="rId1"/>
          <a:stretch/>
        </p:blipFill>
        <p:spPr>
          <a:xfrm>
            <a:off x="6145200" y="4890960"/>
            <a:ext cx="26640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570E-44EF-4AB4-B917-1A80A6B4A3B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抽搐与惊厥相关的疾病史、有无毒物接触史及某些药物服用史；有无外伤及狗咬伤等病史；有无癫痫家族史及类似发作史；对患儿应询问出生及生长发育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意识状态、瞳孔变化、神经反射等以及对患者生活质量的影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如发作时可引起舌咬伤、跌伤等意外；发作后感疲乏、头痛、肌肉酸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4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8" name="Picture 10" descr="CLIPBRD"/>
          <p:cNvPicPr/>
          <p:nvPr/>
        </p:nvPicPr>
        <p:blipFill>
          <a:blip r:embed="rId1"/>
          <a:stretch/>
        </p:blipFill>
        <p:spPr>
          <a:xfrm>
            <a:off x="7367760" y="5229360"/>
            <a:ext cx="1244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64A7-491D-4EB7-8590-DBDEEC7992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0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有受伤害危险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0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669b"/>
                  </a:solidFill>
                  <a:latin typeface="Arial"/>
                  <a:ea typeface="宋体"/>
                </a:rPr>
                <a:t>与抽搐与惊厥发作所致短暂意识丧失有关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0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0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潜在并发症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2" name="AutoShape 19"/>
          <p:cNvSpPr/>
          <p:nvPr/>
        </p:nvSpPr>
        <p:spPr>
          <a:xfrm>
            <a:off x="3203640" y="5373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230c"/>
                </a:solidFill>
                <a:latin typeface="Arial"/>
                <a:ea typeface="宋体"/>
              </a:rPr>
              <a:t>与不可预知的惊厥发作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826920" y="5373720"/>
            <a:ext cx="2329200" cy="665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恐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惊厥发作所致的不受控制的强直性肌肉收缩和意识丧失有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3571920" y="2928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 ；高热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09EA-AD8A-4755-94EB-BA1DC74B9FD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5329-53BE-44C6-AC46-E8260F9CFF1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BCBE-5AAA-4011-97EF-E97D6B50E48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抽搐与惊厥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抽搐与惊厥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3813-8DF4-4646-B996-33F162046D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120B-B78B-4927-84A4-F835BD9B7AE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7BD4-395F-4A7B-AB43-32722FA350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tic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惊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nvuls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属于不随意运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是指全身或局部骨骼肌发生非自主抽动或强烈收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可引起关节运动和强直。当肌群收缩表现为强直性和阵挛性时，称为惊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C953-0321-4748-9A3B-5B850975F31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搐与惊厥可分为两大类，即特发性与症状性，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特发性常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于先天性脑部不稳定状态所致，与遗传因素有较密切的关系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状性则由于脑部疾病和全身性疾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引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部疾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3610-E8B8-46D6-B775-6791D720A7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7"/>
          <p:cNvSpPr/>
          <p:nvPr/>
        </p:nvSpPr>
        <p:spPr>
          <a:xfrm>
            <a:off x="1496880" y="3906720"/>
            <a:ext cx="6191280" cy="2570400"/>
          </a:xfrm>
          <a:prstGeom prst="borderCallout1">
            <a:avLst>
              <a:gd name="adj1" fmla="val 18750"/>
              <a:gd name="adj2" fmla="val -8333"/>
              <a:gd name="adj3" fmla="val -2962"/>
              <a:gd name="adj4" fmla="val -123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产伤、颅脑外伤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肿瘤：如原发性脑肿瘤、脑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管疾病：如脑栓塞、脑出血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病：如脑血吸虫病、脑型疟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如先天性脑发育障碍、核黄疸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91EA-DFC5-4C79-BEA1-16AC2DA7431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1084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908B-55D3-4905-BFD8-47545AB442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5"/>
          <p:cNvSpPr/>
          <p:nvPr/>
        </p:nvSpPr>
        <p:spPr>
          <a:xfrm>
            <a:off x="2071800" y="2214720"/>
            <a:ext cx="6858000" cy="2663640"/>
          </a:xfrm>
          <a:prstGeom prst="borderCallout1">
            <a:avLst>
              <a:gd name="adj1" fmla="val 18750"/>
              <a:gd name="adj2" fmla="val -8333"/>
              <a:gd name="adj3" fmla="val -2861"/>
              <a:gd name="adj4" fmla="val -28888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感染：如急性胃肠炎、败血症、中毒型菌痢等，小儿高热惊厥主要由急性感染所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血管疾病：如高血压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dams-Stoke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综合征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毒：如有机磷、阿托品中毒、尿毒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风湿性疾病：如风湿热、系统性红斑狼疮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代谢障碍：如低血糖、低钙血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他：中暑、溺水、触电、突然停用安眠药，抗癫痫药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6"/>
          <p:cNvSpPr/>
          <p:nvPr/>
        </p:nvSpPr>
        <p:spPr>
          <a:xfrm>
            <a:off x="2411280" y="5516640"/>
            <a:ext cx="619308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053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癔症性抽搐和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CBAD-AB8C-4A09-8E8E-F1C2F9323A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D141-0FE3-4A67-A324-6FBB6BE806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生机制尚未完全阐明，可能是大脑运动神经元的异常放电所致。这种异常放电主要是因为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元膜电位的不稳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引起的，可能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遗传、免疫、内分泌微量元素、精神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有关，可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代谢、营养、脑皮质肿物或瘢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激发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0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4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6588000" y="5300640"/>
            <a:ext cx="1000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03AA-C4B8-4296-8471-2F794AA3176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性抽搐  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骨骼肌痉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主要表现，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意识丧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癫痫大发作：发作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抽搐和意识障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特征，患者突发意识模糊或丧失，全身骨骼肌持续收缩，伴二便失禁，发作约半分钟自行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癔症性发作：发作前常有一定的诱因，如生气或各种不良刺激。发作样式不固定，一般无舌咬伤和二便失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37A7-F610-497A-A30E-44191802376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局限性抽搐  以身体某一局部肌肉收缩为主要表现多见于手足、口角、眼睑等部位，低钙血症所致手足抽搐发作时呈“助产士手”；踝关节伸直，足趾跖屈，足呈弓状，似“芭蕾舞足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77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6:53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