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0F1FA-50CE-48D9-AEB7-C2FBB7EA2B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EF120-67A3-4291-AFF6-B23CCC0D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6E690-26E7-472E-9BBF-8F496D3D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8C10B-BAE0-406E-848B-5D1ABD4D19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14E94-6357-45B5-84E5-32C039BA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914D8-FF28-4C8A-A2D5-A4C846DF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F276B-FF8A-42DB-8AE0-C5C6F70E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320F2-93CD-4AF7-901C-89783772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0B2E4-9A97-4190-A330-C7B53172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0E660-7A0A-488C-8E5E-97FC1727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E6F19-B9C0-4842-BC2A-A1F3595A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CB4A4-9088-41F3-B81E-F8427CA7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8EC3-655C-4EFF-B114-BDA4A03AD0B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943A-6069-43BB-A417-92D1A859ADC9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349360"/>
            <a:ext cx="648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八节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抽搐与惊厥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D33F-5683-4790-92AC-9C2AE0EFDCE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表现特点  抽搐与惊厥起病的年龄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无发作诱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发作的频率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持续时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部位是全身性还是局限性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是持续强直性还是间歇阵挛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营养状况  询问每日进食量与食物类型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营养平衡，患儿需询问喂养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入量  详细记录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小时出入液体量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出入液体总量是否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84" name="Group 6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85" name="AutoShape 7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AutoShape 8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89" name="Picture 12" descr="MCj03474310000[1]"/>
          <p:cNvPicPr/>
          <p:nvPr/>
        </p:nvPicPr>
        <p:blipFill>
          <a:blip r:embed="rId1"/>
          <a:stretch/>
        </p:blipFill>
        <p:spPr>
          <a:xfrm>
            <a:off x="6145200" y="4890960"/>
            <a:ext cx="266400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3DC4-DAE7-4A01-A036-4A18ECA5862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既往健康史  既往有无引起抽搐与惊厥相关的疾病史、有无毒物接触史及某些药物服用史；有无外伤及狗咬伤等病史；有无癫痫家族史及类似发作史；对患儿应询问出生及生长发育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身体反应  评估生命体征、意识状态、瞳孔变化、神经反射等以及对患者生活质量的影响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如发作时可引起舌咬伤、跌伤等意外；发作后感疲乏、头痛、肌肉酸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3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4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98" name="Picture 10" descr="CLIPBRD"/>
          <p:cNvPicPr/>
          <p:nvPr/>
        </p:nvPicPr>
        <p:blipFill>
          <a:blip r:embed="rId1"/>
          <a:stretch/>
        </p:blipFill>
        <p:spPr>
          <a:xfrm>
            <a:off x="7367760" y="5229360"/>
            <a:ext cx="12445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2718-3291-4B78-849F-EE332B6B428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01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有受伤害危险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4" name="Group 11"/>
          <p:cNvGrpSpPr/>
          <p:nvPr/>
        </p:nvGrpSpPr>
        <p:grpSpPr>
          <a:xfrm>
            <a:off x="971640" y="3789360"/>
            <a:ext cx="7230600" cy="863280"/>
            <a:chOff x="971640" y="3789360"/>
            <a:chExt cx="7230600" cy="863280"/>
          </a:xfrm>
        </p:grpSpPr>
        <p:sp>
          <p:nvSpPr>
            <p:cNvPr id="205" name="AutoShape 12"/>
            <p:cNvSpPr/>
            <p:nvPr/>
          </p:nvSpPr>
          <p:spPr>
            <a:xfrm>
              <a:off x="3184920" y="3789360"/>
              <a:ext cx="5017320" cy="78840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669b"/>
                  </a:solidFill>
                  <a:latin typeface="Arial"/>
                  <a:ea typeface="宋体"/>
                </a:rPr>
                <a:t>与抽搐与惊厥发作所致短暂意识丧失有关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AutoShape 13"/>
            <p:cNvSpPr/>
            <p:nvPr/>
          </p:nvSpPr>
          <p:spPr>
            <a:xfrm>
              <a:off x="971640" y="3986280"/>
              <a:ext cx="2327400" cy="66636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尿障碍</a:t>
              </a:r>
              <a:r>
                <a:rPr b="1" lang="en-US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/</a:t>
              </a: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便失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7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08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09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潜在并发症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1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2" name="AutoShape 19"/>
          <p:cNvSpPr/>
          <p:nvPr/>
        </p:nvSpPr>
        <p:spPr>
          <a:xfrm>
            <a:off x="3203640" y="5373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230c"/>
                </a:solidFill>
                <a:latin typeface="Arial"/>
                <a:ea typeface="宋体"/>
              </a:rPr>
              <a:t>与不可预知的惊厥发作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20"/>
          <p:cNvSpPr/>
          <p:nvPr/>
        </p:nvSpPr>
        <p:spPr>
          <a:xfrm>
            <a:off x="826920" y="5373720"/>
            <a:ext cx="2329200" cy="665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恐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15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9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与惊厥发作所致的不受控制的强直性肌肉收缩和意识丧失有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矩形 22"/>
          <p:cNvSpPr/>
          <p:nvPr/>
        </p:nvSpPr>
        <p:spPr>
          <a:xfrm>
            <a:off x="3571920" y="29289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 ；高热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8DB9-D56F-415E-910C-8D94DB3E6B3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内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因与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评估要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相关护理诊断与合作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D1A2-4B24-4529-B5FE-4A6304F05E5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DC92-6819-45DD-A90C-92D3CB6B151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抽搐与惊厥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阐述抽搐与惊厥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抽搐与惊厥的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释抽搐与惊厥的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用所学知识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对患者做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护理评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正确做出护理诊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列出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C801-6023-4DE1-892B-0645FA0A9A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1C78-44A7-4B9F-8FE4-AA32C814351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15F4-DD32-408E-AE83-E8E132A30B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抽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tic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惊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nvuls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属于不随意运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抽搐是指全身或局部骨骼肌发生非自主抽动或强烈收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可引起关节运动和强直。当肌群收缩表现为强直性和阵挛性时，称为惊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D3B2-3B0E-4F46-B714-0D1F751D529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搐与惊厥可分为两大类，即特发性与症状性，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特发性常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于先天性脑部不稳定状态所致，与遗传因素有较密切的关系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状性则由于脑部疾病和全身性疾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所引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部疾病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372E-F2EB-4994-AFBA-61F29306961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3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AutoShape 17"/>
          <p:cNvSpPr/>
          <p:nvPr/>
        </p:nvSpPr>
        <p:spPr>
          <a:xfrm>
            <a:off x="1496880" y="3906720"/>
            <a:ext cx="6191280" cy="2570400"/>
          </a:xfrm>
          <a:prstGeom prst="borderCallout1">
            <a:avLst>
              <a:gd name="adj1" fmla="val 18750"/>
              <a:gd name="adj2" fmla="val -8333"/>
              <a:gd name="adj3" fmla="val -2962"/>
              <a:gd name="adj4" fmla="val -1235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：脑炎、脑膜炎、脑脓肿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伤：如产伤、颅脑外伤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肿瘤：如原发性脑肿瘤、脑转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管疾病：如脑栓塞、脑出血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病：如脑血吸虫病、脑型疟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如先天性脑发育障碍、核黄疸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2ABD-2B3F-4AE6-A435-0F5674B8078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61084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性疾病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98E9-BF22-46D0-BA92-C8F2820F640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4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3" name="AutoShape 25"/>
          <p:cNvSpPr/>
          <p:nvPr/>
        </p:nvSpPr>
        <p:spPr>
          <a:xfrm>
            <a:off x="2071800" y="2214720"/>
            <a:ext cx="6858000" cy="2663640"/>
          </a:xfrm>
          <a:prstGeom prst="borderCallout1">
            <a:avLst>
              <a:gd name="adj1" fmla="val 18750"/>
              <a:gd name="adj2" fmla="val -8333"/>
              <a:gd name="adj3" fmla="val -2861"/>
              <a:gd name="adj4" fmla="val -28888"/>
            </a:avLst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感染：如急性胃肠炎、败血症、中毒型菌痢等，小儿高热惊厥主要由急性感染所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血管疾病：如高血压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Adams-Stokes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综合征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中毒：如有机磷、阿托品中毒、尿毒症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风湿性疾病：如风湿热、系统性红斑狼疮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代谢障碍：如低血糖、低钙血症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其他：中暑、溺水、触电、突然停用安眠药，抗癫痫药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6"/>
          <p:cNvSpPr/>
          <p:nvPr/>
        </p:nvSpPr>
        <p:spPr>
          <a:xfrm>
            <a:off x="2411280" y="5516640"/>
            <a:ext cx="6193080" cy="914400"/>
          </a:xfrm>
          <a:prstGeom prst="borderCallout1">
            <a:avLst>
              <a:gd name="adj1" fmla="val 18750"/>
              <a:gd name="adj2" fmla="val -8333"/>
              <a:gd name="adj3" fmla="val -8333"/>
              <a:gd name="adj4" fmla="val -1053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癔症性抽搐和惊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7845-28C9-43A3-B6EF-241498B19AD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AE74-6BA2-43EA-8BBA-A5C29D4711A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8930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生机制尚未完全阐明，可能是大脑运动神经元的异常放电所致。这种异常放电主要是因为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元膜电位的不稳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引起的，可能与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遗传、免疫、内分泌微量元素、精神因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有关，可由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代谢、营养、脑皮质肿物或瘢痕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激发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0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64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6588000" y="5300640"/>
            <a:ext cx="1000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F7D0-B86E-4A52-8662-D180B8B610A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性抽搐  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身骨骼肌痉挛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主要表现，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意识丧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癫痫大发作：发作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身抽搐和意识障碍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特征，患者突发意识模糊或丧失，全身骨骼肌持续收缩，伴二便失禁，发作约半分钟自行停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癔症性发作：发作前常有一定的诱因，如生气或各种不良刺激。发作样式不固定，一般无舌咬伤和二便失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9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51F9-5F25-43C7-A550-3363928898A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局限性抽搐  以身体某一局部肌肉收缩为主要表现多见于手足、口角、眼睑等部位，低钙血症所致手足抽搐发作时呈“助产士手”；踝关节伸直，足趾跖屈，足呈弓状，似“芭蕾舞足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77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8:16:53Z</dcterms:modified>
  <cp:revision>1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