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9451-3F0A-4CFE-8039-04CAB58F13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DA0D-915F-41C6-BCB5-C21B3655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79A4D-056A-43FB-9401-339470D3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FC262-B31A-432C-8246-7727F10272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8FA1-51B9-44EA-A353-758AFD59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A0F7-FFF7-4419-B59C-C17F8C6E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7213B-468D-48B6-822B-55E5AB79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29216-F0A4-4E4E-9BA4-CE974512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EC76-E297-46ED-AECE-4F70E121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F5F7B-40D3-406F-9E5D-CD317717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81E3-F900-4CAD-B8E6-6A74AE21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B1D4-7D13-4A3F-BF2F-02F3F469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FBD8-75EE-4626-9CE8-B026356F15D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2565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1496"/>
                </a:solidFill>
                <a:latin typeface="Verdana"/>
                <a:ea typeface="宋体"/>
              </a:rPr>
              <a:t>第六节  周围血管评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304560"/>
            <a:ext cx="6767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六节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周围血管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周围血管评估包括动脉、静脉和毛细血管的评估，是心血管评估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本节主要讲述脉搏、血压、血管杂音和周围血管征的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95280" y="1324080"/>
            <a:ext cx="806436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Arial"/>
                <a:ea typeface="宋体"/>
              </a:rPr>
              <a:t>一、视诊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肝颈静脉回流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见于右心衰竭、心包积液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毛细血管搏动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主要见于脉压增大的疾病，如主动脉瓣关闭不全、甲状腺功能亢进、重症贫血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二、触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脉搏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的触诊一般多选择桡动脉。触诊时评估者将示指、中指和环指并拢，用指腹进行触诊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脉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脉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强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脉搏波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水冲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water-hammer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交替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alternating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奇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aradoxical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三、听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正常人血管杂音很少闻及，若闻及多有病理意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静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动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55640" y="1052640"/>
            <a:ext cx="792000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三）枪击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（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pistol shot sound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、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、毛细血管搏动征、水冲脉统称为周围血管征。主要见于脉压增大的疾病，如主动脉瓣关闭不全、甲状腺功能亢进和严重贫血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一）血压标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47640" y="15912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成人血压水平的定义和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71640" y="2349360"/>
          <a:ext cx="7561080" cy="3475080"/>
        </p:xfrm>
        <a:graphic>
          <a:graphicData uri="http://schemas.openxmlformats.org/drawingml/2006/table">
            <a:tbl>
              <a:tblPr/>
              <a:tblGrid>
                <a:gridCol w="2674800"/>
                <a:gridCol w="2438280"/>
                <a:gridCol w="244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类    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收缩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舒张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12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高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~13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~8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轻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~15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~9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中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60~17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0~10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重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单纯收缩期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35"/>
          <p:cNvSpPr/>
          <p:nvPr/>
        </p:nvSpPr>
        <p:spPr>
          <a:xfrm>
            <a:off x="0" y="475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血压变动的临床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高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er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血压高于正常标准称为高血压。高血压原因不明称原发性高血压。高血压可为某些疾病的临床表现之一，称继发性高血压或症状性高血压。如肾动脉狭窄、肾实质病变、嗜铬细胞瘤、原发性醛固酮增多症、皮质醇增多症、妊娠中毒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低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o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指血压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/60mmH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常见于休克、急性心肌梗死、心力衰竭、心脏压塞等，也可见于极度衰弱者及少数正常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脉压增大或减小：脉压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脉压增大，多见于主动脉瓣关闭不全、甲状腺功能亢进、动脉导管未闭、严重贫血和主动脉硬化等。脉压小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称脉压减小，多见于主动脉瓣狭窄、低血压、心力衰竭、心包积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56:06Z</dcterms:modified>
  <cp:revision>145</cp:revision>
  <dc:subject/>
  <dc:title>内科护理学</dc:title>
</cp:coreProperties>
</file>