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gif" ContentType="image/gif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B634A-FE53-443C-8E9D-6B6739362C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B0F2A-AD1D-41E6-91BF-562D84D6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FE900-4DFD-4841-B9DC-6C113B54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D8F85-473B-4D1F-9075-3E593A97B0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F4D58-F169-4078-88CD-DDACB405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7F8B9-CD9D-4BBE-888A-53D18BD0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36D78-F4A3-4254-9707-B19902BD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3C4E7-1628-4A8E-8A85-1AC03CAFF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1A2A1-105E-466B-AFEC-EDC6B8B7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3A8FD-3312-4D89-86E0-0D9580FA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38926-8E46-40C1-ACB7-82F14D15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DD8BA-96CA-4C12-A15A-A17805D2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2D25-0353-4590-8358-974A007E86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997000"/>
            <a:ext cx="5413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第十五节 便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的相关疾病史与诱发因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的临床表现  便血出现的急缓、次数、出血量、颜色、性状及其变化，以作为失血量的粗略估计参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对患者的影响  主要包括有无头晕、心悸、气促、乏力等贫血的表现，有无紧张、焦虑、恐惧的负性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诊断、治疗与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组织灌注量无效  与大量便血所致血容量减少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活动无耐力  与便血所致贫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皮肤完整性受损的危险  与排泄物对肛门周围皮肤刺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焦虑  与长期便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确阐述便血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确说出便血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比较不用病因的便血，正确说明其临床表现的区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运用本节所学知识，能针对便血的患者作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根据护理评估，能正确作出护理诊断，并列出相关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2" descr="dy13"/>
          <p:cNvPicPr/>
          <p:nvPr/>
        </p:nvPicPr>
        <p:blipFill>
          <a:blip r:embed="rId1"/>
          <a:srcRect l="11408" t="17455" r="42120" b="15481"/>
          <a:stretch/>
        </p:blipFill>
        <p:spPr>
          <a:xfrm>
            <a:off x="900000" y="1413000"/>
            <a:ext cx="3915000" cy="450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dy16"/>
          <p:cNvPicPr/>
          <p:nvPr/>
        </p:nvPicPr>
        <p:blipFill>
          <a:blip r:embed="rId2"/>
          <a:srcRect l="11408" t="17467" r="42120" b="16093"/>
          <a:stretch/>
        </p:blipFill>
        <p:spPr>
          <a:xfrm>
            <a:off x="4859280" y="1414440"/>
            <a:ext cx="3780000" cy="4462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5480" y="369720"/>
            <a:ext cx="55227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部位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68360" y="1413000"/>
            <a:ext cx="82090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2" descr="GITractbi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258920" y="1413000"/>
            <a:ext cx="3411360" cy="4680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5708880" y="3281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上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637600" y="4653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下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635280" y="3487680"/>
            <a:ext cx="1600200" cy="228600"/>
          </a:xfrm>
          <a:prstGeom prst="leftArrow">
            <a:avLst>
              <a:gd name="adj1" fmla="val 50000"/>
              <a:gd name="adj2" fmla="val 17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35280" y="491328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7" descr="D"/>
          <p:cNvPicPr/>
          <p:nvPr/>
        </p:nvPicPr>
        <p:blipFill>
          <a:blip r:embed="rId2"/>
          <a:stretch/>
        </p:blipFill>
        <p:spPr>
          <a:xfrm>
            <a:off x="4137120" y="3933720"/>
            <a:ext cx="57132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50920" y="1413000"/>
            <a:ext cx="856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便血：消化道出血，自肛门排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下消化道出血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052040" y="277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定  义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上消化道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小肠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结肠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直肠肛管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7" name="Group 2"/>
          <p:cNvGrpSpPr/>
          <p:nvPr/>
        </p:nvGrpSpPr>
        <p:grpSpPr>
          <a:xfrm>
            <a:off x="826920" y="1295280"/>
            <a:ext cx="7591320" cy="4930560"/>
            <a:chOff x="826920" y="1295280"/>
            <a:chExt cx="7591320" cy="4930560"/>
          </a:xfrm>
        </p:grpSpPr>
        <p:sp>
          <p:nvSpPr>
            <p:cNvPr id="128" name="Text Box 3"/>
            <p:cNvSpPr/>
            <p:nvPr/>
          </p:nvSpPr>
          <p:spPr>
            <a:xfrm>
              <a:off x="5364000" y="5857560"/>
              <a:ext cx="12970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肛裂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29" name="Group 4"/>
            <p:cNvGrpSpPr/>
            <p:nvPr/>
          </p:nvGrpSpPr>
          <p:grpSpPr>
            <a:xfrm>
              <a:off x="826920" y="1295280"/>
              <a:ext cx="7591320" cy="4576680"/>
              <a:chOff x="826920" y="1295280"/>
              <a:chExt cx="7591320" cy="4576680"/>
            </a:xfrm>
          </p:grpSpPr>
          <p:pic>
            <p:nvPicPr>
              <p:cNvPr id="130" name="Picture 5" descr="u=2959308952,3312499843&amp;gp=3"/>
              <p:cNvPicPr/>
              <p:nvPr/>
            </p:nvPicPr>
            <p:blipFill>
              <a:blip r:embed="rId1"/>
              <a:stretch/>
            </p:blipFill>
            <p:spPr>
              <a:xfrm>
                <a:off x="4787640" y="3495600"/>
                <a:ext cx="2270160" cy="23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Picture 6" descr="TXT-200611603426779"/>
              <p:cNvPicPr/>
              <p:nvPr/>
            </p:nvPicPr>
            <p:blipFill>
              <a:blip r:embed="rId2"/>
              <a:stretch/>
            </p:blipFill>
            <p:spPr>
              <a:xfrm>
                <a:off x="826920" y="3566880"/>
                <a:ext cx="3524400" cy="2276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Picture 7" descr="111489270582683500"/>
              <p:cNvPicPr/>
              <p:nvPr/>
            </p:nvPicPr>
            <p:blipFill>
              <a:blip r:embed="rId3"/>
              <a:stretch/>
            </p:blipFill>
            <p:spPr>
              <a:xfrm>
                <a:off x="6084720" y="1295280"/>
                <a:ext cx="2333520" cy="2200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便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424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出血量与时间：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量多时呈鲜红色，停留时间长则为暗红色、黑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部位：小肠、结肠、直肠肛管肛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血色鲜红附粪便表面，便后滴血（直肠肛管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病因：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洗肉水样血性便、腥臭（急性出血性坏死性肠炎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黏液血便或脓血便（急性细菌性痢疾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暗红色果酱便（阿米巴痢疾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41460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Verdana"/>
              </a:rPr>
              <a:t>黑便与便血鉴别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0908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宋体"/>
              </a:rPr>
              <a:t>             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黑便            便血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既往史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多曾有溃疡病       多有下腹部疼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肝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胆疾患病史      块及排便异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或有呕血史       病史或便血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出血先兆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上腹部闷胀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疼       中、下腹不适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痛或绞痛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恶心       下坠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欲排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出血方式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呕血伴柏油样便      便血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无呕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便血特点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柏油样便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稠或       暗红或鲜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成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无血块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多不成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大量出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      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血时可有血块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03:28:50Z</dcterms:created>
  <dc:creator>yi</dc:creator>
  <dc:description/>
  <dc:language>en-US</dc:language>
  <cp:lastModifiedBy>赵欣</cp:lastModifiedBy>
  <dcterms:modified xsi:type="dcterms:W3CDTF">2015-12-16T08:06:06Z</dcterms:modified>
  <cp:revision>107</cp:revision>
  <dc:subject/>
  <dc:title>咯　血 (hemoptysis)</dc:title>
</cp:coreProperties>
</file>