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9E89-7984-4930-8DFE-16EE8A1D075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37BC-21B4-45BA-BA78-F952680B209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DE15-91DA-432C-8D92-33711BEAEC2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1E7C-F49C-4111-9016-617095F665E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59D2-9CE2-48FD-86D3-B1F7F04489E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64E04-39AC-4C77-B0E3-DAB91333FB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6CE4-949A-4551-A768-9FBAF8A4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A173E-1900-45B1-95CE-E5DBA28E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20799-1CCB-4600-8044-C181748FE6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4587B-774C-4080-9E35-8E5EF0CC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06EB-38AA-4FCE-8674-9DFC0239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E49A1-042A-401E-B2EF-AC78EC79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2157D-3351-4082-B344-C0A7C8F5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1AF13-E569-450A-BAC0-9FA5E264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A262C-C2FA-4E65-9CEE-23D27B7F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FC6E3-A17E-45FC-A4D5-48DE17AB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B9BE0-268E-430B-AB96-1E455628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502A-1726-49FC-83D4-45C17987C8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C119-DE5F-4741-A1D6-3D942832C224}" type="datetime">
              <a:rPr b="0" lang="zh-CN" sz="1000" spc="-1" strike="noStrike">
                <a:solidFill>
                  <a:srgbClr val="ffffff"/>
                </a:solidFill>
                <a:latin typeface="Verdana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365360"/>
            <a:ext cx="5685120" cy="19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十节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神经系统评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0342-3CF9-4F85-B30D-0338847905E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4" descr="DSC01884"/>
          <p:cNvPicPr/>
          <p:nvPr/>
        </p:nvPicPr>
        <p:blipFill>
          <a:blip r:embed="rId1"/>
          <a:srcRect l="16796" t="3267" r="20759" b="3267"/>
          <a:stretch/>
        </p:blipFill>
        <p:spPr>
          <a:xfrm>
            <a:off x="2195640" y="1916280"/>
            <a:ext cx="1190520" cy="133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5" name="Picture 3" descr="DSC01881"/>
          <p:cNvPicPr/>
          <p:nvPr/>
        </p:nvPicPr>
        <p:blipFill>
          <a:blip r:embed="rId2"/>
          <a:srcRect l="12348" t="6507" r="23743" b="11400"/>
          <a:stretch/>
        </p:blipFill>
        <p:spPr>
          <a:xfrm>
            <a:off x="3983040" y="1928880"/>
            <a:ext cx="1303200" cy="1263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DSC01880"/>
          <p:cNvPicPr/>
          <p:nvPr/>
        </p:nvPicPr>
        <p:blipFill>
          <a:blip r:embed="rId3"/>
          <a:stretch/>
        </p:blipFill>
        <p:spPr>
          <a:xfrm>
            <a:off x="4932360" y="393372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实物觉"/>
          <p:cNvPicPr/>
          <p:nvPr/>
        </p:nvPicPr>
        <p:blipFill>
          <a:blip r:embed="rId4"/>
          <a:stretch/>
        </p:blipFill>
        <p:spPr>
          <a:xfrm>
            <a:off x="1500120" y="3916440"/>
            <a:ext cx="1381320" cy="1218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-973080" y="4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422240" y="2453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442040" y="6843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243540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痛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25"/>
          <p:cNvSpPr/>
          <p:nvPr/>
        </p:nvSpPr>
        <p:spPr>
          <a:xfrm>
            <a:off x="429264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触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26"/>
          <p:cNvSpPr/>
          <p:nvPr/>
        </p:nvSpPr>
        <p:spPr>
          <a:xfrm>
            <a:off x="5450760" y="5273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两点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Box 27"/>
          <p:cNvSpPr/>
          <p:nvPr/>
        </p:nvSpPr>
        <p:spPr>
          <a:xfrm>
            <a:off x="1807560" y="521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实物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5" name="Picture 12" descr="D:\sun\教学\评估\图片\扫描图\其他\震动觉.jpg"/>
          <p:cNvPicPr/>
          <p:nvPr/>
        </p:nvPicPr>
        <p:blipFill>
          <a:blip r:embed="rId5"/>
          <a:stretch/>
        </p:blipFill>
        <p:spPr>
          <a:xfrm>
            <a:off x="3429000" y="3916440"/>
            <a:ext cx="1042920" cy="11588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9"/>
          <p:cNvSpPr/>
          <p:nvPr/>
        </p:nvSpPr>
        <p:spPr>
          <a:xfrm>
            <a:off x="3714480" y="5202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振动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2484360" y="242100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4284720" y="234936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A52F-5724-4A66-AD98-89EE4BAA275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785880" y="2286000"/>
            <a:ext cx="7500960" cy="36432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痛觉障碍见于脊髓丘脑侧束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触觉障碍见于脊髓丘脑前束和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物辨别觉功能障碍见于皮质病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振动觉障碍见于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触觉正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点辨别觉障碍时则为颞叶病变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3536-BEB1-4033-BB8A-93852CA4AD7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55640" y="1916280"/>
          <a:ext cx="7561440" cy="4498920"/>
        </p:xfrm>
        <a:graphic>
          <a:graphicData uri="http://schemas.openxmlformats.org/drawingml/2006/table">
            <a:tbl>
              <a:tblPr/>
              <a:tblGrid>
                <a:gridCol w="1657440"/>
                <a:gridCol w="590400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临床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无任何收缩（完全瘫痪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可轻微收缩，但不能产生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在床面水平移动，但不能抬离床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抬离床面，但不能克服阻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作抗阻力动作，未达到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力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9792-98EF-4381-B566-D7333F11A29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瘫痪类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895400"/>
          <a:ext cx="7128000" cy="4557960"/>
        </p:xfrm>
        <a:graphic>
          <a:graphicData uri="http://schemas.openxmlformats.org/drawingml/2006/table">
            <a:tbl>
              <a:tblPr/>
              <a:tblGrid>
                <a:gridCol w="4249800"/>
                <a:gridCol w="287820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病变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瘫痪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某一神经根支配区或某些肌群无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局限性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脑半球、脊髓前角细胞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单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侧大脑半球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偏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脑、脑桥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交叉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脊髓横贯性损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截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颈段脊髓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肢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74CA-0359-439E-932C-5780F76E486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上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下运动神经元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内容占位符 6" descr="图片1.png"/>
          <p:cNvPicPr/>
          <p:nvPr/>
        </p:nvPicPr>
        <p:blipFill>
          <a:blip r:embed="rId1"/>
          <a:stretch/>
        </p:blipFill>
        <p:spPr>
          <a:xfrm>
            <a:off x="928800" y="1714680"/>
            <a:ext cx="75009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BE3F-5D1B-47AF-AD68-760B5627F34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张力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143000" y="2214720"/>
          <a:ext cx="7072200" cy="3535200"/>
        </p:xfrm>
        <a:graphic>
          <a:graphicData uri="http://schemas.openxmlformats.org/drawingml/2006/table">
            <a:tbl>
              <a:tblPr/>
              <a:tblGrid>
                <a:gridCol w="1500120"/>
                <a:gridCol w="557208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增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折刀现象：见于锥体束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铅管样强直：见于锥体外系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91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减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周围神经炎、脊髓前角灰质炎或小脑病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自主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71680" y="1928880"/>
          <a:ext cx="8001000" cy="4236840"/>
        </p:xfrm>
        <a:graphic>
          <a:graphicData uri="http://schemas.openxmlformats.org/drawingml/2006/table">
            <a:tbl>
              <a:tblPr/>
              <a:tblGrid>
                <a:gridCol w="1574640"/>
                <a:gridCol w="642636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震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静止性震颤：见于帕金森病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意向性震颤：见于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姿势性震颤：如甲状腺功能亢进时，患者可表现为两上肢平伸时手指的细震颤。肝性脑病时出现扑翼样震颤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舞蹈样运动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表现为“做鬼脸”、耸肩、转颈等舞蹈样动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睡眠时可减轻或消失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见于</a:t>
                      </a:r>
                      <a:r>
                        <a:rPr b="1" lang="zh-CN" sz="2000" spc="-1" strike="noStrike">
                          <a:solidFill>
                            <a:srgbClr val="fe230c"/>
                          </a:solidFill>
                          <a:latin typeface="宋体"/>
                        </a:rPr>
                        <a:t>儿童期脑风湿性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手足徐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脑性瘫痪和脑基底核变性等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20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AC21-8B10-4E72-ADF8-FFC07677D01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共济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85840" y="1785960"/>
          <a:ext cx="8858160" cy="5010120"/>
        </p:xfrm>
        <a:graphic>
          <a:graphicData uri="http://schemas.openxmlformats.org/drawingml/2006/table">
            <a:tbl>
              <a:tblPr/>
              <a:tblGrid>
                <a:gridCol w="2442960"/>
                <a:gridCol w="6415200"/>
              </a:tblGrid>
              <a:tr h="138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指鼻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共济失调者多指鼻有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脑半球病变者同侧指鼻不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如睁眼时指鼻准确，闭眼时出现障碍为感觉性共济失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跟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膝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胫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小脑损害时动作不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感觉性共济失调者闭眼时足跟难以寻到膝盖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轮替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共济失调者动作缓慢、不协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难立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(Romber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仅闭目不稳者提示感觉性共济失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睁目皆不稳者提示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20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11F7-5520-427A-8F0F-7AED750A366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403280" y="2781360"/>
            <a:ext cx="7128000" cy="2064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眼睛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向内上方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注视，评估者将棉签絮捻成细束，用其末端轻触一侧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角膜外缘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正常反应为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眼睑迅速闭合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985E-A440-4AF2-AEC6-1A7034FDF39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755640" y="2637000"/>
            <a:ext cx="8137440" cy="26949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异常反应及临床意义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三叉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和间接角膜反射均消失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面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角膜反射消失，间接角膜反射存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深昏迷患者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双侧角膜反射完全消失。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25AD-988F-4C1B-9690-D3C9CB08192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F917-92F8-44DF-9580-E4FD4AA999D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214280"/>
            <a:ext cx="422892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脑神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皮质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张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不自主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共济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716360" y="1196640"/>
            <a:ext cx="42292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反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病理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脑膜刺激征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887640" y="1557360"/>
            <a:ext cx="5256360" cy="257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取仰卧位，两下肢稍屈曲，使腹壁松弛，评估者用钝头竹签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由外向内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轻划腹上部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腹中部、腹下部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的皮肤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反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受刺激部位</a:t>
            </a:r>
            <a:r>
              <a:rPr b="1" lang="zh-CN" sz="36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腹肌收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Picture 6" descr="图10-1"/>
          <p:cNvPicPr/>
          <p:nvPr/>
        </p:nvPicPr>
        <p:blipFill>
          <a:blip r:embed="rId1"/>
          <a:stretch/>
        </p:blipFill>
        <p:spPr>
          <a:xfrm>
            <a:off x="395280" y="2565360"/>
            <a:ext cx="3157560" cy="3816360"/>
          </a:xfrm>
          <a:prstGeom prst="rect">
            <a:avLst/>
          </a:prstGeom>
          <a:ln w="0">
            <a:noFill/>
          </a:ln>
        </p:spPr>
      </p:pic>
      <p:sp>
        <p:nvSpPr>
          <p:cNvPr id="21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4A38-D651-49BF-85B2-FBB17B5AF61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755640" y="2637000"/>
            <a:ext cx="8064360" cy="24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常反应及临床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脊髓不同节段受损→相应部位的腹壁反射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侧锥体束受损→同侧腹壁反射减弱或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昏迷、急腹症、经产妇、肥胖及老年人等，可因腹壁松弛，使腹壁反射减弱或消失。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33BD-B95C-47A7-A8D1-8D06663E998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二头肌反射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三头肌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图10-2"/>
          <p:cNvPicPr/>
          <p:nvPr/>
        </p:nvPicPr>
        <p:blipFill>
          <a:blip r:embed="rId1"/>
          <a:stretch/>
        </p:blipFill>
        <p:spPr>
          <a:xfrm>
            <a:off x="539640" y="2565360"/>
            <a:ext cx="3743280" cy="3778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图10-3"/>
          <p:cNvPicPr/>
          <p:nvPr/>
        </p:nvPicPr>
        <p:blipFill>
          <a:blip r:embed="rId2"/>
          <a:stretch/>
        </p:blipFill>
        <p:spPr>
          <a:xfrm>
            <a:off x="5219640" y="2565360"/>
            <a:ext cx="3405240" cy="3745080"/>
          </a:xfrm>
          <a:prstGeom prst="rect">
            <a:avLst/>
          </a:prstGeom>
          <a:ln w="0">
            <a:noFill/>
          </a:ln>
        </p:spPr>
      </p:pic>
      <p:sp>
        <p:nvSpPr>
          <p:cNvPr id="2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D1BA-F170-48EE-AEFA-5BB0F4A6214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膝反射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跟腱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4" descr="图10-4"/>
          <p:cNvPicPr/>
          <p:nvPr/>
        </p:nvPicPr>
        <p:blipFill>
          <a:blip r:embed="rId1"/>
          <a:stretch/>
        </p:blipFill>
        <p:spPr>
          <a:xfrm>
            <a:off x="324000" y="2565360"/>
            <a:ext cx="4824360" cy="3598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图10-5"/>
          <p:cNvPicPr/>
          <p:nvPr/>
        </p:nvPicPr>
        <p:blipFill>
          <a:blip r:embed="rId2"/>
          <a:stretch/>
        </p:blipFill>
        <p:spPr>
          <a:xfrm>
            <a:off x="5435640" y="2852640"/>
            <a:ext cx="3384360" cy="3589560"/>
          </a:xfrm>
          <a:prstGeom prst="rect">
            <a:avLst/>
          </a:prstGeom>
          <a:ln w="0">
            <a:noFill/>
          </a:ln>
        </p:spPr>
      </p:pic>
      <p:sp>
        <p:nvSpPr>
          <p:cNvPr id="23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482C-A47A-4C7B-B183-9A78DB38BF3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68360" y="2133720"/>
            <a:ext cx="8136000" cy="410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反射强度一般分为以下几级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 反射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1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有收缩，但无相应关节活动，为反射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收缩并导致关节活动，为正常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3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增强，可为正常或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4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亢进并伴有阵挛，为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E3E1-64A1-4C85-81E3-9FF00DEC308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395280" y="2060640"/>
            <a:ext cx="576360" cy="432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异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常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反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应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临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意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1258920" y="2133720"/>
            <a:ext cx="7483320" cy="41529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减弱或消失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下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末梢神经炎、神经根炎脊髓前角灰质炎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增强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上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脑血管病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深反射极度亢进者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可出现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踝阵挛髌阵挛等现象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见于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锥体束以上病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997A-2238-40C3-AAEA-5E344803977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403280" y="1989000"/>
            <a:ext cx="7416720" cy="1729080"/>
          </a:xfrm>
          <a:prstGeom prst="wedgeRectCallout">
            <a:avLst>
              <a:gd name="adj1" fmla="val -52268"/>
              <a:gd name="adj2" fmla="val -62578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指锥体束病变导致大脑失去对脑干和脊髓的抑制作用所出现的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异常反射。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1258920" y="4005360"/>
            <a:ext cx="6913440" cy="2352600"/>
          </a:xfrm>
          <a:solidFill>
            <a:srgbClr val="ffc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巴宾斯基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Babinski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奥本海姆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Oppenheim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戈登    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Gordon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查多克    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haddock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5" descr="图10-6"/>
          <p:cNvPicPr/>
          <p:nvPr/>
        </p:nvPicPr>
        <p:blipFill>
          <a:blip r:embed="rId1"/>
          <a:stretch/>
        </p:blipFill>
        <p:spPr>
          <a:xfrm>
            <a:off x="2843280" y="1916280"/>
            <a:ext cx="5832360" cy="424944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6"/>
          <p:cNvSpPr/>
          <p:nvPr/>
        </p:nvSpPr>
        <p:spPr>
          <a:xfrm>
            <a:off x="250920" y="2708280"/>
            <a:ext cx="2232000" cy="3168720"/>
          </a:xfrm>
          <a:prstGeom prst="cloudCallout">
            <a:avLst>
              <a:gd name="adj1" fmla="val 124680"/>
              <a:gd name="adj2" fmla="val -20689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最典型的病理反射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8506-9B08-489A-A417-E6DE1C7FEB4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365400" y="2205000"/>
            <a:ext cx="127764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阳性反应</a:t>
            </a:r>
            <a:r>
              <a:rPr b="0" lang="zh-CN" sz="18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2843280" y="2492280"/>
            <a:ext cx="5545080" cy="1206720"/>
          </a:xfrm>
          <a:prstGeom prst="borderCallout1">
            <a:avLst>
              <a:gd name="adj1" fmla="val 18750"/>
              <a:gd name="adj2" fmla="val -8333"/>
              <a:gd name="adj3" fmla="val -6314"/>
              <a:gd name="adj4" fmla="val -19782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拇趾缓缓背伸，其余四趾呈扇形展开</a:t>
            </a: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1763640" y="4005360"/>
            <a:ext cx="6985080" cy="23763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</a:rPr>
              <a:t>一岁半以内的婴幼儿因锥体束尚未发育完善，上述表现也会出现，但不属于病理反射，应加以鉴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成人出现此类反射时则为病理性的，见于锥体束损害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e230c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2348-A160-4888-BB9D-8697BAB73CF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      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脑膜受刺激的体征，见于各种</a:t>
            </a:r>
            <a:r>
              <a:rPr b="0" lang="zh-CN" sz="3000" spc="-1" strike="noStrike">
                <a:solidFill>
                  <a:srgbClr val="ff0000"/>
                </a:solidFill>
                <a:latin typeface="Verdana"/>
                <a:ea typeface="宋体"/>
              </a:rPr>
              <a:t>脑膜炎、蛛网膜下腔出血、颅内压增高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1785960" y="3429000"/>
            <a:ext cx="6978600" cy="2357280"/>
          </a:xfrm>
          <a:prstGeom prst="borderCallout2">
            <a:avLst>
              <a:gd name="adj1" fmla="val 18750"/>
              <a:gd name="adj2" fmla="val -8333"/>
              <a:gd name="adj3" fmla="val -4421"/>
              <a:gd name="adj4" fmla="val -18865"/>
              <a:gd name="adj5" fmla="val -72657"/>
              <a:gd name="adj6" fmla="val -13282"/>
            </a:avLst>
          </a:prstGeom>
          <a:gradFill rotWithShape="0">
            <a:gsLst>
              <a:gs pos="0">
                <a:srgbClr val="fff8b3"/>
              </a:gs>
              <a:gs pos="50000">
                <a:srgbClr val="ffffff"/>
              </a:gs>
              <a:gs pos="100000">
                <a:srgbClr val="fff8b3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颈项强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克尼格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Kernig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布鲁津斯基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rudzinski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4385-13F2-4686-ACBD-4B698AD1C16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7AFD-5F74-4A35-966A-466EF726FFA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A26E-2437-427F-AF4B-4C82D851340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描述神经系统评估的主要内容，正常表现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解释神经系统评估常见异常改变及其临床意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正确进行神经系统的评估，并准确描述评估所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6FF0-B077-4C11-9A27-E00406A235AD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5" descr="图10-7"/>
          <p:cNvPicPr/>
          <p:nvPr/>
        </p:nvPicPr>
        <p:blipFill>
          <a:blip r:embed="rId1"/>
          <a:stretch/>
        </p:blipFill>
        <p:spPr>
          <a:xfrm>
            <a:off x="285840" y="2500200"/>
            <a:ext cx="4289400" cy="2714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图10-8"/>
          <p:cNvPicPr/>
          <p:nvPr/>
        </p:nvPicPr>
        <p:blipFill>
          <a:blip r:embed="rId2"/>
          <a:stretch/>
        </p:blipFill>
        <p:spPr>
          <a:xfrm>
            <a:off x="4857840" y="1500120"/>
            <a:ext cx="4000320" cy="2519280"/>
          </a:xfrm>
          <a:prstGeom prst="rect">
            <a:avLst/>
          </a:prstGeom>
          <a:ln w="0">
            <a:noFill/>
          </a:ln>
        </p:spPr>
      </p:pic>
      <p:sp>
        <p:nvSpPr>
          <p:cNvPr id="266" name="矩形 5"/>
          <p:cNvSpPr/>
          <p:nvPr/>
        </p:nvSpPr>
        <p:spPr>
          <a:xfrm>
            <a:off x="1357200" y="5715000"/>
            <a:ext cx="128592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rnig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6"/>
          <p:cNvSpPr/>
          <p:nvPr/>
        </p:nvSpPr>
        <p:spPr>
          <a:xfrm>
            <a:off x="5857920" y="4071960"/>
            <a:ext cx="185724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udzinski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灯片编号占位符 7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A836-873B-4850-827F-03FDAC195E0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41CB-7C74-4416-AE15-D240D2AB099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5840" y="1638360"/>
          <a:ext cx="8286840" cy="4170240"/>
        </p:xfrm>
        <a:graphic>
          <a:graphicData uri="http://schemas.openxmlformats.org/drawingml/2006/table">
            <a:tbl>
              <a:tblPr/>
              <a:tblGrid>
                <a:gridCol w="1801800"/>
                <a:gridCol w="6485040"/>
              </a:tblGrid>
              <a:tr h="161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眼心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可减少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分。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提示副交感神经功能亢进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迷走神经麻痹无反应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迫后脉率不减少反而增加，提示交感神经功能亢进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卧立位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由卧位到立位脉率增加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为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由立位到卧位脉率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减慢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分为副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肤划痕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白色划痕持续时间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，提示交感神经兴奋性增高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如果用棉签杆划压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很快出现红色划痕，且持续时间较长，提示副交感神经兴奋性增高或交感神经麻痹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EE82-C3C6-4428-B0C3-8F6EB851902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85840" y="1638360"/>
          <a:ext cx="8286840" cy="4022640"/>
        </p:xfrm>
        <a:graphic>
          <a:graphicData uri="http://schemas.openxmlformats.org/drawingml/2006/table">
            <a:tbl>
              <a:tblPr/>
              <a:tblGrid>
                <a:gridCol w="1928880"/>
                <a:gridCol w="6357960"/>
              </a:tblGrid>
              <a:tr h="153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肌由交感神经支配，根据竖毛反射障碍的部位来判断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功能障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发汗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下注射毛果芸香碱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m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作用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节后纤维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而引起出汗，出汗处淀粉变蓝色，无汗处颜色不变，可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协助判断交感神经功能障碍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瓦尔萨尔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人≥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提示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力感受器功能不灵敏或其反射弧的传入纤维或传出纤维损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9F98-7FD1-4EC9-8633-4683CE47B69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嗅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视神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动眼神经、滑车神经、展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三叉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面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听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咽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迷走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副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下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7FCE-164B-4538-B177-E8E24F7A462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5" descr="暴风截图20156817504812.jpg"/>
          <p:cNvPicPr/>
          <p:nvPr/>
        </p:nvPicPr>
        <p:blipFill>
          <a:blip r:embed="rId1"/>
          <a:stretch/>
        </p:blipFill>
        <p:spPr>
          <a:xfrm>
            <a:off x="785880" y="210024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128" name="矩形 6"/>
          <p:cNvSpPr/>
          <p:nvPr/>
        </p:nvSpPr>
        <p:spPr>
          <a:xfrm>
            <a:off x="1214280" y="428616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嗅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7" descr="暴风截图20156818826500.jpg"/>
          <p:cNvPicPr/>
          <p:nvPr/>
        </p:nvPicPr>
        <p:blipFill>
          <a:blip r:embed="rId2"/>
          <a:stretch/>
        </p:blipFill>
        <p:spPr>
          <a:xfrm>
            <a:off x="364320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0" name="矩形 8"/>
          <p:cNvSpPr/>
          <p:nvPr/>
        </p:nvSpPr>
        <p:spPr>
          <a:xfrm>
            <a:off x="4071960" y="4286160"/>
            <a:ext cx="1357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三叉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图片 9" descr="暴风截图20156818973281.jpg"/>
          <p:cNvPicPr/>
          <p:nvPr/>
        </p:nvPicPr>
        <p:blipFill>
          <a:blip r:embed="rId3"/>
          <a:stretch/>
        </p:blipFill>
        <p:spPr>
          <a:xfrm>
            <a:off x="634032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2" name="矩形 10"/>
          <p:cNvSpPr/>
          <p:nvPr/>
        </p:nvSpPr>
        <p:spPr>
          <a:xfrm>
            <a:off x="7072200" y="421488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面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4714920" y="2714760"/>
            <a:ext cx="647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7358040" y="2857680"/>
            <a:ext cx="72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012F-AF02-4732-9AD1-C459492202E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图片 4" descr="暴风截图20156817818140.jpg"/>
          <p:cNvPicPr/>
          <p:nvPr/>
        </p:nvPicPr>
        <p:blipFill>
          <a:blip r:embed="rId1"/>
          <a:stretch/>
        </p:blipFill>
        <p:spPr>
          <a:xfrm>
            <a:off x="2428920" y="135720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5"/>
          <p:cNvSpPr/>
          <p:nvPr/>
        </p:nvSpPr>
        <p:spPr>
          <a:xfrm>
            <a:off x="2643120" y="342900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听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片 6" descr="暴风截图20156818014656.jpg"/>
          <p:cNvPicPr/>
          <p:nvPr/>
        </p:nvPicPr>
        <p:blipFill>
          <a:blip r:embed="rId2"/>
          <a:stretch/>
        </p:blipFill>
        <p:spPr>
          <a:xfrm>
            <a:off x="5357880" y="1357200"/>
            <a:ext cx="2214360" cy="1771920"/>
          </a:xfrm>
          <a:prstGeom prst="rect">
            <a:avLst/>
          </a:prstGeom>
          <a:ln w="0">
            <a:noFill/>
          </a:ln>
        </p:spPr>
      </p:pic>
      <p:sp>
        <p:nvSpPr>
          <p:cNvPr id="141" name="矩形 8"/>
          <p:cNvSpPr/>
          <p:nvPr/>
        </p:nvSpPr>
        <p:spPr>
          <a:xfrm>
            <a:off x="5429160" y="335772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咽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迷走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9" descr="暴风截图20156818416453.jpg"/>
          <p:cNvPicPr/>
          <p:nvPr/>
        </p:nvPicPr>
        <p:blipFill>
          <a:blip r:embed="rId3"/>
          <a:stretch/>
        </p:blipFill>
        <p:spPr>
          <a:xfrm>
            <a:off x="857160" y="4143240"/>
            <a:ext cx="2268720" cy="1814760"/>
          </a:xfrm>
          <a:prstGeom prst="rect">
            <a:avLst/>
          </a:prstGeom>
          <a:ln w="0">
            <a:noFill/>
          </a:ln>
        </p:spPr>
      </p:pic>
      <p:sp>
        <p:nvSpPr>
          <p:cNvPr id="143" name="矩形 10"/>
          <p:cNvSpPr/>
          <p:nvPr/>
        </p:nvSpPr>
        <p:spPr>
          <a:xfrm>
            <a:off x="128592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副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图片 11" descr="暴风截图20156818566781.jpg"/>
          <p:cNvPicPr/>
          <p:nvPr/>
        </p:nvPicPr>
        <p:blipFill>
          <a:blip r:embed="rId4"/>
          <a:stretch/>
        </p:blipFill>
        <p:spPr>
          <a:xfrm>
            <a:off x="5715000" y="4071960"/>
            <a:ext cx="2357280" cy="1886040"/>
          </a:xfrm>
          <a:prstGeom prst="rect">
            <a:avLst/>
          </a:prstGeom>
          <a:ln w="0">
            <a:noFill/>
          </a:ln>
        </p:spPr>
      </p:pic>
      <p:sp>
        <p:nvSpPr>
          <p:cNvPr id="145" name="矩形 12"/>
          <p:cNvSpPr/>
          <p:nvPr/>
        </p:nvSpPr>
        <p:spPr>
          <a:xfrm>
            <a:off x="635796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下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6072120" y="1500120"/>
            <a:ext cx="792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6572160" y="4214880"/>
            <a:ext cx="72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44B5-8030-439D-AA06-419D5A63E51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357120" y="1714680"/>
            <a:ext cx="8501040" cy="4714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嗅觉减退或丧失如能排除鼻黏膜病变，提示同侧嗅神经损害，可见于颅脑创伤、颅前窝占位性病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枢性面瘫只出现病灶对侧下半部表情肌瘫痪，而皱额、闭眼无影响，主要见于脑血管意外、脑肿瘤或炎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舌咽神经受损，表现为吞咽困难、饮水呛咳，见于脑干病变、鼻咽癌转移等。如一侧软腭不能上抬及腭垂偏向健侧，提示该侧迷走神经麻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13B0-E028-4AF9-94CF-3FD7E0E2DA1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785880" y="1857240"/>
            <a:ext cx="7786800" cy="4429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副神经受损时，可出现患侧肌力下降，表现为向对侧转头及患侧耸肩无力，可伴有患侧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侧舌下神经麻痹时，伸舌偏向患侧，多见于脑血管意外。双侧舌下神经麻痹，不能伸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F833-49E2-4E97-A16C-D2089D2E9A0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一、浅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温度觉、痛觉、触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二、深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觉、位置觉、振动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三、皮质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皮肤定位觉、两点辨别觉、实物辨别觉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9:22:16Z</dcterms:modified>
  <cp:revision>1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