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DE1A5-9F77-4EAD-813C-284926530E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1873E-A594-4DD8-B405-D0B06854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7A1CB-B56B-4175-BB3A-FD8E3423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A1789-4B18-41F5-AFB7-B7D61E0B80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35315-097E-4AEA-BC9F-885349BE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D6740-2773-4C58-9EAB-116A61A8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98309-1D96-4AC5-9CD7-B9A8EEA2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5E92F-75FD-4F19-8086-11281AB2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CED61-4139-4258-8B4C-E97F76A0D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C13A6-5AC5-42D8-AD9D-A30C7D13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F1641-343E-4B2F-B7C5-80B64755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6CE3C-92FB-482E-AE0E-F02EC348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B01E-0066-4E0C-AFE3-806C3C8B037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590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抗结核药和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0080" y="1081080"/>
            <a:ext cx="8610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应向患者说明遵医嘱按时、按剂量服用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向患者说明服药后可能出现肝功能损害，若出现症状应及时就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神经系统反应，发现异常应及时报告医生。长期服用异烟肼时，应加服用维生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嘱患者服药期间应禁酒，以减轻肝功能损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应空腹服用，以增加药物的吸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酸药尤其是氢氧化铝可抑制异烟肼的吸收，应避免两者同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糖尿病患者应注意血糖的变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17DF-DEA5-4CF2-A712-C4F944C178A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RFP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为利福霉素类半合成广谱抗菌药，对多种病原微生物均有抗菌活性，具有高效，低毒，口服方便等优点，是目前最有效的抗结核药物之一，但单独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其他抗结核药联合应用可治疗各种类型的结核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麻风病、耐药金葡菌和其他敏感菌引起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重症胆道感染及无症状脑膜炎奈瑟菌带菌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可用于治疗沙眼、急性结膜炎及病毒性角膜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C740-8E89-4A34-9D90-029B52183D1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肝功能损害、流感综合征、血液系统反应；个别患者出现皮疹、药热等重症反应；偶见疲倦、嗜睡、眩晕、运动失调、致畸等；另外，患者服用该药后，二便、唾液、汗液、痰液、泪液等可呈橘红色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、胆道梗阻的患者、婴儿、及妊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以上的孕妇禁用；老年人、长期酗酒者、肝功能损害者及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9F8F-57D4-47EB-8875-37EBFD5785A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因食物可影响药物的吸收，故宜空腹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是常见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注意有无肝功能损害的表现，在常规剂量下应用时亦应定期检查肝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嘱患者出现皮肤瘙痒、皮疹等过敏反应时应立即停药，并及时报告医生，以便进行必要的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还可引起白细胞和血小板减少，肾功能损害，应定期监测血象及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的代谢物可将尿液、粪便、泪液、唾液、汗液及痰等染成橘红色，应提前告知患者对健康无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对氨水杨酸合用时，两药应间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 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766A-4677-4B81-9F8C-CC022112FB3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468360" y="1197000"/>
            <a:ext cx="7858080" cy="331164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。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低热、咳嗽、咳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就诊。主诉：近来有乏力、胸闷、夜间盗汗、食欲不振等症状。诊断：左肺浸润性肺结核。给予利福平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45 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异烟肼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4 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护肝片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。治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后患者唾液、泪液、汗液、尿液等呈橘红色。患者因怀疑用药问题拒绝继续用药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611280" y="5013360"/>
            <a:ext cx="8001000" cy="108108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护理人员在这一案例中有什么不妥之处？给药前护理人员应做哪些工作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EMB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乙胺丁醇是人工合成的抗结核病药，本品可渗入结核分枝杆菌体内干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合成从而抑制细菌的繁殖，对各型分枝杆菌都有高度的抗菌作用。但单独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各型结核病，特别是经链霉素和异烟肼治疗无效的患者。与其他抗结核药物合用可提高疗效，降低不良反应的发生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C50B-0C8E-4DB8-9408-BA23FC473D6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球后视神经炎，它是最严重的不良反应；胃肠道反应；偶见过敏反应、肝功能损害、周围神经炎、高尿酸血症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乙醇中毒、乳幼儿、对本品过敏者、年幼及色觉分辨不清者禁用；孕妇、哺乳期妇女、有视神经炎、痛风、糖尿病性视网膜病变者应慎用；肾功能减退者有引起蓄积中毒的危险，应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F284-EDFE-417B-99A9-5B7396A56E3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事先告诉患者如果出现视力减退、对红绿色分辨能力减低或视野异常时，应立即停药并及时就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进行一次眼科检查，若有异常，应及时减量并对症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如果出现四肢远端麻木、刺痛、烧灼感等，可用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抗，可使症状较快改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期检测肝功能、肾功能及血清尿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与食物同服，以减少胃肠道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哺乳期妇女用药期间宜停止哺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1491-2C38-43EB-95E2-2D7C66A3A9B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吡嗪酰胺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Z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烟酰胺的衍生物，对结核分枝杆菌有抑制或杀灭作用，对细胞内结核分枝杆菌有较强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结核分枝杆菌作用不及异烟肼、利福平，但比对氨基水杨酸钠、环丝氨酸作用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易产生耐药性，与其他抗结核药之间无交叉耐药性。常与其他抗结核药联合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结核病短程化疗的强化期，也用于治疗其他抗结核药治疗无效的病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期大量应用该药可发生严重的胃肠道反应和肝功能损害，用药期间应定期检查肝功能，肝功能不良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724D-C983-4D4C-9524-FD5353E10FF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二线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73436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二线抗结核病药物包括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水杨酸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乙硫异烟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丙硫异烟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氨硫脲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卷曲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环丝氨酸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ED9F-9559-4592-8965-205D6A9897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816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29"/>
          <p:cNvGrpSpPr/>
          <p:nvPr/>
        </p:nvGrpSpPr>
        <p:grpSpPr>
          <a:xfrm>
            <a:off x="1819440" y="1898640"/>
            <a:ext cx="688320" cy="593640"/>
            <a:chOff x="1819440" y="1898640"/>
            <a:chExt cx="688320" cy="593640"/>
          </a:xfrm>
        </p:grpSpPr>
        <p:grpSp>
          <p:nvGrpSpPr>
            <p:cNvPr id="107" name="Group 4"/>
            <p:cNvGrpSpPr/>
            <p:nvPr/>
          </p:nvGrpSpPr>
          <p:grpSpPr>
            <a:xfrm>
              <a:off x="1819440" y="1898640"/>
              <a:ext cx="688320" cy="593640"/>
              <a:chOff x="1819440" y="1898640"/>
              <a:chExt cx="688320" cy="593640"/>
            </a:xfrm>
          </p:grpSpPr>
          <p:sp>
            <p:nvSpPr>
              <p:cNvPr id="108" name="AutoShape 5"/>
              <p:cNvSpPr/>
              <p:nvPr/>
            </p:nvSpPr>
            <p:spPr>
              <a:xfrm>
                <a:off x="1824840" y="190872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AutoShape 6"/>
              <p:cNvSpPr/>
              <p:nvPr/>
            </p:nvSpPr>
            <p:spPr>
              <a:xfrm>
                <a:off x="1819440" y="189864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7"/>
              <p:cNvSpPr/>
              <p:nvPr/>
            </p:nvSpPr>
            <p:spPr>
              <a:xfrm>
                <a:off x="1859400" y="193356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" name="Text Box 8"/>
            <p:cNvSpPr/>
            <p:nvPr/>
          </p:nvSpPr>
          <p:spPr>
            <a:xfrm>
              <a:off x="1980000" y="1955880"/>
              <a:ext cx="3358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1819440" y="3483000"/>
            <a:ext cx="687240" cy="593640"/>
            <a:chOff x="1819440" y="3483000"/>
            <a:chExt cx="687240" cy="593640"/>
          </a:xfrm>
        </p:grpSpPr>
        <p:sp>
          <p:nvSpPr>
            <p:cNvPr id="113" name="AutoShape 9"/>
            <p:cNvSpPr/>
            <p:nvPr/>
          </p:nvSpPr>
          <p:spPr>
            <a:xfrm>
              <a:off x="1819440" y="3483000"/>
              <a:ext cx="687240" cy="593640"/>
            </a:xfrm>
            <a:prstGeom prst="hexagon">
              <a:avLst>
                <a:gd name="adj" fmla="val 28942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954080" y="3565440"/>
              <a:ext cx="354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5" name="Line 18"/>
          <p:cNvSpPr/>
          <p:nvPr/>
        </p:nvSpPr>
        <p:spPr>
          <a:xfrm>
            <a:off x="2556000" y="2421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394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49"/>
          <p:cNvSpPr/>
          <p:nvPr/>
        </p:nvSpPr>
        <p:spPr>
          <a:xfrm>
            <a:off x="2771640" y="17733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抗结核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50"/>
          <p:cNvSpPr/>
          <p:nvPr/>
        </p:nvSpPr>
        <p:spPr>
          <a:xfrm>
            <a:off x="2916360" y="3357720"/>
            <a:ext cx="32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抗真菌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对氨基水杨酸钠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PAS-Na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基水杨酸钠仅对细胞外结核分枝杆菌有抑菌作用，且作用弱，抗菌谱窄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核菌对本品产生耐药性较慢，并可延缓细菌产生抗药性，常作为治疗结核病的辅助药，主要与异烟肼联合使用，延缓耐药性产生，增加疗效，现多用于复治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最常见的不良反应为胃肠道反应，如食欲不振、恶心、呕吐、胃烧灼感、腹上区疼痛、腹胀及腹泻等，个别可引起胃溃疡和出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肾功能减退者、孕妇及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0BE9-4595-41CF-9D2A-4257A8D35D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硫异烟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其对结核分枝杆菌有抑菌作用，抗菌活性仅为异烟肼的十分之一，毒性较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用耐药性产生快，所以单独应用少，仅用于一线抗结核药无效的患者，常与其他抗结核病药联合应用以增强疗效和避免病菌产生耐药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较多且发生率高，以胃肠道反应最常见，表现为恶心、呕吐、腹痛、腹泻、厌食、胃部不适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者、精神病患者、孕妇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；肝、肾功能不良、糖尿病、酗酒、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35E9-76C8-41A0-AD82-209504E6EFA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氨硫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氨硫脲对结核分枝杆菌和麻风分枝杆菌均有抑菌作用。与其他抗结核药物之间无交叉耐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用易产生耐药，与异烟肼合用可延缓耐药性产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较大，不良反应与剂量大小有关。主要不良反应为胃肠道症状及肝脏损害，出现食欲不振、恶心、呕吐、便秘以及转氨酶升高，偶见黄疸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病、肾病、贫血及糖尿病的患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A453-6AA0-4E0A-9784-13A0905EA95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新一代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525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罗红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2BDC-6676-4976-A6C9-712D9AA120A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定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利福平相同，抗菌作用强于利福平，并与利福平有交叉耐药。与其他抗结核药，如异烟肼、乙胺丁醇等有协同抗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主要用于肺结核和其他结核病、麻风病、化脓性皮肤病、结膜炎、沙眼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少而轻，偶有胃肠道反应；可能引起白细胞和血小板减少，导致齿龈出血和感染、伤口愈合延迟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酒精中毒、精神病、癫痫、肝功能损害者慎用。婴儿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以上孕妇和哺乳期妇女也要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8689-CF7A-4627-97F3-978A6CFD483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喹诺酮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氟喹诺酮类是目前我国治疗耐多药结核病的二线抗结核药之一，氟喹诺酮类中有一些具有良好的抗结核分枝杆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药物的有司氟沙星、氧氟沙星、环丙沙星、左氧氟沙星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司氟沙星为目前氟喹诺酮类药物中抗结核活性最强的药物，抗菌谱广。被认为是一类有发展前景的新型抗结核病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主要为光敏反应，宜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3F3B-7084-494E-B691-2C7E0B41664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罗红霉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罗红霉素为新大环内酯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新大环内酯类均有抗结核分枝杆菌作用，罗红霉素是其中抗结核分枝杆菌作用最强的一个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异烟肼或利福平联合用药，有协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1E70-C0A8-4C0A-B9DE-6A83467BD3F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抗真菌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6043-7BC4-40F0-B606-0ECE3609A1B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364F-03F9-4525-A6C8-7CC0048C235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真菌感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AutoShape 13"/>
          <p:cNvSpPr/>
          <p:nvPr/>
        </p:nvSpPr>
        <p:spPr>
          <a:xfrm>
            <a:off x="2916360" y="1414440"/>
            <a:ext cx="360360" cy="1582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1040 h 1582920"/>
              <a:gd name="textAreaBottom" fmla="*/ 1541880 h 158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Oval 5"/>
          <p:cNvSpPr/>
          <p:nvPr/>
        </p:nvSpPr>
        <p:spPr>
          <a:xfrm>
            <a:off x="250920" y="4508640"/>
            <a:ext cx="2736720" cy="10810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深部真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Oval 5"/>
          <p:cNvSpPr/>
          <p:nvPr/>
        </p:nvSpPr>
        <p:spPr>
          <a:xfrm>
            <a:off x="250920" y="1700280"/>
            <a:ext cx="2592360" cy="1008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浅真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13"/>
          <p:cNvSpPr/>
          <p:nvPr/>
        </p:nvSpPr>
        <p:spPr>
          <a:xfrm>
            <a:off x="3059280" y="4076640"/>
            <a:ext cx="360360" cy="18511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8240 h 1851120"/>
              <a:gd name="textAreaBottom" fmla="*/ 1802880 h 185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3348000" y="1268280"/>
            <a:ext cx="52563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由各种癣菌引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侵犯皮肤、毛发、指（趾）甲、口腔或阴道黏膜等体表部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病率高，危害性较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492360" y="3882960"/>
            <a:ext cx="49672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多由念珠菌和新型隐球菌引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侵犯深部组织及内脏器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病率低，危害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D4BA-157E-46E0-93D1-649CD4BCE88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真菌所致疾病与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3851280" y="1773360"/>
            <a:ext cx="1944720" cy="14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甲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2"/>
          <p:cNvSpPr/>
          <p:nvPr/>
        </p:nvSpPr>
        <p:spPr>
          <a:xfrm>
            <a:off x="1041480" y="2276640"/>
            <a:ext cx="1512720" cy="576000"/>
          </a:xfrm>
          <a:prstGeom prst="roundRect">
            <a:avLst>
              <a:gd name="adj" fmla="val 16667"/>
            </a:avLst>
          </a:prstGeom>
          <a:solidFill>
            <a:srgbClr val="00ff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种癣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3"/>
          <p:cNvSpPr/>
          <p:nvPr/>
        </p:nvSpPr>
        <p:spPr>
          <a:xfrm>
            <a:off x="1041480" y="4437000"/>
            <a:ext cx="1584360" cy="792360"/>
          </a:xfrm>
          <a:prstGeom prst="roundRect">
            <a:avLst>
              <a:gd name="adj" fmla="val 16667"/>
            </a:avLst>
          </a:prstGeom>
          <a:solidFill>
            <a:srgbClr val="00ff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新型隐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白色念珠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2625840" y="2565360"/>
            <a:ext cx="72216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2698920" y="4797360"/>
            <a:ext cx="72072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16"/>
          <p:cNvSpPr/>
          <p:nvPr/>
        </p:nvSpPr>
        <p:spPr>
          <a:xfrm>
            <a:off x="3778200" y="1413000"/>
            <a:ext cx="1368360" cy="358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浅部真菌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8"/>
          <p:cNvSpPr/>
          <p:nvPr/>
        </p:nvSpPr>
        <p:spPr>
          <a:xfrm>
            <a:off x="6227640" y="1773360"/>
            <a:ext cx="1800360" cy="1512720"/>
          </a:xfrm>
          <a:prstGeom prst="roundRect">
            <a:avLst>
              <a:gd name="adj" fmla="val 16667"/>
            </a:avLst>
          </a:prstGeom>
          <a:solidFill>
            <a:srgbClr val="ffff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灰黄霉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制霉菌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特比萘芬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咪 康 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9"/>
          <p:cNvSpPr/>
          <p:nvPr/>
        </p:nvSpPr>
        <p:spPr>
          <a:xfrm>
            <a:off x="5508720" y="2421000"/>
            <a:ext cx="6476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 Box 20"/>
          <p:cNvSpPr/>
          <p:nvPr/>
        </p:nvSpPr>
        <p:spPr>
          <a:xfrm>
            <a:off x="3852720" y="4292640"/>
            <a:ext cx="1944720" cy="18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肺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内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鹅口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21"/>
          <p:cNvSpPr/>
          <p:nvPr/>
        </p:nvSpPr>
        <p:spPr>
          <a:xfrm>
            <a:off x="3780000" y="3932280"/>
            <a:ext cx="1368360" cy="358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深部真菌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2"/>
          <p:cNvSpPr/>
          <p:nvPr/>
        </p:nvSpPr>
        <p:spPr>
          <a:xfrm>
            <a:off x="6229440" y="4292640"/>
            <a:ext cx="1800000" cy="1512720"/>
          </a:xfrm>
          <a:prstGeom prst="roundRect">
            <a:avLst>
              <a:gd name="adj" fmla="val 16667"/>
            </a:avLst>
          </a:prstGeom>
          <a:solidFill>
            <a:srgbClr val="ff99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两性霉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咪 唑 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三 唑 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Line 23"/>
          <p:cNvSpPr/>
          <p:nvPr/>
        </p:nvSpPr>
        <p:spPr>
          <a:xfrm flipV="1">
            <a:off x="5580000" y="4940280"/>
            <a:ext cx="577800" cy="144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196640"/>
            <a:ext cx="8610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掌握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一线抗结核药及抗真菌药代表药物的不良反应及药疗监护须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熟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一线抗结核药、二线抗结核药及抗真菌药各代表药物的药理作用和临床应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了解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抗结核药及抗真菌药各代表药物的体内过程和用法；其他常用药物的作用特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08C8-298A-4DDF-A975-9FBBF234833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浅部真菌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Picture 5" descr="手癣"/>
          <p:cNvPicPr/>
          <p:nvPr/>
        </p:nvPicPr>
        <p:blipFill>
          <a:blip r:embed="rId1"/>
          <a:stretch/>
        </p:blipFill>
        <p:spPr>
          <a:xfrm>
            <a:off x="111240" y="3429000"/>
            <a:ext cx="3198600" cy="2259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6"/>
          <p:cNvSpPr/>
          <p:nvPr/>
        </p:nvSpPr>
        <p:spPr>
          <a:xfrm>
            <a:off x="1120680" y="587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手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4668480" y="2495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足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7" name="Picture 8" descr="足癣2"/>
          <p:cNvPicPr/>
          <p:nvPr/>
        </p:nvPicPr>
        <p:blipFill>
          <a:blip r:embed="rId2"/>
          <a:srcRect l="0" t="0" r="0" b="16191"/>
          <a:stretch/>
        </p:blipFill>
        <p:spPr>
          <a:xfrm>
            <a:off x="3367080" y="165240"/>
            <a:ext cx="3198960" cy="2232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9"/>
          <p:cNvSpPr/>
          <p:nvPr/>
        </p:nvSpPr>
        <p:spPr>
          <a:xfrm>
            <a:off x="794160" y="2638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甲癣（灰指甲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4912920" y="595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头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15" descr="u=416759491,364312515&amp;fm=21&amp;gp=0"/>
          <p:cNvPicPr/>
          <p:nvPr/>
        </p:nvPicPr>
        <p:blipFill>
          <a:blip r:embed="rId3"/>
          <a:stretch/>
        </p:blipFill>
        <p:spPr>
          <a:xfrm>
            <a:off x="324000" y="189000"/>
            <a:ext cx="2741400" cy="2208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7" descr="u=1571559471,849855513&amp;fm=21&amp;gp=0"/>
          <p:cNvPicPr/>
          <p:nvPr/>
        </p:nvPicPr>
        <p:blipFill>
          <a:blip r:embed="rId4"/>
          <a:srcRect l="27566" t="0" r="4023" b="0"/>
          <a:stretch/>
        </p:blipFill>
        <p:spPr>
          <a:xfrm>
            <a:off x="3811680" y="3029040"/>
            <a:ext cx="27414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深部真菌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5387040" y="5300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伪膜性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137412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鹅口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14" descr="u=2073475935,3213033707&amp;fm=21&amp;gp=0"/>
          <p:cNvPicPr/>
          <p:nvPr/>
        </p:nvPicPr>
        <p:blipFill>
          <a:blip r:embed="rId1"/>
          <a:stretch/>
        </p:blipFill>
        <p:spPr>
          <a:xfrm>
            <a:off x="324000" y="1197000"/>
            <a:ext cx="3198600" cy="4164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7" descr="u=1561719512,3905960394&amp;fm=21&amp;gp=0"/>
          <p:cNvPicPr/>
          <p:nvPr/>
        </p:nvPicPr>
        <p:blipFill>
          <a:blip r:embed="rId2"/>
          <a:stretch/>
        </p:blipFill>
        <p:spPr>
          <a:xfrm>
            <a:off x="4427640" y="1844640"/>
            <a:ext cx="31986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真菌药分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化学结构的不同可将抗真菌药分为以下四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生素类抗真菌药，如两性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唑类抗真菌药，如酮康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丙烯胺类抗真菌药，如特比萘芬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嘧啶类抗真菌药，如氟胞嘧啶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233F-4365-4566-A192-DC0DABB5678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抗生素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525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两性霉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灰黄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0C57-1EAB-4D5D-975F-273FB6F90E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37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两性霉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多烯类抗真菌药，为广谱抗真菌药。对多种深部真菌如白色念珠菌、新型隐球菌、荚膜组织胞浆菌、皮炎芽生菌、粗球孢子菌、孢子丝菌等具有极强的抑菌作用，高浓度有杀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是目前治疗深部真菌感染的首选药。但由于其毒性明显，临床主要用于治疗诊断明确且病情危重的深部真菌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A7F4-178C-44D8-A716-34FB19B28EE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常见的不良反应有寒战、高热、头痛、眩晕、全身不适等输注相关的不良反应；胃肠道反应；肾功能损害；心血管系统反应；局部反应；神经系统毒性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者禁用，肝、肾功能减退、孕妇应慎用，哺乳期妇女用药期间应暂停哺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A5CC-ECF0-46D1-973E-9B6C397062B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该药毒性大，且不良反应多，临床只用于有绝对用药指征者，不可用于一般真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注射此药时必须在医护人员严格的监护下进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减少血栓性静脉炎的发生，静脉滴注液应适当稀释，切勿将药液漏于血管外，并经常更换注射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减少两性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起的高热、头痛和过敏反应发生，静滴前半小时常需给患者服用解热镇痛药和抗组胺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该药对光、热不稳定，应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避光密闭保存，静脉滴注时，应避光缓慢滴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期间应检查：肾功能、周围血象和血清镁测定、肝功能检查、血钾测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F183-7FA1-4A64-BE86-D9DB8AA85BF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抗真菌作用、作用机制与两性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似，且不易产生耐药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上主要局部外用治疗皮肤、黏膜浅部真菌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应用时不良反应少见，口服后可发生恶心、呕吐、腹泻等；局部应用可引起皮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抗真菌谱较窄，对各种浅部真菌有较强的抑制作用，但对深部真菌和细菌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主要用于治疗各种癣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后可引起胃肠道反应、神经系统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E562-C4A5-4144-B757-8FCCD085DCE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唑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52563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酮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氟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伊曲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6935-5662-4675-B126-AAD812941ED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8" name="Picture 5" descr="2005615104729373"/>
          <p:cNvPicPr/>
          <p:nvPr/>
        </p:nvPicPr>
        <p:blipFill>
          <a:blip r:embed="rId1"/>
          <a:stretch/>
        </p:blipFill>
        <p:spPr>
          <a:xfrm>
            <a:off x="6012000" y="1268280"/>
            <a:ext cx="2741400" cy="2741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2"/>
          <a:stretch/>
        </p:blipFill>
        <p:spPr>
          <a:xfrm>
            <a:off x="2987640" y="1557360"/>
            <a:ext cx="2741760" cy="2057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2006615180204"/>
          <p:cNvPicPr/>
          <p:nvPr/>
        </p:nvPicPr>
        <p:blipFill>
          <a:blip r:embed="rId3"/>
          <a:srcRect l="3117" t="13543" r="5249" b="11918"/>
          <a:stretch/>
        </p:blipFill>
        <p:spPr>
          <a:xfrm>
            <a:off x="2941560" y="4392720"/>
            <a:ext cx="54849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37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广谱抗真菌药，也是第一个可口服的广谱抗真菌药，对多种浅部和深部真菌均有抗菌作用。低浓度抑菌，高浓度杀菌。其对皮肤癣菌、酵母菌以及其他致病真菌等均有抗菌活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可有效地治疗深部、皮下及浅表真菌感染。局部外用可用于治疗表浅部真菌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4FB4-1466-43DA-B460-D6AF75C8196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圆角矩形 3"/>
          <p:cNvSpPr/>
          <p:nvPr/>
        </p:nvSpPr>
        <p:spPr>
          <a:xfrm>
            <a:off x="468360" y="1341360"/>
            <a:ext cx="7858080" cy="331164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因发热，咳嗽，胸痛，血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入院。主诉：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来有低热，明显厌食，消瘦，疲乏，夜间盗汗等症状；入院检查：体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脉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呼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血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9/81 mmH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营养稍差，消瘦，神志清楚，查体合作。胸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线平片检查：双肺纹理增粗，两肺散在性大小不等密度一致的片状阴影。取痰液做细菌培养和抗酸检查均为阳性。诊断：肺结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圆角矩形 3"/>
          <p:cNvSpPr/>
          <p:nvPr/>
        </p:nvSpPr>
        <p:spPr>
          <a:xfrm>
            <a:off x="601560" y="4941720"/>
            <a:ext cx="7858080" cy="129564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问题：该患者诊断为肺结核的依据？如何治疗？用药治疗时应注意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肝功能损害、可导致女性月经紊乱、男性乳房增大、性欲减退及精液减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、急慢性肝病患者、有肝病史者、慢性酒精中毒、哺乳期妇女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。胃酸缺乏、老年人及肝肾功能减退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F4FA-C501-4300-85B7-ECE96F28608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早期可出现眩晕，应告知患者注意避免意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食物同服可减轻胃肠道不适，但不能与抗酸剂同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在治疗前及治疗期间应定期监测肝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肾上腺功能不全及长时间处于应激状态的患者，应监测其肾上腺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服药期间禁止服用含酒精类的饮料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可引起光敏反映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用药无效或有刺激症状、恶化时，应通知医生，考虑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906C-8D96-441F-A996-0AA0B6CC995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57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广谱抗真菌药，抗菌谱与酮康唑相似。抗菌活性比酮康唑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主要用于白色念珠菌及隐球菌感染所致的深部真菌病，为治疗艾滋病患者隐球菌性脑膜炎的首选药物。不良反应较少，常见恶心、呕吐、腹痛等胃肠道反应。可能导致胎儿缺陷，孕妇禁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广谱抗真菌药，在目前唑类药物中抗真菌作用最强。可有效治疗深部、皮下及浅表真菌，已成为治疗罕见真菌如组织胞浆菌感染和芽生菌感染的首选药物。不良反应较轻，一般能较好地耐受，主要为胃肠道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D3D8-A336-4CB6-8B9D-8FC9505940C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三、嘧啶类抗真菌药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--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4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是人工合成的广谱抗真菌药，对新型隐球菌、白色念珠菌等具有较高抗菌活性，非白色念珠菌对该药的敏感性不如白色念珠菌；对着色真菌、少数曲霉菌属有一定抗菌活性；对其他真菌的抗菌作用均较差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敏感的念珠菌、新型隐球菌和其他敏感真菌所致的严重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E3E3-EE0F-4FFE-99BE-13BEC84B697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过敏反应、肝功能损害、肾功能损害、血液系统反应、神经系统毒性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及严重肾功能不全者禁用。骨髓抑制、血液系统疾病、肝功能减退、肾功能减退者及孕妇应慎用。哺乳期妇女不宜使用或使用期间停止哺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5185-AA07-4613-9736-A33C007652E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本品前及使用期间应进行下列检查：造血功能；肝功能；肾功能；肾功能减退者需监测血药浓度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患者有无胃肠道不适、贫血、肝功能损害等不良反应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嘱患者多饮水，并注意尿量的观察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减退者需减量用药，并根据血药浓度测定结果调整剂量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氟胞嘧啶过量时应予以洗胃、催吐、补充液体加速排泄，必要时采用血液透析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5D15-3BD8-421E-B539-BA5AE1022EE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丙烯胺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特比萘芬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为丙烯胺类抗浅部真菌药，有广谱抗真菌作用，对浅部真菌如皮肤真菌、曲霉菌、皮炎芽白菌、荚膜组织胞浆菌有杀菌作用，对念珠菌则起抑菌作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适用于浅表真菌引起的皮肤、指甲感染，如对皮肤癣菌等引起的体癣、股癣、甲癣、足癣疗效较好，对酵母菌和白色念珠菌引起的癣病无效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最常见的不良反应常为胃肠道症状、可见皮疹、荨麻疹、关节痛、肌痛等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过敏者禁用。孕妇及哺乳期妇女慎用。肝功能受损患者用本品时，应服用正常剂量的一半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56EF-F3F5-4636-AEF7-8DFF62C62EC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19890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抗结核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EDBF-D82B-46AA-A158-C4C5AB2142C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5" descr="u=4243327077,4111749206&amp;fm=21&amp;gp=0"/>
          <p:cNvPicPr/>
          <p:nvPr/>
        </p:nvPicPr>
        <p:blipFill>
          <a:blip r:embed="rId1"/>
          <a:stretch/>
        </p:blipFill>
        <p:spPr>
          <a:xfrm>
            <a:off x="900000" y="3213000"/>
            <a:ext cx="3143520" cy="2095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u=1856927059,2883438388&amp;fm=21&amp;gp=0"/>
          <p:cNvPicPr/>
          <p:nvPr/>
        </p:nvPicPr>
        <p:blipFill>
          <a:blip r:embed="rId2"/>
          <a:stretch/>
        </p:blipFill>
        <p:spPr>
          <a:xfrm>
            <a:off x="5292720" y="3284640"/>
            <a:ext cx="2286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EBEB-9307-4A7A-9FA4-838CF135A8D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结核药物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2916360" y="1341360"/>
            <a:ext cx="360360" cy="1656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5"/>
          <p:cNvSpPr/>
          <p:nvPr/>
        </p:nvSpPr>
        <p:spPr>
          <a:xfrm>
            <a:off x="250920" y="4508640"/>
            <a:ext cx="2736720" cy="10810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二线抗结核病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250920" y="1700280"/>
            <a:ext cx="2592360" cy="1008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线抗结核病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3"/>
          <p:cNvSpPr/>
          <p:nvPr/>
        </p:nvSpPr>
        <p:spPr>
          <a:xfrm>
            <a:off x="3059280" y="3933720"/>
            <a:ext cx="360360" cy="1994040"/>
          </a:xfrm>
          <a:custGeom>
            <a:avLst/>
            <a:gdLst>
              <a:gd name="textAreaLeft" fmla="*/ 230400 w 360360"/>
              <a:gd name="textAreaRight" fmla="*/ 360720 w 360360"/>
              <a:gd name="textAreaTop" fmla="*/ 51840 h 1994040"/>
              <a:gd name="textAreaBottom" fmla="*/ 1942200 h 1994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3348000" y="1125360"/>
            <a:ext cx="54738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类药物疗效较高、不良反应较少、患者较易耐受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异烟肼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利福平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乙胺丁醇、吡嗪酰胺和链霉素等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3492360" y="3716280"/>
            <a:ext cx="532944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类药物疗效低于一线抗结核病药，毒性大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对氨水杨酸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乙硫异烟胺、丙硫异烟胺、氨硫脲、卷曲霉素、环丝氨酸等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一线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1268280"/>
            <a:ext cx="7343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一线抗结核病药物包括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乙胺丁醇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吡嗪酰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4AE4-5D3C-4A86-8DFF-FD4280CA777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INH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125360"/>
            <a:ext cx="84502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对结核分枝杆菌具有高度的选择性，具有疗效好，毒性小、口服方便、价格低廉等优点，是目前临床首选的一线抗结核病药，但单用易产生耐药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是预防和治疗结核病的首选药物，尤其是活动性结核。适用于各种类型的结核病，如肺、淋巴、骨、肾、肠等结核，结核性脑膜炎、胸膜炎及腹膜炎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0BDB-B04E-4DE1-BA15-B23119A4F41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神经系统毒性、肝功能损害、胃肠道反应、过敏反应、血液系统毒性、内分泌功能紊乱、可出现排尿困难、心律失常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功能不良者禁用；肾病患者及有癫痫、嗜酒、精神病史者及孕妇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32FD-3513-4F19-8674-C7F397EF6E6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7:47:16Z</dcterms:modified>
  <cp:revision>29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