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18.png" ContentType="image/png"/>
  <Override PartName="/ppt/media/image17.wmf" ContentType="image/x-wmf"/>
  <Override PartName="/ppt/media/image1.png" ContentType="image/png"/>
  <Override PartName="/ppt/media/image3.jpeg" ContentType="image/jpeg"/>
  <Override PartName="/ppt/media/image5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8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B1122-F8A2-4802-AA4A-C870DE80A7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0B2EF-6777-42E9-924D-31C50F8E0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34A45-E2EB-435A-89C7-F5DC74988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343F4-C8B8-426E-84A1-8C94E93A2A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CEFFF-F19D-430F-938A-22A204B12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9D60C-54FC-400D-9697-B1F1103C6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25FFA-C817-4B29-974B-830D4F761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E17E7-B45C-4457-8635-A2B9D9BB8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CB670-4C63-441C-9876-441A731A4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A4924-CF0B-4655-92F3-25FEDCBE8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ED418-182E-49FF-8967-8E262362D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25076-9381-4D4E-A105-905BA6152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FE3F7-B624-46EA-B6DF-99F7F94D578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四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解热镇痛抗炎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1332000" y="1197000"/>
            <a:ext cx="6767280" cy="48546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"/>
          <p:cNvPicPr/>
          <p:nvPr/>
        </p:nvPicPr>
        <p:blipFill>
          <a:blip r:embed="rId2"/>
          <a:stretch/>
        </p:blipFill>
        <p:spPr>
          <a:xfrm>
            <a:off x="2484360" y="5950080"/>
            <a:ext cx="428616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作用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611280" y="1701720"/>
            <a:ext cx="763272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．镇痛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等强度的镇痛作用，无成瘾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作用部位是在外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Object 2"/>
          <p:cNvGraphicFramePr/>
          <p:nvPr/>
        </p:nvGraphicFramePr>
        <p:xfrm>
          <a:off x="395280" y="1341360"/>
          <a:ext cx="8496360" cy="495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341360"/>
                    <a:ext cx="8496360" cy="495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582a3"/>
                </a:solidFill>
                <a:latin typeface="Verdana"/>
                <a:ea typeface="宋体"/>
              </a:rPr>
              <a:t>镇痛作用特点（与吗啡比较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900000" y="2492280"/>
            <a:ext cx="676764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8f4f8"/>
                </a:solidFill>
                <a:latin typeface="Verdana"/>
                <a:ea typeface="宋体"/>
              </a:rPr>
              <a:t>解热镇痛药与吗啡镇痛作用比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609480" y="1328760"/>
            <a:ext cx="785196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作用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324000" y="1341360"/>
            <a:ext cx="835344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抗炎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具有抗炎、抗风湿作用，对控制风湿性和类风湿性关节炎的症状有肯定的疗效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250920" y="3070080"/>
            <a:ext cx="3057480" cy="571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"/>
          <p:cNvPicPr/>
          <p:nvPr/>
        </p:nvPicPr>
        <p:blipFill>
          <a:blip r:embed="rId2"/>
          <a:stretch/>
        </p:blipFill>
        <p:spPr>
          <a:xfrm>
            <a:off x="395280" y="3718080"/>
            <a:ext cx="4765680" cy="26604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"/>
          <p:cNvPicPr/>
          <p:nvPr/>
        </p:nvPicPr>
        <p:blipFill>
          <a:blip r:embed="rId3"/>
          <a:stretch/>
        </p:blipFill>
        <p:spPr>
          <a:xfrm>
            <a:off x="5437080" y="3718080"/>
            <a:ext cx="2229120" cy="26683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685332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24000" y="1628280"/>
            <a:ext cx="8496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解热镇痛抗炎药临床药理学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能根治原发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能防止疾病发展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停药后可能迅速出现“反跳”甚至症状再现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10920" y="1701360"/>
            <a:ext cx="79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4. 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其他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SAID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也可通过抑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使血栓素生成减少，抑制血小板聚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AutoShape 3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AutoShape 4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一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5"/>
          <p:cNvSpPr/>
          <p:nvPr/>
        </p:nvSpPr>
        <p:spPr>
          <a:xfrm>
            <a:off x="1258920" y="3357720"/>
            <a:ext cx="6769080" cy="2016000"/>
          </a:xfrm>
          <a:prstGeom prst="hexagon">
            <a:avLst>
              <a:gd name="adj" fmla="val 29893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药物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药物分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843280" y="1989000"/>
            <a:ext cx="395928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药物分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常用药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解热镇痛药的复方配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4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5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物分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按化学结构分，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NSAIDs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可分为以下几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水杨酸类：阿司匹林和水杨酸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苯胺类：对乙酰氨基酚、非那西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吡唑酮类：保泰松、羟布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乙酸类： 吲哚美辛、双氯芬酸、舒林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丙酸类：布洛芬、萘普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芬那酸类：甲芬那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烯醇酸类：吡罗昔康、美洛昔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其他类：塞来昔布、尼美舒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物分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70544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按对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COX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的选择性抑制作用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SAID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分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399960">
              <a:lnSpc>
                <a:spcPct val="150000"/>
              </a:lnSpc>
              <a:spcBef>
                <a:spcPts val="176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非选择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50000"/>
              </a:lnSpc>
              <a:spcBef>
                <a:spcPts val="176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择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219240" y="260280"/>
            <a:ext cx="8745480" cy="602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NSAIDs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对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CO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CO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的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I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50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μ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g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药物       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COX</a:t>
            </a:r>
            <a:r>
              <a:rPr b="1" lang="en-US" sz="2800" spc="-1" strike="noStrike" baseline="-25000">
                <a:solidFill>
                  <a:srgbClr val="023653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             COX</a:t>
            </a:r>
            <a:r>
              <a:rPr b="1" lang="en-US" sz="2800" spc="-1" strike="noStrike" baseline="-25000">
                <a:solidFill>
                  <a:srgbClr val="023653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        COX</a:t>
            </a:r>
            <a:r>
              <a:rPr b="1" lang="en-US" sz="2800" spc="-1" strike="noStrike" baseline="-25000">
                <a:solidFill>
                  <a:srgbClr val="023653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/ COX</a:t>
            </a:r>
            <a:r>
              <a:rPr b="1" lang="en-US" sz="2800" spc="-1" strike="noStrike" baseline="-25000">
                <a:solidFill>
                  <a:srgbClr val="023653"/>
                </a:solidFill>
                <a:latin typeface="Arial"/>
                <a:ea typeface="宋体"/>
              </a:rPr>
              <a:t>1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吡罗昔康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0.0015                0.906                 600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阿司匹林 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1.6                      277                   17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吲哚美辛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0.028                  1.68                    60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布洛芬    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4.8                      72.8                   15.16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美洛昔康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0.214                  0.171                 0.8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双氯酚酸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1.57                    1.1                     0.7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萘普生    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9.5                      5.6                    0.58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尼美舒利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&lt;10                     0.07                   &lt;0.007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直接连接符 3"/>
          <p:cNvSpPr/>
          <p:nvPr/>
        </p:nvSpPr>
        <p:spPr>
          <a:xfrm>
            <a:off x="0" y="1557360"/>
            <a:ext cx="9144000" cy="144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直接连接符 6"/>
          <p:cNvSpPr/>
          <p:nvPr/>
        </p:nvSpPr>
        <p:spPr>
          <a:xfrm>
            <a:off x="0" y="907920"/>
            <a:ext cx="9144000" cy="180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灯片编号占位符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85431-A577-4B13-91DE-C165CEDCBC00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AutoShape 3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二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AutoShape 5"/>
          <p:cNvSpPr/>
          <p:nvPr/>
        </p:nvSpPr>
        <p:spPr>
          <a:xfrm>
            <a:off x="1835280" y="3573360"/>
            <a:ext cx="5832360" cy="2016360"/>
          </a:xfrm>
          <a:prstGeom prst="hexagon">
            <a:avLst>
              <a:gd name="adj" fmla="val 21372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常用药物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5280" y="3141720"/>
            <a:ext cx="8569440" cy="34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热、镇痛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较强的解热、镇痛，常用于头痛、牙痛、肌肉痛、月经痛等慢性钝痛与感冒发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炎、抗风湿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炎、抗风湿作用较强。是目前治疗风湿及类风湿性关节炎的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首选药物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对于急性风湿热患者应用最大耐受剂量（一般每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可使患者在用药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8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临床症状缓解，红细胞沉降率下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466560" y="2637000"/>
            <a:ext cx="81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一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药理作用和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1044720" y="1341360"/>
            <a:ext cx="662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又名乙酰水杨酸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acetylsalicylic aci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352440" y="214200"/>
            <a:ext cx="832500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此作用亦是通过抑制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酶实现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阿司匹林用于预防心肌梗死、脑血栓形成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      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灯片编号占位符 1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37861-6443-4342-9F1F-9DE2F26A9417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矩形 14"/>
          <p:cNvSpPr/>
          <p:nvPr/>
        </p:nvSpPr>
        <p:spPr>
          <a:xfrm>
            <a:off x="2491560" y="1341360"/>
            <a:ext cx="10112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血小板聚集、抗血栓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4a7ca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44a7ca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44a7ca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250920" y="2205000"/>
            <a:ext cx="810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8728c"/>
                </a:solidFill>
                <a:latin typeface="宋体"/>
                <a:ea typeface="宋体"/>
              </a:rPr>
              <a:t>（二）体内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539640" y="2925720"/>
            <a:ext cx="82090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1 </a:t>
            </a: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口服吸收迅速。弱有机酸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2 </a:t>
            </a: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吸收后被水解为乙酸和水杨酸， 分布广，可进入到关节腔、脑脊液、乳汁和胎盘等。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3 </a:t>
            </a: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肝代谢：小剂量—按一级动力学消除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           </a:t>
            </a: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大剂量—按零级动力学消除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4. </a:t>
            </a: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代谢产物及水杨酸盐从肾排出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4000" y="1341000"/>
            <a:ext cx="7435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NSAID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引发的药物不良反应占所有药物不良反应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/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684360" y="2205000"/>
            <a:ext cx="810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三）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13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en-US" sz="16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胃肠道反应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较大剂量口服可引起胃溃疡及不易察觉的胃出血，与它抑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X-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减少了内源性的黏膜保护因子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水杨酸反应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剂量过大导致的中毒反应 表现有头痛、头晕、耳鸣、视、听力减退，重者精神紊乱、呼吸加快，酸碱平衡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324000" y="2205000"/>
            <a:ext cx="861048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凝血障碍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多见造成出血倾向。有凝血障碍或出血倾向、严重肝损害的患者禁用。可用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防。手术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需停用，产妇、孕妇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过敏反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少数患者可出现为荨麻疹和血管神经性水肿等皮肤黏膜过敏反应。罕见过敏性休克和“阿司匹林哮喘”，哮喘与白三烯合成增加有关。用肾上腺素治疗无效，可用抗组胺药和糖皮质激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矩形 3"/>
          <p:cNvSpPr/>
          <p:nvPr/>
        </p:nvSpPr>
        <p:spPr>
          <a:xfrm>
            <a:off x="2118960" y="1125360"/>
            <a:ext cx="431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）解热镇痛抗炎药的共同作用机制和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）阿司匹林的作用特点、临床应用、不良反应和药疗监护须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仿宋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仿宋"/>
              </a:rPr>
              <a:t>了解热镇痛抗炎药的主要分类、代表药物和各类的主要特点。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仿宋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仿宋"/>
              </a:rPr>
              <a:t>解热镇痛药的复方配伍的常用成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E9624-3C25-4718-B250-56B047B703C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00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瑞夷综合征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Reye’s syndrome)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童病毒感染应用如阿司匹林有引起瑞夷综合征的危险。此症虽少见，但可致死。表现为开始有短期发热随之惊厥、频繁呕吐、颅内压增高与昏迷等。对肝、脑带来的危害最大。水痘或流行性感冒等病毒性感染的患儿可用对乙酰氨基酚代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6560" y="1270080"/>
            <a:ext cx="80121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阿司匹林过敏者、严重肝病、低凝血酶原血症、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缺乏和血友病或血小板减少症患者、胃肠道出血或消化性溃疡史、哮喘、鼻息肉、慢性荨麻疹患者及孕妇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571680" y="2060640"/>
            <a:ext cx="810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四）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6200" y="2276640"/>
            <a:ext cx="7796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对乙酰氨基酚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acetaminophen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又名扑热息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非那西丁的体内代谢物，解热镇痛作用与阿司匹林相似，但抗炎作用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因其不良反应少，是乙酰水杨酸的良好代用品，并常与其它药配伍组成复方，用于感冒发热及慢性疼痛。过量可致肝坏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Oval 4"/>
          <p:cNvSpPr/>
          <p:nvPr/>
        </p:nvSpPr>
        <p:spPr>
          <a:xfrm>
            <a:off x="2411280" y="1052640"/>
            <a:ext cx="4537080" cy="10080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苯胺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7561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保泰松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炎抗风湿作用强而解热镇痛作用较弱。主要用于治疗风湿及类风湿性关节炎、强直性脊柱炎。保泰松有促进尿酸排泄的作用，可用于急性痛风。其不良反应多且严重，已少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Oval 4"/>
          <p:cNvSpPr/>
          <p:nvPr/>
        </p:nvSpPr>
        <p:spPr>
          <a:xfrm>
            <a:off x="2411280" y="1052640"/>
            <a:ext cx="4537080" cy="10080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苯胺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24000" y="24210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吲哚美辛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indomethacin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，消炎痛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最强的环氧酶抑制剂之一，有显著的抗炎及解热镇痛作用。由于不良反应多，仅用于其它药物疗效不显著的病例。主要不良反应有胃肠道反应、头痛、眩晕、精神失常、血细胞减少及过敏反应，也可引起“阿匹林哮喘”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Oval 4"/>
          <p:cNvSpPr/>
          <p:nvPr/>
        </p:nvSpPr>
        <p:spPr>
          <a:xfrm>
            <a:off x="2411280" y="1052640"/>
            <a:ext cx="4537080" cy="10080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有机酸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23640" y="2349360"/>
            <a:ext cx="822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甲芬那酸（甲灭酸）、双氯芬酸（双氯灭酸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都具有解热镇痛抗炎作用。主要用于风湿及类风湿性关节炎。双氯芬酸抗炎作用较强而不良反应较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布洛芬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ibuprofen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炎、解热镇痛作用与乙酰水杨酸近似，主要特点是胃肠道反应轻，患者易耐受。常用于治疗风湿及类风湿性关节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Oval 4"/>
          <p:cNvSpPr/>
          <p:nvPr/>
        </p:nvSpPr>
        <p:spPr>
          <a:xfrm>
            <a:off x="2484360" y="1052640"/>
            <a:ext cx="4537080" cy="10080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有机酸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560" y="2133720"/>
            <a:ext cx="8372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吡罗昔康（炎痛喜康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为强效、长效解热镇痛抗炎药。剂量过大或长期服用可致消化道溃疡、出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尼美舒利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nimesulide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选择性抑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X-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抗炎作用强而副作用较小，用于治疗各类关节炎以及组织炎症。长期应用，胃黏膜损伤及胃肠出血发生率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Oval 4"/>
          <p:cNvSpPr/>
          <p:nvPr/>
        </p:nvSpPr>
        <p:spPr>
          <a:xfrm>
            <a:off x="2411280" y="1052640"/>
            <a:ext cx="4537080" cy="1008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有机酸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Oval 4"/>
          <p:cNvSpPr/>
          <p:nvPr/>
        </p:nvSpPr>
        <p:spPr>
          <a:xfrm>
            <a:off x="2484360" y="1052640"/>
            <a:ext cx="4537080" cy="10080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有机酸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AutoShape 3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三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539640" y="3573360"/>
            <a:ext cx="8353440" cy="2016360"/>
          </a:xfrm>
          <a:prstGeom prst="hexagon">
            <a:avLst>
              <a:gd name="adj" fmla="val 27043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解热镇痛药的复方配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4356000" y="404640"/>
            <a:ext cx="511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解热镇痛药的复方配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解热镇痛药的复方配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热镇痛药常相互配伍或与抗组胺药、镇咳药、缩血管药等配伍，以提高疗效，减少不良反应，缓解感冒的各种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Oval 4"/>
          <p:cNvSpPr/>
          <p:nvPr/>
        </p:nvSpPr>
        <p:spPr>
          <a:xfrm>
            <a:off x="1260360" y="1413000"/>
            <a:ext cx="6624720" cy="12240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Arial"/>
                <a:ea typeface="宋体"/>
              </a:rPr>
              <a:t>配       伍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5"/>
          <p:cNvSpPr/>
          <p:nvPr/>
        </p:nvSpPr>
        <p:spPr>
          <a:xfrm>
            <a:off x="4284720" y="2637000"/>
            <a:ext cx="792000" cy="1081080"/>
          </a:xfrm>
          <a:prstGeom prst="downArrow">
            <a:avLst>
              <a:gd name="adj1" fmla="val 50000"/>
              <a:gd name="adj2" fmla="val 34125"/>
            </a:avLst>
          </a:prstGeom>
          <a:gradFill rotWithShape="0">
            <a:gsLst>
              <a:gs pos="0">
                <a:srgbClr val="7aeec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圆角矩形 3"/>
          <p:cNvSpPr/>
          <p:nvPr/>
        </p:nvSpPr>
        <p:spPr>
          <a:xfrm>
            <a:off x="539640" y="1125360"/>
            <a:ext cx="8218440" cy="352764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患者，女性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5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。关节疼痛肿胀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年。受累关节包括双手指近端和掌指关节、双腕、左踝、双膝关节，伴有晨僵感，曾经过多种方法治疗，但病情始终没法得到很好的控制。病情发作严重的时候，生活自理困难。体格检查：右手手指已明显鸡爪样，左手略轻。小指正向畸形发展，活动受限。触诊双侧腕关节活动肿胀，触之波动感，伸曲明显受限。辅助检查：类风湿因子㈩；心电图正常；双侧腕关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线正侧位示：关节间隙钙化，骨骺边缘鸡咀样骨性突起。诊断：类风湿性关节炎。治疗：阿司匹林肠溶片，每次剂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0.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1.0g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每日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。治疗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周后症状明显缓解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天前出现呕血、黑便、乏力、伴有心慌，入院。胃镜检查：浅表糜烂性胃炎、十二指肠球部溃疡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395280" y="4939920"/>
            <a:ext cx="8353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问：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1.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阿司匹林治疗类风湿性关节炎的机制是什么？还有哪些替代药 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物可以应用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案例中消化道出血、溃疡症状可能是由什么原因造成的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如何处理？              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3.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阿司匹林在用药指导和监护中需要注意哪些问题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简介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24000" y="1413000"/>
            <a:ext cx="8208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解热镇痛抗炎药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一类具有解热镇 痛、其中大多数具有抗炎、抗风湿作用的药物。又称为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非甾体抗炎药（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non 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steroidal anti – inflammatory drugs, NSAIDs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99640" y="1628640"/>
            <a:ext cx="770436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基本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抑制体内环氧酶（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X)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活性，减少前列腺素（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G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的生物合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24000" y="17013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目前已知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COX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有两型，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COX-1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和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COX-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COX-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主要存于血管、胃、肾等组织中，促进生理性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合成，如保护胃黏膜的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E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、调节血小板的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TXA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、调节外周血管阻力的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I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和调节肾血流量的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I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和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E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COX-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促进合成病理性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，主要为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E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，引起发热、疼痛和炎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知识链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611280" y="2133720"/>
            <a:ext cx="7777080" cy="17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是广泛存在于人和哺乳动物多种组织和体液中的重要活性物质，如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E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、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F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α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、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I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及血栓素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(TXA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等。它们参与多种生理和病理过程的调节，如炎症、发热、疼痛、凝血、胃酸分泌，以及血管、支气管和子宫平滑肌的舒缩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539640" y="1628640"/>
            <a:ext cx="81360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解热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降低发热者的体温，使患者的体温恢复正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正常人的体温则没有影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02:44:53Z</dcterms:created>
  <dc:creator>dell</dc:creator>
  <dc:description/>
  <cp:keywords/>
  <dc:language>en-US</dc:language>
  <cp:lastModifiedBy>赵欣</cp:lastModifiedBy>
  <dcterms:modified xsi:type="dcterms:W3CDTF">2015-12-14T02:45:57Z</dcterms:modified>
  <cp:revision>7</cp:revision>
  <dc:subject/>
  <dc:title>解热镇痛抗炎药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