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652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6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4AC3-CED9-41D2-9E7C-2697EA467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53A1-23B7-4E55-8CD2-BCEA27D3CB29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DA68-5640-46F5-A3F4-2A0F95C87F70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5E32-DA2E-42B6-88E5-8A6B9CE99EC5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46E39-0F79-4D03-998B-57D1393501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A8F67-1968-4BCC-8CBD-0B841E94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3D5DF-9A52-41FF-8136-DB4D40A3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CD56F-CE81-4574-83B1-DF1C944911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FE734-80E9-4F22-8B09-C6875C51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87C42-0D02-4BBD-9AED-1FE1CB52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11BAE-1B36-47D8-90F6-ECDAACA2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5FEE9-1352-48CE-9D1E-89A448674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DF929-9C0B-4BCA-A883-9C0FFBC58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40110-E9AD-470A-8C5E-1DB1EF5E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2020F-9CAB-4C7F-8751-01B1AF18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F3A8D-93C8-4E53-8497-3BCCAEDB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004E-3FDE-4F29-B200-A007A3820B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611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第六章  </a:t>
            </a: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护理教学评价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-360" y="278136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ing evalua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目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过程及结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价值判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并为教学决策服务的活动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3492360" y="1197000"/>
            <a:ext cx="4896000" cy="1440000"/>
          </a:xfrm>
          <a:prstGeom prst="wedgeEllipseCallout">
            <a:avLst>
              <a:gd name="adj1" fmla="val -33018"/>
              <a:gd name="adj2" fmla="val 122249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学评价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1116000" y="1413000"/>
            <a:ext cx="7201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评价包括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师授课质量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学生学习能力及效果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安排、教学方法改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组织机构的运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7315200" y="25909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7924680" y="251460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效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7315200" y="44197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7924680" y="4280040"/>
            <a:ext cx="1143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80880" y="33544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诊断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11040" y="42181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形成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11040" y="5081760"/>
            <a:ext cx="365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总结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105520" y="357192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四）绝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105520" y="4651200"/>
            <a:ext cx="31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五）相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324000" y="2492280"/>
            <a:ext cx="381636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539640" y="2637000"/>
            <a:ext cx="33116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5219640" y="2637000"/>
            <a:ext cx="3457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基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788000" y="2492280"/>
            <a:ext cx="414000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3634920" y="907920"/>
            <a:ext cx="2100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教学评价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diagnostic evaluation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前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发现、补救、因材施教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for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教师、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中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及时反馈调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sum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止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期末考试、毕业考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四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absolute evaluation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目标参照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绝对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是以某一预定的目标为客观参照点，寻求评价对象达到客观标准的绝对位置的评价。评价的标准在评价对象集合的外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68360" y="1341360"/>
            <a:ext cx="8496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五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relative  evaluatio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常模参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相对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以对象群体的平均水平为参照点，确定评价对象在群体中的相对位置的一种评价方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755640" y="105264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教学评价的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 Black"/>
                <a:ea typeface="黑体"/>
              </a:rPr>
              <a:t>Function of Teaching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340000" y="2060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一）导向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340000" y="29242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二）反馈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411280" y="393372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三）诊断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411280" y="4869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四）激励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411280" y="57340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五）教学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WordArt 3"/>
          <p:cNvSpPr txBox="1"/>
          <p:nvPr/>
        </p:nvSpPr>
        <p:spPr>
          <a:xfrm>
            <a:off x="1619280" y="2349360"/>
            <a:ext cx="6265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二节  学生学业成绩的评价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ment  &amp; Assessment of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’ Grade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2843280" y="2209680"/>
            <a:ext cx="3166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2843280" y="2997360"/>
            <a:ext cx="41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学业成绩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2916360" y="384660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学生临床护理能力的评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2989440" y="458136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教师授课质量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9640" y="620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依据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教学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评价目的和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认知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考查、考试、答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动作技能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观察法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轶事记载法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三）情感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问卷法、访谈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试题的编制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试卷的编制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科学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简洁性原则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合理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独立性原则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创新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（二）试卷的编制程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确定考试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拟定编题计划（双向细目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编选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组配试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预测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试答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制订评分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拟定编题计划（双向细目表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知识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 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目标层次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难度：一般题量根据难度情况呈现正态分布，若难度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等级，即易、中、难，它们的比例分别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60%~8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较适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三）试题类型与编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．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主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su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由学生根据试题要求自由组织答案，答题的优劣程度由评分人员凭借主观进行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客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命题时编制格式固定的答案形式，由学生从中选择自己认为正确的答案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24000" y="1844640"/>
            <a:ext cx="7848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（</a:t>
            </a:r>
            <a:r>
              <a:rPr b="1" lang="en-US" sz="3600" spc="-1" strike="noStrike">
                <a:solidFill>
                  <a:srgbClr val="046ca6"/>
                </a:solidFill>
                <a:latin typeface="Arial Black"/>
                <a:ea typeface="黑体"/>
              </a:rPr>
              <a:t>choice item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219320" y="2549520"/>
            <a:ext cx="746748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构成题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重复性词语应在题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否定词不宜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否定词醒目标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0" y="11253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588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识记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分类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功能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各类试题的编制原则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理解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用自己的语言正确解释下列概念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教育评价  教育测量  教育评估  教学评价  诊断性评价  形成性评价  总结性评价  绝对评价  相对评价  试题难度  区别度  信度  效度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学业成绩的评价方法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类型试题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应用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需要和评价内容选择学生学业评价的方法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试卷的编制原则编制一份试卷，并应用统计学方法对试题的质量进行分析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3EE3-AD83-443A-907E-2B836ED53402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50920" y="141300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755640" y="3213000"/>
            <a:ext cx="78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116000" y="3213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1258920" y="4076640"/>
            <a:ext cx="6985080" cy="2025720"/>
          </a:xfrm>
          <a:prstGeom prst="cloudCallout">
            <a:avLst>
              <a:gd name="adj1" fmla="val -34634"/>
              <a:gd name="adj2" fmla="val 53837"/>
            </a:avLst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是否符合编制原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50920" y="126828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457200" y="25909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33520" y="457524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3200" spc="-1" strike="noStrike" u="sng">
                <a:solidFill>
                  <a:srgbClr val="046ca6"/>
                </a:solidFill>
                <a:uFillTx/>
                <a:latin typeface="Arial"/>
                <a:ea typeface="黑体"/>
              </a:rPr>
              <a:t>不属于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医院内感染的主要因素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990720" y="4572000"/>
            <a:ext cx="16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√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990720" y="2590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95280" y="98100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468360" y="112536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304920" y="2457360"/>
            <a:ext cx="883908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为长期应用激素患者做口腔护理时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应注意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白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新增病灶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17400" y="235584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250920" y="981000"/>
            <a:ext cx="74674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468360" y="1628640"/>
            <a:ext cx="7467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-152280" y="3141720"/>
            <a:ext cx="9296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为长期应用激素患者做口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护理时，应注意观察口腔黏膜有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溃疡    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真菌感染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新增病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白斑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179280" y="31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95280" y="981000"/>
            <a:ext cx="813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900000" y="126828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95280" y="1484280"/>
            <a:ext cx="7467480" cy="12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否定词不宜过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50920" y="34290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不是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洗胃的绝对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禁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者，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除外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下列哪一项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914400" y="522144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）属于洗胃绝对禁忌者的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611280" y="3429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1187280" y="515772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选择题备选答案编制原则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越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），猜对率越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文字简练，详简一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干扰项与所测知识相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正确答案的频率相等，位置随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避免使用范围广的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都没有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上述全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备选项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042920" y="1957320"/>
            <a:ext cx="830592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填空题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用词简捷又不致歧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过多，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个为宜，长度相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在句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152280" y="1989000"/>
            <a:ext cx="89917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简答题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试题的字数不宜过多，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15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～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20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字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684360" y="12841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324000" y="4292640"/>
            <a:ext cx="88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例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布卢姆教学目标分类的三大领域（答题字数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219320" y="1978200"/>
            <a:ext cx="5867280" cy="44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）论述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题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注明答题字数和时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不设置选择试题的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68360" y="12841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Teaching Evaluation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1619280" y="2349360"/>
            <a:ext cx="5791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一节 教学评价概述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绝对评分法  以学生对考核所要求的全部知识内容实际掌握情况为评定依据，一般采用百分制计分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相对评分法  是将所有学生考核成绩的平均分作为参考，以判断每位学生在该集体中所处的相对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评分影响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业务水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精神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个性特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其他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学生考试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计算平均分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标准差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分数的分布状态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88" name="Group 4"/>
          <p:cNvGrpSpPr/>
          <p:nvPr/>
        </p:nvGrpSpPr>
        <p:grpSpPr>
          <a:xfrm>
            <a:off x="684360" y="4175280"/>
            <a:ext cx="3085920" cy="2278080"/>
            <a:chOff x="684360" y="4175280"/>
            <a:chExt cx="3085920" cy="2278080"/>
          </a:xfrm>
        </p:grpSpPr>
        <p:sp>
          <p:nvSpPr>
            <p:cNvPr id="289" name="AutoShape 5"/>
            <p:cNvSpPr/>
            <p:nvPr/>
          </p:nvSpPr>
          <p:spPr>
            <a:xfrm>
              <a:off x="684360" y="417528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Line 6"/>
            <p:cNvSpPr/>
            <p:nvPr/>
          </p:nvSpPr>
          <p:spPr>
            <a:xfrm>
              <a:off x="114156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Line 7"/>
            <p:cNvSpPr/>
            <p:nvPr/>
          </p:nvSpPr>
          <p:spPr>
            <a:xfrm flipV="1">
              <a:off x="1141560" y="427428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Freeform 8"/>
            <p:cNvSpPr/>
            <p:nvPr/>
          </p:nvSpPr>
          <p:spPr>
            <a:xfrm>
              <a:off x="1255680" y="5026680"/>
              <a:ext cx="1370880" cy="832320"/>
            </a:xfrm>
            <a:custGeom>
              <a:avLst/>
              <a:gdLst>
                <a:gd name="textAreaLeft" fmla="*/ 0 w 1370880"/>
                <a:gd name="textAreaRight" fmla="*/ 1371240 w 1370880"/>
                <a:gd name="textAreaTop" fmla="*/ 0 h 832320"/>
                <a:gd name="textAreaBottom" fmla="*/ 832680 h 832320"/>
              </a:gdLst>
              <a:ahLst/>
              <a:rect l="textAreaLeft" t="textAreaTop" r="textAreaRight" b="textAreaBottom"/>
              <a:pathLst>
                <a:path w="2159" h="1311">
                  <a:moveTo>
                    <a:pt x="0" y="1311"/>
                  </a:moveTo>
                  <a:cubicBezTo>
                    <a:pt x="135" y="1198"/>
                    <a:pt x="270" y="1084"/>
                    <a:pt x="360" y="971"/>
                  </a:cubicBezTo>
                  <a:cubicBezTo>
                    <a:pt x="450" y="857"/>
                    <a:pt x="480" y="744"/>
                    <a:pt x="540" y="630"/>
                  </a:cubicBezTo>
                  <a:cubicBezTo>
                    <a:pt x="600" y="517"/>
                    <a:pt x="665" y="384"/>
                    <a:pt x="720" y="290"/>
                  </a:cubicBezTo>
                  <a:cubicBezTo>
                    <a:pt x="775" y="196"/>
                    <a:pt x="818" y="114"/>
                    <a:pt x="870" y="67"/>
                  </a:cubicBezTo>
                  <a:cubicBezTo>
                    <a:pt x="922" y="20"/>
                    <a:pt x="970" y="0"/>
                    <a:pt x="1035" y="7"/>
                  </a:cubicBezTo>
                  <a:cubicBezTo>
                    <a:pt x="1100" y="14"/>
                    <a:pt x="1193" y="37"/>
                    <a:pt x="1260" y="112"/>
                  </a:cubicBezTo>
                  <a:cubicBezTo>
                    <a:pt x="1327" y="187"/>
                    <a:pt x="1372" y="342"/>
                    <a:pt x="1439" y="460"/>
                  </a:cubicBezTo>
                  <a:cubicBezTo>
                    <a:pt x="1506" y="578"/>
                    <a:pt x="1605" y="732"/>
                    <a:pt x="1665" y="817"/>
                  </a:cubicBezTo>
                  <a:cubicBezTo>
                    <a:pt x="1725" y="902"/>
                    <a:pt x="1747" y="917"/>
                    <a:pt x="1799" y="971"/>
                  </a:cubicBezTo>
                  <a:cubicBezTo>
                    <a:pt x="1851" y="1025"/>
                    <a:pt x="1919" y="1084"/>
                    <a:pt x="1979" y="1141"/>
                  </a:cubicBezTo>
                  <a:cubicBezTo>
                    <a:pt x="2039" y="1198"/>
                    <a:pt x="2129" y="1283"/>
                    <a:pt x="2159" y="13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9"/>
            <p:cNvSpPr/>
            <p:nvPr/>
          </p:nvSpPr>
          <p:spPr>
            <a:xfrm>
              <a:off x="297036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10"/>
            <p:cNvSpPr/>
            <p:nvPr/>
          </p:nvSpPr>
          <p:spPr>
            <a:xfrm>
              <a:off x="684360" y="437364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11"/>
            <p:cNvSpPr/>
            <p:nvPr/>
          </p:nvSpPr>
          <p:spPr>
            <a:xfrm>
              <a:off x="1141560" y="615636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1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12"/>
          <p:cNvGrpSpPr/>
          <p:nvPr/>
        </p:nvGrpSpPr>
        <p:grpSpPr>
          <a:xfrm>
            <a:off x="3141720" y="4149720"/>
            <a:ext cx="3085920" cy="2278080"/>
            <a:chOff x="3141720" y="4149720"/>
            <a:chExt cx="3085920" cy="2278080"/>
          </a:xfrm>
        </p:grpSpPr>
        <p:sp>
          <p:nvSpPr>
            <p:cNvPr id="297" name="AutoShape 13"/>
            <p:cNvSpPr/>
            <p:nvPr/>
          </p:nvSpPr>
          <p:spPr>
            <a:xfrm>
              <a:off x="3141720" y="414972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Line 14"/>
            <p:cNvSpPr/>
            <p:nvPr/>
          </p:nvSpPr>
          <p:spPr>
            <a:xfrm>
              <a:off x="3598920" y="583344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Line 15"/>
            <p:cNvSpPr/>
            <p:nvPr/>
          </p:nvSpPr>
          <p:spPr>
            <a:xfrm flipV="1">
              <a:off x="3598920" y="424872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6"/>
            <p:cNvSpPr/>
            <p:nvPr/>
          </p:nvSpPr>
          <p:spPr>
            <a:xfrm>
              <a:off x="5427720" y="583344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7"/>
            <p:cNvSpPr/>
            <p:nvPr/>
          </p:nvSpPr>
          <p:spPr>
            <a:xfrm>
              <a:off x="3141720" y="424872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18"/>
            <p:cNvSpPr/>
            <p:nvPr/>
          </p:nvSpPr>
          <p:spPr>
            <a:xfrm>
              <a:off x="3598920" y="613080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9"/>
            <p:cNvSpPr/>
            <p:nvPr/>
          </p:nvSpPr>
          <p:spPr>
            <a:xfrm>
              <a:off x="3713040" y="5110920"/>
              <a:ext cx="1942920" cy="722520"/>
            </a:xfrm>
            <a:custGeom>
              <a:avLst/>
              <a:gdLst>
                <a:gd name="textAreaLeft" fmla="*/ 0 w 1942920"/>
                <a:gd name="textAreaRight" fmla="*/ 1943280 w 194292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3060" h="1138">
                  <a:moveTo>
                    <a:pt x="0" y="1138"/>
                  </a:moveTo>
                  <a:cubicBezTo>
                    <a:pt x="50" y="1033"/>
                    <a:pt x="230" y="645"/>
                    <a:pt x="300" y="505"/>
                  </a:cubicBezTo>
                  <a:cubicBezTo>
                    <a:pt x="370" y="365"/>
                    <a:pt x="348" y="372"/>
                    <a:pt x="420" y="295"/>
                  </a:cubicBezTo>
                  <a:cubicBezTo>
                    <a:pt x="492" y="218"/>
                    <a:pt x="583" y="0"/>
                    <a:pt x="735" y="40"/>
                  </a:cubicBezTo>
                  <a:cubicBezTo>
                    <a:pt x="887" y="80"/>
                    <a:pt x="1195" y="423"/>
                    <a:pt x="1335" y="535"/>
                  </a:cubicBezTo>
                  <a:cubicBezTo>
                    <a:pt x="1475" y="647"/>
                    <a:pt x="1460" y="645"/>
                    <a:pt x="1575" y="715"/>
                  </a:cubicBezTo>
                  <a:cubicBezTo>
                    <a:pt x="1690" y="785"/>
                    <a:pt x="1910" y="903"/>
                    <a:pt x="2025" y="955"/>
                  </a:cubicBezTo>
                  <a:cubicBezTo>
                    <a:pt x="2140" y="1007"/>
                    <a:pt x="2093" y="1000"/>
                    <a:pt x="2265" y="1030"/>
                  </a:cubicBezTo>
                  <a:cubicBezTo>
                    <a:pt x="2437" y="1060"/>
                    <a:pt x="2895" y="1116"/>
                    <a:pt x="3060" y="11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4" name="Group 20"/>
          <p:cNvGrpSpPr/>
          <p:nvPr/>
        </p:nvGrpSpPr>
        <p:grpSpPr>
          <a:xfrm>
            <a:off x="5662440" y="4075200"/>
            <a:ext cx="3086280" cy="2378160"/>
            <a:chOff x="5662440" y="4075200"/>
            <a:chExt cx="3086280" cy="2378160"/>
          </a:xfrm>
        </p:grpSpPr>
        <p:sp>
          <p:nvSpPr>
            <p:cNvPr id="305" name="AutoShape 21"/>
            <p:cNvSpPr/>
            <p:nvPr/>
          </p:nvSpPr>
          <p:spPr>
            <a:xfrm>
              <a:off x="5662440" y="4075200"/>
              <a:ext cx="3086280" cy="23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Line 22"/>
            <p:cNvSpPr/>
            <p:nvPr/>
          </p:nvSpPr>
          <p:spPr>
            <a:xfrm>
              <a:off x="611964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Line 23"/>
            <p:cNvSpPr/>
            <p:nvPr/>
          </p:nvSpPr>
          <p:spPr>
            <a:xfrm flipV="1">
              <a:off x="6119640" y="4273200"/>
              <a:ext cx="0" cy="15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4"/>
            <p:cNvSpPr/>
            <p:nvPr/>
          </p:nvSpPr>
          <p:spPr>
            <a:xfrm>
              <a:off x="794844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5"/>
            <p:cNvSpPr/>
            <p:nvPr/>
          </p:nvSpPr>
          <p:spPr>
            <a:xfrm>
              <a:off x="5662440" y="427320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26"/>
            <p:cNvSpPr/>
            <p:nvPr/>
          </p:nvSpPr>
          <p:spPr>
            <a:xfrm>
              <a:off x="6119640" y="6156000"/>
              <a:ext cx="251460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3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负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Freeform 27"/>
            <p:cNvSpPr/>
            <p:nvPr/>
          </p:nvSpPr>
          <p:spPr>
            <a:xfrm>
              <a:off x="6273360" y="5232960"/>
              <a:ext cx="1895400" cy="635040"/>
            </a:xfrm>
            <a:custGeom>
              <a:avLst/>
              <a:gdLst>
                <a:gd name="textAreaLeft" fmla="*/ 0 w 1895400"/>
                <a:gd name="textAreaRight" fmla="*/ 1895760 w 1895400"/>
                <a:gd name="textAreaTop" fmla="*/ 0 h 635040"/>
                <a:gd name="textAreaBottom" fmla="*/ 635400 h 635040"/>
              </a:gdLst>
              <a:ahLst/>
              <a:rect l="textAreaLeft" t="textAreaTop" r="textAreaRight" b="textAreaBottom"/>
              <a:pathLst>
                <a:path w="2985" h="1000">
                  <a:moveTo>
                    <a:pt x="0" y="985"/>
                  </a:moveTo>
                  <a:cubicBezTo>
                    <a:pt x="45" y="965"/>
                    <a:pt x="148" y="912"/>
                    <a:pt x="270" y="865"/>
                  </a:cubicBezTo>
                  <a:cubicBezTo>
                    <a:pt x="392" y="818"/>
                    <a:pt x="585" y="765"/>
                    <a:pt x="735" y="700"/>
                  </a:cubicBezTo>
                  <a:cubicBezTo>
                    <a:pt x="885" y="635"/>
                    <a:pt x="1045" y="545"/>
                    <a:pt x="1170" y="475"/>
                  </a:cubicBezTo>
                  <a:cubicBezTo>
                    <a:pt x="1295" y="405"/>
                    <a:pt x="1408" y="330"/>
                    <a:pt x="1485" y="280"/>
                  </a:cubicBezTo>
                  <a:cubicBezTo>
                    <a:pt x="1562" y="230"/>
                    <a:pt x="1578" y="217"/>
                    <a:pt x="1635" y="175"/>
                  </a:cubicBezTo>
                  <a:cubicBezTo>
                    <a:pt x="1692" y="133"/>
                    <a:pt x="1753" y="45"/>
                    <a:pt x="1830" y="25"/>
                  </a:cubicBezTo>
                  <a:cubicBezTo>
                    <a:pt x="1907" y="5"/>
                    <a:pt x="2012" y="0"/>
                    <a:pt x="2100" y="55"/>
                  </a:cubicBezTo>
                  <a:cubicBezTo>
                    <a:pt x="2188" y="110"/>
                    <a:pt x="2278" y="255"/>
                    <a:pt x="2355" y="355"/>
                  </a:cubicBezTo>
                  <a:cubicBezTo>
                    <a:pt x="2432" y="455"/>
                    <a:pt x="2500" y="565"/>
                    <a:pt x="2565" y="655"/>
                  </a:cubicBezTo>
                  <a:cubicBezTo>
                    <a:pt x="2630" y="745"/>
                    <a:pt x="2675" y="838"/>
                    <a:pt x="2745" y="895"/>
                  </a:cubicBezTo>
                  <a:cubicBezTo>
                    <a:pt x="2815" y="952"/>
                    <a:pt x="2935" y="978"/>
                    <a:pt x="2985" y="10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二）试题质量分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越大，试题的难度越小。试题难度控制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.3~0.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区分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-1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如果为正值，数值越大，则该题的区分度越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折半信度、重测信度、复本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效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内容效度、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Times New Roman"/>
              </a:rPr>
              <a:t>效标相关效度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5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4"/>
          <p:cNvSpPr/>
          <p:nvPr/>
        </p:nvSpPr>
        <p:spPr>
          <a:xfrm>
            <a:off x="900000" y="342900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aluation of Clinical Nursing Ability for Students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2409480"/>
            <a:ext cx="861048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护理能力评价的范围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能力评价的种类与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影响临床护理能力评价的因素及控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9726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护理能力评价的范围及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临床护理能力是指能把所学的护理学基本理论、知识和技能在临床护理工作实践中灵活运用的能力，包括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认知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情感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精神运动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三个方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能力评价的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观察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床边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模拟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综合评定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84312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影响临床护理能力评价的要素及控制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900000" y="3429000"/>
            <a:ext cx="7272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of Classroom Teaching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内容占位符 2"/>
          <p:cNvSpPr/>
          <p:nvPr/>
        </p:nvSpPr>
        <p:spPr>
          <a:xfrm>
            <a:off x="48564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家组或领导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师自我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同行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00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相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绝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记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调查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3429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二）评估与教育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黑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assessment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4920" y="1700280"/>
            <a:ext cx="91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一）测量与教育测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measurem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0" y="5084640"/>
            <a:ext cx="88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三）评价与教学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1628640"/>
          <a:ext cx="8229600" cy="3762360"/>
        </p:xfrm>
        <a:graphic>
          <a:graphicData uri="http://schemas.openxmlformats.org/drawingml/2006/table">
            <a:tbl>
              <a:tblPr/>
              <a:tblGrid>
                <a:gridCol w="1011240"/>
                <a:gridCol w="3101760"/>
                <a:gridCol w="4116600"/>
              </a:tblGrid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测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评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对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数量测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特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客观的事实描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主客观结合的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活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相对单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综合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1116000" y="3500280"/>
            <a:ext cx="72010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法则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用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数字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对教育领域内事物的属性加以描述和确定。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测量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1116000" y="3500280"/>
            <a:ext cx="720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根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标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测量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，并对测量结果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统计、分析、整理、归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的过程。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评估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9T07:46:45Z</dcterms:created>
  <dc:creator>微软用户</dc:creator>
  <dc:description/>
  <dc:language>en-US</dc:language>
  <cp:lastModifiedBy>赵欣</cp:lastModifiedBy>
  <dcterms:modified xsi:type="dcterms:W3CDTF">2015-12-14T09:22:50Z</dcterms:modified>
  <cp:revision>152</cp:revision>
  <dc:subject/>
  <dc:title>幻灯片 1</dc:title>
</cp:coreProperties>
</file>