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3576-9333-4BAC-BF3A-3FE56923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C524-CE10-4931-813F-6160676A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A35F-F8D5-4E3D-B795-2BF4AD8A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A1C5-776B-4AE5-B7E1-A9D1D5605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D576-C5E7-43FF-83B6-B58D9BF3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601B-8E79-43E2-9409-4110C816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6810-1C3F-4758-82F1-618A4141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FCE5-A6E1-4C0F-AF47-6574FE8C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845B-B172-4A3B-AD52-CB25BC87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07B3-EA23-4FE9-8086-0447794A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3377-0EFB-4C37-BBB8-7027CFFA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3C42-D1A2-4B9F-A34E-B2522DC8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D674-DCB7-49DB-8A47-4C7D316F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A3D8-C23E-44D2-B841-F6CF6B52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3F42-8711-4578-9165-8A10A0B7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FDB0-2D79-4FFE-9A09-4868E6436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C87E-8D47-4E72-9F92-9BD82DEF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9AB1-5965-4C34-8852-3D56E7CC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F924-2553-4CAF-A255-E8C4E70B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E2F1-A917-4F80-BB91-5DEC8A48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15E1-030A-4A14-A099-B1C51D86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A6A4-7C6E-46D9-8199-FEBC11DB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DEA6-9469-4C08-AD35-4D5A3DE2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40D0-96A9-43F4-85D1-884676AD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C180-9462-4C7D-AACB-31BD021742E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F144-FA00-4516-B3B7-840179198F1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813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四章 寄生虫感染的免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unity in Parasitic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慢性感染和进行性感染都反映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可有效地逃避宿主的免疫效应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逃避机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组织学隔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变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伪装（拟态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表面脱落和更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抑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四、免疫逃避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785988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研究抗寄生虫的特异性适应性免疫，对理解寄生虫的致病机制、免疫诊断、流行和防治等都具有十分重要的意义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一、寄生虫抗原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于寄生虫的结构和生活史复杂使寄生虫抗原具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复杂性：表面抗原、代谢抗原和虫体抗原，以表面抗原和代谢抗原的免疫源性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多源性：具有属、种、株和期的特异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二、抗寄生虫的适应性免疫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5708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热带利什曼原虫引起的东方疖可产生消除性免疫，这种免疫现象在寄生虫感染中罕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非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带虫免疫：某些寄生虫感染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疟原虫、刚地弓形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可诱导一种特异性免疫应答，使宿主体内的寄生虫数量降低，增殖减慢、维持低水平虫荷，导致临床痊愈，并产生抗特异性攻击的能力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伴随免疫：有些蠕虫感染（日本血吸虫）可诱导宿主产生抗同种寄生虫幼虫再感染的能力，而已寄生的成虫不受保护性免疫的影响，继续存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89080" y="4110120"/>
            <a:ext cx="2303280" cy="22543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348000" y="4070520"/>
            <a:ext cx="1541520" cy="2311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796000" y="4076640"/>
            <a:ext cx="3168720" cy="2257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64008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疟原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70120" y="64008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（刚地弓形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24360" y="640080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伴随免疫（日本血吸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三、免疫效应机制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效应机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受体封闭和封闭细胞的黏合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性细胞介导的细胞毒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DC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经典的补体途径介导依赖抗体杀伤寄生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3602160" cy="2203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770200" y="439416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介导免疫：抗寄生虫的适应性免疫中细胞免疫起重要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淋巴因子活化效应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700360" y="2997360"/>
            <a:ext cx="36021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毒淋巴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自然杀伤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625840" y="1341360"/>
            <a:ext cx="3601800" cy="2203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627280" y="429264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9:27:14Z</dcterms:modified>
  <cp:revision>122</cp:revision>
  <dc:subject/>
  <dc:title>医学寄生虫学总论</dc:title>
</cp:coreProperties>
</file>