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2563-5203-496B-A5E8-0EA75A1C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39C6-7C82-4814-B0AC-ECB3E544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7D71-D25D-4718-9FFB-DE1AEBBE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6C5C-D38C-481C-A811-49416B9C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0ABE-8611-4453-AB14-7302D69D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9930-BFDE-407C-A67F-95172118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5B3B-C753-45BF-BB43-90A323CE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A147-F18D-48E3-B53D-FC1122B6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DDB1-0F0D-43EF-89E4-875CBAF1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FF48-022E-4C01-BA42-5435BD24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D6E4-A43B-4CA3-B42F-8B044D47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431C-2F62-46CE-B6FF-44D65A41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A460-69F6-4108-AC8C-64B712B1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0832-D8B7-4EC8-A057-42F7D02B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6E40-4099-4091-9896-72148FEB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7170-3E08-4540-BAA4-2F22B640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C943-C34A-400A-BAF7-D5B0FB5D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65C0-1F36-42C2-9BC8-9971E662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C0E0-F3EF-4BF5-933C-92D0792E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EA1D-7BC6-473B-9998-313316B7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621E-AF93-4D08-9A19-6D44F38C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1327-9294-4199-AC57-C6C14EBD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E418-B2DE-421D-9690-3B47922B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30F9-4A48-4EC5-9129-77E5BCE9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F4FA-08FD-450E-B46B-9ADC3B8FAB8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8889-F307-4ED5-B3B3-5F8985DCF23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813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四章 寄生虫感染的免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ity in Parasitic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慢性感染和进行性感染都反映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可有效地逃避宿主的免疫效应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逃避机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组织学隔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变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伪装（拟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表面脱落和更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抑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四、免疫逃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85988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研究抗寄生虫的特异性适应性免疫，对理解寄生虫的致病机制、免疫诊断、流行和防治等都具有十分重要的意义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一、寄生虫抗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于寄生虫的结构和生活史复杂使寄生虫抗原具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复杂性：表面抗原、代谢抗原和虫体抗原，以表面抗原和代谢抗原的免疫源性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多源性：具有属、种、株和期的特异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二、抗寄生虫的适应性免疫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570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热带利什曼原虫引起的东方疖可产生消除性免疫，这种免疫现象在寄生虫感染中罕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非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带虫免疫：某些寄生虫感染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疟原虫、刚地弓形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可诱导一种特异性免疫应答，使宿主体内的寄生虫数量降低，增殖减慢、维持低水平虫荷，导致临床痊愈，并产生抗特异性攻击的能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伴随免疫：有些蠕虫感染（日本血吸虫）可诱导宿主产生抗同种寄生虫幼虫再感染的能力，而已寄生的成虫不受保护性免疫的影响，继续存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9080" y="4110120"/>
            <a:ext cx="2303280" cy="2254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348000" y="4070520"/>
            <a:ext cx="1541520" cy="2311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257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6400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疟原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0120" y="64008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（刚地弓形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64008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伴随免疫（日本血吸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三、免疫效应机制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效应机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受体封闭和封闭细胞的黏合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性细胞介导的细胞毒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DC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经典的补体途径介导依赖抗体杀伤寄生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02160" cy="2203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70200" y="439416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介导免疫：抗寄生虫的适应性免疫中细胞免疫起重要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淋巴因子活化效应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6021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毒淋巴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自然杀伤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625840" y="1341360"/>
            <a:ext cx="3601800" cy="220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9:27:14Z</dcterms:modified>
  <cp:revision>122</cp:revision>
  <dc:subject/>
  <dc:title>医学寄生虫学总论</dc:title>
</cp:coreProperties>
</file>