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9CC6-C61C-4960-A512-A88EB0DD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1A15-DC62-4D88-B2A0-536627CE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568D-8B74-4E63-BF87-119F6D7C6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2F50-0673-4B3F-B7BB-336FF8A8E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1032-3D40-4BB8-ABCC-4278C8A5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C2BB-7D41-480D-8B69-E6319D2E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7048-9203-40A7-AAE1-F9896357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4D1D-EC1F-4EE8-9120-99AC8D58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CE1F-0303-416F-B2E7-CC34C1BF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BD1B-2EB5-4BC7-BABC-101F776D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F3D0-D549-4A8C-AE93-0AC851C6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0CB2-A3B8-4316-A0CE-79E0403D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ECCF-5533-4F5D-B885-446AD7D51C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838080"/>
            <a:ext cx="76327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第十四章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棘头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Acanthoceph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猪巨吻棘头虫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Macracanthorhynch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hirudinace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5410080"/>
            <a:ext cx="32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"/>
              </a:rPr>
              <a:t>刘俊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2680" y="384120"/>
            <a:ext cx="8456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14ac"/>
                </a:solidFill>
                <a:latin typeface="宋体"/>
              </a:rPr>
              <a:t>              </a:t>
            </a: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六、防 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卫生知识的宣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教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，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捕食甲虫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猪的饲养管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查治感染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尚无理想的驱虫药物，早期患者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苯达唑和甲苯咪唑有一定疗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并发症的处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术治疗为主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99072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猪巨吻棘头虫是一种大型蠕虫，成虫寄生于猪的小肠内，偶尔也可寄生人体小肠，引起猪巨吻棘头虫病。是一种人兽共患寄生虫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60991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 活体时背腹略扁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固定后为圆柱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体色  乳白色或淡红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雌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雄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53352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72200" y="1143000"/>
            <a:ext cx="2338560" cy="5111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25440" y="17924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6360" y="1295280"/>
            <a:ext cx="868536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吻突：类球形，可伸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尖锐透明吻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部：短，圆柱形，与吻鞘相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躯干：雌虫尾部钝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雄虫尾端有钟形交合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2209680"/>
            <a:ext cx="153720" cy="2287800"/>
          </a:xfrm>
          <a:custGeom>
            <a:avLst/>
            <a:gdLst>
              <a:gd name="textAreaLeft" fmla="*/ 98280 w 153720"/>
              <a:gd name="textAreaRight" fmla="*/ 154080 w 153720"/>
              <a:gd name="textAreaTop" fmla="*/ 59400 h 2287800"/>
              <a:gd name="textAreaBottom" fmla="*/ 2228400 h 228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14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90360" y="380880"/>
            <a:ext cx="388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虫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14ac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1066680"/>
            <a:ext cx="772164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</a:t>
            </a:r>
            <a:r>
              <a:rPr b="1" lang="zh-CN" sz="3200" spc="-1" strike="noStrike">
                <a:solidFill>
                  <a:srgbClr val="0014ac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椭圆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颜色  棕褐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卵壳  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闭合不全，透明状，易破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内含物  有小钩的棘头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81280" y="4648320"/>
            <a:ext cx="266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感染性棘头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1676520"/>
            <a:ext cx="1081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676520"/>
            <a:ext cx="1008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418000">
            <a:off x="1890000" y="36316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终宿主等经口感染小肠内发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1523880"/>
            <a:ext cx="25196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雌虫产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虫卵随粪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便排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693400">
            <a:off x="5858640" y="2891520"/>
            <a:ext cx="15112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中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宿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鞘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目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057400"/>
            <a:ext cx="3887640" cy="144360"/>
          </a:xfrm>
          <a:prstGeom prst="rightArrow">
            <a:avLst>
              <a:gd name="adj1" fmla="val 50000"/>
              <a:gd name="adj2" fmla="val 673254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899800">
            <a:off x="5813640" y="1805760"/>
            <a:ext cx="146160" cy="3240360"/>
          </a:xfrm>
          <a:prstGeom prst="downArrow">
            <a:avLst>
              <a:gd name="adj1" fmla="val 50000"/>
              <a:gd name="adj2" fmla="val 55424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485800">
            <a:off x="1447560" y="3352680"/>
            <a:ext cx="3311280" cy="146160"/>
          </a:xfrm>
          <a:prstGeom prst="leftArrow">
            <a:avLst>
              <a:gd name="adj1" fmla="val 50000"/>
              <a:gd name="adj2" fmla="val 56637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533520"/>
            <a:ext cx="39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二、生活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9063800">
            <a:off x="5241240" y="3047760"/>
            <a:ext cx="10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476800">
            <a:off x="2818800" y="3276360"/>
            <a:ext cx="156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61080" cy="63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      </a:t>
            </a:r>
            <a:r>
              <a:rPr b="1" lang="zh-CN" sz="2800" spc="-1" strike="noStrike">
                <a:solidFill>
                  <a:srgbClr val="0014ac"/>
                </a:solidFill>
                <a:latin typeface="宋体"/>
              </a:rPr>
              <a:t>     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三、致 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致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病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黏膜组织充血、出血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疡、坏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缔组织增生形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棘头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体结节与大网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系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或邻近肠管粘连形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穿破肠壁造成肠穿孔，导致局限性腹膜炎或腹腔脓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无明显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化道症状  消化不良、腹痛、腹泻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并发症  肠梗阻、肠穿孔和腹膜炎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3200" y="382680"/>
            <a:ext cx="78469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四、 诊 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流行病学史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食或半生食甲虫史及临床表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虫体检查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然或服驱虫药后排出的虫体或手术时发现虫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免疫学检查   虫卵抗原皮试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013360"/>
            <a:ext cx="8064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52280" y="685440"/>
            <a:ext cx="86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流行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国外仅有数例报道，国内已报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余例，分布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省、自治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辖市。辽宁和山东的部分地区呈地方性流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主要流行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染源  猪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饮食习惯  生食或半生食中间宿主鞘翅目昆虫 （天牛、金龟子感染率最高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28760" y="152280"/>
            <a:ext cx="85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五、流 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7T12:08:00Z</dcterms:created>
  <dc:creator/>
  <dc:description/>
  <cp:keywords/>
  <dc:language>en-US</dc:language>
  <cp:lastModifiedBy>hzg</cp:lastModifiedBy>
  <dcterms:modified xsi:type="dcterms:W3CDTF">2015-10-06T07:43:4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  <property fmtid="{D5CDD505-2E9C-101B-9397-08002B2CF9AE}" pid="3" name="Version">
    <vt:r8>1</vt:r8>
  </property>
</Properties>
</file>