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A34AB-83E1-4DEB-850C-B3A542F9E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473AD-AADD-49CA-B91D-F066E06D9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6ABEA-842D-4243-8722-A9EFE98D7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CBB8C-7411-4160-AA91-2865EDB0F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5A3FA-DEF2-4B29-9EBE-9A9E780EE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BD8B8-0804-4596-BFEA-27680FE07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43B0F-77C1-4D85-9AEF-09F746D85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EAE5F-1EF8-4192-B3B0-588A1C521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F13C2-3B27-49A9-93E5-848C0BE1E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3394F-A867-4912-ADFC-E5067C627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1A7BE-D910-4D3F-85CE-3961FEEBD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8FB94-3469-423E-BCDB-F6BAE86D3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0ACDF-FD43-4984-BA68-1A796C51D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E7F48-FAC4-4CE5-A86D-5EA1FD202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360B2-BDC5-45A0-9F09-4D8C002E7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A9BBB-0C1B-469D-B38F-A7E90EBBD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DEA65-07CD-4F7E-964E-E98300A44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E9CCE-0430-4A09-99DE-260B25CC4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DD326-94FA-410A-AF90-06936C092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323CC-8277-408F-8194-191862E32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44C59-90DB-45F1-9488-D9D75F870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EC950-A654-4418-A2DF-CEFD6FACF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67482-14F7-4634-B345-D4479DE88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A49DA-215D-4326-B981-EAC693935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181EB-4194-4B20-9A62-DCB81F3084E5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850A0-08C0-42FE-9889-F679D9C4D32F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ccecff"/>
                </a:solidFill>
                <a:latin typeface="Arial"/>
              </a:rPr>
              <a:t>第一篇  总论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971640" y="3068280"/>
            <a:ext cx="734544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Introduction of Medical Parasit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635280" y="5300640"/>
            <a:ext cx="215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高兴政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寄生现象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根据共同生活中两种生物之间的营养、居住和利害关系，可将两种生物共同生活方式分为三种类型。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zh-CN" sz="3000" spc="-1" strike="noStrike">
                <a:solidFill>
                  <a:srgbClr val="ffffff"/>
                </a:solidFill>
                <a:latin typeface="Wingdings"/>
                <a:ea typeface="Wingdings"/>
              </a:rPr>
              <a:t></a:t>
            </a: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共栖 ：指在一起共同生活的两种生物，一方受益，而另一方既不受益也不受害，如 结肠内阿米巴寄生在人体结肠内 。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2843280" y="4292640"/>
            <a:ext cx="3600360" cy="242712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516720" y="580536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结肠内阿米巴滋养体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/>
          </p:nvPr>
        </p:nvSpPr>
        <p:spPr>
          <a:xfrm>
            <a:off x="468360" y="33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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互利共生：指共生生物与宿主之间在生理上相互依存，共生双方都受益，如   白蚁及其消化道中的鞭毛虫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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寄生生活 ：共生者中一方受益，另一方受害，如  链状带绦虫寄生在人体小肠内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2484360" y="3718080"/>
            <a:ext cx="4321080" cy="29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寄生生活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寄生虫与宿主定义：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两种生物在一起生活，其中一种生物从中获利并生存；而另一种生物受到损害的现象称寄生生活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获利并生存的生物叫寄生虫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受损害的一方称宿主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684360" y="4365720"/>
            <a:ext cx="4209840" cy="22651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3203640" y="6156360"/>
            <a:ext cx="144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68ae"/>
                </a:solidFill>
                <a:latin typeface="Arial"/>
              </a:rPr>
              <a:t>杜氏利什曼原虫无鞭毛体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2"/>
          <a:stretch/>
        </p:blipFill>
        <p:spPr>
          <a:xfrm>
            <a:off x="5292720" y="3284640"/>
            <a:ext cx="3024360" cy="261756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364000" y="5950080"/>
            <a:ext cx="28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杜氏利什曼原虫寄生于人体单核巨噬细胞，引起人体损害。寄生虫：杜氏利什曼原虫，宿主：人。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7020000" y="5516640"/>
            <a:ext cx="12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黑热病患者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寄生虫的类型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按寄生虫在人体的寄生部位分体外寄生虫（主要为节肢动物）和体内寄生虫（寄生在宿主体内的寄生虫）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1116000" y="2924280"/>
            <a:ext cx="3313080" cy="306684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2"/>
          <a:stretch/>
        </p:blipFill>
        <p:spPr>
          <a:xfrm>
            <a:off x="5435640" y="2924280"/>
            <a:ext cx="2565360" cy="302580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/>
          <p:nvPr/>
        </p:nvSpPr>
        <p:spPr>
          <a:xfrm>
            <a:off x="1619280" y="6093000"/>
            <a:ext cx="23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体外寄生虫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蚤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76720" y="6067440"/>
            <a:ext cx="33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体内寄生虫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似蚓蛔线虫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按寄生生活的时间分永久性寄生虫（疟原虫、日本血吸虫、链状带绦虫、似蚓蛔线虫、毛首鞭形线虫等）和暂时性寄生虫（硬蜱、恙螨、蚤等）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。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900000" y="2587680"/>
            <a:ext cx="4103640" cy="322884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2"/>
          <a:stretch/>
        </p:blipFill>
        <p:spPr>
          <a:xfrm>
            <a:off x="5388120" y="2587680"/>
            <a:ext cx="2687400" cy="324000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971640" y="5996160"/>
            <a:ext cx="41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永久性寄生虫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毛首鞭形线虫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5111640" y="5972040"/>
            <a:ext cx="34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暂时性寄生虫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恙螨幼虫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按寄生虫对宿主的选择分为专性寄生虫（吸虫，大多数线虫）和兼性寄生虫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1619280" y="1773360"/>
            <a:ext cx="2362320" cy="396216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1116000" y="5805360"/>
            <a:ext cx="36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专性寄生虫（华支睾吸虫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219640" y="5805360"/>
            <a:ext cx="34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兼性寄生虫（棘阿米巴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2"/>
          <a:stretch/>
        </p:blipFill>
        <p:spPr>
          <a:xfrm>
            <a:off x="5148360" y="2276640"/>
            <a:ext cx="1806480" cy="280800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3"/>
          <a:stretch/>
        </p:blipFill>
        <p:spPr>
          <a:xfrm>
            <a:off x="7020000" y="2781360"/>
            <a:ext cx="1562040" cy="18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宿主的类型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根据寄生虫生活史不同发育阶段所寄生的宿主及其在流行中的作用，将宿主分为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终宿主：寄生虫的成虫或有性阶段寄生的宿主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中间宿主：寄生虫的幼虫或无性阶段寄生的宿主，若有一个以上的中间宿主，依发育的先后顺序分别命名为第一中间宿主和第二中间宿主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保虫宿主：有些寄生虫除了寄生在人体外，还可寄生在某些脊椎动物体內，完成与人体内相同的生活阶段，这种感染动物是此寄生虫的重要传染源，并在流行病学中起贮存和保虫作用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/>
          </p:nvPr>
        </p:nvSpPr>
        <p:spPr>
          <a:xfrm>
            <a:off x="468360" y="189000"/>
            <a:ext cx="822960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转续宿主：某些蠕虫幼虫侵入非正常宿主，虽能存活，但不能发育为成虫，长期保持幼虫阶段，当此幼虫有机会进入正常宿主，才能继续发育为成虫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11280" y="5805360"/>
            <a:ext cx="828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卫氏并殖吸虫终宿主人；第一中间宿主蜷螺；第二中间宿主溪蟹、蝲蛄；保虫宿主犬、猫；转续宿主猪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2413080" y="2997360"/>
            <a:ext cx="4319640" cy="27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寄生虫生活史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寄生虫生活史定义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寄生虫完成一代经历的生长、发育和繁殖及宿主转换的过程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完成生活史的两个基本条件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b5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适宜的宿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b5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外界环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4284720" y="3789360"/>
            <a:ext cx="3889440" cy="300672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2484360" y="587700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肥胖带绦虫生活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生活史类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根据是否需要中间宿主将生活史划分为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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不需要中间宿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直接型生活史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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需要中间宿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间接型生活史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3564000" y="4076640"/>
            <a:ext cx="1846080" cy="234972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/>
          <p:nvPr/>
        </p:nvSpPr>
        <p:spPr>
          <a:xfrm>
            <a:off x="5435640" y="595008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卫氏并殖吸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4140360" y="1700280"/>
            <a:ext cx="3168360" cy="237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95280" y="8366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医学寄生虫学定义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258560" y="2421000"/>
            <a:ext cx="6778440" cy="29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医学寄生虫学是研究感染人的寄生虫和寄生虫病的科学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医学寄生虫內容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寄生虫病的病原体和传播媒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b5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病原体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1042920" y="2781360"/>
            <a:ext cx="1629000" cy="288108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3564000" y="2781360"/>
            <a:ext cx="1628640" cy="288108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6156360" y="2781360"/>
            <a:ext cx="1638360" cy="288108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826920" y="5734080"/>
            <a:ext cx="20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医学原生动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348000" y="5734080"/>
            <a:ext cx="21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医学蠕形动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651640" y="5734080"/>
            <a:ext cx="27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少数医学节肢动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395280" y="333000"/>
            <a:ext cx="822960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b5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传播媒介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1547640" y="981000"/>
            <a:ext cx="2953080" cy="237168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4788000" y="981000"/>
            <a:ext cx="2592360" cy="236880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1619280" y="3933720"/>
            <a:ext cx="5761080" cy="239868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2411280" y="3429000"/>
            <a:ext cx="432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蛛形纲医学节肢动物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如蜱等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052720" y="6284880"/>
            <a:ext cx="46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昆虫纲医学节肢动物（如蝇等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寄生虫对人类的危害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严重影响人体健康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作为病原体引起寄生虫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作为传播媒介传播传染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造成无法估量的经济损失，严重影响社会和经济的发展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68000" y="620280"/>
            <a:ext cx="8218440" cy="20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ecff"/>
                </a:solidFill>
                <a:latin typeface="Arial"/>
              </a:rPr>
              <a:t>        </a:t>
            </a:r>
            <a:r>
              <a:rPr b="0" lang="zh-CN" sz="3600" spc="-1" strike="noStrike">
                <a:solidFill>
                  <a:srgbClr val="ccecff"/>
                </a:solidFill>
                <a:latin typeface="Arial"/>
              </a:rPr>
              <a:t>联合国开发计划署、世界银行和世界卫生组织制定的热带病特别规划</a:t>
            </a:r>
            <a:r>
              <a:rPr b="0" lang="zh-CN" sz="3600" spc="-1" strike="noStrike">
                <a:solidFill>
                  <a:srgbClr val="ccecff"/>
                </a:solidFill>
                <a:latin typeface="Arial"/>
              </a:rPr>
              <a:t>(TDR)</a:t>
            </a:r>
            <a:r>
              <a:rPr b="0" lang="zh-CN" sz="3600" spc="-1" strike="noStrike">
                <a:solidFill>
                  <a:srgbClr val="ccecff"/>
                </a:solidFill>
                <a:latin typeface="Arial"/>
              </a:rPr>
              <a:t>要求在全世界范围内重点防治的</a:t>
            </a:r>
            <a:r>
              <a:rPr b="0" lang="zh-CN" sz="3600" spc="-1" strike="noStrike">
                <a:solidFill>
                  <a:srgbClr val="ccecff"/>
                </a:solidFill>
                <a:latin typeface="Arial"/>
              </a:rPr>
              <a:t>10</a:t>
            </a:r>
            <a:r>
              <a:rPr b="0" lang="zh-CN" sz="3600" spc="-1" strike="noStrike">
                <a:solidFill>
                  <a:srgbClr val="ccecff"/>
                </a:solidFill>
                <a:latin typeface="Arial"/>
              </a:rPr>
              <a:t>种热带病中有</a:t>
            </a:r>
            <a:r>
              <a:rPr b="0" lang="zh-CN" sz="3600" spc="-1" strike="noStrike">
                <a:solidFill>
                  <a:srgbClr val="ccecff"/>
                </a:solidFill>
                <a:latin typeface="Arial"/>
              </a:rPr>
              <a:t>7</a:t>
            </a:r>
            <a:r>
              <a:rPr b="0" lang="zh-CN" sz="3600" spc="-1" strike="noStrike">
                <a:solidFill>
                  <a:srgbClr val="ccecff"/>
                </a:solidFill>
                <a:latin typeface="Arial"/>
              </a:rPr>
              <a:t>种为寄生虫病。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4000" y="2637000"/>
            <a:ext cx="4103640" cy="37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疟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血吸虫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淋巴丝虫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盘尾丝虫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利什曼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非洲锥虫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恰加斯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203640" y="2997360"/>
            <a:ext cx="2047680" cy="270504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5362560" y="2997360"/>
            <a:ext cx="1654200" cy="266364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7162920" y="2997360"/>
            <a:ext cx="1555560" cy="270180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3274920" y="577548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日本血吸虫病患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362560" y="5775480"/>
            <a:ext cx="15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淋巴丝虫病患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946920" y="577548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内脏利什曼病患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ecff"/>
                </a:solidFill>
                <a:latin typeface="Arial"/>
              </a:rPr>
              <a:t>        </a:t>
            </a:r>
            <a:r>
              <a:rPr b="0" lang="zh-CN" sz="2800" spc="-1" strike="noStrike">
                <a:solidFill>
                  <a:srgbClr val="ccecff"/>
                </a:solidFill>
                <a:latin typeface="Arial"/>
              </a:rPr>
              <a:t>近年来</a:t>
            </a:r>
            <a:r>
              <a:rPr b="0" lang="zh-CN" sz="2800" spc="-1" strike="noStrike">
                <a:solidFill>
                  <a:srgbClr val="ccecff"/>
                </a:solidFill>
                <a:latin typeface="Arial"/>
              </a:rPr>
              <a:t>WHO</a:t>
            </a:r>
            <a:r>
              <a:rPr b="0" lang="zh-CN" sz="2800" spc="-1" strike="noStrike">
                <a:solidFill>
                  <a:srgbClr val="ccecff"/>
                </a:solidFill>
                <a:latin typeface="Arial"/>
              </a:rPr>
              <a:t>用伤残调整寿命年</a:t>
            </a:r>
            <a:r>
              <a:rPr b="0" lang="zh-CN" sz="2800" spc="-1" strike="noStrike">
                <a:solidFill>
                  <a:srgbClr val="ccecff"/>
                </a:solidFill>
                <a:latin typeface="Arial"/>
              </a:rPr>
              <a:t>(DALYs)</a:t>
            </a:r>
            <a:r>
              <a:rPr b="0" lang="zh-CN" sz="2800" spc="-1" strike="noStrike">
                <a:solidFill>
                  <a:srgbClr val="ccecff"/>
                </a:solidFill>
                <a:latin typeface="Arial"/>
              </a:rPr>
              <a:t>表示疾病负担的严重程度，</a:t>
            </a:r>
            <a:r>
              <a:rPr b="0" lang="zh-CN" sz="2800" spc="-1" strike="noStrike">
                <a:solidFill>
                  <a:srgbClr val="ccecff"/>
                </a:solidFill>
                <a:latin typeface="Arial"/>
              </a:rPr>
              <a:t>DALYs</a:t>
            </a:r>
            <a:r>
              <a:rPr b="0" lang="zh-CN" sz="2800" spc="-1" strike="noStrike">
                <a:solidFill>
                  <a:srgbClr val="ccecff"/>
                </a:solidFill>
                <a:latin typeface="Arial"/>
              </a:rPr>
              <a:t>越大表示该病对健康损失及生存质量影响越大。</a:t>
            </a:r>
            <a:r>
              <a:rPr b="0" lang="zh-CN" sz="32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499840" y="1556640"/>
            <a:ext cx="37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常见寄生虫的全世界疾病负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468360" y="2216160"/>
          <a:ext cx="8229600" cy="4524480"/>
        </p:xfrm>
        <a:graphic>
          <a:graphicData uri="http://schemas.openxmlformats.org/drawingml/2006/table">
            <a:tbl>
              <a:tblPr/>
              <a:tblGrid>
                <a:gridCol w="4068720"/>
                <a:gridCol w="4160880"/>
              </a:tblGrid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寄生虫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DALYs</a:t>
                      </a: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中疾病负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疟疾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4228.0</a:t>
                      </a: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血吸虫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176.0</a:t>
                      </a: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淋巴丝虫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564.4</a:t>
                      </a: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盘尾丝虫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98.7</a:t>
                      </a: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利什曼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235.7</a:t>
                      </a: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非洲锥虫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159.8</a:t>
                      </a: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美洲锥虫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64.9</a:t>
                      </a: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鞭虫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164.9</a:t>
                      </a: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蛔虫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118.1</a:t>
                      </a: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钩虫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182.5</a:t>
                      </a: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cecff"/>
                </a:solidFill>
                <a:latin typeface="Arial"/>
              </a:rPr>
              <a:t>在我国控制和消灭寄生虫病的任务仍十分艰巨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8229600" cy="34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有些危害严重的寄生虫病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疟疾、血吸虫病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疫情仍没有得到完全控制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有些食源性寄生虫病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肝吸虫病、旋毛虫病、广州管圆线虫病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不断増加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随着艾滋病在我国的迅速蔓延，机会性寄生虫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刚地弓形虫、隐孢子虫、粪类圆线虫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的感染率有增长趋势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468360" y="1692360"/>
            <a:ext cx="8424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ccecff"/>
                </a:solidFill>
                <a:latin typeface="Arial"/>
              </a:rPr>
              <a:t>第一章  寄生现象与寄生虫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971640" y="3068640"/>
            <a:ext cx="734544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rasitism, Parasite and Ho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635280" y="5300640"/>
            <a:ext cx="215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高兴政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0T09:35:20Z</dcterms:created>
  <dc:creator>gy</dc:creator>
  <dc:description/>
  <dc:language>en-US</dc:language>
  <cp:lastModifiedBy>hzg</cp:lastModifiedBy>
  <dcterms:modified xsi:type="dcterms:W3CDTF">2015-10-05T08:41:02Z</dcterms:modified>
  <cp:revision>123</cp:revision>
  <dc:subject/>
  <dc:title>医学寄生虫学总论</dc:title>
</cp:coreProperties>
</file>