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520AF-2EBD-4DA3-839E-449408DAE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5B315-60BC-4E08-AF68-0FF44B4A3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B066D-6304-4B1F-A959-500BEB96F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8FA75-D527-4974-985F-6741B62CF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6ED4B-4130-4F1C-B23B-9963B9F33C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3F2F4-BCF7-48B3-A1AD-DB87F1025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4D7AB-2A7A-44C2-BF75-7358A6856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318FD-4819-40FF-9BFB-BC32C6B41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01A65-BC74-4337-A559-D7FFC6C5C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3C29E-4E98-4A57-9E73-54BC69A62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249EA-6576-4BCE-BBFC-0E39C090D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64008-8C17-4B03-8801-99BB1C75C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276EE-7660-4CEE-AEAD-13E72E904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DA1D6-A95A-4B97-8577-58E15B0CF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D6D48-3411-4BA6-AAB8-2D1DF20F0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3CB745-BC7B-4B50-8994-DB50536B1E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212669-36AA-4C9D-ABB6-BDBBEB39AB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34F32-1D99-40C5-BFB6-701B76BC3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C8E22-68DA-49C5-BB98-B1C6C1537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B13E4-FBC2-4336-B2F9-66B8A4CF4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25CE0-38EB-483A-B258-FEF2D2D92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CEFB3-4FE7-443C-AE48-C5CCECEE3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B6CA7-6707-4D0D-A596-02CCE54A8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254EB-CD5B-4295-835F-26E65AFE8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B2A2D-7434-4316-846D-51A9FB711621}"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1DE6-6AE2-4120-8112-5DFFF81AC233}"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三章 寄生虫与宿主的相互关系</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Parasite Relationships </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与宿主相互作用的结果</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218440" cy="3773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清除寄生虫：某些寄生虫寄生时，诱导宿主产生的免疫力，能抑制、杀伤或清除体内的寄生虫，并可防御再感染。</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带虫状态：体內虽有寄生虫寄生，但不表现岀临床症状。</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患寄生虫病：寄生虫对宿主产生不同的损害，岀现病理变化和临床症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寄生虫病多为慢性感染，并具有宿主和寄生部位特异性、幼虫移行、异位寄生、人兽共患、机会致病等特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435640" y="1341360"/>
            <a:ext cx="2679840" cy="3645000"/>
          </a:xfrm>
          <a:prstGeom prst="rect">
            <a:avLst/>
          </a:prstGeom>
          <a:ln w="0">
            <a:noFill/>
          </a:ln>
        </p:spPr>
      </p:pic>
      <p:sp>
        <p:nvSpPr>
          <p:cNvPr id="216" name=""/>
          <p:cNvSpPr/>
          <p:nvPr/>
        </p:nvSpPr>
        <p:spPr>
          <a:xfrm>
            <a:off x="5508720" y="5087880"/>
            <a:ext cx="244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机会致病</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眼弓形虫病）</a:t>
            </a:r>
            <a:endParaRPr b="0" lang="en-US" sz="2400" spc="-1" strike="noStrike">
              <a:solidFill>
                <a:srgbClr val="ffffff"/>
              </a:solidFill>
              <a:latin typeface="Arial"/>
            </a:endParaRPr>
          </a:p>
        </p:txBody>
      </p:sp>
      <p:pic>
        <p:nvPicPr>
          <p:cNvPr id="217" name="" descr=""/>
          <p:cNvPicPr/>
          <p:nvPr/>
        </p:nvPicPr>
        <p:blipFill>
          <a:blip r:embed="rId2"/>
          <a:stretch/>
        </p:blipFill>
        <p:spPr>
          <a:xfrm>
            <a:off x="755640" y="1341360"/>
            <a:ext cx="4105440" cy="3657600"/>
          </a:xfrm>
          <a:prstGeom prst="rect">
            <a:avLst/>
          </a:prstGeom>
          <a:ln w="0">
            <a:noFill/>
          </a:ln>
        </p:spPr>
      </p:pic>
      <p:sp>
        <p:nvSpPr>
          <p:cNvPr id="218" name=""/>
          <p:cNvSpPr/>
          <p:nvPr/>
        </p:nvSpPr>
        <p:spPr>
          <a:xfrm>
            <a:off x="1332000" y="51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犬弓首线虫幼虫移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对宿主的损害主要取决于寄生虫的虫种、数量、毒力、在人体内的游移过程、寄生部位和生理活动。</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夺取营养，影响营养物质的吸收：寄生虫在宿主体內生长、发育及繁殖，所需营养物质绝大部分来自宿主。</a:t>
            </a:r>
            <a:endParaRPr b="0" lang="en-US" sz="2800" spc="-1" strike="noStrike">
              <a:solidFill>
                <a:srgbClr val="ffffff"/>
              </a:solidFill>
              <a:latin typeface="Arial"/>
            </a:endParaRPr>
          </a:p>
        </p:txBody>
      </p:sp>
      <p:pic>
        <p:nvPicPr>
          <p:cNvPr id="221" name="" descr=""/>
          <p:cNvPicPr/>
          <p:nvPr/>
        </p:nvPicPr>
        <p:blipFill>
          <a:blip r:embed="rId1"/>
          <a:stretch/>
        </p:blipFill>
        <p:spPr>
          <a:xfrm>
            <a:off x="5796000" y="4049640"/>
            <a:ext cx="2203560" cy="2808360"/>
          </a:xfrm>
          <a:prstGeom prst="rect">
            <a:avLst/>
          </a:prstGeom>
          <a:ln w="0">
            <a:noFill/>
          </a:ln>
        </p:spPr>
      </p:pic>
      <p:sp>
        <p:nvSpPr>
          <p:cNvPr id="222" name=""/>
          <p:cNvSpPr/>
          <p:nvPr/>
        </p:nvSpPr>
        <p:spPr>
          <a:xfrm>
            <a:off x="392436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病患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04280"/>
            <a:ext cx="8229600" cy="4526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机械性损害：由于寄生虫在腔道、组织、细胞内寄生，可引起阻塞腔道、压迫组织和破坏细胞，以及虫体游移和吸附作用造成的损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毒素作用：寄生虫的分泌物、排泄物和死亡虫体的分解产物对宿主均有毒素作用。</a:t>
            </a:r>
            <a:endParaRPr b="0" lang="en-US" sz="2800" spc="-1" strike="noStrike">
              <a:solidFill>
                <a:srgbClr val="ffffff"/>
              </a:solidFill>
              <a:latin typeface="Arial"/>
            </a:endParaRPr>
          </a:p>
        </p:txBody>
      </p:sp>
      <p:pic>
        <p:nvPicPr>
          <p:cNvPr id="224" name="" descr=""/>
          <p:cNvPicPr/>
          <p:nvPr/>
        </p:nvPicPr>
        <p:blipFill>
          <a:blip r:embed="rId1"/>
          <a:stretch/>
        </p:blipFill>
        <p:spPr>
          <a:xfrm>
            <a:off x="1258920" y="1773360"/>
            <a:ext cx="3600360" cy="1925640"/>
          </a:xfrm>
          <a:prstGeom prst="rect">
            <a:avLst/>
          </a:prstGeom>
          <a:ln w="0">
            <a:noFill/>
          </a:ln>
        </p:spPr>
      </p:pic>
      <p:sp>
        <p:nvSpPr>
          <p:cNvPr id="225" name=""/>
          <p:cNvSpPr/>
          <p:nvPr/>
        </p:nvSpPr>
        <p:spPr>
          <a:xfrm>
            <a:off x="5076720" y="2492280"/>
            <a:ext cx="35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性肠梗阻病理标本</a:t>
            </a:r>
            <a:endParaRPr b="0" lang="en-US" sz="2400" spc="-1" strike="noStrike">
              <a:solidFill>
                <a:srgbClr val="ffffff"/>
              </a:solidFill>
              <a:latin typeface="Arial"/>
            </a:endParaRPr>
          </a:p>
        </p:txBody>
      </p:sp>
      <p:sp>
        <p:nvSpPr>
          <p:cNvPr id="226" name=""/>
          <p:cNvSpPr/>
          <p:nvPr/>
        </p:nvSpPr>
        <p:spPr>
          <a:xfrm>
            <a:off x="4716360" y="558972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溶组织内阿米巴病肠溃疡</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理标本</a:t>
            </a:r>
            <a:endParaRPr b="0" lang="en-US" sz="2400" spc="-1" strike="noStrike">
              <a:solidFill>
                <a:srgbClr val="ffffff"/>
              </a:solidFill>
              <a:latin typeface="Arial"/>
            </a:endParaRPr>
          </a:p>
        </p:txBody>
      </p:sp>
      <p:pic>
        <p:nvPicPr>
          <p:cNvPr id="227" name="" descr=""/>
          <p:cNvPicPr/>
          <p:nvPr/>
        </p:nvPicPr>
        <p:blipFill>
          <a:blip r:embed="rId2"/>
          <a:stretch/>
        </p:blipFill>
        <p:spPr>
          <a:xfrm>
            <a:off x="1258920" y="4835520"/>
            <a:ext cx="316872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病理：寄生虫体内和体表多种成分、分泌物、代谢产物、死亡虫体的分解产物和线虫的蜕皮液和绦虫的囊液等都具有抗原性，可诱导宿主产生超敏反应，造成局部和全身免疫病理损害。</a:t>
            </a:r>
            <a:endParaRPr b="0" lang="en-US" sz="3200" spc="-1" strike="noStrike">
              <a:solidFill>
                <a:srgbClr val="ffffff"/>
              </a:solidFill>
              <a:latin typeface="Arial"/>
            </a:endParaRPr>
          </a:p>
        </p:txBody>
      </p:sp>
      <p:pic>
        <p:nvPicPr>
          <p:cNvPr id="229" name="" descr=""/>
          <p:cNvPicPr/>
          <p:nvPr/>
        </p:nvPicPr>
        <p:blipFill>
          <a:blip r:embed="rId1"/>
          <a:stretch/>
        </p:blipFill>
        <p:spPr>
          <a:xfrm>
            <a:off x="2556000" y="3357720"/>
            <a:ext cx="4174920" cy="2925720"/>
          </a:xfrm>
          <a:prstGeom prst="rect">
            <a:avLst/>
          </a:prstGeom>
          <a:ln w="0">
            <a:noFill/>
          </a:ln>
        </p:spPr>
      </p:pic>
      <p:sp>
        <p:nvSpPr>
          <p:cNvPr id="230" name=""/>
          <p:cNvSpPr/>
          <p:nvPr/>
        </p:nvSpPr>
        <p:spPr>
          <a:xfrm>
            <a:off x="3059280" y="6292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血吸虫卵肉芽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表现为免疫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宿主的饮食和营养状态对寄生虫感染的影响：宿主的全身营养状况在确定寄生虫感染是否出现临床症状时具有重要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反应：为免疫系统识别和清除寄生虫的主要表现，包括固有免疫和适应性免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11:25Z</dcterms:modified>
  <cp:revision>122</cp:revision>
  <dc:subject/>
  <dc:title>医学寄生虫学总论</dc:title>
</cp:coreProperties>
</file>