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38D53F-B095-4EE6-B047-24B3C55697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81C8B8C-2EEB-4162-91C6-FC5F5FE302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F9E449D-C5EE-407B-A382-56B4A25DAE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ABAE518-7CEB-4DA4-B9F7-8905229590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E198FB7-3610-4EA7-9769-E175C64F17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581FEE1-079C-46C1-885E-72DEE4F9E6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E1215C0-520A-4EE1-84B3-2F14042C66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BAD1FBA-B839-43C7-B439-DB8B3B3767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23C0957-52B1-4385-8DC4-E906389632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6DB3D6-C4B3-4022-8B19-2D4171FF18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BEC52B-B00B-4A99-B8BD-737C5BCA97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3EBDB9-8190-4DCD-B192-7F453CB6D8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4B3CD-AE07-4951-ABD8-2422DFE7D81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5688000" cy="230508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e230c"/>
                </a:solidFill>
                <a:latin typeface="Verdana"/>
                <a:ea typeface="宋体"/>
              </a:rPr>
              <a:t>第五章 </a:t>
            </a:r>
            <a:br>
              <a:rPr sz="4000"/>
            </a:br>
            <a:r>
              <a:rPr b="1" lang="zh-CN" sz="4000" spc="-1" strike="noStrike">
                <a:solidFill>
                  <a:srgbClr val="fe230c"/>
                </a:solidFill>
                <a:latin typeface="Verdana"/>
                <a:ea typeface="宋体"/>
              </a:rPr>
              <a:t>临床特殊患者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24000" y="2492280"/>
            <a:ext cx="8610480" cy="1224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9900"/>
                </a:solidFill>
                <a:latin typeface="Verdana"/>
                <a:ea typeface="宋体"/>
              </a:rPr>
              <a:t>第二节  慢性病及老年患者护理伦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案例</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a:t>
            </a:r>
            <a:endParaRPr b="1" lang="en-US" sz="18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刘某，女，</a:t>
            </a:r>
            <a:r>
              <a:rPr b="1" lang="en-US" sz="1600" spc="-1" strike="noStrike">
                <a:solidFill>
                  <a:srgbClr val="000000"/>
                </a:solidFill>
                <a:latin typeface="Verdana"/>
                <a:ea typeface="宋体"/>
              </a:rPr>
              <a:t>67</a:t>
            </a:r>
            <a:r>
              <a:rPr b="1" lang="zh-CN" sz="1600" spc="-1" strike="noStrike">
                <a:solidFill>
                  <a:srgbClr val="000000"/>
                </a:solidFill>
                <a:latin typeface="Verdana"/>
                <a:ea typeface="宋体"/>
              </a:rPr>
              <a:t>岁，农民，因高血压、冠心病第一次住院治疗，该患者已患高血压病</a:t>
            </a:r>
            <a:r>
              <a:rPr b="1" lang="en-US" sz="1600" spc="-1" strike="noStrike">
                <a:solidFill>
                  <a:srgbClr val="000000"/>
                </a:solidFill>
                <a:latin typeface="Verdana"/>
                <a:ea typeface="宋体"/>
              </a:rPr>
              <a:t>7</a:t>
            </a:r>
            <a:r>
              <a:rPr b="1" lang="zh-CN" sz="1600" spc="-1" strike="noStrike">
                <a:solidFill>
                  <a:srgbClr val="000000"/>
                </a:solidFill>
                <a:latin typeface="Verdana"/>
                <a:ea typeface="宋体"/>
              </a:rPr>
              <a:t>年，平常偶有头晕，服降压药“尼莫地平”不规则，“想起来时就服一颗”，很少上医院复查，血压时高时低，时好时坏，近一个月干较重的体力活时感胸口“憋得慌”，得知自己患有心脏病，觉得很害怕，平时在家做家务，带孙子，从不进行体育锻炼。喜欢吃肥肉、咸菜。</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护士小王耐心倾听了患者的感受，表示“您确实难受，我能理解”。同时，又安慰患者：“事情没您想象的那么糟，如果坚持治疗，很快会好起来的。”并且让患者认识了另一位同病室的病情好转的病友，并说“刚入院时，她的病情更严重，现在好多了。”患者至此表示心情好了很多，一定按要求配合治疗，争取尽早出院。小王还耐心向患者介绍疾病的有关病因及防治、自我护理等知识，“您以后可得吃清淡些，不宜高盐、高脂肪、高胆固醇饮食，当然，也不能吃太饱，要适当控制体重”“家务活代替不了体育锻炼，您还得每天出来散散步或进行其他的运动”、“一定记得坚持按时服药，定期到医院检查”。患者表示“学到了很多知识，一定按要求办”。</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思考问题：</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结合慢性病及老年患者的伦理要求阐述小王对该患者的护理体现了什么伦理要求？</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慢性病及老年患者护理的特点</a:t>
            </a:r>
            <a:endParaRPr b="0" lang="en-US" sz="3600" spc="-1" strike="noStrike">
              <a:solidFill>
                <a:srgbClr val="ffffff"/>
              </a:solidFill>
              <a:latin typeface="Verdana"/>
            </a:endParaRPr>
          </a:p>
        </p:txBody>
      </p:sp>
      <p:sp>
        <p:nvSpPr>
          <p:cNvPr id="157"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对象及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多样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保健知识的缺乏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效果和方法的矛盾性</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慢性病及老年患者护理伦理</a:t>
            </a:r>
            <a:endParaRPr b="0" lang="en-US" sz="3600" spc="-1" strike="noStrike">
              <a:solidFill>
                <a:srgbClr val="ffffff"/>
              </a:solidFill>
              <a:latin typeface="Verdana"/>
            </a:endParaRPr>
          </a:p>
        </p:txBody>
      </p:sp>
      <p:sp>
        <p:nvSpPr>
          <p:cNvPr id="159"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的艰巨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特殊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健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ffffff"/>
              </a:solidFill>
              <a:latin typeface="Verdana"/>
            </a:endParaRPr>
          </a:p>
        </p:txBody>
      </p:sp>
      <p:sp>
        <p:nvSpPr>
          <p:cNvPr id="161" name="PlaceHolder 2"/>
          <p:cNvSpPr>
            <a:spLocks noGrp="1"/>
          </p:cNvSpPr>
          <p:nvPr>
            <p:ph/>
          </p:nvPr>
        </p:nvSpPr>
        <p:spPr>
          <a:xfrm>
            <a:off x="2052360" y="1371240"/>
            <a:ext cx="6862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护理的伦理要求</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积极帮助</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宣传知识、预防为主 </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鼓励患者、防伤治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476360" y="1371240"/>
            <a:ext cx="743904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老敬老，尽职尽责</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有效沟通</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审慎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热忱服务，满足需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培养意识、加强自护</a:t>
            </a:r>
            <a:endParaRPr b="1" lang="en-US" sz="2800" spc="-1" strike="noStrike">
              <a:solidFill>
                <a:srgbClr val="8ac8de"/>
              </a:solidFill>
              <a:latin typeface="Verdana"/>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04920" y="2349000"/>
            <a:ext cx="8610480" cy="1295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三节  精神疾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6" name="PlaceHolder 2"/>
          <p:cNvSpPr>
            <a:spLocks noGrp="1"/>
          </p:cNvSpPr>
          <p:nvPr>
            <p:ph/>
          </p:nvPr>
        </p:nvSpPr>
        <p:spPr>
          <a:xfrm>
            <a:off x="304920" y="1846080"/>
            <a:ext cx="8610480" cy="29509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概念：</a:t>
            </a:r>
            <a:r>
              <a:rPr b="1" lang="zh-CN" sz="2800" spc="-1" strike="noStrike">
                <a:solidFill>
                  <a:srgbClr val="000000"/>
                </a:solidFill>
                <a:latin typeface="Verdana"/>
                <a:ea typeface="宋体"/>
              </a:rPr>
              <a:t>精神疾病又称精神障碍，是指精神活动出现异常，产生精神症状，发展到一定的严重程度，并且达到足够的频度或持续时间，使患者的日常生活、个人生活能力受到损害，造成主观痛苦的一种疾病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8" name="PlaceHolder 2"/>
          <p:cNvSpPr>
            <a:spLocks noGrp="1"/>
          </p:cNvSpPr>
          <p:nvPr>
            <p:ph/>
          </p:nvPr>
        </p:nvSpPr>
        <p:spPr>
          <a:xfrm>
            <a:off x="1331640" y="1414080"/>
            <a:ext cx="7583400" cy="431964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的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服务对象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管理与自由的矛盾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疾病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精神疾病患者护理的伦理要求</a:t>
            </a:r>
            <a:endParaRPr b="0" lang="en-US" sz="3600" spc="-1" strike="noStrike">
              <a:solidFill>
                <a:srgbClr val="ffffff"/>
              </a:solidFill>
              <a:latin typeface="Verdana"/>
            </a:endParaRPr>
          </a:p>
        </p:txBody>
      </p:sp>
      <p:sp>
        <p:nvSpPr>
          <p:cNvPr id="170" name="PlaceHolder 2"/>
          <p:cNvSpPr>
            <a:spLocks noGrp="1"/>
          </p:cNvSpPr>
          <p:nvPr>
            <p:ph/>
          </p:nvPr>
        </p:nvSpPr>
        <p:spPr>
          <a:xfrm>
            <a:off x="1189080" y="1371240"/>
            <a:ext cx="772632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护理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人格、维护权益</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护隐私、严守秘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恪守慎独、正直无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审慎护理、保证安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热心帮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980640"/>
            <a:ext cx="5257800" cy="5545080"/>
          </a:xfrm>
          <a:prstGeom prst="rect">
            <a:avLst/>
          </a:prstGeom>
          <a:noFill/>
          <a:ln w="0">
            <a:noFill/>
          </a:ln>
        </p:spPr>
        <p:txBody>
          <a:bodyPr lIns="90000" rIns="90000" tIns="46800" bIns="46800" anchor="t">
            <a:normAutofit/>
          </a:bodyPr>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母、婴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慢性及老年患者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精神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传染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急诊、危重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小结</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692360" y="1197000"/>
            <a:ext cx="688680" cy="593280"/>
            <a:chOff x="1692360" y="1197000"/>
            <a:chExt cx="688680" cy="593280"/>
          </a:xfrm>
        </p:grpSpPr>
        <p:sp>
          <p:nvSpPr>
            <p:cNvPr id="109" name="AutoShape 5"/>
            <p:cNvSpPr/>
            <p:nvPr/>
          </p:nvSpPr>
          <p:spPr>
            <a:xfrm>
              <a:off x="1697760" y="1206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8ac8de"/>
              </a:gs>
              <a:gs pos="100000">
                <a:srgbClr val="405d67"/>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280"/>
            <a:chOff x="1692360" y="2637000"/>
            <a:chExt cx="686880" cy="593280"/>
          </a:xfrm>
        </p:grpSpPr>
        <p:sp>
          <p:nvSpPr>
            <p:cNvPr id="116" name="AutoShape 12"/>
            <p:cNvSpPr/>
            <p:nvPr/>
          </p:nvSpPr>
          <p:spPr>
            <a:xfrm>
              <a:off x="1697760" y="264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1960" y="267192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3640"/>
            <a:chOff x="1763640" y="4941720"/>
            <a:chExt cx="687240" cy="593640"/>
          </a:xfrm>
        </p:grpSpPr>
        <p:sp>
          <p:nvSpPr>
            <p:cNvPr id="132" name="AutoShape 12"/>
            <p:cNvSpPr/>
            <p:nvPr/>
          </p:nvSpPr>
          <p:spPr>
            <a:xfrm>
              <a:off x="1769040" y="495144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360"/>
            </a:xfrm>
            <a:prstGeom prst="hexagon">
              <a:avLst>
                <a:gd name="adj" fmla="val 2919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87664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7" name="Text Box 8"/>
          <p:cNvSpPr/>
          <p:nvPr/>
        </p:nvSpPr>
        <p:spPr>
          <a:xfrm flipV="1" rot="10800000">
            <a:off x="1907640" y="5084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8" name="Line 21"/>
          <p:cNvSpPr/>
          <p:nvPr/>
        </p:nvSpPr>
        <p:spPr>
          <a:xfrm>
            <a:off x="2556000" y="5661000"/>
            <a:ext cx="4751280" cy="0"/>
          </a:xfrm>
          <a:prstGeom prst="line">
            <a:avLst/>
          </a:prstGeom>
          <a:ln w="25560">
            <a:solidFill>
              <a:srgbClr val="c0c0c0"/>
            </a:solidFill>
            <a:prstDash val="sysDot"/>
            <a:bevel/>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04920" y="2491920"/>
            <a:ext cx="8610480" cy="12970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四节  传染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78920" y="1196640"/>
            <a:ext cx="8736120" cy="4876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案例</a:t>
            </a:r>
            <a:r>
              <a:rPr b="1" lang="en-US" sz="2400" spc="-1" strike="noStrike">
                <a:solidFill>
                  <a:srgbClr val="000000"/>
                </a:solidFill>
                <a:latin typeface="Verdana"/>
                <a:ea typeface="宋体"/>
              </a:rPr>
              <a:t>5-5</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某男性患者，</a:t>
            </a:r>
            <a:r>
              <a:rPr b="1" lang="en-US" sz="2000" spc="-1" strike="noStrike">
                <a:solidFill>
                  <a:srgbClr val="000000"/>
                </a:solidFill>
                <a:latin typeface="Verdana"/>
                <a:ea typeface="宋体"/>
              </a:rPr>
              <a:t>38</a:t>
            </a:r>
            <a:r>
              <a:rPr b="1" lang="zh-CN" sz="2000" spc="-1" strike="noStrike">
                <a:solidFill>
                  <a:srgbClr val="000000"/>
                </a:solidFill>
                <a:latin typeface="Verdana"/>
                <a:ea typeface="宋体"/>
              </a:rPr>
              <a:t>岁，经性传播途径而感染人类免疫缺陷病毒（</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医师一直与他实行单线联系，患者请求医师向他的妻子保密。于是医师对患者妻子隐瞒病情真相，谎称其丈夫患了乙型肝炎，需要对她进行抽血以确认她是否感染乙肝病毒，护士为其妻子抽取了血样，其实是对她做</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检查，结果为阴性。随后医师对患者进行了保健指导，他妻子每半年做一次检查，均为阴性，但仍处于被感染的危险中。</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Verdana"/>
                <a:ea typeface="宋体"/>
              </a:rPr>
              <a:t>思考问题：</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本案例中，医护人员的做法是否符合相关的伦理学要求？</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4" name="PlaceHolder 2"/>
          <p:cNvSpPr>
            <a:spLocks noGrp="1"/>
          </p:cNvSpPr>
          <p:nvPr>
            <p:ph/>
          </p:nvPr>
        </p:nvSpPr>
        <p:spPr>
          <a:xfrm>
            <a:off x="304920" y="1917720"/>
            <a:ext cx="8732880" cy="433224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概念：</a:t>
            </a:r>
            <a:r>
              <a:rPr b="1" lang="zh-CN" sz="2800" spc="-1" strike="noStrike">
                <a:solidFill>
                  <a:srgbClr val="000000"/>
                </a:solidFill>
                <a:latin typeface="Verdana"/>
                <a:ea typeface="宋体"/>
              </a:rPr>
              <a:t>传染病是指有医源性细菌、病毒、立克次体和原虫等引起的，能在人与人、动物与动物或者人与动物之间传播的一类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染病具有</a:t>
            </a:r>
            <a:r>
              <a:rPr b="1" lang="zh-CN" sz="2800" spc="-1" strike="noStrike">
                <a:solidFill>
                  <a:srgbClr val="fe230c"/>
                </a:solidFill>
                <a:latin typeface="Verdana"/>
                <a:ea typeface="宋体"/>
              </a:rPr>
              <a:t>传染性、阶段性、流行性和季节性</a:t>
            </a:r>
            <a:r>
              <a:rPr b="1" lang="zh-CN" sz="2800" spc="-1" strike="noStrike">
                <a:solidFill>
                  <a:srgbClr val="000000"/>
                </a:solidFill>
                <a:latin typeface="Verdana"/>
                <a:ea typeface="宋体"/>
              </a:rPr>
              <a:t>等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6" name="PlaceHolder 2"/>
          <p:cNvSpPr>
            <a:spLocks noGrp="1"/>
          </p:cNvSpPr>
          <p:nvPr>
            <p:ph/>
          </p:nvPr>
        </p:nvSpPr>
        <p:spPr>
          <a:xfrm>
            <a:off x="1260360" y="1919160"/>
            <a:ext cx="7777440" cy="433080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传染病患者的护理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消毒隔离要求严</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心理护理要求高 </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预防和控制责任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一般传染病患者护理的伦理要求</a:t>
            </a:r>
            <a:endParaRPr b="0" lang="en-US" sz="3600" spc="-1" strike="noStrike">
              <a:solidFill>
                <a:srgbClr val="ffffff"/>
              </a:solidFill>
              <a:latin typeface="Verdana"/>
            </a:endParaRPr>
          </a:p>
        </p:txBody>
      </p:sp>
      <p:sp>
        <p:nvSpPr>
          <p:cNvPr id="178" name="PlaceHolder 2"/>
          <p:cNvSpPr>
            <a:spLocks noGrp="1"/>
          </p:cNvSpPr>
          <p:nvPr>
            <p:ph/>
          </p:nvPr>
        </p:nvSpPr>
        <p:spPr>
          <a:xfrm>
            <a:off x="107640" y="1628280"/>
            <a:ext cx="8929800" cy="461988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传染病是指除性病、艾滋病以外的常见传染性疾病</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伦理要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勇于奉献、注重防护</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关注心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宣传、预防为主</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操作规范、依法上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0" name="PlaceHolder 2"/>
          <p:cNvSpPr>
            <a:spLocks noGrp="1"/>
          </p:cNvSpPr>
          <p:nvPr>
            <p:ph/>
          </p:nvPr>
        </p:nvSpPr>
        <p:spPr>
          <a:xfrm>
            <a:off x="1260360" y="1371240"/>
            <a:ext cx="7655040" cy="4876920"/>
          </a:xfrm>
          <a:prstGeom prst="rect">
            <a:avLst/>
          </a:prstGeom>
          <a:noFill/>
          <a:ln w="0">
            <a:noFill/>
          </a:ln>
        </p:spPr>
        <p:txBody>
          <a:bodyPr lIns="90000" rIns="90000" tIns="46800" bIns="46800" anchor="t">
            <a:normAutofit fontScale="99000"/>
          </a:bodyPr>
          <a:p>
            <a:pPr marL="33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心理特点</a:t>
            </a:r>
            <a:endParaRPr b="1" lang="en-US" sz="32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羞耻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负罪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寂寞、孤独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疑病心理</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享乐心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2" name="PlaceHolder 2"/>
          <p:cNvSpPr>
            <a:spLocks noGrp="1"/>
          </p:cNvSpPr>
          <p:nvPr>
            <p:ph/>
          </p:nvPr>
        </p:nvSpPr>
        <p:spPr>
          <a:xfrm>
            <a:off x="971640" y="1557000"/>
            <a:ext cx="765648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科学对待、加强宣传</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保护隐私 </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效沟通、合理安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4560" y="2781000"/>
            <a:ext cx="9109080" cy="136836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五节  急诊、危重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5-6</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儿李某，</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岁，因“麻痹性肠梗阻”入住某医院</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病房，行胃肠减压术及输液支持治疗。医生查房后口头医嘱：“有尿后，给予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管内”。待患儿有尿后，护士未再追问，即将</a:t>
            </a:r>
            <a:r>
              <a:rPr b="1" lang="en-US" sz="2800" spc="-1" strike="noStrike">
                <a:solidFill>
                  <a:srgbClr val="000000"/>
                </a:solidFill>
                <a:latin typeface="Verdana"/>
                <a:ea typeface="宋体"/>
              </a:rPr>
              <a:t>15%</a:t>
            </a:r>
            <a:r>
              <a:rPr b="1" lang="zh-CN" sz="2800" spc="-1" strike="noStrike">
                <a:solidFill>
                  <a:srgbClr val="000000"/>
                </a:solidFill>
                <a:latin typeface="Verdana"/>
                <a:ea typeface="宋体"/>
              </a:rPr>
              <a:t>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静脉输液管内，致使患儿心搏骤停，抢救无效死亡。</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思考问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请对医护人员的行为做出伦理分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6"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护理的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风险性大、责任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备不懈，应变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病情复杂、涉及面广</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40" name="PlaceHolder 2"/>
          <p:cNvSpPr>
            <a:spLocks noGrp="1"/>
          </p:cNvSpPr>
          <p:nvPr>
            <p:ph/>
          </p:nvPr>
        </p:nvSpPr>
        <p:spPr>
          <a:xfrm>
            <a:off x="1440" y="1198080"/>
            <a:ext cx="9180720" cy="5805720"/>
          </a:xfrm>
          <a:prstGeom prst="rect">
            <a:avLst/>
          </a:prstGeom>
          <a:noFill/>
          <a:ln w="0">
            <a:noFill/>
          </a:ln>
        </p:spPr>
        <p:txBody>
          <a:bodyPr lIns="90000" rIns="90000" tIns="46800" bIns="46800"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妇产科、儿科、慢性病及老年病患者的特点</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精神病、传染性疾病、急诊、危重症患者的特点</a:t>
            </a: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妇产科、儿科、慢性病及老年病患者的伦理要求</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精神病、传染性疾病、急诊、危重症患者的伦理要求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选择临床一例特殊病例，运用本章节所学习的理论阐述其特点和护理伦理要求。</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8"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争分夺秒、冷静果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灵活主动、尽职尽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同情理解、协同配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ffffff"/>
              </a:solidFill>
              <a:latin typeface="Verdana"/>
            </a:endParaRPr>
          </a:p>
        </p:txBody>
      </p:sp>
      <p:sp>
        <p:nvSpPr>
          <p:cNvPr id="190" name="PlaceHolder 2"/>
          <p:cNvSpPr>
            <a:spLocks noGrp="1"/>
          </p:cNvSpPr>
          <p:nvPr>
            <p:ph/>
          </p:nvPr>
        </p:nvSpPr>
        <p:spPr>
          <a:xfrm>
            <a:off x="1620360" y="1371240"/>
            <a:ext cx="7294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护理的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艰巨</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护士的素质要求较高</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伦理难题较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763640" y="1371240"/>
            <a:ext cx="7151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珍爱生命，团结协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益求精，审慎慎独</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患者，有利优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一视同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临床护理工作中，依据护理对象和内容的不同，临床所对应的护理伦理要求也有所差异。护士应</a:t>
            </a:r>
            <a:r>
              <a:rPr b="1" lang="zh-CN" sz="2800" spc="-1" strike="noStrike">
                <a:solidFill>
                  <a:srgbClr val="1d1496"/>
                </a:solidFill>
                <a:latin typeface="Verdana"/>
                <a:ea typeface="宋体"/>
              </a:rPr>
              <a:t>根据患者不同特点</a:t>
            </a:r>
            <a:r>
              <a:rPr b="1" lang="zh-CN" sz="2800" spc="-1" strike="noStrike">
                <a:solidFill>
                  <a:srgbClr val="000000"/>
                </a:solidFill>
                <a:latin typeface="Verdana"/>
                <a:ea typeface="宋体"/>
              </a:rPr>
              <a:t>，</a:t>
            </a:r>
            <a:r>
              <a:rPr b="1" lang="zh-CN" sz="2800" spc="-1" strike="noStrike">
                <a:solidFill>
                  <a:srgbClr val="1d1496"/>
                </a:solidFill>
                <a:latin typeface="Verdana"/>
                <a:ea typeface="宋体"/>
              </a:rPr>
              <a:t>遵循护理伦理道德要求</a:t>
            </a:r>
            <a:r>
              <a:rPr b="1" lang="zh-CN" sz="2800" spc="-1" strike="noStrike">
                <a:solidFill>
                  <a:srgbClr val="000000"/>
                </a:solidFill>
                <a:latin typeface="Verdana"/>
                <a:ea typeface="宋体"/>
              </a:rPr>
              <a:t>，树立以人为本，</a:t>
            </a:r>
            <a:r>
              <a:rPr b="1" lang="zh-CN" sz="2800" spc="-1" strike="noStrike">
                <a:solidFill>
                  <a:srgbClr val="1d1496"/>
                </a:solidFill>
                <a:latin typeface="Verdana"/>
                <a:ea typeface="宋体"/>
              </a:rPr>
              <a:t>一切为患者服务的理念</a:t>
            </a:r>
            <a:r>
              <a:rPr b="1" lang="zh-CN" sz="2800" spc="-1" strike="noStrike">
                <a:solidFill>
                  <a:srgbClr val="000000"/>
                </a:solidFill>
                <a:latin typeface="Verdana"/>
                <a:ea typeface="宋体"/>
              </a:rPr>
              <a:t>，有针对性地进行全面的、人性化的、个性化的护理，使每位患者得到人格的尊重，以愉悦的心情接受治疗和护理，尽快得到全面的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2420640"/>
            <a:ext cx="8610480" cy="1439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一节  母、婴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18920" y="188640"/>
            <a:ext cx="8163000" cy="70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3" name="PlaceHolder 2"/>
          <p:cNvSpPr>
            <a:spLocks noGrp="1"/>
          </p:cNvSpPr>
          <p:nvPr>
            <p:ph/>
          </p:nvPr>
        </p:nvSpPr>
        <p:spPr>
          <a:xfrm>
            <a:off x="0" y="980640"/>
            <a:ext cx="8964720" cy="5545080"/>
          </a:xfrm>
          <a:prstGeom prst="rect">
            <a:avLst/>
          </a:prstGeom>
          <a:noFill/>
          <a:ln w="0">
            <a:noFill/>
          </a:ln>
        </p:spPr>
        <p:txBody>
          <a:bodyPr lIns="90000" rIns="90000" tIns="46800" bIns="46800"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案例</a:t>
            </a:r>
            <a:r>
              <a:rPr b="1" lang="en-US" sz="1400" spc="-1" strike="noStrike">
                <a:solidFill>
                  <a:srgbClr val="000000"/>
                </a:solidFill>
                <a:latin typeface="黑体"/>
                <a:ea typeface="黑体"/>
              </a:rPr>
              <a:t>5-1:</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首都某医院的病案室里保存着这样一个病例：初产妇，子宫颈口发生病变，许多专家会诊为宫颈癌，需要做子宫切除手术。这样一来，已孕的孩子就留不住了。小两口闻讯抱头痛哭，丈夫问：“能不开刀吗”？妻子恳求：“等生完孩子再开刀行吗？”主治医生林巧稚苦苦思索，还有没有别的办法？她时而去图书馆查阅文献资料，时而去病理科反复核对，时而仔细检查患者，终于做出了暂不做手术的决定。并对患者说：“你放心，我一星期给你检查一次”。她认为断定这个孕妇患癌症的科学根据并不充分。由于试剂和仪器设备的限制，现有细胞分裂，只能说明存在着发展成癌细胞的趋向，或是癌的前兆，但也存在着向正常细胞转变的可能。因此，临床病变可能是妊娠的一种反应，不能断定就是癌。有人劝她：“何必为这个普通患者冒这么大的风险？”林巧稚严肃地回答：“切除青年妇女的子宫，是不能重复的试验，我的责任是对患者负责。只能治好病，而不能给患者造成不幸”。经过数月的缜密观察和采用必要的防治措施，婴儿平安的降生了。产妇宫颈口的病变也消失了，完全证实了林大夫的诊断，同事们佩服林大夫艺高胆大。林巧稚深有感触地对同事们说：“有时开了刀，治好了他的病，但他并不快乐，因为他得到了生命，却失去了幸福。医生不仅是要治病，而且要关心患者的幸福。”为了铭记林大夫的恩情，这对夫妇给孩子起名叫“念林”</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思考问题：</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1.</a:t>
            </a:r>
            <a:r>
              <a:rPr b="1" lang="en-US" sz="1400" spc="-1" strike="noStrike">
                <a:solidFill>
                  <a:srgbClr val="000000"/>
                </a:solidFill>
                <a:latin typeface="黑体"/>
                <a:ea typeface="黑体"/>
              </a:rPr>
              <a:t>从伦理学的角度分析，医护人员遵守了那些伦理道德要求？ </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2.</a:t>
            </a:r>
            <a:r>
              <a:rPr b="1" lang="en-US" sz="1400" spc="-1" strike="noStrike">
                <a:solidFill>
                  <a:srgbClr val="000000"/>
                </a:solidFill>
                <a:latin typeface="黑体"/>
                <a:ea typeface="黑体"/>
              </a:rPr>
              <a:t>你从该案例得到了哪些启示？</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endParaRPr b="1" lang="en-US" sz="1400" spc="-1" strike="noStrike">
              <a:solidFill>
                <a:srgbClr val="8ac8de"/>
              </a:solidFill>
              <a:latin typeface="Verdana"/>
            </a:endParaRPr>
          </a:p>
        </p:txBody>
      </p:sp>
      <p:sp>
        <p:nvSpPr>
          <p:cNvPr id="144" name="Rectangle 2"/>
          <p:cNvSpPr/>
          <p:nvPr/>
        </p:nvSpPr>
        <p:spPr>
          <a:xfrm>
            <a:off x="755640" y="260280"/>
            <a:ext cx="765828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妇产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对象和内容的特定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患者心理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妇产保健知识的有限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效果的关联性</a:t>
            </a:r>
            <a:endParaRPr b="1" lang="en-US" sz="2800" spc="-1" strike="noStrike">
              <a:solidFill>
                <a:srgbClr val="8ac8de"/>
              </a:solidFill>
              <a:latin typeface="Verdana"/>
            </a:endParaRPr>
          </a:p>
        </p:txBody>
      </p:sp>
      <p:sp>
        <p:nvSpPr>
          <p:cNvPr id="14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儿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患关系的特殊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内容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的紧迫性</a:t>
            </a:r>
            <a:endParaRPr b="1" lang="en-US" sz="2800" spc="-1" strike="noStrike">
              <a:solidFill>
                <a:srgbClr val="8ac8de"/>
              </a:solidFill>
              <a:latin typeface="Verdana"/>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755280" y="1268280"/>
            <a:ext cx="7994520" cy="4942080"/>
          </a:xfrm>
          <a:prstGeom prst="rect">
            <a:avLst/>
          </a:prstGeom>
          <a:noFill/>
          <a:ln w="0">
            <a:noFill/>
          </a:ln>
        </p:spPr>
        <p:txBody>
          <a:bodyPr lIns="90000" rIns="90000" tIns="46800" bIns="4680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1d1496"/>
                </a:solidFill>
                <a:latin typeface="黑体"/>
                <a:ea typeface="黑体"/>
              </a:rPr>
              <a:t>妇产科护理的伦理要求</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忠于职守，冷静果断</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保护隐私，尊重患者</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关爱患者，心系社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加强护理，传播知识</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899640" y="1371240"/>
            <a:ext cx="801540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儿科护理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细观察、精心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业务精湛、减轻痛苦</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态度亲切，积极引导</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尽心尽责，确保安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尊重患儿</a:t>
            </a:r>
            <a:endParaRPr b="1" lang="en-US" sz="2800" spc="-1" strike="noStrike">
              <a:solidFill>
                <a:srgbClr val="8ac8de"/>
              </a:solidFill>
              <a:latin typeface="Verdana"/>
            </a:endParaRPr>
          </a:p>
        </p:txBody>
      </p:sp>
      <p:sp>
        <p:nvSpPr>
          <p:cNvPr id="152"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5:13:26Z</dcterms:modified>
  <cp:revision>1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