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B131BC-9311-4FE4-A9A7-1AD1C104E5D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E7F6B9-3751-4816-9471-38D55CE97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8D7958-55E3-492C-ADEC-2A355D6D0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610DFD-168C-4928-939F-96DAB03E1EC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B68864-B2D2-4334-A8CB-F7F2479AB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18E85A-B8C5-48AF-8C80-546F3F407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84AD0E-122D-4D77-B5A7-6921F5F33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8CD477-FFBF-4D3A-8017-51EB94778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A5C84E-E325-49C1-B0B4-7BD7DE670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504A3D-0BA4-41F6-B528-73E3CBB5B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A7FDA6-0BF9-4410-9C34-0A87EFDC5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8ACB0E-00AD-4A70-994E-41C1D5652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0224C-9368-4D4E-9710-0824F18FABB9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2160"/>
              <a:ext cx="9115560" cy="1815480"/>
              <a:chOff x="28440" y="5042160"/>
              <a:chExt cx="9115560" cy="18154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2160"/>
                <a:ext cx="9115560" cy="1815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216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-108360" y="2276640"/>
            <a:ext cx="57596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精神障碍患者危机状态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            的防范与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04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常用护理诊断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有暴力行为的危险（针对他人） 与幻觉、妄想、焦虑、器质性损伤等因素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护理目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短期目标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：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患者没有发生暴力行为；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患者能够确认引起自己激动、愤怒的因素，并能控制自己的行为或立即寻求帮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长期目标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：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患者能够以适当的方式发泄自己的愤怒情绪；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患者能以积极的方式处理挫折感、紧张及愤怒的感受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cxnSp>
        <p:nvCxnSpPr>
          <p:cNvPr id="232" name="AutoShape 2"/>
          <p:cNvCxnSpPr>
            <a:stCxn id="233" idx="7"/>
            <a:endCxn id="234" idx="3"/>
          </p:cNvCxnSpPr>
          <p:nvPr/>
        </p:nvCxnSpPr>
        <p:spPr>
          <a:xfrm flipV="1">
            <a:off x="3065040" y="2878920"/>
            <a:ext cx="693000" cy="392760"/>
          </a:xfrm>
          <a:prstGeom prst="straightConnector1">
            <a:avLst/>
          </a:prstGeom>
          <a:ln cap="rnd" w="25560">
            <a:solidFill>
              <a:srgbClr val="000000"/>
            </a:solidFill>
            <a:custDash>
              <a:ds d="100000" sp="1000"/>
            </a:custDash>
            <a:miter/>
          </a:ln>
        </p:spPr>
      </p:cxnSp>
      <p:cxnSp>
        <p:nvCxnSpPr>
          <p:cNvPr id="235" name="AutoShape 3"/>
          <p:cNvCxnSpPr>
            <a:stCxn id="233" idx="6"/>
            <a:endCxn id="236" idx="2"/>
          </p:cNvCxnSpPr>
          <p:nvPr/>
        </p:nvCxnSpPr>
        <p:spPr>
          <a:xfrm flipV="1">
            <a:off x="3379680" y="4007880"/>
            <a:ext cx="288000" cy="14760"/>
          </a:xfrm>
          <a:prstGeom prst="straightConnector1">
            <a:avLst/>
          </a:prstGeom>
          <a:ln cap="rnd" w="25560">
            <a:solidFill>
              <a:srgbClr val="000000"/>
            </a:solidFill>
            <a:custDash>
              <a:ds d="100000" sp="1000"/>
            </a:custDash>
            <a:miter/>
          </a:ln>
        </p:spPr>
      </p:cxnSp>
      <p:cxnSp>
        <p:nvCxnSpPr>
          <p:cNvPr id="237" name="AutoShape 4"/>
          <p:cNvCxnSpPr>
            <a:stCxn id="233" idx="5"/>
            <a:endCxn id="238" idx="1"/>
          </p:cNvCxnSpPr>
          <p:nvPr/>
        </p:nvCxnSpPr>
        <p:spPr>
          <a:xfrm>
            <a:off x="3065040" y="4773240"/>
            <a:ext cx="693000" cy="392760"/>
          </a:xfrm>
          <a:prstGeom prst="straightConnector1">
            <a:avLst/>
          </a:prstGeom>
          <a:ln cap="rnd" w="255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239" name="AutoShape 5"/>
          <p:cNvSpPr/>
          <p:nvPr/>
        </p:nvSpPr>
        <p:spPr>
          <a:xfrm flipH="1">
            <a:off x="2963160" y="1989000"/>
            <a:ext cx="1849320" cy="3700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1453" y="234"/>
                  <a:pt x="1305" y="5080"/>
                  <a:pt x="1305" y="10800"/>
                </a:cubicBezTo>
                <a:cubicBezTo>
                  <a:pt x="1305" y="16520"/>
                  <a:pt x="11453" y="21366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46ca6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40" name="Group 6"/>
          <p:cNvGrpSpPr/>
          <p:nvPr/>
        </p:nvGrpSpPr>
        <p:grpSpPr>
          <a:xfrm>
            <a:off x="1168560" y="2871720"/>
            <a:ext cx="2304720" cy="2301840"/>
            <a:chOff x="1168560" y="2871720"/>
            <a:chExt cx="2304720" cy="2301840"/>
          </a:xfrm>
        </p:grpSpPr>
        <p:pic>
          <p:nvPicPr>
            <p:cNvPr id="241" name="Picture 7" descr="ball"/>
            <p:cNvPicPr/>
            <p:nvPr/>
          </p:nvPicPr>
          <p:blipFill>
            <a:blip r:embed="rId1"/>
            <a:stretch/>
          </p:blipFill>
          <p:spPr>
            <a:xfrm>
              <a:off x="1168560" y="2871720"/>
              <a:ext cx="2304720" cy="230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Oval 8"/>
            <p:cNvSpPr/>
            <p:nvPr/>
          </p:nvSpPr>
          <p:spPr>
            <a:xfrm>
              <a:off x="1268280" y="2971440"/>
              <a:ext cx="2104920" cy="2102040"/>
            </a:xfrm>
            <a:prstGeom prst="ellipse">
              <a:avLst/>
            </a:prstGeom>
            <a:solidFill>
              <a:srgbClr val="046ca6">
                <a:alpha val="50000"/>
              </a:srgbClr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护理措施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42" name="AutoShape 10"/>
          <p:cNvSpPr/>
          <p:nvPr/>
        </p:nvSpPr>
        <p:spPr>
          <a:xfrm>
            <a:off x="3959280" y="2244600"/>
            <a:ext cx="4014720" cy="8496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47a87"/>
              </a:gs>
              <a:gs pos="50000">
                <a:srgbClr val="8ac8de"/>
              </a:gs>
              <a:gs pos="100000">
                <a:srgbClr val="547a87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暴力行为的预防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43" name="Group 11"/>
          <p:cNvGrpSpPr/>
          <p:nvPr/>
        </p:nvGrpSpPr>
        <p:grpSpPr>
          <a:xfrm>
            <a:off x="3646440" y="2357280"/>
            <a:ext cx="625680" cy="625680"/>
            <a:chOff x="3646440" y="2357280"/>
            <a:chExt cx="625680" cy="625680"/>
          </a:xfrm>
        </p:grpSpPr>
        <p:pic>
          <p:nvPicPr>
            <p:cNvPr id="244" name="Picture 12" descr="ball"/>
            <p:cNvPicPr/>
            <p:nvPr/>
          </p:nvPicPr>
          <p:blipFill>
            <a:blip r:embed="rId2"/>
            <a:stretch/>
          </p:blipFill>
          <p:spPr>
            <a:xfrm>
              <a:off x="3646440" y="2357280"/>
              <a:ext cx="625680" cy="62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" name="Oval 13"/>
            <p:cNvSpPr/>
            <p:nvPr/>
          </p:nvSpPr>
          <p:spPr>
            <a:xfrm>
              <a:off x="3673080" y="2383920"/>
              <a:ext cx="572040" cy="572040"/>
            </a:xfrm>
            <a:prstGeom prst="ellipse">
              <a:avLst/>
            </a:prstGeom>
            <a:solidFill>
              <a:srgbClr val="046ca6">
                <a:alpha val="50000"/>
              </a:srgbClr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45" name="AutoShape 14"/>
          <p:cNvSpPr/>
          <p:nvPr/>
        </p:nvSpPr>
        <p:spPr>
          <a:xfrm>
            <a:off x="3959280" y="3583080"/>
            <a:ext cx="4014720" cy="8492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47a87"/>
              </a:gs>
              <a:gs pos="50000">
                <a:srgbClr val="8ac8de"/>
              </a:gs>
              <a:gs pos="100000">
                <a:srgbClr val="547a87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暴力行为发生时的处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46" name="Group 15"/>
          <p:cNvGrpSpPr/>
          <p:nvPr/>
        </p:nvGrpSpPr>
        <p:grpSpPr>
          <a:xfrm>
            <a:off x="3646440" y="3695760"/>
            <a:ext cx="625680" cy="623880"/>
            <a:chOff x="3646440" y="3695760"/>
            <a:chExt cx="625680" cy="623880"/>
          </a:xfrm>
        </p:grpSpPr>
        <p:pic>
          <p:nvPicPr>
            <p:cNvPr id="247" name="Picture 16" descr="ball"/>
            <p:cNvPicPr/>
            <p:nvPr/>
          </p:nvPicPr>
          <p:blipFill>
            <a:blip r:embed="rId3"/>
            <a:stretch/>
          </p:blipFill>
          <p:spPr>
            <a:xfrm>
              <a:off x="3646440" y="3695760"/>
              <a:ext cx="625680" cy="62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Oval 17"/>
            <p:cNvSpPr/>
            <p:nvPr/>
          </p:nvSpPr>
          <p:spPr>
            <a:xfrm>
              <a:off x="3673080" y="3722400"/>
              <a:ext cx="572040" cy="569880"/>
            </a:xfrm>
            <a:prstGeom prst="ellipse">
              <a:avLst/>
            </a:prstGeom>
            <a:solidFill>
              <a:srgbClr val="046ca6">
                <a:alpha val="50000"/>
              </a:srgbClr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48" name="AutoShape 18"/>
          <p:cNvSpPr/>
          <p:nvPr/>
        </p:nvSpPr>
        <p:spPr>
          <a:xfrm>
            <a:off x="3959280" y="4950000"/>
            <a:ext cx="4014720" cy="8492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47a87"/>
              </a:gs>
              <a:gs pos="50000">
                <a:srgbClr val="8ac8de"/>
              </a:gs>
              <a:gs pos="100000">
                <a:srgbClr val="547a87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暴力行为发生后的处理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49" name="Group 19"/>
          <p:cNvGrpSpPr/>
          <p:nvPr/>
        </p:nvGrpSpPr>
        <p:grpSpPr>
          <a:xfrm>
            <a:off x="3646440" y="5062680"/>
            <a:ext cx="625680" cy="625320"/>
            <a:chOff x="3646440" y="5062680"/>
            <a:chExt cx="625680" cy="625320"/>
          </a:xfrm>
        </p:grpSpPr>
        <p:pic>
          <p:nvPicPr>
            <p:cNvPr id="250" name="Picture 20" descr="ball"/>
            <p:cNvPicPr/>
            <p:nvPr/>
          </p:nvPicPr>
          <p:blipFill>
            <a:blip r:embed="rId4"/>
            <a:stretch/>
          </p:blipFill>
          <p:spPr>
            <a:xfrm>
              <a:off x="3646440" y="5062680"/>
              <a:ext cx="625680" cy="62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8" name="Oval 21"/>
            <p:cNvSpPr/>
            <p:nvPr/>
          </p:nvSpPr>
          <p:spPr>
            <a:xfrm>
              <a:off x="3673080" y="5089320"/>
              <a:ext cx="572040" cy="571680"/>
            </a:xfrm>
            <a:prstGeom prst="ellipse">
              <a:avLst/>
            </a:prstGeom>
            <a:solidFill>
              <a:srgbClr val="046ca6">
                <a:alpha val="50000"/>
              </a:srgbClr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暴力行为的预防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做好暴力行为的风险评估 对潜在的有暴力危险的患者必须仔细评估暴力的危险，分析发生的可能原因，以制定切实的护理措施。全面准确风险评估是防范冲动攻击行为的基础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攻击风险因素评估量表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254" name=""/>
          <p:cNvGraphicFramePr/>
          <p:nvPr/>
        </p:nvGraphicFramePr>
        <p:xfrm>
          <a:off x="108000" y="1413000"/>
          <a:ext cx="9036000" cy="4965480"/>
        </p:xfrm>
        <a:graphic>
          <a:graphicData uri="http://schemas.openxmlformats.org/drawingml/2006/table">
            <a:tbl>
              <a:tblPr/>
              <a:tblGrid>
                <a:gridCol w="1860480"/>
                <a:gridCol w="7175520"/>
              </a:tblGrid>
              <a:tr h="5968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严重程度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主要评估内容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020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Ⅰ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患者的一般人口学资料，疾病诊断，症状表现等。其中男性诊断精神分裂症患者评定为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Ⅰ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级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Ⅱ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有被动言语性攻击，激惹性增高，无对象的抱怨，交谈有敌意，或精神分裂症有命令性幻听等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056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Ⅲ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有主动的言语性攻击，被动的躯体攻击及既往有主动的躯体攻击等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5876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Ⅳ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有主动的躯体攻击，攻击行为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天内至少出现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次以上或攻击行为造成他人躯体上的伤害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04920" y="20808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加强组织管理，消除不安全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营造人文环境，消除不良刺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提高患者的自我控制能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保证有效地治疗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做好心理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提高护士的危机应对能力和安全防范意识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7" name="Rectangle 4"/>
          <p:cNvSpPr/>
          <p:nvPr/>
        </p:nvSpPr>
        <p:spPr>
          <a:xfrm>
            <a:off x="82692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暴力行为的预防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暴力行为发生时的处理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Rectangle 13"/>
          <p:cNvSpPr/>
          <p:nvPr/>
        </p:nvSpPr>
        <p:spPr>
          <a:xfrm>
            <a:off x="3048120" y="1682640"/>
            <a:ext cx="54100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迅速求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0" name="AutoShape 15"/>
          <p:cNvSpPr/>
          <p:nvPr/>
        </p:nvSpPr>
        <p:spPr>
          <a:xfrm>
            <a:off x="2286000" y="1660680"/>
            <a:ext cx="762120" cy="609480"/>
          </a:xfrm>
          <a:custGeom>
            <a:avLst/>
            <a:gdLst>
              <a:gd name="textAreaLeft" fmla="*/ 0 w 762120"/>
              <a:gd name="textAreaRight" fmla="*/ 762480 w 76212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8ac8de"/>
          </a:solidFill>
          <a:ln w="0">
            <a:noFill/>
          </a:ln>
          <a:effectLst>
            <a:outerShdw dist="17819" dir="2700000" blurRad="0" rotWithShape="0">
              <a:srgbClr val="53788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46ca6"/>
                </a:solidFill>
                <a:latin typeface="Verdana"/>
                <a:ea typeface="Gulim"/>
              </a:rPr>
              <a:t>1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1" name="Rectangle 16"/>
          <p:cNvSpPr/>
          <p:nvPr/>
        </p:nvSpPr>
        <p:spPr>
          <a:xfrm>
            <a:off x="3048120" y="2511360"/>
            <a:ext cx="54100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控制局面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2" name="AutoShape 17"/>
          <p:cNvSpPr/>
          <p:nvPr/>
        </p:nvSpPr>
        <p:spPr>
          <a:xfrm>
            <a:off x="2286000" y="2489040"/>
            <a:ext cx="762120" cy="609840"/>
          </a:xfrm>
          <a:custGeom>
            <a:avLst/>
            <a:gdLst>
              <a:gd name="textAreaLeft" fmla="*/ 0 w 762120"/>
              <a:gd name="textAreaRight" fmla="*/ 762480 w 76212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8ac8de"/>
          </a:solidFill>
          <a:ln w="0">
            <a:noFill/>
          </a:ln>
          <a:effectLst>
            <a:outerShdw dist="17819" dir="2700000" blurRad="0" rotWithShape="0">
              <a:srgbClr val="53788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46ca6"/>
                </a:solidFill>
                <a:latin typeface="Verdana"/>
                <a:ea typeface="Gulim"/>
              </a:rPr>
              <a:t>2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3" name="Rectangle 18"/>
          <p:cNvSpPr/>
          <p:nvPr/>
        </p:nvSpPr>
        <p:spPr>
          <a:xfrm>
            <a:off x="3048120" y="3357720"/>
            <a:ext cx="54100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安抚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4" name="AutoShape 19"/>
          <p:cNvSpPr/>
          <p:nvPr/>
        </p:nvSpPr>
        <p:spPr>
          <a:xfrm>
            <a:off x="2286000" y="3316320"/>
            <a:ext cx="762120" cy="609480"/>
          </a:xfrm>
          <a:custGeom>
            <a:avLst/>
            <a:gdLst>
              <a:gd name="textAreaLeft" fmla="*/ 0 w 762120"/>
              <a:gd name="textAreaRight" fmla="*/ 762480 w 76212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8ac8de"/>
          </a:solidFill>
          <a:ln w="0">
            <a:noFill/>
          </a:ln>
          <a:effectLst>
            <a:outerShdw dist="17819" dir="2700000" blurRad="0" rotWithShape="0">
              <a:srgbClr val="53788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46ca6"/>
                </a:solidFill>
                <a:latin typeface="Verdana"/>
                <a:ea typeface="Gulim"/>
              </a:rPr>
              <a:t>3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5" name="Rectangle 20"/>
          <p:cNvSpPr/>
          <p:nvPr/>
        </p:nvSpPr>
        <p:spPr>
          <a:xfrm>
            <a:off x="3048120" y="4165560"/>
            <a:ext cx="54100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去除危险物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6" name="AutoShape 21"/>
          <p:cNvSpPr/>
          <p:nvPr/>
        </p:nvSpPr>
        <p:spPr>
          <a:xfrm>
            <a:off x="2286000" y="4143240"/>
            <a:ext cx="762120" cy="609840"/>
          </a:xfrm>
          <a:custGeom>
            <a:avLst/>
            <a:gdLst>
              <a:gd name="textAreaLeft" fmla="*/ 0 w 762120"/>
              <a:gd name="textAreaRight" fmla="*/ 762480 w 76212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8ac8de"/>
          </a:solidFill>
          <a:ln w="0">
            <a:noFill/>
          </a:ln>
          <a:effectLst>
            <a:outerShdw dist="17819" dir="2700000" blurRad="0" rotWithShape="0">
              <a:srgbClr val="53788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46ca6"/>
                </a:solidFill>
                <a:latin typeface="Verdana"/>
                <a:ea typeface="Gulim"/>
              </a:rPr>
              <a:t>4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7" name="Rectangle 22"/>
          <p:cNvSpPr/>
          <p:nvPr/>
        </p:nvSpPr>
        <p:spPr>
          <a:xfrm>
            <a:off x="3048120" y="5014800"/>
            <a:ext cx="54100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约束与隔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" name="AutoShape 23"/>
          <p:cNvSpPr/>
          <p:nvPr/>
        </p:nvSpPr>
        <p:spPr>
          <a:xfrm>
            <a:off x="2286000" y="4992840"/>
            <a:ext cx="762120" cy="609480"/>
          </a:xfrm>
          <a:custGeom>
            <a:avLst/>
            <a:gdLst>
              <a:gd name="textAreaLeft" fmla="*/ 0 w 762120"/>
              <a:gd name="textAreaRight" fmla="*/ 762480 w 76212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8ac8de"/>
          </a:solidFill>
          <a:ln w="0">
            <a:noFill/>
          </a:ln>
          <a:effectLst>
            <a:outerShdw dist="17819" dir="2700000" blurRad="0" rotWithShape="0">
              <a:srgbClr val="53788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46ca6"/>
                </a:solidFill>
                <a:latin typeface="Verdana"/>
                <a:ea typeface="Gulim"/>
              </a:rPr>
              <a:t>5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9" name="Rectangle 13"/>
          <p:cNvSpPr/>
          <p:nvPr/>
        </p:nvSpPr>
        <p:spPr>
          <a:xfrm>
            <a:off x="3030480" y="5794200"/>
            <a:ext cx="54100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处理暴力行为时的注意事项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0" name="AutoShape 15"/>
          <p:cNvSpPr/>
          <p:nvPr/>
        </p:nvSpPr>
        <p:spPr>
          <a:xfrm>
            <a:off x="2268360" y="5772240"/>
            <a:ext cx="762120" cy="609480"/>
          </a:xfrm>
          <a:custGeom>
            <a:avLst/>
            <a:gdLst>
              <a:gd name="textAreaLeft" fmla="*/ 0 w 762120"/>
              <a:gd name="textAreaRight" fmla="*/ 762480 w 76212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8ac8de"/>
          </a:solidFill>
          <a:ln w="0">
            <a:noFill/>
          </a:ln>
          <a:effectLst>
            <a:outerShdw dist="17819" dir="2700000" blurRad="0" rotWithShape="0">
              <a:srgbClr val="53788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46ca6"/>
                </a:solidFill>
                <a:latin typeface="Verdana"/>
                <a:ea typeface="Gulim"/>
              </a:rPr>
              <a:t>6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暴力行为发生后的处理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暴力行为被控制后，多数患者在情绪上仍难以自控，必要时遵医嘱给予医学保护性约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针对在暴力行为中受到伤害的患者和护士立即进行妥善处理，一旦情况许可，应尽早陪同施暴者对受伤者赔礼道歉，以恢复和谐的人际关系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当患者平静后，用就事论事的态度，与患者探讨暴力行为的危害，指导患者学习如何恰当表达个人需要和焦虑、愤怒等恶劣情绪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行为重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自杀行为的防范与护理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4920" y="22968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自杀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suicide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是指有意识地伤害自己的身体，以达到结束生命的目的，该定义强调的是自我意识和对自我行为的控制。也就是说，自杀者必须意识清楚，具有自控能力且行为的目的直指死亡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File"/>
          <p:cNvSpPr/>
          <p:nvPr/>
        </p:nvSpPr>
        <p:spPr>
          <a:xfrm>
            <a:off x="5145120" y="1295280"/>
            <a:ext cx="3693960" cy="4670640"/>
          </a:xfrm>
          <a:custGeom>
            <a:avLst/>
            <a:gdLst>
              <a:gd name="textAreaLeft" fmla="*/ 185400 w 3693960"/>
              <a:gd name="textAreaRight" fmla="*/ 3529080 w 3693960"/>
              <a:gd name="textAreaTop" fmla="*/ 1000800 h 4670640"/>
              <a:gd name="textAreaBottom" fmla="*/ 4387320 h 467064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lnTo>
                  <a:pt x="19790" y="3240"/>
                </a:lnTo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50000">
                <a:srgbClr val="dff0f6"/>
              </a:gs>
              <a:gs pos="100000">
                <a:srgbClr val="8ac8de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7" name="File"/>
          <p:cNvSpPr/>
          <p:nvPr/>
        </p:nvSpPr>
        <p:spPr>
          <a:xfrm>
            <a:off x="954000" y="1371600"/>
            <a:ext cx="3694320" cy="4670280"/>
          </a:xfrm>
          <a:custGeom>
            <a:avLst/>
            <a:gdLst>
              <a:gd name="textAreaLeft" fmla="*/ 185760 w 3694320"/>
              <a:gd name="textAreaRight" fmla="*/ 3529440 w 3694320"/>
              <a:gd name="textAreaTop" fmla="*/ 1000440 h 4670280"/>
              <a:gd name="textAreaBottom" fmla="*/ 4386960 h 467028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lnTo>
                  <a:pt x="19790" y="3240"/>
                </a:lnTo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50000">
                <a:srgbClr val="dff0f6"/>
              </a:gs>
              <a:gs pos="100000">
                <a:srgbClr val="8ac8de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8" name="Text Box 5"/>
          <p:cNvSpPr/>
          <p:nvPr/>
        </p:nvSpPr>
        <p:spPr>
          <a:xfrm>
            <a:off x="1117440" y="1600200"/>
            <a:ext cx="200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原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9" name="Text Box 6"/>
          <p:cNvSpPr/>
          <p:nvPr/>
        </p:nvSpPr>
        <p:spPr>
          <a:xfrm>
            <a:off x="1295280" y="2362320"/>
            <a:ext cx="291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Arial"/>
                <a:ea typeface="宋体"/>
              </a:rPr>
              <a:t>1.</a:t>
            </a: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精神障碍评估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抑郁症、精神分裂症、精神活性物质所致精神障碍、应对失败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Arial"/>
                <a:ea typeface="宋体"/>
              </a:rPr>
              <a:t>2.</a:t>
            </a: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其他生物学与社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心理学因素、遗传因素、个性特征、躯体疾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0" name="Text Box 7"/>
          <p:cNvSpPr/>
          <p:nvPr/>
        </p:nvSpPr>
        <p:spPr>
          <a:xfrm>
            <a:off x="5308560" y="1523880"/>
            <a:ext cx="200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危险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1" name="Text Box 8"/>
          <p:cNvSpPr/>
          <p:nvPr/>
        </p:nvSpPr>
        <p:spPr>
          <a:xfrm>
            <a:off x="5402160" y="2286000"/>
            <a:ext cx="291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Arial"/>
                <a:ea typeface="Gulim"/>
              </a:rPr>
              <a:t>1.</a:t>
            </a: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自杀的高危因素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Arial"/>
                <a:ea typeface="宋体"/>
              </a:rPr>
              <a:t>2.</a:t>
            </a: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自杀危险因素评估线索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Arial"/>
                <a:ea typeface="宋体"/>
              </a:rPr>
              <a:t>3.</a:t>
            </a: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自杀危险因素评估工具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2" name="AutoShape 9"/>
          <p:cNvSpPr/>
          <p:nvPr/>
        </p:nvSpPr>
        <p:spPr>
          <a:xfrm rot="16200000">
            <a:off x="4340160" y="3393720"/>
            <a:ext cx="730080" cy="3430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ddb5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与自杀危险有关的因素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304920" y="1371600"/>
          <a:ext cx="8610480" cy="5335560"/>
        </p:xfrm>
        <a:graphic>
          <a:graphicData uri="http://schemas.openxmlformats.org/drawingml/2006/table">
            <a:tbl>
              <a:tblPr/>
              <a:tblGrid>
                <a:gridCol w="1555560"/>
                <a:gridCol w="7054920"/>
              </a:tblGrid>
              <a:tr h="48888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等级次序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        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因素                                             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4668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4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6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7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8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9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0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1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2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3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   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年龄≥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45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岁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   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酒依赖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   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容易激惹、愤怒、暴力倾向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   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以前有自杀行为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   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男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   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不愿接受帮助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   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抑郁发作的时间超过一般情况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   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以前曾因精神疾病住院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   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近期有人际关系损失或社会隔离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   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抑郁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   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丧失躯体健康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   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被解雇或退休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   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单丧偶或离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195640" y="1915920"/>
            <a:ext cx="568944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暴力行为的防范与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自杀行为的防范与护理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出走行为的防范与护理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噎食与吞食异物的防范与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木僵患者的护理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91160" y="2276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16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AutoShape 16"/>
          <p:cNvSpPr/>
          <p:nvPr/>
        </p:nvSpPr>
        <p:spPr>
          <a:xfrm>
            <a:off x="1803240" y="451152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Text Box 17"/>
          <p:cNvSpPr/>
          <p:nvPr/>
        </p:nvSpPr>
        <p:spPr>
          <a:xfrm>
            <a:off x="1973880" y="456876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Line 21"/>
          <p:cNvSpPr/>
          <p:nvPr/>
        </p:nvSpPr>
        <p:spPr>
          <a:xfrm>
            <a:off x="2484360" y="5084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26" name="Group 4"/>
          <p:cNvGrpSpPr/>
          <p:nvPr/>
        </p:nvGrpSpPr>
        <p:grpSpPr>
          <a:xfrm>
            <a:off x="1771560" y="5300640"/>
            <a:ext cx="688680" cy="593640"/>
            <a:chOff x="1771560" y="5300640"/>
            <a:chExt cx="688680" cy="593640"/>
          </a:xfrm>
        </p:grpSpPr>
        <p:sp>
          <p:nvSpPr>
            <p:cNvPr id="127" name="AutoShape 5"/>
            <p:cNvSpPr/>
            <p:nvPr/>
          </p:nvSpPr>
          <p:spPr>
            <a:xfrm>
              <a:off x="1776960" y="5310720"/>
              <a:ext cx="683280" cy="583560"/>
            </a:xfrm>
            <a:prstGeom prst="hexagon">
              <a:avLst>
                <a:gd name="adj" fmla="val 29272"/>
                <a:gd name="vf" fmla="val 115470"/>
              </a:avLst>
            </a:prstGeom>
            <a:blipFill rotWithShape="0">
              <a:blip r:embed="rId8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8" name="AutoShape 6"/>
            <p:cNvSpPr/>
            <p:nvPr/>
          </p:nvSpPr>
          <p:spPr>
            <a:xfrm>
              <a:off x="1771560" y="5300640"/>
              <a:ext cx="683280" cy="583560"/>
            </a:xfrm>
            <a:prstGeom prst="hexagon">
              <a:avLst>
                <a:gd name="adj" fmla="val 29272"/>
                <a:gd name="vf" fmla="val 115470"/>
              </a:avLst>
            </a:prstGeom>
            <a:blipFill rotWithShape="0">
              <a:blip r:embed="rId9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9" name="AutoShape 7"/>
            <p:cNvSpPr/>
            <p:nvPr/>
          </p:nvSpPr>
          <p:spPr>
            <a:xfrm>
              <a:off x="1811520" y="5335560"/>
              <a:ext cx="600480" cy="513360"/>
            </a:xfrm>
            <a:prstGeom prst="hexagon">
              <a:avLst>
                <a:gd name="adj" fmla="val 29243"/>
                <a:gd name="vf" fmla="val 115470"/>
              </a:avLst>
            </a:prstGeom>
            <a:blipFill rotWithShape="0">
              <a:blip r:embed="rId10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30" name="Text Box 8"/>
          <p:cNvSpPr/>
          <p:nvPr/>
        </p:nvSpPr>
        <p:spPr>
          <a:xfrm>
            <a:off x="1944000" y="535788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5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Line 18"/>
          <p:cNvSpPr/>
          <p:nvPr/>
        </p:nvSpPr>
        <p:spPr>
          <a:xfrm>
            <a:off x="2508120" y="586260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案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07640" y="1371240"/>
            <a:ext cx="8807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者于妊娠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月时因受到惊吓而出现情绪低，少语少动，夜眠差，入睡困难，多梦、易醒、早醒。周身不适，觉全身血流有上涌感。兴趣下降，平日感兴趣的事情都不愿做了，有自我评价低，感内疚自责。有自杀想法及具体计划，但尚未付诸实施。患者分娩一男婴后情绪低落而跳楼自杀，致右踝骨骨折。入院后患者情绪低，觉得活着没意思，不愿治疗，认为治疗不会有效果，患者自发病以来睡眠差，入睡困难，易醒、多梦、早醒；食欲下降，没有胃口，由于骨折后活动受限，整日躺在床上，不与别人交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该患者自杀危险性较大的因素是什么？如何进行与患者交流？如何预防自杀？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常用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304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有自伤自杀的危险  与严重悲观情绪、自责自罪感、无价值感、幻听等高危因素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人应对不良  与精神症状、社会支持不足、不能满足角色期望、无力解决问题等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cxnSp>
        <p:nvCxnSpPr>
          <p:cNvPr id="290" name="AutoShape 2"/>
          <p:cNvCxnSpPr>
            <a:stCxn id="291" idx="7"/>
            <a:endCxn id="292" idx="3"/>
          </p:cNvCxnSpPr>
          <p:nvPr/>
        </p:nvCxnSpPr>
        <p:spPr>
          <a:xfrm flipV="1">
            <a:off x="3065040" y="2878920"/>
            <a:ext cx="693000" cy="392760"/>
          </a:xfrm>
          <a:prstGeom prst="straightConnector1">
            <a:avLst/>
          </a:prstGeom>
          <a:ln cap="rnd" w="25560">
            <a:solidFill>
              <a:srgbClr val="000000"/>
            </a:solidFill>
            <a:custDash>
              <a:ds d="100000" sp="1000"/>
            </a:custDash>
            <a:miter/>
          </a:ln>
        </p:spPr>
      </p:cxnSp>
      <p:cxnSp>
        <p:nvCxnSpPr>
          <p:cNvPr id="293" name="AutoShape 3"/>
          <p:cNvCxnSpPr>
            <a:stCxn id="291" idx="6"/>
            <a:endCxn id="294" idx="2"/>
          </p:cNvCxnSpPr>
          <p:nvPr/>
        </p:nvCxnSpPr>
        <p:spPr>
          <a:xfrm flipV="1">
            <a:off x="3379680" y="4007880"/>
            <a:ext cx="288000" cy="14760"/>
          </a:xfrm>
          <a:prstGeom prst="straightConnector1">
            <a:avLst/>
          </a:prstGeom>
          <a:ln cap="rnd" w="25560">
            <a:solidFill>
              <a:srgbClr val="000000"/>
            </a:solidFill>
            <a:custDash>
              <a:ds d="100000" sp="1000"/>
            </a:custDash>
            <a:miter/>
          </a:ln>
        </p:spPr>
      </p:cxnSp>
      <p:cxnSp>
        <p:nvCxnSpPr>
          <p:cNvPr id="295" name="AutoShape 4"/>
          <p:cNvCxnSpPr>
            <a:stCxn id="291" idx="5"/>
            <a:endCxn id="296" idx="1"/>
          </p:cNvCxnSpPr>
          <p:nvPr/>
        </p:nvCxnSpPr>
        <p:spPr>
          <a:xfrm>
            <a:off x="3065040" y="4773240"/>
            <a:ext cx="693000" cy="392760"/>
          </a:xfrm>
          <a:prstGeom prst="straightConnector1">
            <a:avLst/>
          </a:prstGeom>
          <a:ln cap="rnd" w="255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297" name="AutoShape 5"/>
          <p:cNvSpPr/>
          <p:nvPr/>
        </p:nvSpPr>
        <p:spPr>
          <a:xfrm flipH="1">
            <a:off x="2963160" y="1989000"/>
            <a:ext cx="1849320" cy="3700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1453" y="234"/>
                  <a:pt x="1305" y="5080"/>
                  <a:pt x="1305" y="10800"/>
                </a:cubicBezTo>
                <a:cubicBezTo>
                  <a:pt x="1305" y="16520"/>
                  <a:pt x="11453" y="21366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46ca6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98" name="Group 6"/>
          <p:cNvGrpSpPr/>
          <p:nvPr/>
        </p:nvGrpSpPr>
        <p:grpSpPr>
          <a:xfrm>
            <a:off x="1168560" y="2871720"/>
            <a:ext cx="2304720" cy="2301840"/>
            <a:chOff x="1168560" y="2871720"/>
            <a:chExt cx="2304720" cy="2301840"/>
          </a:xfrm>
        </p:grpSpPr>
        <p:pic>
          <p:nvPicPr>
            <p:cNvPr id="299" name="Picture 7" descr="ball"/>
            <p:cNvPicPr/>
            <p:nvPr/>
          </p:nvPicPr>
          <p:blipFill>
            <a:blip r:embed="rId1"/>
            <a:stretch/>
          </p:blipFill>
          <p:spPr>
            <a:xfrm>
              <a:off x="1168560" y="2871720"/>
              <a:ext cx="2304720" cy="230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Oval 8"/>
            <p:cNvSpPr/>
            <p:nvPr/>
          </p:nvSpPr>
          <p:spPr>
            <a:xfrm>
              <a:off x="1268280" y="2971440"/>
              <a:ext cx="2104920" cy="2102040"/>
            </a:xfrm>
            <a:prstGeom prst="ellipse">
              <a:avLst/>
            </a:prstGeom>
            <a:solidFill>
              <a:srgbClr val="046ca6">
                <a:alpha val="50000"/>
              </a:srgbClr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护理措施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00" name="AutoShape 10"/>
          <p:cNvSpPr/>
          <p:nvPr/>
        </p:nvSpPr>
        <p:spPr>
          <a:xfrm>
            <a:off x="3959280" y="2244600"/>
            <a:ext cx="4014720" cy="8496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47a87"/>
              </a:gs>
              <a:gs pos="50000">
                <a:srgbClr val="8ac8de"/>
              </a:gs>
              <a:gs pos="100000">
                <a:srgbClr val="547a87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自杀的预防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01" name="Group 11"/>
          <p:cNvGrpSpPr/>
          <p:nvPr/>
        </p:nvGrpSpPr>
        <p:grpSpPr>
          <a:xfrm>
            <a:off x="3646440" y="2357280"/>
            <a:ext cx="625680" cy="625680"/>
            <a:chOff x="3646440" y="2357280"/>
            <a:chExt cx="625680" cy="625680"/>
          </a:xfrm>
        </p:grpSpPr>
        <p:pic>
          <p:nvPicPr>
            <p:cNvPr id="302" name="Picture 12" descr="ball"/>
            <p:cNvPicPr/>
            <p:nvPr/>
          </p:nvPicPr>
          <p:blipFill>
            <a:blip r:embed="rId2"/>
            <a:stretch/>
          </p:blipFill>
          <p:spPr>
            <a:xfrm>
              <a:off x="3646440" y="2357280"/>
              <a:ext cx="625680" cy="62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2" name="Oval 13"/>
            <p:cNvSpPr/>
            <p:nvPr/>
          </p:nvSpPr>
          <p:spPr>
            <a:xfrm>
              <a:off x="3673080" y="2383920"/>
              <a:ext cx="572040" cy="572040"/>
            </a:xfrm>
            <a:prstGeom prst="ellipse">
              <a:avLst/>
            </a:prstGeom>
            <a:solidFill>
              <a:srgbClr val="046ca6">
                <a:alpha val="50000"/>
              </a:srgbClr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03" name="AutoShape 14"/>
          <p:cNvSpPr/>
          <p:nvPr/>
        </p:nvSpPr>
        <p:spPr>
          <a:xfrm>
            <a:off x="3959280" y="3583080"/>
            <a:ext cx="4014720" cy="8492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47a87"/>
              </a:gs>
              <a:gs pos="50000">
                <a:srgbClr val="8ac8de"/>
              </a:gs>
              <a:gs pos="100000">
                <a:srgbClr val="547a87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安全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04" name="Group 15"/>
          <p:cNvGrpSpPr/>
          <p:nvPr/>
        </p:nvGrpSpPr>
        <p:grpSpPr>
          <a:xfrm>
            <a:off x="3646440" y="3695760"/>
            <a:ext cx="625680" cy="623880"/>
            <a:chOff x="3646440" y="3695760"/>
            <a:chExt cx="625680" cy="623880"/>
          </a:xfrm>
        </p:grpSpPr>
        <p:pic>
          <p:nvPicPr>
            <p:cNvPr id="305" name="Picture 16" descr="ball"/>
            <p:cNvPicPr/>
            <p:nvPr/>
          </p:nvPicPr>
          <p:blipFill>
            <a:blip r:embed="rId3"/>
            <a:stretch/>
          </p:blipFill>
          <p:spPr>
            <a:xfrm>
              <a:off x="3646440" y="3695760"/>
              <a:ext cx="625680" cy="62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4" name="Oval 17"/>
            <p:cNvSpPr/>
            <p:nvPr/>
          </p:nvSpPr>
          <p:spPr>
            <a:xfrm>
              <a:off x="3673080" y="3722400"/>
              <a:ext cx="572040" cy="569880"/>
            </a:xfrm>
            <a:prstGeom prst="ellipse">
              <a:avLst/>
            </a:prstGeom>
            <a:solidFill>
              <a:srgbClr val="046ca6">
                <a:alpha val="50000"/>
              </a:srgbClr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06" name="AutoShape 18"/>
          <p:cNvSpPr/>
          <p:nvPr/>
        </p:nvSpPr>
        <p:spPr>
          <a:xfrm>
            <a:off x="3959280" y="4950000"/>
            <a:ext cx="4014720" cy="8492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47a87"/>
              </a:gs>
              <a:gs pos="50000">
                <a:srgbClr val="8ac8de"/>
              </a:gs>
              <a:gs pos="100000">
                <a:srgbClr val="547a87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健康教育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07" name="Group 19"/>
          <p:cNvGrpSpPr/>
          <p:nvPr/>
        </p:nvGrpSpPr>
        <p:grpSpPr>
          <a:xfrm>
            <a:off x="3646440" y="5062680"/>
            <a:ext cx="625680" cy="625320"/>
            <a:chOff x="3646440" y="5062680"/>
            <a:chExt cx="625680" cy="625320"/>
          </a:xfrm>
        </p:grpSpPr>
        <p:pic>
          <p:nvPicPr>
            <p:cNvPr id="308" name="Picture 20" descr="ball"/>
            <p:cNvPicPr/>
            <p:nvPr/>
          </p:nvPicPr>
          <p:blipFill>
            <a:blip r:embed="rId4"/>
            <a:stretch/>
          </p:blipFill>
          <p:spPr>
            <a:xfrm>
              <a:off x="3646440" y="5062680"/>
              <a:ext cx="625680" cy="62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6" name="Oval 21"/>
            <p:cNvSpPr/>
            <p:nvPr/>
          </p:nvSpPr>
          <p:spPr>
            <a:xfrm>
              <a:off x="3673080" y="5089320"/>
              <a:ext cx="572040" cy="571680"/>
            </a:xfrm>
            <a:prstGeom prst="ellipse">
              <a:avLst/>
            </a:prstGeom>
            <a:solidFill>
              <a:srgbClr val="046ca6">
                <a:alpha val="50000"/>
              </a:srgbClr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出走行为的防范与护理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04920" y="22968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i="1" lang="zh-CN" sz="2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出走行为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指患者在住院期间未经医生批准私自离开医院的行为，也是精神科的重要意外事件之一。由于精神障碍患者自我保护能力较差，出走会使治疗中断，会给患者或他人造成严重的后果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2" name="AutoShape 3"/>
          <p:cNvSpPr/>
          <p:nvPr/>
        </p:nvSpPr>
        <p:spPr>
          <a:xfrm>
            <a:off x="684360" y="1523880"/>
            <a:ext cx="7632720" cy="1522440"/>
          </a:xfrm>
          <a:prstGeom prst="roundRect">
            <a:avLst>
              <a:gd name="adj" fmla="val 10889"/>
            </a:avLst>
          </a:prstGeom>
          <a:gradFill rotWithShape="0">
            <a:gsLst>
              <a:gs pos="0">
                <a:srgbClr val="eeeeee"/>
              </a:gs>
              <a:gs pos="100000">
                <a:srgbClr val="dddddd"/>
              </a:gs>
            </a:gsLst>
            <a:lin ang="2700000"/>
          </a:gradFill>
          <a:ln w="38160">
            <a:solidFill>
              <a:srgbClr val="ffffff"/>
            </a:solidFill>
            <a:miter/>
          </a:ln>
          <a:effectLst>
            <a:outerShdw dist="134955" dir="292711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3" name="AutoShape 4"/>
          <p:cNvSpPr/>
          <p:nvPr/>
        </p:nvSpPr>
        <p:spPr>
          <a:xfrm>
            <a:off x="806400" y="1644480"/>
            <a:ext cx="1470240" cy="1244880"/>
          </a:xfrm>
          <a:prstGeom prst="roundRect">
            <a:avLst>
              <a:gd name="adj" fmla="val 11921"/>
            </a:avLst>
          </a:prstGeom>
          <a:gradFill rotWithShape="0">
            <a:gsLst>
              <a:gs pos="0">
                <a:srgbClr val="0066cc"/>
              </a:gs>
              <a:gs pos="100000">
                <a:srgbClr val="00478e"/>
              </a:gs>
            </a:gsLst>
            <a:lin ang="5400000"/>
          </a:gradFill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14" name="Freeform 5"/>
          <p:cNvGrpSpPr/>
          <p:nvPr/>
        </p:nvGrpSpPr>
        <p:grpSpPr>
          <a:xfrm>
            <a:off x="871560" y="1712880"/>
            <a:ext cx="731520" cy="615960"/>
            <a:chOff x="871560" y="1712880"/>
            <a:chExt cx="731520" cy="615960"/>
          </a:xfrm>
        </p:grpSpPr>
        <p:pic>
          <p:nvPicPr>
            <p:cNvPr id="315" name="Freeform 5" descr=""/>
            <p:cNvPicPr/>
            <p:nvPr/>
          </p:nvPicPr>
          <p:blipFill>
            <a:blip r:embed="rId1"/>
            <a:stretch/>
          </p:blipFill>
          <p:spPr>
            <a:xfrm>
              <a:off x="871560" y="1712880"/>
              <a:ext cx="727200" cy="60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6" name=""/>
            <p:cNvSpPr/>
            <p:nvPr/>
          </p:nvSpPr>
          <p:spPr>
            <a:xfrm>
              <a:off x="872640" y="1712880"/>
              <a:ext cx="730440" cy="61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17" name="Text Box 6"/>
          <p:cNvSpPr/>
          <p:nvPr/>
        </p:nvSpPr>
        <p:spPr>
          <a:xfrm>
            <a:off x="1180440" y="1668600"/>
            <a:ext cx="60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出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原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8" name="Text Box 7"/>
          <p:cNvSpPr/>
          <p:nvPr/>
        </p:nvSpPr>
        <p:spPr>
          <a:xfrm>
            <a:off x="2344680" y="1797120"/>
            <a:ext cx="561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精神症状、住院环境对患者的影响、工作人员疏忽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9" name="AutoShape 9"/>
          <p:cNvSpPr/>
          <p:nvPr/>
        </p:nvSpPr>
        <p:spPr>
          <a:xfrm>
            <a:off x="684360" y="2967120"/>
            <a:ext cx="7632720" cy="1522440"/>
          </a:xfrm>
          <a:prstGeom prst="roundRect">
            <a:avLst>
              <a:gd name="adj" fmla="val 10889"/>
            </a:avLst>
          </a:prstGeom>
          <a:gradFill rotWithShape="0">
            <a:gsLst>
              <a:gs pos="0">
                <a:srgbClr val="eeeeee"/>
              </a:gs>
              <a:gs pos="100000">
                <a:srgbClr val="dddddd"/>
              </a:gs>
            </a:gsLst>
            <a:lin ang="2700000"/>
          </a:gradFill>
          <a:ln w="38160">
            <a:solidFill>
              <a:srgbClr val="ffffff"/>
            </a:solidFill>
            <a:miter/>
          </a:ln>
          <a:effectLst>
            <a:outerShdw dist="134955" dir="292711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0" name="AutoShape 10"/>
          <p:cNvSpPr/>
          <p:nvPr/>
        </p:nvSpPr>
        <p:spPr>
          <a:xfrm>
            <a:off x="806400" y="3087720"/>
            <a:ext cx="1470240" cy="1244520"/>
          </a:xfrm>
          <a:prstGeom prst="roundRect">
            <a:avLst>
              <a:gd name="adj" fmla="val 11921"/>
            </a:avLst>
          </a:prstGeom>
          <a:gradFill rotWithShape="0">
            <a:gsLst>
              <a:gs pos="0">
                <a:srgbClr val="009999"/>
              </a:gs>
              <a:gs pos="100000">
                <a:srgbClr val="006b6b"/>
              </a:gs>
            </a:gsLst>
            <a:lin ang="5400000"/>
          </a:gradFill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21" name="Freeform 11"/>
          <p:cNvGrpSpPr/>
          <p:nvPr/>
        </p:nvGrpSpPr>
        <p:grpSpPr>
          <a:xfrm>
            <a:off x="871560" y="3157560"/>
            <a:ext cx="731520" cy="615960"/>
            <a:chOff x="871560" y="3157560"/>
            <a:chExt cx="731520" cy="615960"/>
          </a:xfrm>
        </p:grpSpPr>
        <p:pic>
          <p:nvPicPr>
            <p:cNvPr id="322" name="Freeform 11" descr=""/>
            <p:cNvPicPr/>
            <p:nvPr/>
          </p:nvPicPr>
          <p:blipFill>
            <a:blip r:embed="rId2"/>
            <a:stretch/>
          </p:blipFill>
          <p:spPr>
            <a:xfrm>
              <a:off x="871560" y="3158640"/>
              <a:ext cx="727200" cy="60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872640" y="3157560"/>
              <a:ext cx="730440" cy="61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24" name="Text Box 12"/>
          <p:cNvSpPr/>
          <p:nvPr/>
        </p:nvSpPr>
        <p:spPr>
          <a:xfrm>
            <a:off x="1182240" y="3181320"/>
            <a:ext cx="60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出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表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5" name="Text Box 13"/>
          <p:cNvSpPr/>
          <p:nvPr/>
        </p:nvSpPr>
        <p:spPr>
          <a:xfrm>
            <a:off x="2384280" y="2924280"/>
            <a:ext cx="6220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意识清楚的患者多采用隐蔽的方法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意识不清、处于衰退期、精神发育迟滞、阿尔茨海默病患者，出走时无目的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部分患者表现焦虑、坐卧不安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6" name="AutoShape 15"/>
          <p:cNvSpPr/>
          <p:nvPr/>
        </p:nvSpPr>
        <p:spPr>
          <a:xfrm>
            <a:off x="684360" y="4427640"/>
            <a:ext cx="7632720" cy="1522440"/>
          </a:xfrm>
          <a:prstGeom prst="roundRect">
            <a:avLst>
              <a:gd name="adj" fmla="val 10889"/>
            </a:avLst>
          </a:prstGeom>
          <a:gradFill rotWithShape="0">
            <a:gsLst>
              <a:gs pos="0">
                <a:srgbClr val="eeeeee"/>
              </a:gs>
              <a:gs pos="100000">
                <a:srgbClr val="dddddd"/>
              </a:gs>
            </a:gsLst>
            <a:lin ang="2700000"/>
          </a:gradFill>
          <a:ln w="38160">
            <a:solidFill>
              <a:srgbClr val="ffffff"/>
            </a:solidFill>
            <a:miter/>
          </a:ln>
          <a:effectLst>
            <a:outerShdw dist="134955" dir="292711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7" name="AutoShape 16"/>
          <p:cNvSpPr/>
          <p:nvPr/>
        </p:nvSpPr>
        <p:spPr>
          <a:xfrm>
            <a:off x="806400" y="4548240"/>
            <a:ext cx="1470240" cy="1244520"/>
          </a:xfrm>
          <a:prstGeom prst="roundRect">
            <a:avLst>
              <a:gd name="adj" fmla="val 11921"/>
            </a:avLst>
          </a:prstGeom>
          <a:gradFill rotWithShape="0">
            <a:gsLst>
              <a:gs pos="0">
                <a:srgbClr val="ec941e"/>
              </a:gs>
              <a:gs pos="100000">
                <a:srgbClr val="a56715"/>
              </a:gs>
            </a:gsLst>
            <a:lin ang="5400000"/>
          </a:gradFill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28" name="Freeform 17"/>
          <p:cNvGrpSpPr/>
          <p:nvPr/>
        </p:nvGrpSpPr>
        <p:grpSpPr>
          <a:xfrm>
            <a:off x="871560" y="4614840"/>
            <a:ext cx="731520" cy="615600"/>
            <a:chOff x="871560" y="4614840"/>
            <a:chExt cx="731520" cy="615600"/>
          </a:xfrm>
        </p:grpSpPr>
        <p:pic>
          <p:nvPicPr>
            <p:cNvPr id="329" name="Freeform 17" descr=""/>
            <p:cNvPicPr/>
            <p:nvPr/>
          </p:nvPicPr>
          <p:blipFill>
            <a:blip r:embed="rId3"/>
            <a:stretch/>
          </p:blipFill>
          <p:spPr>
            <a:xfrm>
              <a:off x="871560" y="4614840"/>
              <a:ext cx="727200" cy="60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0" name=""/>
            <p:cNvSpPr/>
            <p:nvPr/>
          </p:nvSpPr>
          <p:spPr>
            <a:xfrm>
              <a:off x="872640" y="4615920"/>
              <a:ext cx="730440" cy="61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31" name="Text Box 18"/>
          <p:cNvSpPr/>
          <p:nvPr/>
        </p:nvSpPr>
        <p:spPr>
          <a:xfrm>
            <a:off x="1138320" y="4548240"/>
            <a:ext cx="820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出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危险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2" name="Text Box 19"/>
          <p:cNvSpPr/>
          <p:nvPr/>
        </p:nvSpPr>
        <p:spPr>
          <a:xfrm>
            <a:off x="2556000" y="4605480"/>
            <a:ext cx="561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病史中有出走史，患者无自知力、有明显的幻觉、妄想。对治疗不配合、对住院反感，强烈思念家庭及亲人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常用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304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有走失的危险：与幻觉、妄想、思念亲人、或意识障碍等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有受伤的危险：与自我防御能力下降、意识障碍等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6" name="Freeform 3"/>
          <p:cNvSpPr/>
          <p:nvPr/>
        </p:nvSpPr>
        <p:spPr>
          <a:xfrm>
            <a:off x="179280" y="5013360"/>
            <a:ext cx="1276560" cy="1392120"/>
          </a:xfrm>
          <a:custGeom>
            <a:avLst/>
            <a:gdLst>
              <a:gd name="textAreaLeft" fmla="*/ 0 w 1276560"/>
              <a:gd name="textAreaRight" fmla="*/ 1276920 w 1276560"/>
              <a:gd name="textAreaTop" fmla="*/ 0 h 1392120"/>
              <a:gd name="textAreaBottom" fmla="*/ 1392480 h 1392120"/>
            </a:gdLst>
            <a:ahLst/>
            <a:rect l="textAreaLeft" t="textAreaTop" r="textAreaRight" b="textAreaBottom"/>
            <a:pathLst>
              <a:path w="1104" h="1256">
                <a:moveTo>
                  <a:pt x="88" y="1160"/>
                </a:moveTo>
                <a:lnTo>
                  <a:pt x="88" y="0"/>
                </a:lnTo>
                <a:lnTo>
                  <a:pt x="0" y="0"/>
                </a:lnTo>
                <a:lnTo>
                  <a:pt x="0" y="1256"/>
                </a:lnTo>
                <a:lnTo>
                  <a:pt x="1104" y="1256"/>
                </a:lnTo>
                <a:lnTo>
                  <a:pt x="1104" y="1160"/>
                </a:lnTo>
                <a:lnTo>
                  <a:pt x="88" y="1160"/>
                </a:lnTo>
                <a:close/>
              </a:path>
            </a:pathLst>
          </a:custGeom>
          <a:solidFill>
            <a:srgbClr val="91bf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7" name="Freeform 4"/>
          <p:cNvSpPr/>
          <p:nvPr/>
        </p:nvSpPr>
        <p:spPr>
          <a:xfrm rot="10800000">
            <a:off x="3207960" y="1685520"/>
            <a:ext cx="1276200" cy="1392120"/>
          </a:xfrm>
          <a:custGeom>
            <a:avLst/>
            <a:gdLst>
              <a:gd name="textAreaLeft" fmla="*/ 0 w 1276200"/>
              <a:gd name="textAreaRight" fmla="*/ 1276560 w 1276200"/>
              <a:gd name="textAreaTop" fmla="*/ 0 h 1392120"/>
              <a:gd name="textAreaBottom" fmla="*/ 1392480 h 1392120"/>
            </a:gdLst>
            <a:ahLst/>
            <a:rect l="textAreaLeft" t="textAreaTop" r="textAreaRight" b="textAreaBottom"/>
            <a:pathLst>
              <a:path w="1104" h="1256">
                <a:moveTo>
                  <a:pt x="88" y="1160"/>
                </a:moveTo>
                <a:lnTo>
                  <a:pt x="88" y="0"/>
                </a:lnTo>
                <a:lnTo>
                  <a:pt x="0" y="0"/>
                </a:lnTo>
                <a:lnTo>
                  <a:pt x="0" y="1256"/>
                </a:lnTo>
                <a:lnTo>
                  <a:pt x="1104" y="1256"/>
                </a:lnTo>
                <a:lnTo>
                  <a:pt x="1104" y="1160"/>
                </a:lnTo>
                <a:lnTo>
                  <a:pt x="88" y="1160"/>
                </a:lnTo>
                <a:close/>
              </a:path>
            </a:pathLst>
          </a:custGeom>
          <a:solidFill>
            <a:srgbClr val="91bf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8" name="Rectangle 5"/>
          <p:cNvSpPr/>
          <p:nvPr/>
        </p:nvSpPr>
        <p:spPr>
          <a:xfrm>
            <a:off x="324000" y="1828800"/>
            <a:ext cx="4019400" cy="4408560"/>
          </a:xfrm>
          <a:prstGeom prst="rect">
            <a:avLst/>
          </a:prstGeom>
          <a:gradFill rotWithShape="0">
            <a:gsLst>
              <a:gs pos="0">
                <a:srgbClr val="475e00"/>
              </a:gs>
              <a:gs pos="50000">
                <a:srgbClr val="99cc00"/>
              </a:gs>
              <a:gs pos="100000">
                <a:srgbClr val="475e00"/>
              </a:gs>
            </a:gsLst>
            <a:lin ang="27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做好入院指导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护士应加强与患者的交流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加强安全管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要善于发现患者的病情变化，加强夜间巡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督促和组织患者参加工娱治疗活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家庭支持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9" name="Freeform 6"/>
          <p:cNvSpPr/>
          <p:nvPr/>
        </p:nvSpPr>
        <p:spPr>
          <a:xfrm>
            <a:off x="4724280" y="5013360"/>
            <a:ext cx="1257480" cy="1392120"/>
          </a:xfrm>
          <a:custGeom>
            <a:avLst/>
            <a:gdLst>
              <a:gd name="textAreaLeft" fmla="*/ 0 w 1257480"/>
              <a:gd name="textAreaRight" fmla="*/ 1257840 w 1257480"/>
              <a:gd name="textAreaTop" fmla="*/ 0 h 1392120"/>
              <a:gd name="textAreaBottom" fmla="*/ 1392480 h 1392120"/>
            </a:gdLst>
            <a:ahLst/>
            <a:rect l="textAreaLeft" t="textAreaTop" r="textAreaRight" b="textAreaBottom"/>
            <a:pathLst>
              <a:path w="1104" h="1256">
                <a:moveTo>
                  <a:pt x="88" y="1160"/>
                </a:moveTo>
                <a:lnTo>
                  <a:pt x="88" y="0"/>
                </a:lnTo>
                <a:lnTo>
                  <a:pt x="0" y="0"/>
                </a:lnTo>
                <a:lnTo>
                  <a:pt x="0" y="1256"/>
                </a:lnTo>
                <a:lnTo>
                  <a:pt x="1104" y="1256"/>
                </a:lnTo>
                <a:lnTo>
                  <a:pt x="1104" y="1160"/>
                </a:lnTo>
                <a:lnTo>
                  <a:pt x="88" y="1160"/>
                </a:lnTo>
                <a:close/>
              </a:path>
            </a:pathLst>
          </a:custGeom>
          <a:solidFill>
            <a:srgbClr val="717e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0" name="Freeform 7"/>
          <p:cNvSpPr/>
          <p:nvPr/>
        </p:nvSpPr>
        <p:spPr>
          <a:xfrm rot="10800000">
            <a:off x="7706880" y="1685520"/>
            <a:ext cx="1257480" cy="1392120"/>
          </a:xfrm>
          <a:custGeom>
            <a:avLst/>
            <a:gdLst>
              <a:gd name="textAreaLeft" fmla="*/ 0 w 1257480"/>
              <a:gd name="textAreaRight" fmla="*/ 1257840 w 1257480"/>
              <a:gd name="textAreaTop" fmla="*/ 0 h 1392120"/>
              <a:gd name="textAreaBottom" fmla="*/ 1392480 h 1392120"/>
            </a:gdLst>
            <a:ahLst/>
            <a:rect l="textAreaLeft" t="textAreaTop" r="textAreaRight" b="textAreaBottom"/>
            <a:pathLst>
              <a:path w="1104" h="1256">
                <a:moveTo>
                  <a:pt x="88" y="1160"/>
                </a:moveTo>
                <a:lnTo>
                  <a:pt x="88" y="0"/>
                </a:lnTo>
                <a:lnTo>
                  <a:pt x="0" y="0"/>
                </a:lnTo>
                <a:lnTo>
                  <a:pt x="0" y="1256"/>
                </a:lnTo>
                <a:lnTo>
                  <a:pt x="1104" y="1256"/>
                </a:lnTo>
                <a:lnTo>
                  <a:pt x="1104" y="1160"/>
                </a:lnTo>
                <a:lnTo>
                  <a:pt x="88" y="1160"/>
                </a:lnTo>
                <a:close/>
              </a:path>
            </a:pathLst>
          </a:custGeom>
          <a:solidFill>
            <a:srgbClr val="717e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1" name="Rectangle 8"/>
          <p:cNvSpPr/>
          <p:nvPr/>
        </p:nvSpPr>
        <p:spPr>
          <a:xfrm>
            <a:off x="4857840" y="1828800"/>
            <a:ext cx="3962160" cy="4408560"/>
          </a:xfrm>
          <a:prstGeom prst="rect">
            <a:avLst/>
          </a:prstGeom>
          <a:gradFill rotWithShape="0">
            <a:gsLst>
              <a:gs pos="0">
                <a:srgbClr val="343a71"/>
              </a:gs>
              <a:gs pos="50000">
                <a:srgbClr val="717ef5"/>
              </a:gs>
              <a:gs pos="100000">
                <a:srgbClr val="343a71"/>
              </a:gs>
            </a:gsLst>
            <a:lin ang="27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发现走失患者，及时报告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组织人力进行查找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护士还要管理好病房内其他患者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患者返院后，要劝慰患者，加强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事后护士长组织全区护士对事件进行讨论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2" name="Text Box 10"/>
          <p:cNvSpPr/>
          <p:nvPr/>
        </p:nvSpPr>
        <p:spPr>
          <a:xfrm>
            <a:off x="1979640" y="119700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Arial"/>
                <a:ea typeface="宋体"/>
              </a:rPr>
              <a:t>预防出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3" name="Text Box 11"/>
          <p:cNvSpPr/>
          <p:nvPr/>
        </p:nvSpPr>
        <p:spPr>
          <a:xfrm>
            <a:off x="5410080" y="1197000"/>
            <a:ext cx="276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Arial"/>
                <a:ea typeface="宋体"/>
              </a:rPr>
              <a:t>出走的处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案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者从出国回来后发现电脑中毒了，由此认为外国人在自己的电脑内插入了病毒，因此要求实验室的老师重新清理程序及监控软件，并把所有的密码都改了。之后患者仍然觉得不放心，遂重新购买了一台笔记本。近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天病情加重，睡眠差，总称头疼。去开会，在会议后遇到一位老师，拦截该教师，问“你有没有被人监控？”，老师回答“没有”，就经费问题与老师纠缠不休，遂报警。入院后患者情绪激动，否认有病，并称自己脑子里被人装上了电脑芯片，认为病房中的摄像头就是监视她的，大声叫嚷自己不能住院，有闯门行为，被护士及时制止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该患者存在什么护理风险？如何有效的预防意外的发生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噎食与吞食异物的防范与护理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0" y="2296800"/>
            <a:ext cx="8748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噎食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hoke foo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是指食物堵塞咽喉部或卡在食道的第一狭窄部，甚至误入气管，引起呼吸抑制、窒息，危及生命。精神科患者发生噎食窒息者较多，其主要原因为服用精神科药物会引发椎体外系反应，出现吞咽肌肉运动的不协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9" name="File"/>
          <p:cNvSpPr/>
          <p:nvPr/>
        </p:nvSpPr>
        <p:spPr>
          <a:xfrm>
            <a:off x="5145120" y="1295280"/>
            <a:ext cx="3693960" cy="4670640"/>
          </a:xfrm>
          <a:custGeom>
            <a:avLst/>
            <a:gdLst>
              <a:gd name="textAreaLeft" fmla="*/ 185400 w 3693960"/>
              <a:gd name="textAreaRight" fmla="*/ 3529080 w 3693960"/>
              <a:gd name="textAreaTop" fmla="*/ 1000800 h 4670640"/>
              <a:gd name="textAreaBottom" fmla="*/ 4387320 h 467064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lnTo>
                  <a:pt x="19790" y="3240"/>
                </a:lnTo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50000">
                <a:srgbClr val="dff0f6"/>
              </a:gs>
              <a:gs pos="100000">
                <a:srgbClr val="8ac8de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0" name="File"/>
          <p:cNvSpPr/>
          <p:nvPr/>
        </p:nvSpPr>
        <p:spPr>
          <a:xfrm>
            <a:off x="954000" y="1371600"/>
            <a:ext cx="3694320" cy="4670280"/>
          </a:xfrm>
          <a:custGeom>
            <a:avLst/>
            <a:gdLst>
              <a:gd name="textAreaLeft" fmla="*/ 185760 w 3694320"/>
              <a:gd name="textAreaRight" fmla="*/ 3529440 w 3694320"/>
              <a:gd name="textAreaTop" fmla="*/ 1000440 h 4670280"/>
              <a:gd name="textAreaBottom" fmla="*/ 4386960 h 467028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lnTo>
                  <a:pt x="19790" y="3240"/>
                </a:lnTo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50000">
                <a:srgbClr val="dff0f6"/>
              </a:gs>
              <a:gs pos="100000">
                <a:srgbClr val="8ac8de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1" name="Text Box 5"/>
          <p:cNvSpPr/>
          <p:nvPr/>
        </p:nvSpPr>
        <p:spPr>
          <a:xfrm>
            <a:off x="1117440" y="1600200"/>
            <a:ext cx="200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原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2" name="Text Box 6"/>
          <p:cNvSpPr/>
          <p:nvPr/>
        </p:nvSpPr>
        <p:spPr>
          <a:xfrm rot="21245400">
            <a:off x="1112040" y="2232000"/>
            <a:ext cx="29113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）精神病患者因服用抗精神病药物出现锥体外系副反应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）帕金森氏病或其他脑器质性疾病患者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）电抽搐治疗（电休克治疗）后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）躁狂患者在进餐时言语增多，进食量大，进食速度快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3" name="Text Box 7"/>
          <p:cNvSpPr/>
          <p:nvPr/>
        </p:nvSpPr>
        <p:spPr>
          <a:xfrm>
            <a:off x="5308560" y="1523880"/>
            <a:ext cx="200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表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4" name="Text Box 8"/>
          <p:cNvSpPr/>
          <p:nvPr/>
        </p:nvSpPr>
        <p:spPr>
          <a:xfrm rot="21240000">
            <a:off x="5171400" y="2016360"/>
            <a:ext cx="3098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精神疾病患者的噎食一般突然发生，及时地识别及抢救是挽救生命的重要环节。患者噎食时轻者呼吸困难、面色青紫、双眼直瞪、双手乱抓或抽搐。重者意识丧失、全身瘫软、四肢发凉、大小便失禁、呼吸停止、心跳快而弱进而停止。如抢救不及时或措施不当，死亡率高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5" name="AutoShape 9"/>
          <p:cNvSpPr/>
          <p:nvPr/>
        </p:nvSpPr>
        <p:spPr>
          <a:xfrm rot="16200000">
            <a:off x="4340160" y="3393720"/>
            <a:ext cx="730080" cy="3430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ddb5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识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常见危机状态如暴力行为、自杀行为、出走行为及木僵等的原因及表现形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理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暴力行为、自杀行为、出走行为及木僵等常见危机状态的评估、预防、处理及护理原则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能有效预防及处理精神科常见的危机事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AD43B-47C5-4BF4-88EF-984E9FE0FCC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噎食风险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358" name=""/>
          <p:cNvGraphicFramePr/>
          <p:nvPr/>
        </p:nvGraphicFramePr>
        <p:xfrm>
          <a:off x="324000" y="1052640"/>
          <a:ext cx="7529400" cy="5486400"/>
        </p:xfrm>
        <a:graphic>
          <a:graphicData uri="http://schemas.openxmlformats.org/drawingml/2006/table">
            <a:tbl>
              <a:tblPr/>
              <a:tblGrid>
                <a:gridCol w="852480"/>
                <a:gridCol w="1854000"/>
                <a:gridCol w="3352680"/>
                <a:gridCol w="1470240"/>
              </a:tblGrid>
              <a:tr h="366480"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序号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可能导致噎食的因素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评估结果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既往发生过噎食现象者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rowSpan="2">
                  <a:txBody>
                    <a:bodyPr lIns="55440" rIns="5544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5440" rIns="5544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药物副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作用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锥体外系反应者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唾液分泌减少、口干者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rowSpan="4">
                  <a:txBody>
                    <a:bodyPr lIns="55440" rIns="5544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55440" rIns="5544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脑器质性疾病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中、重度痴呆者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抢食者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脑血管意外后遗症者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有癫痫发作史者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480">
                <a:tc rowSpan="5">
                  <a:txBody>
                    <a:bodyPr lIns="55440" rIns="5544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4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55440" rIns="5544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精神症状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极度兴奋者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躁狂饥饿感增加者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暴饮暴食者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进食速度过快者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言语过多者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480">
                <a:tc rowSpan="2">
                  <a:txBody>
                    <a:bodyPr lIns="55440" rIns="5544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5440" rIns="5544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生理因素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老年人牙齿脱落影响咀嚼功能者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老年人咳嗽、吞咽反射减退者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59" name="矩形 5"/>
          <p:cNvSpPr/>
          <p:nvPr/>
        </p:nvSpPr>
        <p:spPr>
          <a:xfrm flipH="1">
            <a:off x="8546760" y="1413000"/>
            <a:ext cx="393480" cy="49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e230c"/>
                </a:solidFill>
                <a:latin typeface="Arial"/>
                <a:ea typeface="宋体"/>
              </a:rPr>
              <a:t>有上述风险因素之一者均列为噎食危险者，具有上述</a:t>
            </a:r>
            <a:r>
              <a:rPr b="1" lang="en-US" sz="1400" spc="-1" strike="noStrike">
                <a:solidFill>
                  <a:srgbClr val="fe230c"/>
                </a:solidFill>
                <a:latin typeface="Arial"/>
                <a:ea typeface="宋体"/>
              </a:rPr>
              <a:t>2</a:t>
            </a:r>
            <a:r>
              <a:rPr b="1" lang="zh-CN" sz="1400" spc="-1" strike="noStrike">
                <a:solidFill>
                  <a:srgbClr val="fe230c"/>
                </a:solidFill>
                <a:latin typeface="Arial"/>
                <a:ea typeface="宋体"/>
              </a:rPr>
              <a:t>种以上风险因素者列为噎食高风险者，须制订相应护理措施防范意外发生。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常用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304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有噎食的危险：与抗精神病药物不良反应、或脑器质性疾病等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窒息　与进食过急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Picture 2" descr="照片 004"/>
          <p:cNvPicPr/>
          <p:nvPr/>
        </p:nvPicPr>
        <p:blipFill>
          <a:blip r:embed="rId1"/>
          <a:stretch/>
        </p:blipFill>
        <p:spPr>
          <a:xfrm>
            <a:off x="981000" y="3214800"/>
            <a:ext cx="5305680" cy="344808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4" descr="照片 002"/>
          <p:cNvPicPr/>
          <p:nvPr/>
        </p:nvPicPr>
        <p:blipFill>
          <a:blip r:embed="rId2"/>
          <a:stretch/>
        </p:blipFill>
        <p:spPr>
          <a:xfrm>
            <a:off x="92160" y="2286000"/>
            <a:ext cx="3622680" cy="219564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3" descr="照片 003"/>
          <p:cNvPicPr/>
          <p:nvPr/>
        </p:nvPicPr>
        <p:blipFill>
          <a:blip r:embed="rId3"/>
          <a:stretch/>
        </p:blipFill>
        <p:spPr>
          <a:xfrm>
            <a:off x="6089760" y="1925640"/>
            <a:ext cx="3073320" cy="902808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837720" y="50796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噎食的急救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91800" y="1371240"/>
            <a:ext cx="8823240" cy="13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按窒息患者急救原则处理。就地抢救、分秒必争、畅通呼吸道、防止并发症、预防再次发生噎食窒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吞食异物防范与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23640" y="2204640"/>
            <a:ext cx="837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吞食异物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swallow eyewinker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是指患者吞下了食物以外的其他物品，在精神障碍患者中精神分裂症患者可能由于幻觉、妄想支配下出现的异常行为。或有自杀想法的患者用作自伤、自杀的手段。吞食的异物种类各异，如戒指、发卡、电池、别针、铁钉、玻璃片、刀片、指甲刀、体温表、筷子、铅笔、剪刀、牙刷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评估患者有无吞食异物的倾向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相关因素   精神疾病患者在幻觉、妄想支配下出现自杀、自伤观念而吞食；异食症；痴呆及精神发育迟滞患者为了达到出院目的而吞食异物；抑郁症和人格障碍患者也可采用吞食异物作为一种自杀手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吞食异物的表现   如果患者吞食了异物，护士应立即评估患者所吞食异物的种类及时间，从而判断危险程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常用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304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有受伤的危险：与吞食锐利的物品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有中毒的危险：与吞食金属、电池、塑料等物品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便秘：与吞食电池、塑料等较大物品有关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吞食异物的预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对有吞食异物风险的患者要了解原因，不可随意斥责患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2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加强对各类物品尤其危险物品的管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3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对未达到出院目的，有威胁性言语的患者，护士要格外小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0" y="137124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吞食异物的处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发现患者吞服异物后，首先稳定患者的情绪，尽快上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根据具体情况采取急救措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密切观察患者的病情变化，有无痛苦的表情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心理护理。事情发生后护士不要责备患者，关心、同情患者，耐心倾听其内心想法，帮助患者解决实际问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木僵患者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324000" y="170028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木僵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stupor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是一种较严重的精神运动性抑制综合征。患者经常保持一种固定姿态，很少活动或完全不动。轻者言语和运动明显减少或缓慢、迟钝，称为亚木僵状态。重者随意运动完全抑制，全身肌肉紧张、呆坐或卧床不起、面无表情、不语不动、不吃不喝、口内含满唾液，不知主动排泄，或相当长时间保持身体僵住不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4" name="File"/>
          <p:cNvSpPr/>
          <p:nvPr/>
        </p:nvSpPr>
        <p:spPr>
          <a:xfrm>
            <a:off x="5145120" y="1295280"/>
            <a:ext cx="3693960" cy="4670640"/>
          </a:xfrm>
          <a:custGeom>
            <a:avLst/>
            <a:gdLst>
              <a:gd name="textAreaLeft" fmla="*/ 185400 w 3693960"/>
              <a:gd name="textAreaRight" fmla="*/ 3529080 w 3693960"/>
              <a:gd name="textAreaTop" fmla="*/ 1000800 h 4670640"/>
              <a:gd name="textAreaBottom" fmla="*/ 4387320 h 467064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lnTo>
                  <a:pt x="19790" y="3240"/>
                </a:lnTo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50000">
                <a:srgbClr val="dff0f6"/>
              </a:gs>
              <a:gs pos="100000">
                <a:srgbClr val="8ac8de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5" name="File"/>
          <p:cNvSpPr/>
          <p:nvPr/>
        </p:nvSpPr>
        <p:spPr>
          <a:xfrm>
            <a:off x="954000" y="1371600"/>
            <a:ext cx="3694320" cy="4670280"/>
          </a:xfrm>
          <a:custGeom>
            <a:avLst/>
            <a:gdLst>
              <a:gd name="textAreaLeft" fmla="*/ 185760 w 3694320"/>
              <a:gd name="textAreaRight" fmla="*/ 3529440 w 3694320"/>
              <a:gd name="textAreaTop" fmla="*/ 1000440 h 4670280"/>
              <a:gd name="textAreaBottom" fmla="*/ 4386960 h 467028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lnTo>
                  <a:pt x="19790" y="3240"/>
                </a:lnTo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50000">
                <a:srgbClr val="dff0f6"/>
              </a:gs>
              <a:gs pos="100000">
                <a:srgbClr val="8ac8de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6" name="Text Box 5"/>
          <p:cNvSpPr/>
          <p:nvPr/>
        </p:nvSpPr>
        <p:spPr>
          <a:xfrm>
            <a:off x="1117440" y="1600200"/>
            <a:ext cx="200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紧张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7" name="Text Box 6"/>
          <p:cNvSpPr/>
          <p:nvPr/>
        </p:nvSpPr>
        <p:spPr>
          <a:xfrm rot="21257400">
            <a:off x="825120" y="2288520"/>
            <a:ext cx="299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紧张性木僵是木僵的典型表现。轻者言语行为明显减少、呆坐呆卧、有时有违拗或模仿、刻板动作。重者僵卧在床、不吃不喝或不语不动、无表情、无动作、推之不动，呼之不应。全身肌肉张力增高，常出现“蜡样屈曲”或“空气枕头”等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8" name="Text Box 7"/>
          <p:cNvSpPr/>
          <p:nvPr/>
        </p:nvSpPr>
        <p:spPr>
          <a:xfrm>
            <a:off x="5308560" y="1523880"/>
            <a:ext cx="200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抑郁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9" name="Text Box 8"/>
          <p:cNvSpPr/>
          <p:nvPr/>
        </p:nvSpPr>
        <p:spPr>
          <a:xfrm rot="21190800">
            <a:off x="5064480" y="1921680"/>
            <a:ext cx="293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见于严重抑郁症患者，患者呆坐不动或卧床不起，无自主活动和要求，反应极端迟钝，不主动流露任何意愿和要求。在反复追问下，可有细微活动倾向，如点头或摇头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0" name="AutoShape 9"/>
          <p:cNvSpPr/>
          <p:nvPr/>
        </p:nvSpPr>
        <p:spPr>
          <a:xfrm rot="16200000">
            <a:off x="4340160" y="3393720"/>
            <a:ext cx="730080" cy="3430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ddb5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AE526-C242-4264-9A17-D78567222A7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精神科危机状态指精神疾病患者突然发生的、个体无法自控的、急性疾病和危及自身或他人生命或财物的一种状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包括暴力行为、自杀自伤、出走、噎食窒息、木僵、昏迷、谵妄状态、缄默状态、拒食、机体衰竭状态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2" name="File"/>
          <p:cNvSpPr/>
          <p:nvPr/>
        </p:nvSpPr>
        <p:spPr>
          <a:xfrm>
            <a:off x="5145120" y="1295280"/>
            <a:ext cx="3693960" cy="4670640"/>
          </a:xfrm>
          <a:custGeom>
            <a:avLst/>
            <a:gdLst>
              <a:gd name="textAreaLeft" fmla="*/ 185400 w 3693960"/>
              <a:gd name="textAreaRight" fmla="*/ 3529080 w 3693960"/>
              <a:gd name="textAreaTop" fmla="*/ 1000800 h 4670640"/>
              <a:gd name="textAreaBottom" fmla="*/ 4387320 h 467064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lnTo>
                  <a:pt x="19790" y="3240"/>
                </a:lnTo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50000">
                <a:srgbClr val="dff0f6"/>
              </a:gs>
              <a:gs pos="100000">
                <a:srgbClr val="8ac8de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3" name="File"/>
          <p:cNvSpPr/>
          <p:nvPr/>
        </p:nvSpPr>
        <p:spPr>
          <a:xfrm>
            <a:off x="954000" y="1371600"/>
            <a:ext cx="3694320" cy="4670280"/>
          </a:xfrm>
          <a:custGeom>
            <a:avLst/>
            <a:gdLst>
              <a:gd name="textAreaLeft" fmla="*/ 185760 w 3694320"/>
              <a:gd name="textAreaRight" fmla="*/ 3529440 w 3694320"/>
              <a:gd name="textAreaTop" fmla="*/ 1000440 h 4670280"/>
              <a:gd name="textAreaBottom" fmla="*/ 4386960 h 467028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lnTo>
                  <a:pt x="19790" y="3240"/>
                </a:lnTo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50000">
                <a:srgbClr val="dff0f6"/>
              </a:gs>
              <a:gs pos="100000">
                <a:srgbClr val="8ac8de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4" name="Text Box 5"/>
          <p:cNvSpPr/>
          <p:nvPr/>
        </p:nvSpPr>
        <p:spPr>
          <a:xfrm>
            <a:off x="1117440" y="1600200"/>
            <a:ext cx="200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心因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5" name="Text Box 6"/>
          <p:cNvSpPr/>
          <p:nvPr/>
        </p:nvSpPr>
        <p:spPr>
          <a:xfrm rot="21257400">
            <a:off x="1010880" y="2435400"/>
            <a:ext cx="30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突然的经受强烈精神刺激出现的木僵，如亲人去世、意外或灾祸，患者表现呆滞不语、面无表情、缄默或推呼不应，甚至出现木僵状态，可有尿失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6" name="Text Box 7"/>
          <p:cNvSpPr/>
          <p:nvPr/>
        </p:nvSpPr>
        <p:spPr>
          <a:xfrm>
            <a:off x="5308560" y="1523880"/>
            <a:ext cx="200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器质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7" name="Text Box 8"/>
          <p:cNvSpPr/>
          <p:nvPr/>
        </p:nvSpPr>
        <p:spPr>
          <a:xfrm rot="21264000">
            <a:off x="5116680" y="2084760"/>
            <a:ext cx="328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表现呼之不应、推之不动、缄默、抗拒、肌张力增高，可出现蜡样屈曲，两便失禁，面无表情。这类木僵患者精神检查可发现意识障碍和智能障碍；体格检查和神经系统检查可发现阳性体征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8" name="AutoShape 9"/>
          <p:cNvSpPr/>
          <p:nvPr/>
        </p:nvSpPr>
        <p:spPr>
          <a:xfrm rot="16200000">
            <a:off x="4340160" y="3393720"/>
            <a:ext cx="730080" cy="3430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ddb5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常用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营养失调：低于机体需要量　与无法自行进食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生活自理能力缺陷（进食、沐浴、如厕等）与精神运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动性抑制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有暴力行为的危险 与突然转为兴奋状态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有受伤的危险 与缺乏自我保护能力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废用综合征的危险　与长期卧床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有感染的可能（皮肤、口腔、肺部）与长期卧床，机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体抵抗力下降等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尿储留 与精神运动性抑制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8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便秘 与精神运动性抑制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4" name="TextBox 5"/>
          <p:cNvSpPr/>
          <p:nvPr/>
        </p:nvSpPr>
        <p:spPr>
          <a:xfrm>
            <a:off x="1000080" y="1714680"/>
            <a:ext cx="75726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提供安全的环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做好保护性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加强生活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重视肢体功能锻炼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根据病因不同，对木僵患者采用相应的治疗措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健康教育 反复诱导患者与现实接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小结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7" name="矩形 5"/>
          <p:cNvSpPr/>
          <p:nvPr/>
        </p:nvSpPr>
        <p:spPr>
          <a:xfrm>
            <a:off x="826920" y="1413000"/>
            <a:ext cx="73882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暴力行为是最常见的精神科意外事件，其原因有精神障碍、生物学因素及心理社会因素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护士应该评估精神障碍患者暴力行为的危险因素和先兆，以防暴力行为的发生，此过程可利用评估工具进行评估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对患者的教育、约束、治疗等措施可有效地帮助护士预防和处理攻击行为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自杀原因包括遗传因素、心理因素、社会因素、精神障碍因素、生物化学因素和躯体疾病因素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小结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250560" y="1341000"/>
            <a:ext cx="8893080" cy="513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通过观察、交谈以及自杀评估工具的应用，帮助护士发现患者的自杀征兆和意图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与患者建立良好的治疗性关系，倾听患者的诉说，签订安全契约等措施可帮助患者预防自杀。一旦患者发生自杀行为，应立即配合医生对其进行抢救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的出走原因，应采取措施和处理患者的出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8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精神科其他意外行为还包括噎食、吞食异物，了解意外发生的原因，采取措施预防意外发生，一旦发生立即抢救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9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木僵患者的分类及临床表现，采取做好基础护理、保护性医疗措施、健康教育等帮助患者早日恢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2C9A9-E7BC-4A48-A7C7-FD1B33C8DE6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暴力行为的防范与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定义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暴力行为通常是指对他人的攻击（致伤、致残、严重者可以致死）或对物的攻击（破坏建筑或毁坏财产，引起轻重不等的经济损失）行为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E889B-074A-4B28-894C-7A015CF215B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43" name="Group 3"/>
          <p:cNvGrpSpPr/>
          <p:nvPr/>
        </p:nvGrpSpPr>
        <p:grpSpPr>
          <a:xfrm>
            <a:off x="3505320" y="1752480"/>
            <a:ext cx="2361600" cy="2438280"/>
            <a:chOff x="3505320" y="1752480"/>
            <a:chExt cx="2361600" cy="2438280"/>
          </a:xfrm>
        </p:grpSpPr>
        <p:sp>
          <p:nvSpPr>
            <p:cNvPr id="144" name="Oval 4"/>
            <p:cNvSpPr/>
            <p:nvPr/>
          </p:nvSpPr>
          <p:spPr>
            <a:xfrm>
              <a:off x="3505320" y="1752480"/>
              <a:ext cx="2357640" cy="24184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d8755a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5" name="Oval 5"/>
            <p:cNvSpPr/>
            <p:nvPr/>
          </p:nvSpPr>
          <p:spPr>
            <a:xfrm>
              <a:off x="3509640" y="1772640"/>
              <a:ext cx="2357280" cy="2418120"/>
            </a:xfrm>
            <a:prstGeom prst="ellipse">
              <a:avLst/>
            </a:prstGeom>
            <a:gradFill rotWithShape="0">
              <a:gsLst>
                <a:gs pos="0">
                  <a:srgbClr val="d8755a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6" name="Oval 6"/>
            <p:cNvSpPr/>
            <p:nvPr/>
          </p:nvSpPr>
          <p:spPr>
            <a:xfrm>
              <a:off x="3635280" y="1910160"/>
              <a:ext cx="2045880" cy="2100600"/>
            </a:xfrm>
            <a:prstGeom prst="ellipse">
              <a:avLst/>
            </a:prstGeom>
            <a:gradFill rotWithShape="0">
              <a:gsLst>
                <a:gs pos="0">
                  <a:srgbClr val="753f31"/>
                </a:gs>
                <a:gs pos="50000">
                  <a:srgbClr val="d8755a"/>
                </a:gs>
                <a:gs pos="100000">
                  <a:srgbClr val="753f3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7" name="Oval 7"/>
            <p:cNvSpPr/>
            <p:nvPr/>
          </p:nvSpPr>
          <p:spPr>
            <a:xfrm>
              <a:off x="3628080" y="1899000"/>
              <a:ext cx="2046240" cy="2100600"/>
            </a:xfrm>
            <a:prstGeom prst="ellipse">
              <a:avLst/>
            </a:prstGeom>
            <a:gradFill rotWithShape="0">
              <a:gsLst>
                <a:gs pos="0">
                  <a:srgbClr val="894a39"/>
                </a:gs>
                <a:gs pos="100000">
                  <a:srgbClr val="d8755a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8" name="Oval 8"/>
            <p:cNvSpPr/>
            <p:nvPr/>
          </p:nvSpPr>
          <p:spPr>
            <a:xfrm>
              <a:off x="3736800" y="2017080"/>
              <a:ext cx="1842840" cy="1889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49" name="Group 9"/>
            <p:cNvGrpSpPr/>
            <p:nvPr/>
          </p:nvGrpSpPr>
          <p:grpSpPr>
            <a:xfrm>
              <a:off x="3777840" y="2045880"/>
              <a:ext cx="1786320" cy="1833840"/>
              <a:chOff x="3777840" y="2045880"/>
              <a:chExt cx="1786320" cy="1833840"/>
            </a:xfrm>
          </p:grpSpPr>
          <p:sp>
            <p:nvSpPr>
              <p:cNvPr id="150" name="Oval 10"/>
              <p:cNvSpPr/>
              <p:nvPr/>
            </p:nvSpPr>
            <p:spPr>
              <a:xfrm>
                <a:off x="3777840" y="2045880"/>
                <a:ext cx="1786320" cy="18338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51" name="Oval 11"/>
              <p:cNvSpPr/>
              <p:nvPr/>
            </p:nvSpPr>
            <p:spPr>
              <a:xfrm>
                <a:off x="3800160" y="2055960"/>
                <a:ext cx="1743480" cy="17881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52" name="Oval 12"/>
              <p:cNvSpPr/>
              <p:nvPr/>
            </p:nvSpPr>
            <p:spPr>
              <a:xfrm>
                <a:off x="3819240" y="2073600"/>
                <a:ext cx="1657800" cy="167076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53" name="Oval 13"/>
              <p:cNvSpPr/>
              <p:nvPr/>
            </p:nvSpPr>
            <p:spPr>
              <a:xfrm>
                <a:off x="3916080" y="2120400"/>
                <a:ext cx="1473480" cy="1356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154" name="Group 14"/>
          <p:cNvGrpSpPr/>
          <p:nvPr/>
        </p:nvGrpSpPr>
        <p:grpSpPr>
          <a:xfrm>
            <a:off x="2895480" y="2743200"/>
            <a:ext cx="3581640" cy="1904040"/>
            <a:chOff x="2895480" y="2743200"/>
            <a:chExt cx="3581640" cy="1904040"/>
          </a:xfrm>
        </p:grpSpPr>
        <p:sp>
          <p:nvSpPr>
            <p:cNvPr id="155" name="AutoShape 15"/>
            <p:cNvSpPr/>
            <p:nvPr/>
          </p:nvSpPr>
          <p:spPr>
            <a:xfrm rot="10800000">
              <a:off x="5867280" y="2743200"/>
              <a:ext cx="609840" cy="457200"/>
            </a:xfrm>
            <a:prstGeom prst="leftArrow">
              <a:avLst>
                <a:gd name="adj1" fmla="val 31250"/>
                <a:gd name="adj2" fmla="val 71559"/>
              </a:avLst>
            </a:prstGeom>
            <a:gradFill rotWithShape="0">
              <a:gsLst>
                <a:gs pos="0">
                  <a:srgbClr val="666699"/>
                </a:gs>
                <a:gs pos="100000">
                  <a:srgbClr val="bebed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6" name="AutoShape 16"/>
            <p:cNvSpPr/>
            <p:nvPr/>
          </p:nvSpPr>
          <p:spPr>
            <a:xfrm rot="17914800">
              <a:off x="3581640" y="4038120"/>
              <a:ext cx="609480" cy="457200"/>
            </a:xfrm>
            <a:prstGeom prst="leftArrow">
              <a:avLst>
                <a:gd name="adj1" fmla="val 31250"/>
                <a:gd name="adj2" fmla="val 71517"/>
              </a:avLst>
            </a:prstGeom>
            <a:gradFill rotWithShape="0">
              <a:gsLst>
                <a:gs pos="0">
                  <a:srgbClr val="666699"/>
                </a:gs>
                <a:gs pos="100000">
                  <a:srgbClr val="bebed4"/>
                </a:gs>
              </a:gsLst>
              <a:lin ang="368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7" name="AutoShape 17"/>
            <p:cNvSpPr/>
            <p:nvPr/>
          </p:nvSpPr>
          <p:spPr>
            <a:xfrm>
              <a:off x="2895480" y="2743200"/>
              <a:ext cx="609840" cy="457200"/>
            </a:xfrm>
            <a:prstGeom prst="leftArrow">
              <a:avLst>
                <a:gd name="adj1" fmla="val 31250"/>
                <a:gd name="adj2" fmla="val 71559"/>
              </a:avLst>
            </a:prstGeom>
            <a:gradFill rotWithShape="0">
              <a:gsLst>
                <a:gs pos="0">
                  <a:srgbClr val="666699"/>
                </a:gs>
                <a:gs pos="100000">
                  <a:srgbClr val="bebed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8" name="AutoShape 18"/>
            <p:cNvSpPr/>
            <p:nvPr/>
          </p:nvSpPr>
          <p:spPr>
            <a:xfrm rot="13815000">
              <a:off x="5181480" y="4038120"/>
              <a:ext cx="609480" cy="457200"/>
            </a:xfrm>
            <a:prstGeom prst="leftArrow">
              <a:avLst>
                <a:gd name="adj1" fmla="val 31250"/>
                <a:gd name="adj2" fmla="val 71517"/>
              </a:avLst>
            </a:prstGeom>
            <a:gradFill rotWithShape="0">
              <a:gsLst>
                <a:gs pos="0">
                  <a:srgbClr val="666699"/>
                </a:gs>
                <a:gs pos="100000">
                  <a:srgbClr val="bebed4"/>
                </a:gs>
              </a:gsLst>
              <a:lin ang="778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59" name="Text Box 19"/>
          <p:cNvSpPr/>
          <p:nvPr/>
        </p:nvSpPr>
        <p:spPr>
          <a:xfrm>
            <a:off x="3170160" y="2133720"/>
            <a:ext cx="3009960" cy="15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000000"/>
                </a:solidFill>
                <a:latin typeface="Arial"/>
                <a:ea typeface="宋体"/>
              </a:rPr>
              <a:t>暴力行为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000000"/>
                </a:solidFill>
                <a:latin typeface="Arial"/>
                <a:ea typeface="宋体"/>
              </a:rPr>
              <a:t>的原因及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000000"/>
                </a:solidFill>
                <a:latin typeface="Arial"/>
                <a:ea typeface="宋体"/>
              </a:rPr>
              <a:t>危险因素</a:t>
            </a:r>
            <a:r>
              <a:rPr b="0" lang="zh-CN" sz="31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60" name="Group 20"/>
          <p:cNvGrpSpPr/>
          <p:nvPr/>
        </p:nvGrpSpPr>
        <p:grpSpPr>
          <a:xfrm>
            <a:off x="6637320" y="2286000"/>
            <a:ext cx="1439640" cy="1439640"/>
            <a:chOff x="6637320" y="2286000"/>
            <a:chExt cx="1439640" cy="1439640"/>
          </a:xfrm>
        </p:grpSpPr>
        <p:sp>
          <p:nvSpPr>
            <p:cNvPr id="161" name="Oval 21"/>
            <p:cNvSpPr/>
            <p:nvPr/>
          </p:nvSpPr>
          <p:spPr>
            <a:xfrm>
              <a:off x="6637320" y="228600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2" name="Oval 22"/>
            <p:cNvSpPr/>
            <p:nvPr/>
          </p:nvSpPr>
          <p:spPr>
            <a:xfrm>
              <a:off x="6637320" y="228600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3" name="Oval 23"/>
            <p:cNvSpPr/>
            <p:nvPr/>
          </p:nvSpPr>
          <p:spPr>
            <a:xfrm>
              <a:off x="6732360" y="237960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4" name="Oval 24"/>
            <p:cNvSpPr/>
            <p:nvPr/>
          </p:nvSpPr>
          <p:spPr>
            <a:xfrm>
              <a:off x="6732360" y="238284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5" name="Oval 25"/>
            <p:cNvSpPr/>
            <p:nvPr/>
          </p:nvSpPr>
          <p:spPr>
            <a:xfrm>
              <a:off x="6794280" y="2442960"/>
              <a:ext cx="1125720" cy="1125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66" name="Group 26"/>
            <p:cNvGrpSpPr/>
            <p:nvPr/>
          </p:nvGrpSpPr>
          <p:grpSpPr>
            <a:xfrm>
              <a:off x="6811920" y="2460600"/>
              <a:ext cx="1090440" cy="1092240"/>
              <a:chOff x="6811920" y="2460600"/>
              <a:chExt cx="1090440" cy="1092240"/>
            </a:xfrm>
          </p:grpSpPr>
          <p:sp>
            <p:nvSpPr>
              <p:cNvPr id="167" name="Oval 27"/>
              <p:cNvSpPr/>
              <p:nvPr/>
            </p:nvSpPr>
            <p:spPr>
              <a:xfrm>
                <a:off x="6811920" y="2460600"/>
                <a:ext cx="1090440" cy="10922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68" name="Oval 28"/>
              <p:cNvSpPr/>
              <p:nvPr/>
            </p:nvSpPr>
            <p:spPr>
              <a:xfrm>
                <a:off x="6825600" y="2466720"/>
                <a:ext cx="1064520" cy="1065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69" name="Oval 29"/>
              <p:cNvSpPr/>
              <p:nvPr/>
            </p:nvSpPr>
            <p:spPr>
              <a:xfrm>
                <a:off x="6837120" y="2477160"/>
                <a:ext cx="1011960" cy="9954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70" name="Oval 30"/>
              <p:cNvSpPr/>
              <p:nvPr/>
            </p:nvSpPr>
            <p:spPr>
              <a:xfrm>
                <a:off x="6896160" y="2504880"/>
                <a:ext cx="899640" cy="807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Text Box 31"/>
          <p:cNvSpPr/>
          <p:nvPr/>
        </p:nvSpPr>
        <p:spPr>
          <a:xfrm>
            <a:off x="7043040" y="2492280"/>
            <a:ext cx="60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精神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疾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72" name="Group 43"/>
          <p:cNvGrpSpPr/>
          <p:nvPr/>
        </p:nvGrpSpPr>
        <p:grpSpPr>
          <a:xfrm>
            <a:off x="1295280" y="2286000"/>
            <a:ext cx="1446120" cy="1523520"/>
            <a:chOff x="1295280" y="2286000"/>
            <a:chExt cx="1446120" cy="1523520"/>
          </a:xfrm>
        </p:grpSpPr>
        <p:sp>
          <p:nvSpPr>
            <p:cNvPr id="173" name="Oval 44"/>
            <p:cNvSpPr/>
            <p:nvPr/>
          </p:nvSpPr>
          <p:spPr>
            <a:xfrm>
              <a:off x="1295280" y="2286000"/>
              <a:ext cx="1446120" cy="15235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00cc66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4" name="Oval 45"/>
            <p:cNvSpPr/>
            <p:nvPr/>
          </p:nvSpPr>
          <p:spPr>
            <a:xfrm>
              <a:off x="1295280" y="2286000"/>
              <a:ext cx="1446120" cy="1523520"/>
            </a:xfrm>
            <a:prstGeom prst="ellipse">
              <a:avLst/>
            </a:prstGeom>
            <a:gradFill rotWithShape="0">
              <a:gsLst>
                <a:gs pos="0">
                  <a:srgbClr val="00cc66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5" name="Oval 46"/>
            <p:cNvSpPr/>
            <p:nvPr/>
          </p:nvSpPr>
          <p:spPr>
            <a:xfrm>
              <a:off x="1389240" y="2385000"/>
              <a:ext cx="1258200" cy="1325520"/>
            </a:xfrm>
            <a:prstGeom prst="ellipse">
              <a:avLst/>
            </a:prstGeom>
            <a:gradFill rotWithShape="0">
              <a:gsLst>
                <a:gs pos="0">
                  <a:srgbClr val="006e37"/>
                </a:gs>
                <a:gs pos="50000">
                  <a:srgbClr val="00cc66"/>
                </a:gs>
                <a:gs pos="100000">
                  <a:srgbClr val="006e3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6" name="Oval 47"/>
            <p:cNvSpPr/>
            <p:nvPr/>
          </p:nvSpPr>
          <p:spPr>
            <a:xfrm>
              <a:off x="1391040" y="2385000"/>
              <a:ext cx="1256400" cy="1325520"/>
            </a:xfrm>
            <a:prstGeom prst="ellipse">
              <a:avLst/>
            </a:prstGeom>
            <a:gradFill rotWithShape="0">
              <a:gsLst>
                <a:gs pos="0">
                  <a:srgbClr val="008241"/>
                </a:gs>
                <a:gs pos="100000">
                  <a:srgbClr val="00cc66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7" name="Oval 48"/>
            <p:cNvSpPr/>
            <p:nvPr/>
          </p:nvSpPr>
          <p:spPr>
            <a:xfrm>
              <a:off x="1458000" y="2451960"/>
              <a:ext cx="1130760" cy="11912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8" name="Oval 49"/>
            <p:cNvSpPr/>
            <p:nvPr/>
          </p:nvSpPr>
          <p:spPr>
            <a:xfrm>
              <a:off x="1476360" y="2471400"/>
              <a:ext cx="1095840" cy="1154160"/>
            </a:xfrm>
            <a:prstGeom prst="ellipse">
              <a:avLst/>
            </a:prstGeom>
            <a:gradFill rotWithShape="0">
              <a:gsLst>
                <a:gs pos="0">
                  <a:srgbClr val="595959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9" name="Oval 50"/>
            <p:cNvSpPr/>
            <p:nvPr/>
          </p:nvSpPr>
          <p:spPr>
            <a:xfrm>
              <a:off x="1490040" y="2478240"/>
              <a:ext cx="1068840" cy="1124280"/>
            </a:xfrm>
            <a:prstGeom prst="ellipse">
              <a:avLst/>
            </a:prstGeom>
            <a:gradFill rotWithShape="0">
              <a:gsLst>
                <a:gs pos="0">
                  <a:srgbClr val="c0c0c0">
                    <a:alpha val="0"/>
                  </a:srgbClr>
                </a:gs>
                <a:gs pos="100000">
                  <a:srgbClr val="e9e9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0" name="Oval 51"/>
            <p:cNvSpPr/>
            <p:nvPr/>
          </p:nvSpPr>
          <p:spPr>
            <a:xfrm>
              <a:off x="1501560" y="2489040"/>
              <a:ext cx="1016640" cy="1051920"/>
            </a:xfrm>
            <a:prstGeom prst="ellipse">
              <a:avLst/>
            </a:prstGeom>
            <a:gradFill rotWithShape="0">
              <a:gsLst>
                <a:gs pos="0">
                  <a:srgbClr val="989898"/>
                </a:gs>
                <a:gs pos="100000">
                  <a:srgbClr val="c0c0c0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1" name="Oval 52"/>
            <p:cNvSpPr/>
            <p:nvPr/>
          </p:nvSpPr>
          <p:spPr>
            <a:xfrm>
              <a:off x="1560240" y="2519280"/>
              <a:ext cx="904320" cy="853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0c0c0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82" name="Text Box 53"/>
          <p:cNvSpPr/>
          <p:nvPr/>
        </p:nvSpPr>
        <p:spPr>
          <a:xfrm>
            <a:off x="1726560" y="2565360"/>
            <a:ext cx="60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人口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特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83" name="Group 54"/>
          <p:cNvGrpSpPr/>
          <p:nvPr/>
        </p:nvGrpSpPr>
        <p:grpSpPr>
          <a:xfrm>
            <a:off x="2598840" y="4495680"/>
            <a:ext cx="1439640" cy="1440000"/>
            <a:chOff x="2598840" y="4495680"/>
            <a:chExt cx="1439640" cy="1440000"/>
          </a:xfrm>
        </p:grpSpPr>
        <p:grpSp>
          <p:nvGrpSpPr>
            <p:cNvPr id="184" name="Group 55"/>
            <p:cNvGrpSpPr/>
            <p:nvPr/>
          </p:nvGrpSpPr>
          <p:grpSpPr>
            <a:xfrm>
              <a:off x="2598840" y="4495680"/>
              <a:ext cx="1439640" cy="1440000"/>
              <a:chOff x="2598840" y="4495680"/>
              <a:chExt cx="1439640" cy="1440000"/>
            </a:xfrm>
          </p:grpSpPr>
          <p:sp>
            <p:nvSpPr>
              <p:cNvPr id="185" name="Oval 56"/>
              <p:cNvSpPr/>
              <p:nvPr/>
            </p:nvSpPr>
            <p:spPr>
              <a:xfrm>
                <a:off x="2598840" y="4495680"/>
                <a:ext cx="1439640" cy="1440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3965e1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6" name="Oval 57"/>
              <p:cNvSpPr/>
              <p:nvPr/>
            </p:nvSpPr>
            <p:spPr>
              <a:xfrm>
                <a:off x="2598840" y="4495680"/>
                <a:ext cx="1439640" cy="1440000"/>
              </a:xfrm>
              <a:prstGeom prst="ellipse">
                <a:avLst/>
              </a:prstGeom>
              <a:gradFill rotWithShape="0">
                <a:gsLst>
                  <a:gs pos="0">
                    <a:srgbClr val="3965e1">
                      <a:alpha val="32156"/>
                    </a:srgbClr>
                  </a:gs>
                  <a:gs pos="100000">
                    <a:srgbClr val="000000">
                      <a:alpha val="90196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7" name="Oval 58"/>
              <p:cNvSpPr/>
              <p:nvPr/>
            </p:nvSpPr>
            <p:spPr>
              <a:xfrm>
                <a:off x="2689200" y="4591080"/>
                <a:ext cx="1248840" cy="1250640"/>
              </a:xfrm>
              <a:prstGeom prst="ellipse">
                <a:avLst/>
              </a:prstGeom>
              <a:gradFill rotWithShape="0">
                <a:gsLst>
                  <a:gs pos="0">
                    <a:srgbClr val="1f377a"/>
                  </a:gs>
                  <a:gs pos="50000">
                    <a:srgbClr val="3965e1"/>
                  </a:gs>
                  <a:gs pos="100000">
                    <a:srgbClr val="1f377a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8" name="Oval 59"/>
              <p:cNvSpPr/>
              <p:nvPr/>
            </p:nvSpPr>
            <p:spPr>
              <a:xfrm>
                <a:off x="2689200" y="4600440"/>
                <a:ext cx="1248840" cy="1251000"/>
              </a:xfrm>
              <a:prstGeom prst="ellipse">
                <a:avLst/>
              </a:prstGeom>
              <a:gradFill rotWithShape="0">
                <a:gsLst>
                  <a:gs pos="0">
                    <a:srgbClr val="264396"/>
                  </a:gs>
                  <a:gs pos="100000">
                    <a:srgbClr val="3965e1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9" name="Oval 60"/>
              <p:cNvSpPr/>
              <p:nvPr/>
            </p:nvSpPr>
            <p:spPr>
              <a:xfrm>
                <a:off x="2751120" y="4662360"/>
                <a:ext cx="1125000" cy="1125720"/>
              </a:xfrm>
              <a:prstGeom prst="ellipse">
                <a:avLst/>
              </a:prstGeom>
              <a:gradFill rotWithShape="0">
                <a:gsLst>
                  <a:gs pos="0">
                    <a:srgbClr val="3965e1"/>
                  </a:gs>
                  <a:gs pos="100000">
                    <a:srgbClr val="03060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grpSp>
            <p:nvGrpSpPr>
              <p:cNvPr id="190" name="Group 61"/>
              <p:cNvGrpSpPr/>
              <p:nvPr/>
            </p:nvGrpSpPr>
            <p:grpSpPr>
              <a:xfrm>
                <a:off x="2779560" y="4676760"/>
                <a:ext cx="1090440" cy="1092240"/>
                <a:chOff x="2779560" y="4676760"/>
                <a:chExt cx="1090440" cy="1092240"/>
              </a:xfrm>
            </p:grpSpPr>
            <p:sp>
              <p:nvSpPr>
                <p:cNvPr id="191" name="Oval 62"/>
                <p:cNvSpPr/>
                <p:nvPr/>
              </p:nvSpPr>
              <p:spPr>
                <a:xfrm>
                  <a:off x="2779560" y="4676760"/>
                  <a:ext cx="1090440" cy="1092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6869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92" name="Oval 63"/>
                <p:cNvSpPr/>
                <p:nvPr/>
              </p:nvSpPr>
              <p:spPr>
                <a:xfrm>
                  <a:off x="2793240" y="4682880"/>
                  <a:ext cx="1064520" cy="106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1f5f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93" name="Oval 64"/>
                <p:cNvSpPr/>
                <p:nvPr/>
              </p:nvSpPr>
              <p:spPr>
                <a:xfrm>
                  <a:off x="2804760" y="4693320"/>
                  <a:ext cx="1011960" cy="995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ab2b3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94" name="Oval 65"/>
                <p:cNvSpPr/>
                <p:nvPr/>
              </p:nvSpPr>
              <p:spPr>
                <a:xfrm>
                  <a:off x="2863800" y="4721040"/>
                  <a:ext cx="899640" cy="807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95" name="Text Box 66"/>
            <p:cNvSpPr/>
            <p:nvPr/>
          </p:nvSpPr>
          <p:spPr>
            <a:xfrm>
              <a:off x="3211560" y="5021280"/>
              <a:ext cx="18360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96" name="Text Box 53"/>
          <p:cNvSpPr/>
          <p:nvPr/>
        </p:nvSpPr>
        <p:spPr>
          <a:xfrm>
            <a:off x="2988720" y="4714920"/>
            <a:ext cx="60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心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特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97" name="Group 32"/>
          <p:cNvGrpSpPr/>
          <p:nvPr/>
        </p:nvGrpSpPr>
        <p:grpSpPr>
          <a:xfrm>
            <a:off x="5257800" y="4495680"/>
            <a:ext cx="1444680" cy="1524240"/>
            <a:chOff x="5257800" y="4495680"/>
            <a:chExt cx="1444680" cy="1524240"/>
          </a:xfrm>
        </p:grpSpPr>
        <p:sp>
          <p:nvSpPr>
            <p:cNvPr id="198" name="Oval 33"/>
            <p:cNvSpPr/>
            <p:nvPr/>
          </p:nvSpPr>
          <p:spPr>
            <a:xfrm>
              <a:off x="5257800" y="4495680"/>
              <a:ext cx="1444680" cy="1524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66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9" name="Oval 34"/>
            <p:cNvSpPr/>
            <p:nvPr/>
          </p:nvSpPr>
          <p:spPr>
            <a:xfrm>
              <a:off x="5257800" y="4495680"/>
              <a:ext cx="1444680" cy="1524240"/>
            </a:xfrm>
            <a:prstGeom prst="ellipse">
              <a:avLst/>
            </a:prstGeom>
            <a:gradFill rotWithShape="0">
              <a:gsLst>
                <a:gs pos="0">
                  <a:srgbClr val="ff6699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0" name="Oval 35"/>
            <p:cNvSpPr/>
            <p:nvPr/>
          </p:nvSpPr>
          <p:spPr>
            <a:xfrm>
              <a:off x="5351400" y="4594320"/>
              <a:ext cx="1257480" cy="1326960"/>
            </a:xfrm>
            <a:prstGeom prst="ellipse">
              <a:avLst/>
            </a:prstGeom>
            <a:gradFill rotWithShape="0">
              <a:gsLst>
                <a:gs pos="0">
                  <a:srgbClr val="8a3753"/>
                </a:gs>
                <a:gs pos="50000">
                  <a:srgbClr val="ff6699"/>
                </a:gs>
                <a:gs pos="100000">
                  <a:srgbClr val="8a3753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1" name="Oval 36"/>
            <p:cNvSpPr/>
            <p:nvPr/>
          </p:nvSpPr>
          <p:spPr>
            <a:xfrm>
              <a:off x="5334120" y="4572000"/>
              <a:ext cx="1255680" cy="1327320"/>
            </a:xfrm>
            <a:prstGeom prst="ellipse">
              <a:avLst/>
            </a:prstGeom>
            <a:gradFill rotWithShape="0">
              <a:gsLst>
                <a:gs pos="0">
                  <a:srgbClr val="a24161"/>
                </a:gs>
                <a:gs pos="100000">
                  <a:srgbClr val="ff6699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2" name="Oval 37"/>
            <p:cNvSpPr/>
            <p:nvPr/>
          </p:nvSpPr>
          <p:spPr>
            <a:xfrm>
              <a:off x="5419800" y="4662360"/>
              <a:ext cx="1130400" cy="11908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3" name="Oval 38"/>
            <p:cNvSpPr/>
            <p:nvPr/>
          </p:nvSpPr>
          <p:spPr>
            <a:xfrm>
              <a:off x="5410080" y="4648320"/>
              <a:ext cx="1094040" cy="1154160"/>
            </a:xfrm>
            <a:prstGeom prst="ellipse">
              <a:avLst/>
            </a:prstGeom>
            <a:gradFill rotWithShape="0">
              <a:gsLst>
                <a:gs pos="0">
                  <a:srgbClr val="595959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4" name="Oval 39"/>
            <p:cNvSpPr/>
            <p:nvPr/>
          </p:nvSpPr>
          <p:spPr>
            <a:xfrm>
              <a:off x="5451480" y="4687920"/>
              <a:ext cx="1068480" cy="1125360"/>
            </a:xfrm>
            <a:prstGeom prst="ellipse">
              <a:avLst/>
            </a:prstGeom>
            <a:gradFill rotWithShape="0">
              <a:gsLst>
                <a:gs pos="0">
                  <a:srgbClr val="c0c0c0">
                    <a:alpha val="0"/>
                  </a:srgbClr>
                </a:gs>
                <a:gs pos="100000">
                  <a:srgbClr val="e9e9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5" name="Oval 40"/>
            <p:cNvSpPr/>
            <p:nvPr/>
          </p:nvSpPr>
          <p:spPr>
            <a:xfrm>
              <a:off x="5464080" y="4699080"/>
              <a:ext cx="1015920" cy="1052280"/>
            </a:xfrm>
            <a:prstGeom prst="ellipse">
              <a:avLst/>
            </a:prstGeom>
            <a:gradFill rotWithShape="0">
              <a:gsLst>
                <a:gs pos="0">
                  <a:srgbClr val="989898"/>
                </a:gs>
                <a:gs pos="100000">
                  <a:srgbClr val="c0c0c0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6" name="Oval 41"/>
            <p:cNvSpPr/>
            <p:nvPr/>
          </p:nvSpPr>
          <p:spPr>
            <a:xfrm>
              <a:off x="5522760" y="4729320"/>
              <a:ext cx="903600" cy="853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0c0c0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7" name="Text Box 42"/>
            <p:cNvSpPr/>
            <p:nvPr/>
          </p:nvSpPr>
          <p:spPr>
            <a:xfrm>
              <a:off x="5897520" y="5089680"/>
              <a:ext cx="18432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08" name="Text Box 53"/>
          <p:cNvSpPr/>
          <p:nvPr/>
        </p:nvSpPr>
        <p:spPr>
          <a:xfrm>
            <a:off x="5690520" y="4724280"/>
            <a:ext cx="60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社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环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A1D7F-1140-43AF-A071-0B5A4AC34EB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Freeform 4"/>
          <p:cNvSpPr/>
          <p:nvPr/>
        </p:nvSpPr>
        <p:spPr>
          <a:xfrm rot="20805000">
            <a:off x="4592520" y="2722680"/>
            <a:ext cx="1150920" cy="3316320"/>
          </a:xfrm>
          <a:custGeom>
            <a:avLst/>
            <a:gdLst>
              <a:gd name="textAreaLeft" fmla="*/ 0 w 1150920"/>
              <a:gd name="textAreaRight" fmla="*/ 1151280 w 1150920"/>
              <a:gd name="textAreaTop" fmla="*/ 0 h 3316320"/>
              <a:gd name="textAreaBottom" fmla="*/ 3316680 h 3316320"/>
            </a:gdLst>
            <a:ahLst/>
            <a:rect l="textAreaLeft" t="textAreaTop" r="textAreaRight" b="textAreaBottom"/>
            <a:pathLst>
              <a:path w="646" h="1861">
                <a:moveTo>
                  <a:pt x="0" y="0"/>
                </a:moveTo>
                <a:lnTo>
                  <a:pt x="48" y="14"/>
                </a:lnTo>
                <a:lnTo>
                  <a:pt x="98" y="32"/>
                </a:lnTo>
                <a:lnTo>
                  <a:pt x="147" y="54"/>
                </a:lnTo>
                <a:lnTo>
                  <a:pt x="195" y="81"/>
                </a:lnTo>
                <a:lnTo>
                  <a:pt x="242" y="111"/>
                </a:lnTo>
                <a:lnTo>
                  <a:pt x="288" y="147"/>
                </a:lnTo>
                <a:lnTo>
                  <a:pt x="333" y="185"/>
                </a:lnTo>
                <a:lnTo>
                  <a:pt x="377" y="228"/>
                </a:lnTo>
                <a:lnTo>
                  <a:pt x="418" y="275"/>
                </a:lnTo>
                <a:lnTo>
                  <a:pt x="457" y="325"/>
                </a:lnTo>
                <a:lnTo>
                  <a:pt x="493" y="379"/>
                </a:lnTo>
                <a:lnTo>
                  <a:pt x="526" y="437"/>
                </a:lnTo>
                <a:lnTo>
                  <a:pt x="555" y="497"/>
                </a:lnTo>
                <a:lnTo>
                  <a:pt x="582" y="562"/>
                </a:lnTo>
                <a:lnTo>
                  <a:pt x="604" y="630"/>
                </a:lnTo>
                <a:lnTo>
                  <a:pt x="621" y="700"/>
                </a:lnTo>
                <a:lnTo>
                  <a:pt x="634" y="774"/>
                </a:lnTo>
                <a:lnTo>
                  <a:pt x="642" y="851"/>
                </a:lnTo>
                <a:lnTo>
                  <a:pt x="646" y="930"/>
                </a:lnTo>
                <a:lnTo>
                  <a:pt x="643" y="1011"/>
                </a:lnTo>
                <a:lnTo>
                  <a:pt x="636" y="1086"/>
                </a:lnTo>
                <a:lnTo>
                  <a:pt x="623" y="1160"/>
                </a:lnTo>
                <a:lnTo>
                  <a:pt x="607" y="1230"/>
                </a:lnTo>
                <a:lnTo>
                  <a:pt x="585" y="1297"/>
                </a:lnTo>
                <a:lnTo>
                  <a:pt x="561" y="1361"/>
                </a:lnTo>
                <a:lnTo>
                  <a:pt x="533" y="1421"/>
                </a:lnTo>
                <a:lnTo>
                  <a:pt x="500" y="1478"/>
                </a:lnTo>
                <a:lnTo>
                  <a:pt x="466" y="1532"/>
                </a:lnTo>
                <a:lnTo>
                  <a:pt x="428" y="1582"/>
                </a:lnTo>
                <a:lnTo>
                  <a:pt x="388" y="1627"/>
                </a:lnTo>
                <a:lnTo>
                  <a:pt x="345" y="1670"/>
                </a:lnTo>
                <a:lnTo>
                  <a:pt x="301" y="1709"/>
                </a:lnTo>
                <a:lnTo>
                  <a:pt x="254" y="1744"/>
                </a:lnTo>
                <a:lnTo>
                  <a:pt x="205" y="1776"/>
                </a:lnTo>
                <a:lnTo>
                  <a:pt x="156" y="1803"/>
                </a:lnTo>
                <a:lnTo>
                  <a:pt x="104" y="1826"/>
                </a:lnTo>
                <a:lnTo>
                  <a:pt x="53" y="1846"/>
                </a:lnTo>
                <a:lnTo>
                  <a:pt x="0" y="1861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447ec4"/>
              </a:gs>
            </a:gsLst>
            <a:lin ang="79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Freeform 5"/>
          <p:cNvSpPr/>
          <p:nvPr/>
        </p:nvSpPr>
        <p:spPr>
          <a:xfrm rot="5461200">
            <a:off x="2798640" y="2274840"/>
            <a:ext cx="1150920" cy="3316320"/>
          </a:xfrm>
          <a:custGeom>
            <a:avLst/>
            <a:gdLst>
              <a:gd name="textAreaLeft" fmla="*/ 0 w 1150920"/>
              <a:gd name="textAreaRight" fmla="*/ 1151280 w 1150920"/>
              <a:gd name="textAreaTop" fmla="*/ 0 h 3316320"/>
              <a:gd name="textAreaBottom" fmla="*/ 3316680 h 3316320"/>
            </a:gdLst>
            <a:ahLst/>
            <a:rect l="textAreaLeft" t="textAreaTop" r="textAreaRight" b="textAreaBottom"/>
            <a:pathLst>
              <a:path w="646" h="1861">
                <a:moveTo>
                  <a:pt x="0" y="0"/>
                </a:moveTo>
                <a:lnTo>
                  <a:pt x="48" y="14"/>
                </a:lnTo>
                <a:lnTo>
                  <a:pt x="98" y="32"/>
                </a:lnTo>
                <a:lnTo>
                  <a:pt x="147" y="54"/>
                </a:lnTo>
                <a:lnTo>
                  <a:pt x="195" y="81"/>
                </a:lnTo>
                <a:lnTo>
                  <a:pt x="242" y="111"/>
                </a:lnTo>
                <a:lnTo>
                  <a:pt x="288" y="147"/>
                </a:lnTo>
                <a:lnTo>
                  <a:pt x="333" y="185"/>
                </a:lnTo>
                <a:lnTo>
                  <a:pt x="377" y="228"/>
                </a:lnTo>
                <a:lnTo>
                  <a:pt x="418" y="275"/>
                </a:lnTo>
                <a:lnTo>
                  <a:pt x="457" y="325"/>
                </a:lnTo>
                <a:lnTo>
                  <a:pt x="493" y="379"/>
                </a:lnTo>
                <a:lnTo>
                  <a:pt x="526" y="437"/>
                </a:lnTo>
                <a:lnTo>
                  <a:pt x="555" y="497"/>
                </a:lnTo>
                <a:lnTo>
                  <a:pt x="582" y="562"/>
                </a:lnTo>
                <a:lnTo>
                  <a:pt x="604" y="630"/>
                </a:lnTo>
                <a:lnTo>
                  <a:pt x="621" y="700"/>
                </a:lnTo>
                <a:lnTo>
                  <a:pt x="634" y="774"/>
                </a:lnTo>
                <a:lnTo>
                  <a:pt x="642" y="851"/>
                </a:lnTo>
                <a:lnTo>
                  <a:pt x="646" y="930"/>
                </a:lnTo>
                <a:lnTo>
                  <a:pt x="643" y="1011"/>
                </a:lnTo>
                <a:lnTo>
                  <a:pt x="636" y="1086"/>
                </a:lnTo>
                <a:lnTo>
                  <a:pt x="623" y="1160"/>
                </a:lnTo>
                <a:lnTo>
                  <a:pt x="607" y="1230"/>
                </a:lnTo>
                <a:lnTo>
                  <a:pt x="585" y="1297"/>
                </a:lnTo>
                <a:lnTo>
                  <a:pt x="561" y="1361"/>
                </a:lnTo>
                <a:lnTo>
                  <a:pt x="533" y="1421"/>
                </a:lnTo>
                <a:lnTo>
                  <a:pt x="500" y="1478"/>
                </a:lnTo>
                <a:lnTo>
                  <a:pt x="466" y="1532"/>
                </a:lnTo>
                <a:lnTo>
                  <a:pt x="428" y="1582"/>
                </a:lnTo>
                <a:lnTo>
                  <a:pt x="388" y="1627"/>
                </a:lnTo>
                <a:lnTo>
                  <a:pt x="345" y="1670"/>
                </a:lnTo>
                <a:lnTo>
                  <a:pt x="301" y="1709"/>
                </a:lnTo>
                <a:lnTo>
                  <a:pt x="254" y="1744"/>
                </a:lnTo>
                <a:lnTo>
                  <a:pt x="205" y="1776"/>
                </a:lnTo>
                <a:lnTo>
                  <a:pt x="156" y="1803"/>
                </a:lnTo>
                <a:lnTo>
                  <a:pt x="104" y="1826"/>
                </a:lnTo>
                <a:lnTo>
                  <a:pt x="53" y="1846"/>
                </a:lnTo>
                <a:lnTo>
                  <a:pt x="0" y="1861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2a684c"/>
              </a:gs>
            </a:gsLst>
            <a:lin ang="1614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" name="Freeform 6"/>
          <p:cNvSpPr/>
          <p:nvPr/>
        </p:nvSpPr>
        <p:spPr>
          <a:xfrm rot="14128200">
            <a:off x="4649040" y="744480"/>
            <a:ext cx="1150920" cy="3318120"/>
          </a:xfrm>
          <a:custGeom>
            <a:avLst/>
            <a:gdLst/>
            <a:ahLst/>
            <a:rect l="l" t="t" r="r" b="b"/>
            <a:pathLst>
              <a:path w="646" h="1861">
                <a:moveTo>
                  <a:pt x="0" y="0"/>
                </a:moveTo>
                <a:lnTo>
                  <a:pt x="48" y="14"/>
                </a:lnTo>
                <a:lnTo>
                  <a:pt x="98" y="32"/>
                </a:lnTo>
                <a:lnTo>
                  <a:pt x="147" y="54"/>
                </a:lnTo>
                <a:lnTo>
                  <a:pt x="195" y="81"/>
                </a:lnTo>
                <a:lnTo>
                  <a:pt x="242" y="111"/>
                </a:lnTo>
                <a:lnTo>
                  <a:pt x="288" y="147"/>
                </a:lnTo>
                <a:lnTo>
                  <a:pt x="333" y="185"/>
                </a:lnTo>
                <a:lnTo>
                  <a:pt x="377" y="228"/>
                </a:lnTo>
                <a:lnTo>
                  <a:pt x="418" y="275"/>
                </a:lnTo>
                <a:lnTo>
                  <a:pt x="457" y="325"/>
                </a:lnTo>
                <a:lnTo>
                  <a:pt x="493" y="379"/>
                </a:lnTo>
                <a:lnTo>
                  <a:pt x="526" y="437"/>
                </a:lnTo>
                <a:lnTo>
                  <a:pt x="555" y="497"/>
                </a:lnTo>
                <a:lnTo>
                  <a:pt x="582" y="562"/>
                </a:lnTo>
                <a:lnTo>
                  <a:pt x="604" y="630"/>
                </a:lnTo>
                <a:lnTo>
                  <a:pt x="621" y="700"/>
                </a:lnTo>
                <a:lnTo>
                  <a:pt x="634" y="774"/>
                </a:lnTo>
                <a:lnTo>
                  <a:pt x="642" y="851"/>
                </a:lnTo>
                <a:lnTo>
                  <a:pt x="646" y="930"/>
                </a:lnTo>
                <a:lnTo>
                  <a:pt x="643" y="1011"/>
                </a:lnTo>
                <a:lnTo>
                  <a:pt x="636" y="1086"/>
                </a:lnTo>
                <a:lnTo>
                  <a:pt x="623" y="1160"/>
                </a:lnTo>
                <a:lnTo>
                  <a:pt x="607" y="1230"/>
                </a:lnTo>
                <a:lnTo>
                  <a:pt x="585" y="1297"/>
                </a:lnTo>
                <a:lnTo>
                  <a:pt x="561" y="1361"/>
                </a:lnTo>
                <a:lnTo>
                  <a:pt x="533" y="1421"/>
                </a:lnTo>
                <a:lnTo>
                  <a:pt x="500" y="1478"/>
                </a:lnTo>
                <a:lnTo>
                  <a:pt x="466" y="1532"/>
                </a:lnTo>
                <a:lnTo>
                  <a:pt x="428" y="1582"/>
                </a:lnTo>
                <a:lnTo>
                  <a:pt x="388" y="1627"/>
                </a:lnTo>
                <a:lnTo>
                  <a:pt x="345" y="1670"/>
                </a:lnTo>
                <a:lnTo>
                  <a:pt x="301" y="1709"/>
                </a:lnTo>
                <a:lnTo>
                  <a:pt x="254" y="1744"/>
                </a:lnTo>
                <a:lnTo>
                  <a:pt x="205" y="1776"/>
                </a:lnTo>
                <a:lnTo>
                  <a:pt x="156" y="1803"/>
                </a:lnTo>
                <a:lnTo>
                  <a:pt x="104" y="1826"/>
                </a:lnTo>
                <a:lnTo>
                  <a:pt x="53" y="1846"/>
                </a:lnTo>
                <a:lnTo>
                  <a:pt x="0" y="1861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969696"/>
              </a:gs>
            </a:gsLst>
            <a:lin ang="747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14" name="Group 7"/>
          <p:cNvGrpSpPr/>
          <p:nvPr/>
        </p:nvGrpSpPr>
        <p:grpSpPr>
          <a:xfrm>
            <a:off x="1625040" y="1494360"/>
            <a:ext cx="5480640" cy="4644000"/>
            <a:chOff x="1625040" y="1494360"/>
            <a:chExt cx="5480640" cy="4644000"/>
          </a:xfrm>
        </p:grpSpPr>
        <p:sp>
          <p:nvSpPr>
            <p:cNvPr id="215" name="Freeform 8"/>
            <p:cNvSpPr/>
            <p:nvPr/>
          </p:nvSpPr>
          <p:spPr>
            <a:xfrm>
              <a:off x="4394880" y="2822400"/>
              <a:ext cx="1150560" cy="3315960"/>
            </a:xfrm>
            <a:custGeom>
              <a:avLst/>
              <a:gdLst>
                <a:gd name="textAreaLeft" fmla="*/ 0 w 1150560"/>
                <a:gd name="textAreaRight" fmla="*/ 1150920 w 1150560"/>
                <a:gd name="textAreaTop" fmla="*/ 0 h 3315960"/>
                <a:gd name="textAreaBottom" fmla="*/ 3316320 h 3315960"/>
              </a:gdLst>
              <a:ahLst/>
              <a:rect l="textAreaLeft" t="textAreaTop" r="textAreaRight" b="textAreaBottom"/>
              <a:pathLst>
                <a:path w="646" h="1861">
                  <a:moveTo>
                    <a:pt x="0" y="0"/>
                  </a:moveTo>
                  <a:lnTo>
                    <a:pt x="48" y="14"/>
                  </a:lnTo>
                  <a:lnTo>
                    <a:pt x="98" y="32"/>
                  </a:lnTo>
                  <a:lnTo>
                    <a:pt x="147" y="54"/>
                  </a:lnTo>
                  <a:lnTo>
                    <a:pt x="195" y="81"/>
                  </a:lnTo>
                  <a:lnTo>
                    <a:pt x="242" y="111"/>
                  </a:lnTo>
                  <a:lnTo>
                    <a:pt x="288" y="147"/>
                  </a:lnTo>
                  <a:lnTo>
                    <a:pt x="333" y="185"/>
                  </a:lnTo>
                  <a:lnTo>
                    <a:pt x="377" y="228"/>
                  </a:lnTo>
                  <a:lnTo>
                    <a:pt x="418" y="275"/>
                  </a:lnTo>
                  <a:lnTo>
                    <a:pt x="457" y="325"/>
                  </a:lnTo>
                  <a:lnTo>
                    <a:pt x="493" y="379"/>
                  </a:lnTo>
                  <a:lnTo>
                    <a:pt x="526" y="437"/>
                  </a:lnTo>
                  <a:lnTo>
                    <a:pt x="555" y="497"/>
                  </a:lnTo>
                  <a:lnTo>
                    <a:pt x="582" y="562"/>
                  </a:lnTo>
                  <a:lnTo>
                    <a:pt x="604" y="630"/>
                  </a:lnTo>
                  <a:lnTo>
                    <a:pt x="621" y="700"/>
                  </a:lnTo>
                  <a:lnTo>
                    <a:pt x="634" y="774"/>
                  </a:lnTo>
                  <a:lnTo>
                    <a:pt x="642" y="851"/>
                  </a:lnTo>
                  <a:lnTo>
                    <a:pt x="646" y="930"/>
                  </a:lnTo>
                  <a:lnTo>
                    <a:pt x="643" y="1011"/>
                  </a:lnTo>
                  <a:lnTo>
                    <a:pt x="636" y="1086"/>
                  </a:lnTo>
                  <a:lnTo>
                    <a:pt x="623" y="1160"/>
                  </a:lnTo>
                  <a:lnTo>
                    <a:pt x="607" y="1230"/>
                  </a:lnTo>
                  <a:lnTo>
                    <a:pt x="585" y="1297"/>
                  </a:lnTo>
                  <a:lnTo>
                    <a:pt x="561" y="1361"/>
                  </a:lnTo>
                  <a:lnTo>
                    <a:pt x="533" y="1421"/>
                  </a:lnTo>
                  <a:lnTo>
                    <a:pt x="500" y="1478"/>
                  </a:lnTo>
                  <a:lnTo>
                    <a:pt x="466" y="1532"/>
                  </a:lnTo>
                  <a:lnTo>
                    <a:pt x="428" y="1582"/>
                  </a:lnTo>
                  <a:lnTo>
                    <a:pt x="388" y="1627"/>
                  </a:lnTo>
                  <a:lnTo>
                    <a:pt x="345" y="1670"/>
                  </a:lnTo>
                  <a:lnTo>
                    <a:pt x="301" y="1709"/>
                  </a:lnTo>
                  <a:lnTo>
                    <a:pt x="254" y="1744"/>
                  </a:lnTo>
                  <a:lnTo>
                    <a:pt x="205" y="1776"/>
                  </a:lnTo>
                  <a:lnTo>
                    <a:pt x="156" y="1803"/>
                  </a:lnTo>
                  <a:lnTo>
                    <a:pt x="104" y="1826"/>
                  </a:lnTo>
                  <a:lnTo>
                    <a:pt x="53" y="1846"/>
                  </a:lnTo>
                  <a:lnTo>
                    <a:pt x="0" y="1861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fdb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6" name="Freeform 9"/>
            <p:cNvSpPr/>
            <p:nvPr/>
          </p:nvSpPr>
          <p:spPr>
            <a:xfrm rot="6256200">
              <a:off x="2798640" y="2121840"/>
              <a:ext cx="1150560" cy="3316680"/>
            </a:xfrm>
            <a:custGeom>
              <a:avLst/>
              <a:gdLst>
                <a:gd name="textAreaLeft" fmla="*/ 0 w 1150560"/>
                <a:gd name="textAreaRight" fmla="*/ 1150920 w 1150560"/>
                <a:gd name="textAreaTop" fmla="*/ 0 h 3316680"/>
                <a:gd name="textAreaBottom" fmla="*/ 3317040 h 3316680"/>
              </a:gdLst>
              <a:ahLst/>
              <a:rect l="textAreaLeft" t="textAreaTop" r="textAreaRight" b="textAreaBottom"/>
              <a:pathLst>
                <a:path w="646" h="1861">
                  <a:moveTo>
                    <a:pt x="0" y="0"/>
                  </a:moveTo>
                  <a:lnTo>
                    <a:pt x="48" y="14"/>
                  </a:lnTo>
                  <a:lnTo>
                    <a:pt x="98" y="32"/>
                  </a:lnTo>
                  <a:lnTo>
                    <a:pt x="147" y="54"/>
                  </a:lnTo>
                  <a:lnTo>
                    <a:pt x="195" y="81"/>
                  </a:lnTo>
                  <a:lnTo>
                    <a:pt x="242" y="111"/>
                  </a:lnTo>
                  <a:lnTo>
                    <a:pt x="288" y="147"/>
                  </a:lnTo>
                  <a:lnTo>
                    <a:pt x="333" y="185"/>
                  </a:lnTo>
                  <a:lnTo>
                    <a:pt x="377" y="228"/>
                  </a:lnTo>
                  <a:lnTo>
                    <a:pt x="418" y="275"/>
                  </a:lnTo>
                  <a:lnTo>
                    <a:pt x="457" y="325"/>
                  </a:lnTo>
                  <a:lnTo>
                    <a:pt x="493" y="379"/>
                  </a:lnTo>
                  <a:lnTo>
                    <a:pt x="526" y="437"/>
                  </a:lnTo>
                  <a:lnTo>
                    <a:pt x="555" y="497"/>
                  </a:lnTo>
                  <a:lnTo>
                    <a:pt x="582" y="562"/>
                  </a:lnTo>
                  <a:lnTo>
                    <a:pt x="604" y="630"/>
                  </a:lnTo>
                  <a:lnTo>
                    <a:pt x="621" y="700"/>
                  </a:lnTo>
                  <a:lnTo>
                    <a:pt x="634" y="774"/>
                  </a:lnTo>
                  <a:lnTo>
                    <a:pt x="642" y="851"/>
                  </a:lnTo>
                  <a:lnTo>
                    <a:pt x="646" y="930"/>
                  </a:lnTo>
                  <a:lnTo>
                    <a:pt x="643" y="1011"/>
                  </a:lnTo>
                  <a:lnTo>
                    <a:pt x="636" y="1086"/>
                  </a:lnTo>
                  <a:lnTo>
                    <a:pt x="623" y="1160"/>
                  </a:lnTo>
                  <a:lnTo>
                    <a:pt x="607" y="1230"/>
                  </a:lnTo>
                  <a:lnTo>
                    <a:pt x="585" y="1297"/>
                  </a:lnTo>
                  <a:lnTo>
                    <a:pt x="561" y="1361"/>
                  </a:lnTo>
                  <a:lnTo>
                    <a:pt x="533" y="1421"/>
                  </a:lnTo>
                  <a:lnTo>
                    <a:pt x="500" y="1478"/>
                  </a:lnTo>
                  <a:lnTo>
                    <a:pt x="466" y="1532"/>
                  </a:lnTo>
                  <a:lnTo>
                    <a:pt x="428" y="1582"/>
                  </a:lnTo>
                  <a:lnTo>
                    <a:pt x="388" y="1627"/>
                  </a:lnTo>
                  <a:lnTo>
                    <a:pt x="345" y="1670"/>
                  </a:lnTo>
                  <a:lnTo>
                    <a:pt x="301" y="1709"/>
                  </a:lnTo>
                  <a:lnTo>
                    <a:pt x="254" y="1744"/>
                  </a:lnTo>
                  <a:lnTo>
                    <a:pt x="205" y="1776"/>
                  </a:lnTo>
                  <a:lnTo>
                    <a:pt x="156" y="1803"/>
                  </a:lnTo>
                  <a:lnTo>
                    <a:pt x="104" y="1826"/>
                  </a:lnTo>
                  <a:lnTo>
                    <a:pt x="53" y="1846"/>
                  </a:lnTo>
                  <a:lnTo>
                    <a:pt x="0" y="1861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fdbdf"/>
                </a:gs>
              </a:gsLst>
              <a:lin ang="15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7" name="Freeform 10"/>
            <p:cNvSpPr/>
            <p:nvPr/>
          </p:nvSpPr>
          <p:spPr>
            <a:xfrm rot="14922600">
              <a:off x="4776120" y="973800"/>
              <a:ext cx="1150560" cy="3316680"/>
            </a:xfrm>
            <a:custGeom>
              <a:avLst/>
              <a:gdLst>
                <a:gd name="textAreaLeft" fmla="*/ 0 w 1150560"/>
                <a:gd name="textAreaRight" fmla="*/ 1150920 w 1150560"/>
                <a:gd name="textAreaTop" fmla="*/ 0 h 3316680"/>
                <a:gd name="textAreaBottom" fmla="*/ 3317040 h 3316680"/>
              </a:gdLst>
              <a:ahLst/>
              <a:rect l="textAreaLeft" t="textAreaTop" r="textAreaRight" b="textAreaBottom"/>
              <a:pathLst>
                <a:path w="646" h="1861">
                  <a:moveTo>
                    <a:pt x="0" y="0"/>
                  </a:moveTo>
                  <a:lnTo>
                    <a:pt x="48" y="14"/>
                  </a:lnTo>
                  <a:lnTo>
                    <a:pt x="98" y="32"/>
                  </a:lnTo>
                  <a:lnTo>
                    <a:pt x="147" y="54"/>
                  </a:lnTo>
                  <a:lnTo>
                    <a:pt x="195" y="81"/>
                  </a:lnTo>
                  <a:lnTo>
                    <a:pt x="242" y="111"/>
                  </a:lnTo>
                  <a:lnTo>
                    <a:pt x="288" y="147"/>
                  </a:lnTo>
                  <a:lnTo>
                    <a:pt x="333" y="185"/>
                  </a:lnTo>
                  <a:lnTo>
                    <a:pt x="377" y="228"/>
                  </a:lnTo>
                  <a:lnTo>
                    <a:pt x="418" y="275"/>
                  </a:lnTo>
                  <a:lnTo>
                    <a:pt x="457" y="325"/>
                  </a:lnTo>
                  <a:lnTo>
                    <a:pt x="493" y="379"/>
                  </a:lnTo>
                  <a:lnTo>
                    <a:pt x="526" y="437"/>
                  </a:lnTo>
                  <a:lnTo>
                    <a:pt x="555" y="497"/>
                  </a:lnTo>
                  <a:lnTo>
                    <a:pt x="582" y="562"/>
                  </a:lnTo>
                  <a:lnTo>
                    <a:pt x="604" y="630"/>
                  </a:lnTo>
                  <a:lnTo>
                    <a:pt x="621" y="700"/>
                  </a:lnTo>
                  <a:lnTo>
                    <a:pt x="634" y="774"/>
                  </a:lnTo>
                  <a:lnTo>
                    <a:pt x="642" y="851"/>
                  </a:lnTo>
                  <a:lnTo>
                    <a:pt x="646" y="930"/>
                  </a:lnTo>
                  <a:lnTo>
                    <a:pt x="643" y="1011"/>
                  </a:lnTo>
                  <a:lnTo>
                    <a:pt x="636" y="1086"/>
                  </a:lnTo>
                  <a:lnTo>
                    <a:pt x="623" y="1160"/>
                  </a:lnTo>
                  <a:lnTo>
                    <a:pt x="607" y="1230"/>
                  </a:lnTo>
                  <a:lnTo>
                    <a:pt x="585" y="1297"/>
                  </a:lnTo>
                  <a:lnTo>
                    <a:pt x="561" y="1361"/>
                  </a:lnTo>
                  <a:lnTo>
                    <a:pt x="533" y="1421"/>
                  </a:lnTo>
                  <a:lnTo>
                    <a:pt x="500" y="1478"/>
                  </a:lnTo>
                  <a:lnTo>
                    <a:pt x="466" y="1532"/>
                  </a:lnTo>
                  <a:lnTo>
                    <a:pt x="428" y="1582"/>
                  </a:lnTo>
                  <a:lnTo>
                    <a:pt x="388" y="1627"/>
                  </a:lnTo>
                  <a:lnTo>
                    <a:pt x="345" y="1670"/>
                  </a:lnTo>
                  <a:lnTo>
                    <a:pt x="301" y="1709"/>
                  </a:lnTo>
                  <a:lnTo>
                    <a:pt x="254" y="1744"/>
                  </a:lnTo>
                  <a:lnTo>
                    <a:pt x="205" y="1776"/>
                  </a:lnTo>
                  <a:lnTo>
                    <a:pt x="156" y="1803"/>
                  </a:lnTo>
                  <a:lnTo>
                    <a:pt x="104" y="1826"/>
                  </a:lnTo>
                  <a:lnTo>
                    <a:pt x="53" y="1846"/>
                  </a:lnTo>
                  <a:lnTo>
                    <a:pt x="0" y="1861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fdbdf"/>
                </a:gs>
              </a:gsLst>
              <a:lin ang="667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18" name="Group 11"/>
          <p:cNvGrpSpPr/>
          <p:nvPr/>
        </p:nvGrpSpPr>
        <p:grpSpPr>
          <a:xfrm>
            <a:off x="3884760" y="2786040"/>
            <a:ext cx="1339560" cy="1338120"/>
            <a:chOff x="3884760" y="2786040"/>
            <a:chExt cx="1339560" cy="1338120"/>
          </a:xfrm>
        </p:grpSpPr>
        <p:sp>
          <p:nvSpPr>
            <p:cNvPr id="219" name="Oval 12"/>
            <p:cNvSpPr/>
            <p:nvPr/>
          </p:nvSpPr>
          <p:spPr>
            <a:xfrm>
              <a:off x="3884760" y="2786040"/>
              <a:ext cx="1339560" cy="1338120"/>
            </a:xfrm>
            <a:prstGeom prst="ellipse">
              <a:avLst/>
            </a:prstGeom>
            <a:gradFill rotWithShape="0">
              <a:gsLst>
                <a:gs pos="0">
                  <a:srgbClr val="f14343"/>
                </a:gs>
                <a:gs pos="100000">
                  <a:srgbClr val="922929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0" name="Freeform 13"/>
            <p:cNvSpPr/>
            <p:nvPr/>
          </p:nvSpPr>
          <p:spPr>
            <a:xfrm>
              <a:off x="4037760" y="2808000"/>
              <a:ext cx="1033200" cy="505080"/>
            </a:xfrm>
            <a:custGeom>
              <a:avLst/>
              <a:gdLst>
                <a:gd name="textAreaLeft" fmla="*/ 0 w 1033200"/>
                <a:gd name="textAreaRight" fmla="*/ 1033560 w 103320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21" name="Text Box 14"/>
          <p:cNvSpPr/>
          <p:nvPr/>
        </p:nvSpPr>
        <p:spPr>
          <a:xfrm>
            <a:off x="4092840" y="2924280"/>
            <a:ext cx="912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暴力行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为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Text Box 15"/>
          <p:cNvSpPr/>
          <p:nvPr/>
        </p:nvSpPr>
        <p:spPr>
          <a:xfrm>
            <a:off x="1390320" y="297648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意识状态评估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Text Box 16"/>
          <p:cNvSpPr/>
          <p:nvPr/>
        </p:nvSpPr>
        <p:spPr>
          <a:xfrm>
            <a:off x="5531400" y="2147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行为评估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Text Box 17"/>
          <p:cNvSpPr/>
          <p:nvPr/>
        </p:nvSpPr>
        <p:spPr>
          <a:xfrm>
            <a:off x="3653280" y="469908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情感评估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行为评估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108000" y="1146240"/>
          <a:ext cx="9036000" cy="5457600"/>
        </p:xfrm>
        <a:graphic>
          <a:graphicData uri="http://schemas.openxmlformats.org/drawingml/2006/table">
            <a:tbl>
              <a:tblPr/>
              <a:tblGrid>
                <a:gridCol w="1631880"/>
                <a:gridCol w="7404120"/>
              </a:tblGrid>
              <a:tr h="54432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项目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             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具体表现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412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先兆行为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踱步、静坐不能、握拳或用拳击物、下颌或面部的肌肉紧张、呼吸增快、突然停止正在进行的动作、表情紧张且僵直、双目凝视或敌视医务人员，拒绝治疗和护理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44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语言方面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威胁真实或想象中的对象、强迫他人注意、大声喧哗、妄想性言语、出现辱骂、语调高或语言暗示、抗议不听劝阻、质问、过多不合理要求、对别人吹毛求疵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324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情感方面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愤怒、敌意、异常焦虑、易激惹、异常或过度欣快及情感不稳定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144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意识方面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思维混乱、精神状态突然改变、定向力缺乏、记忆力损害、无力改变自身现状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案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07640" y="1371240"/>
            <a:ext cx="8807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男性患者王某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6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，高中学生，诊断为不伴有精神病性症状的躁狂发作。 患者的父亲职业为安保工作，平时对患者家教较为严厉，王某小时候常因不听话而被其父亲打。从上高中以后患者成绩下降，常出入网吧，沉迷于网游，利用网络游戏赌博，自称“小霸王”。入院后患者话多，好管闲事，常与病友发生口角，有时喜欢嘲笑并欺负病友。一日在吸烟时，王某大叫恐吓某位病友，并用脚踢病友，该病友抓住王某右手中指反抗，将王某中指扭伤。护士发现后及时将二人分开，给予王某医学保护性约束。约束期间王某情绪激动，扬言要报复病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刘云涛</cp:lastModifiedBy>
  <cp:lastPrinted>1899-12-30T00:00:00Z</cp:lastPrinted>
  <dcterms:modified xsi:type="dcterms:W3CDTF">2015-09-07T11:30:51Z</dcterms:modified>
  <cp:revision>62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