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56CD7-EF54-4675-B9AB-1672304826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4FE6-C9FC-4266-892D-BD258CB2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5F38-59ED-4BC2-B009-66D0EE8D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2DF6-05C6-4FBE-906E-CD8237F32E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D51B-CF23-475D-9A44-7467156B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FBE1C-9BB5-41B6-93F3-A066A64B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3C36-5E93-4E15-80D9-7760D74D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C888-4897-4A02-9F1D-9081002C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6B82-2A6A-44C7-BD07-69240AF5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5FC3-CF9E-4C11-B50F-8C6C5CF9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A834-6DD5-4DE1-85DD-1E47C6DF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7F7EC-9ACF-4D94-90F6-84C25A70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5B0C-4F5C-4FA5-840D-BF5BE9DC4B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儿营养与喂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西藏大学护理系     普珍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5FD4-060C-4F8F-85FC-0112CB0F26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84" name="矩形 2"/>
          <p:cNvGrpSpPr/>
          <p:nvPr/>
        </p:nvGrpSpPr>
        <p:grpSpPr>
          <a:xfrm>
            <a:off x="450720" y="2803680"/>
            <a:ext cx="2249640" cy="1029960"/>
            <a:chOff x="450720" y="2803680"/>
            <a:chExt cx="2249640" cy="1029960"/>
          </a:xfrm>
        </p:grpSpPr>
        <p:pic>
          <p:nvPicPr>
            <p:cNvPr id="185" name="矩形 2" descr=""/>
            <p:cNvPicPr/>
            <p:nvPr/>
          </p:nvPicPr>
          <p:blipFill>
            <a:blip r:embed="rId1"/>
            <a:stretch/>
          </p:blipFill>
          <p:spPr>
            <a:xfrm>
              <a:off x="450720" y="2803680"/>
              <a:ext cx="22496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1080" y="2820960"/>
              <a:ext cx="1873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婴儿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矩形 6"/>
          <p:cNvGrpSpPr/>
          <p:nvPr/>
        </p:nvGrpSpPr>
        <p:grpSpPr>
          <a:xfrm>
            <a:off x="3041640" y="2620800"/>
            <a:ext cx="3243240" cy="1354320"/>
            <a:chOff x="3041640" y="2620800"/>
            <a:chExt cx="3243240" cy="1354320"/>
          </a:xfrm>
        </p:grpSpPr>
        <p:pic>
          <p:nvPicPr>
            <p:cNvPr id="188" name="矩形 6" descr=""/>
            <p:cNvPicPr/>
            <p:nvPr/>
          </p:nvPicPr>
          <p:blipFill>
            <a:blip r:embed="rId2"/>
            <a:stretch/>
          </p:blipFill>
          <p:spPr>
            <a:xfrm>
              <a:off x="3041640" y="2620800"/>
              <a:ext cx="32432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00560" y="2638440"/>
              <a:ext cx="28717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部分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（混合喂养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矩形 7"/>
          <p:cNvGrpSpPr/>
          <p:nvPr/>
        </p:nvGrpSpPr>
        <p:grpSpPr>
          <a:xfrm>
            <a:off x="3035160" y="4005360"/>
            <a:ext cx="3256200" cy="1023840"/>
            <a:chOff x="3035160" y="4005360"/>
            <a:chExt cx="3256200" cy="1023840"/>
          </a:xfrm>
        </p:grpSpPr>
        <p:pic>
          <p:nvPicPr>
            <p:cNvPr id="191" name="矩形 7" descr=""/>
            <p:cNvPicPr/>
            <p:nvPr/>
          </p:nvPicPr>
          <p:blipFill>
            <a:blip r:embed="rId3"/>
            <a:stretch/>
          </p:blipFill>
          <p:spPr>
            <a:xfrm>
              <a:off x="3035160" y="4005360"/>
              <a:ext cx="3256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395520" y="4019400"/>
              <a:ext cx="288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人工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矩形 8"/>
          <p:cNvGrpSpPr/>
          <p:nvPr/>
        </p:nvGrpSpPr>
        <p:grpSpPr>
          <a:xfrm>
            <a:off x="3041640" y="1511280"/>
            <a:ext cx="3255840" cy="1030320"/>
            <a:chOff x="3041640" y="1511280"/>
            <a:chExt cx="3255840" cy="1030320"/>
          </a:xfrm>
        </p:grpSpPr>
        <p:pic>
          <p:nvPicPr>
            <p:cNvPr id="194" name="矩形 8" descr=""/>
            <p:cNvPicPr/>
            <p:nvPr/>
          </p:nvPicPr>
          <p:blipFill>
            <a:blip r:embed="rId4"/>
            <a:stretch/>
          </p:blipFill>
          <p:spPr>
            <a:xfrm>
              <a:off x="3041640" y="1511280"/>
              <a:ext cx="325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400560" y="1528920"/>
              <a:ext cx="28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左大括号 4"/>
          <p:cNvSpPr/>
          <p:nvPr/>
        </p:nvSpPr>
        <p:spPr>
          <a:xfrm>
            <a:off x="2843280" y="1852560"/>
            <a:ext cx="288720" cy="2584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584440"/>
              <a:gd name="textAreaBottom" fmla="*/ 2577240 h 258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D094-5F03-4149-8597-463CD7D4D9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998640" y="301464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每年的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-7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为世界母乳喂养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998640" y="2089080"/>
            <a:ext cx="73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98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发布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护促进和支持母乳喂养的联合声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998640" y="39337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被定为母乳喂养宣传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154764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初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2340000" y="31305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以内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2340000" y="377820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色黄黏稠量少、脂肪少、免疫球蛋白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牛磺酸、免疫因子如初乳小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维生素、微量元素锌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5ml/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次，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50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横卷形 13"/>
          <p:cNvSpPr/>
          <p:nvPr/>
        </p:nvSpPr>
        <p:spPr>
          <a:xfrm>
            <a:off x="1943280" y="944640"/>
            <a:ext cx="4824360" cy="1511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随着时间的变化成分会发生怎样的变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？？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432080" y="182880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过渡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419640" y="15336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肪高、蛋白及矿物质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1432080" y="338148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成熟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3419640" y="3022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量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700~10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1650960" y="488304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晚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3419640" y="4581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以后的乳汁量及营养成分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右箭头 8"/>
          <p:cNvSpPr/>
          <p:nvPr/>
        </p:nvSpPr>
        <p:spPr>
          <a:xfrm>
            <a:off x="2703600" y="1963800"/>
            <a:ext cx="716040" cy="2538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右箭头 9"/>
          <p:cNvSpPr/>
          <p:nvPr/>
        </p:nvSpPr>
        <p:spPr>
          <a:xfrm>
            <a:off x="2703600" y="3495600"/>
            <a:ext cx="716040" cy="254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右箭头 10"/>
          <p:cNvSpPr/>
          <p:nvPr/>
        </p:nvSpPr>
        <p:spPr>
          <a:xfrm>
            <a:off x="2703600" y="5049720"/>
            <a:ext cx="716040" cy="255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图片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FFF0-A685-463D-A48E-6DB927E14F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2556000" y="233208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营养丰富，易消化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835280" y="1549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优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556000" y="295416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增进婴儿抗病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2556000" y="357516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婴儿脑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556000" y="41972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清洁、经济、方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文本框 12"/>
          <p:cNvSpPr/>
          <p:nvPr/>
        </p:nvSpPr>
        <p:spPr>
          <a:xfrm>
            <a:off x="2556000" y="48182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感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文本框 13"/>
          <p:cNvSpPr/>
          <p:nvPr/>
        </p:nvSpPr>
        <p:spPr>
          <a:xfrm>
            <a:off x="2556000" y="544032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母亲的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95DD-8FF5-41EB-8513-410167D0BA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时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1692360" y="265284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喂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，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1692360" y="19191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开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正常为生后半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1692360" y="3384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断奶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3517d"/>
                </a:solidFill>
                <a:latin typeface="Adobe Gothic Std B"/>
                <a:ea typeface="Adobe Gothic Std 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1763640" y="14558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产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1763640" y="238752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乳头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1763640" y="331956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1" action="ppaction://hlinksldjump"/>
              </a:rPr>
              <a:t>母乳喂养的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1763640" y="42512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断乳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1763640" y="518328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文本框 19"/>
          <p:cNvSpPr/>
          <p:nvPr/>
        </p:nvSpPr>
        <p:spPr>
          <a:xfrm>
            <a:off x="1714680" y="177336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孕母树立信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良好心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乳头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、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轻易添加乳制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乳母哺乳期间慎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断奶前先加辅食，避免在夏季或生病时断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图片 5" descr=""/>
          <p:cNvPicPr/>
          <p:nvPr/>
        </p:nvPicPr>
        <p:blipFill>
          <a:blip r:embed="rId1"/>
          <a:stretch/>
        </p:blipFill>
        <p:spPr>
          <a:xfrm>
            <a:off x="9360" y="1608120"/>
            <a:ext cx="5086440" cy="33130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" descr=""/>
          <p:cNvPicPr/>
          <p:nvPr/>
        </p:nvPicPr>
        <p:blipFill>
          <a:blip r:embed="rId2"/>
          <a:stretch/>
        </p:blipFill>
        <p:spPr>
          <a:xfrm>
            <a:off x="5202360" y="2139840"/>
            <a:ext cx="3941640" cy="225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确的哺乳姿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860400" y="52070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不同的喂养姿势均应注意将整个乳头和大部分乳晕置入婴儿口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文本框 9"/>
          <p:cNvSpPr/>
          <p:nvPr/>
        </p:nvSpPr>
        <p:spPr>
          <a:xfrm>
            <a:off x="5126040" y="534528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喂完后均需轻拍婴儿背部使空气排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9" name="直接箭头连接符 11"/>
          <p:cNvCxnSpPr/>
          <p:nvPr/>
        </p:nvCxnSpPr>
        <p:spPr>
          <a:xfrm flipV="1">
            <a:off x="4336920" y="5515920"/>
            <a:ext cx="759600" cy="13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43280" y="2038320"/>
            <a:ext cx="43927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营养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婴儿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1122480" y="2308320"/>
            <a:ext cx="6984720" cy="664920"/>
            <a:chOff x="1122480" y="2308320"/>
            <a:chExt cx="6984720" cy="664920"/>
          </a:xfrm>
        </p:grpSpPr>
        <p:grpSp>
          <p:nvGrpSpPr>
            <p:cNvPr id="253" name="Group 13"/>
            <p:cNvGrpSpPr/>
            <p:nvPr/>
          </p:nvGrpSpPr>
          <p:grpSpPr>
            <a:xfrm>
              <a:off x="1122480" y="2308320"/>
              <a:ext cx="761400" cy="664920"/>
              <a:chOff x="1122480" y="2308320"/>
              <a:chExt cx="761400" cy="664920"/>
            </a:xfrm>
          </p:grpSpPr>
          <p:sp>
            <p:nvSpPr>
              <p:cNvPr id="254" name="AutoShape 14"/>
              <p:cNvSpPr/>
              <p:nvPr/>
            </p:nvSpPr>
            <p:spPr>
              <a:xfrm>
                <a:off x="1128600" y="23194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5"/>
              <p:cNvSpPr/>
              <p:nvPr/>
            </p:nvSpPr>
            <p:spPr>
              <a:xfrm>
                <a:off x="1122480" y="2308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1166760" y="23479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7" name="矩形 7"/>
            <p:cNvSpPr/>
            <p:nvPr/>
          </p:nvSpPr>
          <p:spPr>
            <a:xfrm>
              <a:off x="2052720" y="2367000"/>
              <a:ext cx="605448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有急慢性传染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组合 9"/>
          <p:cNvGrpSpPr/>
          <p:nvPr/>
        </p:nvGrpSpPr>
        <p:grpSpPr>
          <a:xfrm>
            <a:off x="1116000" y="1452600"/>
            <a:ext cx="6985080" cy="665280"/>
            <a:chOff x="1116000" y="1452600"/>
            <a:chExt cx="698508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1116000" y="1452600"/>
              <a:ext cx="761400" cy="665280"/>
              <a:chOff x="1116000" y="14526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1122120" y="1463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1116000" y="1452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1160280" y="1492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矩形 11"/>
            <p:cNvSpPr/>
            <p:nvPr/>
          </p:nvSpPr>
          <p:spPr>
            <a:xfrm>
              <a:off x="2046240" y="151128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乳母患慢性消耗性疾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1116000" y="3164040"/>
            <a:ext cx="6985080" cy="664920"/>
            <a:chOff x="1116000" y="3164040"/>
            <a:chExt cx="6985080" cy="664920"/>
          </a:xfrm>
        </p:grpSpPr>
        <p:grpSp>
          <p:nvGrpSpPr>
            <p:cNvPr id="265" name="Group 13"/>
            <p:cNvGrpSpPr/>
            <p:nvPr/>
          </p:nvGrpSpPr>
          <p:grpSpPr>
            <a:xfrm>
              <a:off x="1116000" y="3164040"/>
              <a:ext cx="761400" cy="664920"/>
              <a:chOff x="1116000" y="3164040"/>
              <a:chExt cx="761400" cy="66492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1122120" y="31752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1116000" y="31640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1160280" y="32036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矩形 17"/>
            <p:cNvSpPr/>
            <p:nvPr/>
          </p:nvSpPr>
          <p:spPr>
            <a:xfrm>
              <a:off x="2046240" y="3222720"/>
              <a:ext cx="605484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再次妊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1160640" y="4014720"/>
            <a:ext cx="6940440" cy="665280"/>
            <a:chOff x="1160640" y="4014720"/>
            <a:chExt cx="6940440" cy="665280"/>
          </a:xfrm>
        </p:grpSpPr>
        <p:grpSp>
          <p:nvGrpSpPr>
            <p:cNvPr id="271" name="Group 13"/>
            <p:cNvGrpSpPr/>
            <p:nvPr/>
          </p:nvGrpSpPr>
          <p:grpSpPr>
            <a:xfrm>
              <a:off x="1160640" y="4014720"/>
              <a:ext cx="761400" cy="665280"/>
              <a:chOff x="1160640" y="4014720"/>
              <a:chExt cx="761400" cy="66528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1166760" y="4025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15"/>
              <p:cNvSpPr/>
              <p:nvPr/>
            </p:nvSpPr>
            <p:spPr>
              <a:xfrm>
                <a:off x="1160640" y="4014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6"/>
              <p:cNvSpPr/>
              <p:nvPr/>
            </p:nvSpPr>
            <p:spPr>
              <a:xfrm>
                <a:off x="1204920" y="4054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5" name="矩形 23"/>
            <p:cNvSpPr/>
            <p:nvPr/>
          </p:nvSpPr>
          <p:spPr>
            <a:xfrm>
              <a:off x="2090880" y="4073400"/>
              <a:ext cx="601020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乳腺炎、乳头皲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6" name="组合 27"/>
          <p:cNvGrpSpPr/>
          <p:nvPr/>
        </p:nvGrpSpPr>
        <p:grpSpPr>
          <a:xfrm>
            <a:off x="1116000" y="4870440"/>
            <a:ext cx="6985080" cy="665280"/>
            <a:chOff x="1116000" y="4870440"/>
            <a:chExt cx="6985080" cy="665280"/>
          </a:xfrm>
        </p:grpSpPr>
        <p:grpSp>
          <p:nvGrpSpPr>
            <p:cNvPr id="277" name="Group 13"/>
            <p:cNvGrpSpPr/>
            <p:nvPr/>
          </p:nvGrpSpPr>
          <p:grpSpPr>
            <a:xfrm>
              <a:off x="1116000" y="4870440"/>
              <a:ext cx="761400" cy="665280"/>
              <a:chOff x="1116000" y="4870440"/>
              <a:chExt cx="761400" cy="665280"/>
            </a:xfrm>
          </p:grpSpPr>
          <p:sp>
            <p:nvSpPr>
              <p:cNvPr id="278" name="AutoShape 14"/>
              <p:cNvSpPr/>
              <p:nvPr/>
            </p:nvSpPr>
            <p:spPr>
              <a:xfrm>
                <a:off x="1122120" y="48816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15"/>
              <p:cNvSpPr/>
              <p:nvPr/>
            </p:nvSpPr>
            <p:spPr>
              <a:xfrm>
                <a:off x="1116000" y="4870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16"/>
              <p:cNvSpPr/>
              <p:nvPr/>
            </p:nvSpPr>
            <p:spPr>
              <a:xfrm>
                <a:off x="1160280" y="49100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矩形 29"/>
            <p:cNvSpPr/>
            <p:nvPr/>
          </p:nvSpPr>
          <p:spPr>
            <a:xfrm>
              <a:off x="2046240" y="492912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新生儿患有遗传代谢病，如半乳糖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部分母乳喂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混合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1228680" y="17748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母乳与配方奶或兽乳同时喂养婴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1228680" y="2637000"/>
            <a:ext cx="57610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方法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代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774720" y="1484280"/>
            <a:ext cx="711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由于各种原因不能进行母乳喂养时，以配方奶或其他代乳品完全替代母乳喂养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774720" y="4041720"/>
            <a:ext cx="31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优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成分相对接近母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来源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价格便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文本框 5"/>
          <p:cNvSpPr/>
          <p:nvPr/>
        </p:nvSpPr>
        <p:spPr>
          <a:xfrm>
            <a:off x="784080" y="3114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517d"/>
                </a:solidFill>
                <a:latin typeface="黑体"/>
                <a:ea typeface="黑体"/>
              </a:rPr>
              <a:t>牛奶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常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4481640" y="4041720"/>
            <a:ext cx="31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缺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易消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锌铜含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钙磷比例不合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4B18-68AB-4366-838C-F5EC808D4D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牛乳加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2050920" y="1498680"/>
            <a:ext cx="61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降低牛奶矿物质、蛋白质浓度，减轻婴儿消化道、肾负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文本框 9"/>
          <p:cNvSpPr/>
          <p:nvPr/>
        </p:nvSpPr>
        <p:spPr>
          <a:xfrm>
            <a:off x="779400" y="1571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文本框 10"/>
          <p:cNvSpPr/>
          <p:nvPr/>
        </p:nvSpPr>
        <p:spPr>
          <a:xfrm>
            <a:off x="779400" y="3819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文本框 11"/>
          <p:cNvSpPr/>
          <p:nvPr/>
        </p:nvSpPr>
        <p:spPr>
          <a:xfrm>
            <a:off x="2046240" y="500364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灭菌；使奶中的蛋白质变性，使之在胃中不易凝成大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779400" y="5024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2049480" y="38448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改变三大产能物质的比例，利于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2050920" y="2430360"/>
            <a:ext cx="62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生后不满两周者采用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奶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水）；以后逐渐过渡到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；满月后即可用全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049480" y="434340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每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0ml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可加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，以蔗糖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下箭头 18"/>
          <p:cNvSpPr/>
          <p:nvPr/>
        </p:nvSpPr>
        <p:spPr>
          <a:xfrm>
            <a:off x="1138320" y="2265480"/>
            <a:ext cx="185760" cy="13017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下箭头 19"/>
          <p:cNvSpPr/>
          <p:nvPr/>
        </p:nvSpPr>
        <p:spPr>
          <a:xfrm>
            <a:off x="1138320" y="4378320"/>
            <a:ext cx="185760" cy="735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643040" y="3214800"/>
            <a:ext cx="32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全脂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1857240" y="3786120"/>
            <a:ext cx="46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重量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粉加水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857240" y="4295880"/>
            <a:ext cx="50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体积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奶粉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矩形 6"/>
          <p:cNvSpPr/>
          <p:nvPr/>
        </p:nvSpPr>
        <p:spPr>
          <a:xfrm>
            <a:off x="1000080" y="135720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配方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参照母乳组成成分和模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人工喂养的首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文本框 3"/>
          <p:cNvSpPr/>
          <p:nvPr/>
        </p:nvSpPr>
        <p:spPr>
          <a:xfrm>
            <a:off x="2195640" y="19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嘴适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温应与体温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避免空气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注意奶具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及时调整奶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婴儿食物转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2411280" y="1542960"/>
            <a:ext cx="5832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充乳类营养素的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为断奶做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良好的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2411280" y="4341960"/>
            <a:ext cx="6446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换乳期食物的添加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9e0606"/>
                </a:solidFill>
                <a:latin typeface="楷体_GB2312"/>
                <a:ea typeface="楷体_GB2312"/>
              </a:rPr>
              <a:t>补充食物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文本框 2"/>
          <p:cNvSpPr/>
          <p:nvPr/>
        </p:nvSpPr>
        <p:spPr>
          <a:xfrm>
            <a:off x="554040" y="1631880"/>
            <a:ext cx="85899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原则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从少到多、由稀到稠、从细到粗、每次添加一种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554040" y="2820960"/>
            <a:ext cx="836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注意事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在婴儿健康、消化功能正常时添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当注意婴儿有无过敏反应，如腹胀、腹泻、皮疹、流涕或流泪、异常不安或哭闹等，若出现过敏反应后应停止最近添加的食物，严密观察并寻找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食物转换的原则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11040" y="1773360"/>
          <a:ext cx="8569440" cy="3174840"/>
        </p:xfrm>
        <a:graphic>
          <a:graphicData uri="http://schemas.openxmlformats.org/drawingml/2006/table">
            <a:tbl>
              <a:tblPr/>
              <a:tblGrid>
                <a:gridCol w="1511280"/>
                <a:gridCol w="1165320"/>
                <a:gridCol w="3011400"/>
                <a:gridCol w="28814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月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食物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作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泥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菜泥、水果泥、含铁配方米粉、蛋黄、配方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量、增加动植物蛋白、补铁、补充维生素和矿物质、膳食纤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末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粥、饼干、馒头片、鱼泥、肝泥、蛋、肉末、豆腐、水果、菜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增加热量、训练咀嚼，补充动物蛋白、铁、锌及维生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碎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软饭、面条、面包、碎菜、碎肉、豆制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能、各种维生素和矿物质、蛋白质、纤维素，训练咀嚼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换乳期食物的添加顺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979640" y="1989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幼儿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儿和青春期少年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说出小儿营能量和营养素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描述母乳喂养的优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解释小儿物质代谢特点及营养需要量的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比较几种不同婴儿喂养方法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小儿家长正确添加婴幼儿的换乳期食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乳母进行正确的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F83C-AD54-47F4-81BC-BE553E2145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矩形 2" descr=""/>
          <p:cNvPicPr/>
          <p:nvPr/>
        </p:nvPicPr>
        <p:blipFill>
          <a:blip r:embed="rId1"/>
          <a:stretch/>
        </p:blipFill>
        <p:spPr>
          <a:xfrm>
            <a:off x="1438200" y="2749680"/>
            <a:ext cx="626760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一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小儿营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D6DB-6B18-4B73-8D91-7A8DA046AC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小儿能量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861840" y="1565280"/>
            <a:ext cx="257976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基础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5"/>
          <p:cNvSpPr/>
          <p:nvPr/>
        </p:nvSpPr>
        <p:spPr>
          <a:xfrm>
            <a:off x="858960" y="327492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圆角矩形 6"/>
          <p:cNvSpPr/>
          <p:nvPr/>
        </p:nvSpPr>
        <p:spPr>
          <a:xfrm>
            <a:off x="858960" y="2424240"/>
            <a:ext cx="2582640" cy="585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食物热力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858960" y="4124160"/>
            <a:ext cx="2582640" cy="586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长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8"/>
          <p:cNvSpPr/>
          <p:nvPr/>
        </p:nvSpPr>
        <p:spPr>
          <a:xfrm>
            <a:off x="858960" y="497844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排泄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文本框 14"/>
          <p:cNvSpPr/>
          <p:nvPr/>
        </p:nvSpPr>
        <p:spPr>
          <a:xfrm>
            <a:off x="3540240" y="2465280"/>
            <a:ext cx="55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指食物代谢过程中所消耗的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文本框 15"/>
          <p:cNvSpPr/>
          <p:nvPr/>
        </p:nvSpPr>
        <p:spPr>
          <a:xfrm>
            <a:off x="3540240" y="41781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儿期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右箭头 2"/>
          <p:cNvSpPr/>
          <p:nvPr/>
        </p:nvSpPr>
        <p:spPr>
          <a:xfrm flipV="1">
            <a:off x="3451320" y="4368240"/>
            <a:ext cx="576000" cy="96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e230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右箭头 3"/>
          <p:cNvSpPr/>
          <p:nvPr/>
        </p:nvSpPr>
        <p:spPr>
          <a:xfrm>
            <a:off x="3476520" y="2695680"/>
            <a:ext cx="506520" cy="46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8ac8de"/>
          </a:solidFill>
          <a:ln w="5724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2050920" y="278136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婴幼儿基础代谢相对较成人高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%</a:t>
            </a:r>
            <a:r>
              <a:rPr b="0" lang="en-US" sz="2400" spc="-1" strike="noStrike">
                <a:solidFill>
                  <a:srgbClr val="03517d"/>
                </a:solidFill>
                <a:latin typeface="PMingLiU"/>
                <a:ea typeface="PMingLiU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长发育所需能量为小儿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随小儿年龄增长，活动量大，所需能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蛋白质供给量相对越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相对总能量需要越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云形标注 9"/>
          <p:cNvSpPr/>
          <p:nvPr/>
        </p:nvSpPr>
        <p:spPr>
          <a:xfrm>
            <a:off x="1257480" y="1157400"/>
            <a:ext cx="4106520" cy="1407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有哪些特点呢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838080" y="14605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宏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文本框 6"/>
          <p:cNvSpPr/>
          <p:nvPr/>
        </p:nvSpPr>
        <p:spPr>
          <a:xfrm>
            <a:off x="1008000" y="25765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碳水化合物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008000" y="347184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类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008000" y="4411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蛋白质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8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文本框 24"/>
          <p:cNvSpPr/>
          <p:nvPr/>
        </p:nvSpPr>
        <p:spPr>
          <a:xfrm>
            <a:off x="4738680" y="2585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文本框 25"/>
          <p:cNvSpPr/>
          <p:nvPr/>
        </p:nvSpPr>
        <p:spPr>
          <a:xfrm>
            <a:off x="6012000" y="3459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4118040" y="43974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命的物质基础、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文本框 38"/>
          <p:cNvSpPr/>
          <p:nvPr/>
        </p:nvSpPr>
        <p:spPr>
          <a:xfrm>
            <a:off x="3419640" y="3429000"/>
            <a:ext cx="136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随着年龄增加而减少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5" name="直接箭头连接符 7177"/>
          <p:cNvCxnSpPr/>
          <p:nvPr/>
        </p:nvCxnSpPr>
        <p:spPr>
          <a:xfrm>
            <a:off x="3492000" y="3789000"/>
            <a:ext cx="1151640" cy="108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56" name="文本框 46"/>
          <p:cNvSpPr/>
          <p:nvPr/>
        </p:nvSpPr>
        <p:spPr>
          <a:xfrm>
            <a:off x="4716360" y="351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708120" y="4202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其他膳食成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文本框 5"/>
          <p:cNvSpPr/>
          <p:nvPr/>
        </p:nvSpPr>
        <p:spPr>
          <a:xfrm>
            <a:off x="662040" y="50166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膳食纤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en-US" sz="2400" spc="-1" strike="noStrike">
                <a:solidFill>
                  <a:srgbClr val="03517d"/>
                </a:solidFill>
                <a:latin typeface="PMingLiU-ExtB"/>
                <a:ea typeface="PMingLiU-Ext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5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4540320" y="505944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组合 21"/>
          <p:cNvGrpSpPr/>
          <p:nvPr/>
        </p:nvGrpSpPr>
        <p:grpSpPr>
          <a:xfrm>
            <a:off x="2649600" y="4937040"/>
            <a:ext cx="1874880" cy="802440"/>
            <a:chOff x="2649600" y="4937040"/>
            <a:chExt cx="1874880" cy="802440"/>
          </a:xfrm>
        </p:grpSpPr>
        <p:sp>
          <p:nvSpPr>
            <p:cNvPr id="162" name="文本框 8"/>
            <p:cNvSpPr/>
            <p:nvPr/>
          </p:nvSpPr>
          <p:spPr>
            <a:xfrm>
              <a:off x="2649600" y="537120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不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文本框 9"/>
            <p:cNvSpPr/>
            <p:nvPr/>
          </p:nvSpPr>
          <p:spPr>
            <a:xfrm>
              <a:off x="2654280" y="493704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可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4" name="文本框 10"/>
          <p:cNvSpPr/>
          <p:nvPr/>
        </p:nvSpPr>
        <p:spPr>
          <a:xfrm>
            <a:off x="5673600" y="4637160"/>
            <a:ext cx="324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内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后每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约减少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5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成人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0~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708120" y="15159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微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1101600" y="222084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1101600" y="317484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矿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组合 19"/>
          <p:cNvGrpSpPr/>
          <p:nvPr/>
        </p:nvGrpSpPr>
        <p:grpSpPr>
          <a:xfrm>
            <a:off x="2505240" y="2065320"/>
            <a:ext cx="4203360" cy="937080"/>
            <a:chOff x="2505240" y="2065320"/>
            <a:chExt cx="4203360" cy="937080"/>
          </a:xfrm>
        </p:grpSpPr>
        <p:sp>
          <p:nvSpPr>
            <p:cNvPr id="169" name="文本框 15"/>
            <p:cNvSpPr/>
            <p:nvPr/>
          </p:nvSpPr>
          <p:spPr>
            <a:xfrm>
              <a:off x="2505240" y="2065320"/>
              <a:ext cx="42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脂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D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E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K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2509560" y="2603520"/>
              <a:ext cx="37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水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B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C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2421000" y="3141720"/>
            <a:ext cx="5624280" cy="808560"/>
            <a:chOff x="2421000" y="3141720"/>
            <a:chExt cx="5624280" cy="808560"/>
          </a:xfrm>
        </p:grpSpPr>
        <p:sp>
          <p:nvSpPr>
            <p:cNvPr id="172" name="文本框 17"/>
            <p:cNvSpPr/>
            <p:nvPr/>
          </p:nvSpPr>
          <p:spPr>
            <a:xfrm>
              <a:off x="2424960" y="3141720"/>
              <a:ext cx="56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常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g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C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P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Mg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N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K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文本框 18"/>
            <p:cNvSpPr/>
            <p:nvPr/>
          </p:nvSpPr>
          <p:spPr>
            <a:xfrm>
              <a:off x="2421000" y="3551400"/>
              <a:ext cx="41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微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l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I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Zn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4" name="左大括号 20"/>
          <p:cNvSpPr/>
          <p:nvPr/>
        </p:nvSpPr>
        <p:spPr>
          <a:xfrm>
            <a:off x="2482920" y="4992840"/>
            <a:ext cx="129960" cy="583920"/>
          </a:xfrm>
          <a:custGeom>
            <a:avLst/>
            <a:gdLst>
              <a:gd name="textAreaLeft" fmla="*/ 83160 w 129960"/>
              <a:gd name="textAreaRight" fmla="*/ 130320 w 129960"/>
              <a:gd name="textAreaTop" fmla="*/ 3240 h 583920"/>
              <a:gd name="textAreaBottom" fmla="*/ 580680 h 58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5" name="直接箭头连接符 23"/>
          <p:cNvCxnSpPr/>
          <p:nvPr/>
        </p:nvCxnSpPr>
        <p:spPr>
          <a:xfrm>
            <a:off x="5003640" y="5316120"/>
            <a:ext cx="596160" cy="1080"/>
          </a:xfrm>
          <a:prstGeom prst="straightConnector1">
            <a:avLst/>
          </a:prstGeom>
          <a:ln w="3816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76" name="左大括号 24"/>
          <p:cNvSpPr/>
          <p:nvPr/>
        </p:nvSpPr>
        <p:spPr>
          <a:xfrm>
            <a:off x="2290680" y="2208240"/>
            <a:ext cx="130320" cy="5824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2480"/>
              <a:gd name="textAreaBottom" fmla="*/ 57924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2"/>
                </a:cubicBezTo>
                <a:lnTo>
                  <a:pt x="10800" y="10398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2"/>
                </a:cubicBezTo>
                <a:lnTo>
                  <a:pt x="10800" y="21198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左大括号 25"/>
          <p:cNvSpPr/>
          <p:nvPr/>
        </p:nvSpPr>
        <p:spPr>
          <a:xfrm>
            <a:off x="2290680" y="3205080"/>
            <a:ext cx="130320" cy="5842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4280"/>
              <a:gd name="textAreaBottom" fmla="*/ 58104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9:13:30Z</dcterms:modified>
  <cp:revision>9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