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BFFEF-CFC2-4A47-B394-3399B2F0FC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796AC-86BB-42C2-85C0-74F0DAF9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BA66-4C57-4F45-BF20-0A3FC100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BED61-170B-49C3-8700-4ED6D17D12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8A3D-E269-400B-AEC0-70F0A639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2ED58-DE03-46FB-A69A-8F5406B5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3AEF-3C83-4E9B-BCD4-FA3A7169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3CA9E-10FD-43FA-B977-3E642B05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F9E7-6D2E-4945-96D4-5399A890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209A3-2C8F-42FF-ADEC-83A39200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08AB-5D64-4AD2-A4C0-A5DD6D57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31BB6-BCD1-411A-95C1-34204BB7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E998-E09E-4799-B541-33FF34DDA93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循环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哈尔滨医科大学护理学院    吴心琦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27640" y="1989000"/>
            <a:ext cx="3384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74" y="-3128"/>
                </a:moveTo>
                <a:lnTo>
                  <a:pt x="-486" y="1632"/>
                </a:lnTo>
              </a:path>
              <a:path w="21600" h="21600">
                <a:moveTo>
                  <a:pt x="-486" y="0"/>
                </a:moveTo>
                <a:lnTo>
                  <a:pt x="-4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体积相对成人较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左、右心室增长不均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在胸腔的位置随年龄增长也在发生着变化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700360" y="2565360"/>
            <a:ext cx="6192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5" y="8179"/>
                </a:moveTo>
                <a:lnTo>
                  <a:pt x="-266" y="1429"/>
                </a:lnTo>
              </a:path>
              <a:path w="21600" h="21600">
                <a:moveTo>
                  <a:pt x="-266" y="0"/>
                </a:moveTo>
                <a:lnTo>
                  <a:pt x="-2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年龄      心率（次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分）     收缩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    舒张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新生儿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0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                       4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＜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1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                       5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           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          5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            85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5                       5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9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2700360" y="4724280"/>
            <a:ext cx="6048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771"/>
                </a:moveTo>
                <a:lnTo>
                  <a:pt x="-272" y="1632"/>
                </a:lnTo>
              </a:path>
              <a:path w="21600" h="21600">
                <a:moveTo>
                  <a:pt x="-272" y="0"/>
                </a:moveTo>
                <a:lnTo>
                  <a:pt x="-27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岁以后收缩压可按公式计算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收缩压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(mmHg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＝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2+80mmHg(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0.26+10.7kPa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舒张压为收缩压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/3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V="1">
            <a:off x="1763640" y="3933720"/>
            <a:ext cx="863640" cy="71928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称先心病，是胎儿时期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心脏及大血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异常导致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先天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畸形，是小儿最常见的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遗传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276720" y="1916280"/>
            <a:ext cx="223200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603" y="-3861"/>
                </a:moveTo>
                <a:lnTo>
                  <a:pt x="-737" y="2015"/>
                </a:lnTo>
              </a:path>
              <a:path w="21600" h="21600">
                <a:moveTo>
                  <a:pt x="-737" y="0"/>
                </a:moveTo>
                <a:lnTo>
                  <a:pt x="-73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染色体异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单一基因突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多基因病变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244680" y="3570120"/>
            <a:ext cx="4856400" cy="194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138" y="6395"/>
                </a:moveTo>
                <a:lnTo>
                  <a:pt x="-339" y="1269"/>
                </a:lnTo>
              </a:path>
              <a:path w="21600" h="21600">
                <a:moveTo>
                  <a:pt x="-339" y="0"/>
                </a:moveTo>
                <a:lnTo>
                  <a:pt x="-33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主要是宫内感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缺乏叶酸、接触大量的放射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服用抗癫痫、抗癌等药物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患代谢紊乱性疾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妊娠早期孕妇大量饮酒、吸毒、食用锂盐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气浓度低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左向右分流型（潜伏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右向左分流型（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分流型 （无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室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心脏胚胎室间隔发育不全形成的左、右心室间的异常通道，是小儿最常见的先天性心脏病，约占我国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独存在，其余常合并其他复杂先心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外科手术切口结合，按缺损解剖位置不同，可分为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膜周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肌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双动脉下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按缺损的大小分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55640" y="3357720"/>
            <a:ext cx="756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型室缺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(Rog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病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)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型室缺         大型室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直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mm)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              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面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cm2)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5          0.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5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0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流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少              中等              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症状              无或轻微            有              明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肺血管            可无影响          有影响            肺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注：从肺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二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中减去主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三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即所谓的分流量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755640" y="371628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826920" y="508464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755640" y="335772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9" descr="图片28"/>
          <p:cNvPicPr/>
          <p:nvPr/>
        </p:nvPicPr>
        <p:blipFill>
          <a:blip r:embed="rId1"/>
          <a:stretch/>
        </p:blipFill>
        <p:spPr>
          <a:xfrm>
            <a:off x="2843280" y="1125360"/>
            <a:ext cx="3646440" cy="499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Text Box 51"/>
          <p:cNvSpPr/>
          <p:nvPr/>
        </p:nvSpPr>
        <p:spPr>
          <a:xfrm>
            <a:off x="5148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57"/>
          <p:cNvSpPr/>
          <p:nvPr/>
        </p:nvSpPr>
        <p:spPr>
          <a:xfrm>
            <a:off x="3132000" y="1197000"/>
            <a:ext cx="863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58"/>
          <p:cNvSpPr/>
          <p:nvPr/>
        </p:nvSpPr>
        <p:spPr>
          <a:xfrm>
            <a:off x="3924360" y="1341360"/>
            <a:ext cx="361800" cy="19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53"/>
          <p:cNvSpPr/>
          <p:nvPr/>
        </p:nvSpPr>
        <p:spPr>
          <a:xfrm>
            <a:off x="5076720" y="2708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3276720" y="342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53"/>
          <p:cNvSpPr/>
          <p:nvPr/>
        </p:nvSpPr>
        <p:spPr>
          <a:xfrm>
            <a:off x="5148360" y="4292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53"/>
          <p:cNvSpPr/>
          <p:nvPr/>
        </p:nvSpPr>
        <p:spPr>
          <a:xfrm>
            <a:off x="4284720" y="486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2987640" y="5661000"/>
            <a:ext cx="1295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室间隔缺损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循环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先天性心脏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心肌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2484360" y="1125360"/>
            <a:ext cx="5616720" cy="295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218"/>
                </a:moveTo>
                <a:lnTo>
                  <a:pt x="-293" y="837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小型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无临床症状，生长发育不受影响，一般活动不受限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较大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面色苍白，喂养困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乏力，气短，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发生反复呼吸道感染及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疾病晚期分流量大的室间隔缺损患儿可出现艾森曼格综合征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627280" y="1989000"/>
            <a:ext cx="518472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2801"/>
                </a:moveTo>
                <a:lnTo>
                  <a:pt x="-317" y="1270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界向左下扩大，心尖波动增强并向左下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Ⅳ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粗糙的全收缩期杂音，可扪及收缩期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明显肺动脉高压者，出现青紫，心脏杂音较轻而肺动脉第二音显著亢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067280" y="3573360"/>
            <a:ext cx="288108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45" y="13612"/>
                </a:moveTo>
                <a:lnTo>
                  <a:pt x="-571" y="1270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水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强心、利尿、扩血管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小型室缺有自然闭合可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中型缺损缝合术或补片关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姑息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房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在胚胎发育过程中房间隔发育不良所致，是一种常见的先天性心脏病，占先天性心脏病发病总数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男女比例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小儿时期症状较轻，不少患者到成年后才被发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原发孔型房间隔缺损（也称部分性心内膜垫型房间隔缺损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发孔型房间隔缺损（也称中央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窦型房间隔缺损（分上腔型和下腔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冠状静脉窦型房间隔缺损（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4" descr="图片26"/>
          <p:cNvPicPr/>
          <p:nvPr/>
        </p:nvPicPr>
        <p:blipFill>
          <a:blip r:embed="rId1"/>
          <a:stretch/>
        </p:blipFill>
        <p:spPr>
          <a:xfrm>
            <a:off x="2556000" y="1052640"/>
            <a:ext cx="3959280" cy="5329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1"/>
          <p:cNvSpPr/>
          <p:nvPr/>
        </p:nvSpPr>
        <p:spPr>
          <a:xfrm>
            <a:off x="4932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268360" y="1628640"/>
            <a:ext cx="144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房间隔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51"/>
          <p:cNvSpPr/>
          <p:nvPr/>
        </p:nvSpPr>
        <p:spPr>
          <a:xfrm>
            <a:off x="5580000" y="213372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静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4284720" y="5084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Text Box 53"/>
          <p:cNvSpPr/>
          <p:nvPr/>
        </p:nvSpPr>
        <p:spPr>
          <a:xfrm>
            <a:off x="5219640" y="4508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53"/>
          <p:cNvSpPr/>
          <p:nvPr/>
        </p:nvSpPr>
        <p:spPr>
          <a:xfrm>
            <a:off x="500364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2484360" y="1125360"/>
            <a:ext cx="5616720" cy="23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5241"/>
                </a:moveTo>
                <a:lnTo>
                  <a:pt x="-293" y="1040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小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无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感乏力、面色苍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心悸，气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延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暂时性青紫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循环系统的解剖特点和一些重要的生理常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回忆法洛四联症，差异性发绀，缺氧发作，蹲踞，杵状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围血管征的概念。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再认先天性心脏病的病因、预防及临床表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病毒性心肌炎的定义、病因及临床表现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解释小儿血液循环的特点和出生后的改变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说明室间隔缺损、房间隔缺损、动脉导管未闭、法洛四联症的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力学改变及治疗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制订先天性心脏病患儿的护理计划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结合病例，提出病毒性心肌炎患儿常见的护理诊断，并能按照护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程序对病毒性心肌炎患儿实施整体护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1CC8-B375-49E2-8E8D-516670DDC5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2627280" y="1989000"/>
            <a:ext cx="5184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4413"/>
                </a:moveTo>
                <a:lnTo>
                  <a:pt x="-317" y="142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弥散，心浊音界扩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可在胸骨左缘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闻及收缩中期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喷射样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第一心音正常或分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，呈固定分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067280" y="3573360"/>
            <a:ext cx="187308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74" y="17516"/>
                </a:moveTo>
                <a:lnTo>
                  <a:pt x="-879" y="1634"/>
                </a:lnTo>
              </a:path>
              <a:path w="21600" h="21600">
                <a:moveTo>
                  <a:pt x="-879" y="0"/>
                </a:moveTo>
                <a:lnTo>
                  <a:pt x="-87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律失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抗心力衰竭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缺损多在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月内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大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一般不会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较大影响生长发育者宜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时在体外循环下做房间隔缺损修补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导管未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动脉导管异常持续开放导致的病理生理改变，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大都单独存在，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病例合并其他心脏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管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漏斗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窗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Picture 4" descr="图片45"/>
          <p:cNvPicPr/>
          <p:nvPr/>
        </p:nvPicPr>
        <p:blipFill>
          <a:blip r:embed="rId1"/>
          <a:stretch/>
        </p:blipFill>
        <p:spPr>
          <a:xfrm>
            <a:off x="2525760" y="1125360"/>
            <a:ext cx="4079880" cy="525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1"/>
          <p:cNvSpPr/>
          <p:nvPr/>
        </p:nvSpPr>
        <p:spPr>
          <a:xfrm>
            <a:off x="248436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5724360" y="2421000"/>
            <a:ext cx="1295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3"/>
          <p:cNvSpPr/>
          <p:nvPr/>
        </p:nvSpPr>
        <p:spPr>
          <a:xfrm>
            <a:off x="4859280" y="2924280"/>
            <a:ext cx="79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53"/>
          <p:cNvSpPr/>
          <p:nvPr/>
        </p:nvSpPr>
        <p:spPr>
          <a:xfrm>
            <a:off x="4859280" y="4365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53"/>
          <p:cNvSpPr/>
          <p:nvPr/>
        </p:nvSpPr>
        <p:spPr>
          <a:xfrm>
            <a:off x="2700360" y="3716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53"/>
          <p:cNvSpPr/>
          <p:nvPr/>
        </p:nvSpPr>
        <p:spPr>
          <a:xfrm>
            <a:off x="3924360" y="5229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484360" y="1125360"/>
            <a:ext cx="5904000" cy="27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551"/>
                </a:moveTo>
                <a:lnTo>
                  <a:pt x="-293" y="903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口径较细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临床常无症状临床常无症状，仅在体检时发现心脏杂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粗者分流量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疲乏无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咳嗽、气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合并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2627280" y="1989000"/>
            <a:ext cx="5184720" cy="22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1153"/>
                </a:moveTo>
                <a:lnTo>
                  <a:pt x="-317" y="110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，轻度胸廓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增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整个收缩期和舒张期在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粗糙响亮的连续性机器样杂音，可伴有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有周围血管征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循环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9964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的胚胎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血液循环和出生后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4140360" y="3789360"/>
            <a:ext cx="216036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59" y="18948"/>
                </a:moveTo>
                <a:lnTo>
                  <a:pt x="-762" y="2145"/>
                </a:lnTo>
              </a:path>
              <a:path w="21600" h="21600">
                <a:moveTo>
                  <a:pt x="-762" y="0"/>
                </a:moveTo>
                <a:lnTo>
                  <a:pt x="-76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动脉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内膜炎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诱导导管自然闭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行内科心导管封堵或外科导管结扎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法洛四联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婴儿期最常见的一种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青紫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先天性心脏病，约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主要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畸形组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肺动脉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动脉骑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右心室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4" descr="Picture1"/>
          <p:cNvPicPr/>
          <p:nvPr/>
        </p:nvPicPr>
        <p:blipFill>
          <a:blip r:embed="rId1"/>
          <a:stretch/>
        </p:blipFill>
        <p:spPr>
          <a:xfrm>
            <a:off x="2476440" y="1052640"/>
            <a:ext cx="4178520" cy="5400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1"/>
          <p:cNvSpPr/>
          <p:nvPr/>
        </p:nvSpPr>
        <p:spPr>
          <a:xfrm>
            <a:off x="521964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51"/>
          <p:cNvSpPr/>
          <p:nvPr/>
        </p:nvSpPr>
        <p:spPr>
          <a:xfrm>
            <a:off x="2916360" y="105264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53"/>
          <p:cNvSpPr/>
          <p:nvPr/>
        </p:nvSpPr>
        <p:spPr>
          <a:xfrm>
            <a:off x="478800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53"/>
          <p:cNvSpPr/>
          <p:nvPr/>
        </p:nvSpPr>
        <p:spPr>
          <a:xfrm>
            <a:off x="4932360" y="4149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4140360" y="5157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81"/>
          <p:cNvSpPr/>
          <p:nvPr/>
        </p:nvSpPr>
        <p:spPr>
          <a:xfrm>
            <a:off x="2484360" y="595008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Cambria"/>
                <a:ea typeface="宋体"/>
              </a:rPr>
              <a:t>漏斗部狭窄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95280" y="1413000"/>
            <a:ext cx="820728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患儿男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岁，生后口唇青紫，之后青紫渐明显，喂养困难。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95280" y="2565360"/>
            <a:ext cx="8497800" cy="194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查体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36.5℃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12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R3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BP70/50mmHg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生长发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明显落后，口唇、鼻尖、耳垂、指趾青紫明显，伴杵状指（趾），双肺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吸音清，胸骨左缘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肋间闻及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Ⅲ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级收缩期杂音，肺动脉第二音减弱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辅助检查：血常规示血红蛋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00g/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；胸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线显示心影呈“靴形”，双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纹理减少；心电图提示右心室肥大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971640" y="4941720"/>
            <a:ext cx="734544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235320" y="1703520"/>
            <a:ext cx="5184720" cy="15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87" y="-1068"/>
                </a:moveTo>
                <a:lnTo>
                  <a:pt x="-317" y="1635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为主要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毛细血管丰富的浅表部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因血氧含量下降，啼哭、情绪激动、寒冷等即可出现青紫加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阵发性缺氧发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3564000" y="1682640"/>
            <a:ext cx="5329080" cy="21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12" y="8013"/>
                </a:moveTo>
                <a:lnTo>
                  <a:pt x="-309" y="1134"/>
                </a:lnTo>
              </a:path>
              <a:path w="21600" h="21600">
                <a:moveTo>
                  <a:pt x="-309" y="0"/>
                </a:moveTo>
                <a:lnTo>
                  <a:pt x="-30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下小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在晨起时、吃奶时、哭闹后、大便时或大便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出现阵发性呼吸困难、烦躁、青紫加重，重者可突然晕厥、抽搐或脑血管意外，甚至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其原因在于狭窄的肺动脉漏斗部的肌部突然发生痉挛，发生一时性肺动脉梗阻，导致脑缺氧加重所致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2771640" y="2781360"/>
            <a:ext cx="5883480" cy="19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989" y="6529"/>
                </a:moveTo>
                <a:lnTo>
                  <a:pt x="-280" y="1271"/>
                </a:lnTo>
              </a:path>
              <a:path w="21600" h="21600">
                <a:moveTo>
                  <a:pt x="-280" y="0"/>
                </a:moveTo>
                <a:lnTo>
                  <a:pt x="-280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常于行走、游戏时，主动蹲下休息片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于小婴儿，常喜欢大人抱起，双下肢屈曲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蹲踞时，下肢屈曲，使静脉回心血量减少，从而减轻了心脏负担；同时，下肢屈曲血管受压，体循环阻力增加，使右向左分流减少，肺血流量增加，从而暂时缓解缺氧症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P4050050"/>
          <p:cNvPicPr/>
          <p:nvPr/>
        </p:nvPicPr>
        <p:blipFill>
          <a:blip r:embed="rId1"/>
          <a:stretch/>
        </p:blipFill>
        <p:spPr>
          <a:xfrm>
            <a:off x="3780000" y="2798640"/>
            <a:ext cx="5184720" cy="35877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324000" y="1341360"/>
            <a:ext cx="7129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原始心脏开始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心脏起循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四腔心脏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heart.avi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738520" cy="2066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5796000" y="3333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心脏的胚胎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67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3276720" y="3716280"/>
            <a:ext cx="518472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20" y="8331"/>
                </a:moveTo>
                <a:lnTo>
                  <a:pt x="-317" y="2142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缺氧状态（发绀持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以上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指（趾）端毛细血管扩张增生，局部软组织和骨组织也增生肥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3059280" y="4653000"/>
            <a:ext cx="288108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974" y="8331"/>
                </a:moveTo>
                <a:lnTo>
                  <a:pt x="-571" y="2142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血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脓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亚急性细菌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3276720" y="3213000"/>
            <a:ext cx="5184720" cy="25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53" y="23613"/>
                </a:moveTo>
                <a:lnTo>
                  <a:pt x="-317" y="97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生长发育较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青紫和杵状指（趾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智能发育亦可能稍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稍隆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收缩期喷射性杂音，以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最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一般无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第二心音减弱或消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验室血液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916360" y="1125360"/>
            <a:ext cx="468000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78" y="10443"/>
                </a:moveTo>
                <a:lnTo>
                  <a:pt x="-352" y="2142"/>
                </a:lnTo>
              </a:path>
              <a:path w="21600" h="21600">
                <a:moveTo>
                  <a:pt x="-352" y="0"/>
                </a:moveTo>
                <a:lnTo>
                  <a:pt x="-35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及时治疗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有效防治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经常饮水，及时补液，预防并发症的发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3635280" y="1413000"/>
            <a:ext cx="5184720" cy="33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03" y="9816"/>
                </a:moveTo>
                <a:lnTo>
                  <a:pt x="-317" y="74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立即置于膝胸屈曲位，轻症者可立即缓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及时吸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重者给予静注去氧肾上腺素（新福林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05mg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，或普萘洛尔（心得安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必要时皮下注射吗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2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可给予静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%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碳酸氢钠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5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.0ml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以纠正代谢性酸中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经上述处理仍不能控制发作者，可考虑急诊外科手术修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2843280" y="4149720"/>
            <a:ext cx="547200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8" y="2856"/>
                </a:moveTo>
                <a:lnTo>
                  <a:pt x="-301" y="2636"/>
                </a:lnTo>
              </a:path>
              <a:path w="21600" h="21600">
                <a:moveTo>
                  <a:pt x="-301" y="0"/>
                </a:moveTo>
                <a:lnTo>
                  <a:pt x="-3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根治手术治疗为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年龄过小的婴幼儿及重症患儿宜先行姑息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971640" y="1773360"/>
            <a:ext cx="7416720" cy="3600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患儿喜竖抱时将双膝屈曲，大腿贴腹部。吃奶时突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阵发性呼吸困难、烦燥和青紫加重，出现晕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什么竖抱患儿时其常将双膝屈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吃奶时发生了什么？如何处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动脉瓣狭窄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一种常见的先天性心脏病，约占先天性心脏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先心病合并此畸形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胎儿血液循环和出生后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胎儿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后血液循环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小儿心脏、心率、血压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肺动脉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育不良型肺动脉瓣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4" descr="pulmsten4"/>
          <p:cNvPicPr/>
          <p:nvPr/>
        </p:nvPicPr>
        <p:blipFill>
          <a:blip r:embed="rId1"/>
          <a:stretch/>
        </p:blipFill>
        <p:spPr>
          <a:xfrm>
            <a:off x="2556000" y="1197000"/>
            <a:ext cx="4174920" cy="4175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1"/>
          <p:cNvSpPr/>
          <p:nvPr/>
        </p:nvSpPr>
        <p:spPr>
          <a:xfrm>
            <a:off x="2484360" y="1700280"/>
            <a:ext cx="129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08360" y="5157720"/>
            <a:ext cx="1008000" cy="216000"/>
          </a:xfrm>
          <a:prstGeom prst="roundRect">
            <a:avLst>
              <a:gd name="adj" fmla="val 16667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2987640" y="1557360"/>
            <a:ext cx="489600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1039"/>
                </a:moveTo>
                <a:lnTo>
                  <a:pt x="-336" y="1558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轻度狭窄可完全无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度狭窄在年长后体力劳动时气促、易疲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严重狭窄者，中度体力劳动可引起乏力、心悸、呼吸困难，甚至突有晕厥、猝死。也有时有胸痛或上腹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2987640" y="3789360"/>
            <a:ext cx="4896000" cy="21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48"/>
                </a:moveTo>
                <a:lnTo>
                  <a:pt x="-336" y="1144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半数患儿面容硕圆，大多无青紫，面颊和指（趾）端可能暗红。生长发育多正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心前区可较饱满，在左侧胸骨旁可摸得右室的抬举搏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典型心脏杂音在胸骨左缘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肋间有洪亮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级以上喷射性收缩期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心音正常，第二心音分裂并减弱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球囊瓣膜成形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瓣膜切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狭窄解除手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活动无耐力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饱和度下降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生长发育迟缓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下降影响生长发育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营养失调：低于机体需要量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喂养困难及体循环血量减少、组织缺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有感染的危险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肺血流量增多及心内缺损易致心内膜损伤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潜在并发症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力衰竭、感染性心内膜炎、脑血栓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焦虑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疾病的威胁和对手术担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6141-F67C-40A1-B513-3C418422CF5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3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3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3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4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5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5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6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6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7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7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7" name="AutoShape 53"/>
          <p:cNvSpPr/>
          <p:nvPr/>
        </p:nvSpPr>
        <p:spPr>
          <a:xfrm>
            <a:off x="399564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圆角矩形 54"/>
          <p:cNvSpPr/>
          <p:nvPr/>
        </p:nvSpPr>
        <p:spPr>
          <a:xfrm>
            <a:off x="4643280" y="1268280"/>
            <a:ext cx="4032360" cy="417528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175280"/>
              <a:gd name="textAreaBottom" fmla="*/ 3978720 h 4175280"/>
            </a:gdLst>
            <a:ahLst/>
            <a:rect l="textAreaLeft" t="textAreaTop" r="textAreaRight" b="textAreaBottom"/>
            <a:pathLst>
              <a:path w="21600" h="22366">
                <a:moveTo>
                  <a:pt x="3600" y="0"/>
                </a:moveTo>
                <a:arcTo wR="3600" hR="3600" stAng="16200000" swAng="-5400000"/>
                <a:lnTo>
                  <a:pt x="0" y="18766"/>
                </a:lnTo>
                <a:arcTo wR="3600" hR="3600" stAng="10800000" swAng="-5400000"/>
                <a:lnTo>
                  <a:pt x="18000" y="22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动静适度，减轻耗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轻型无症状者应与正常儿童一样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症状患儿应限制活动，避免情绪激动和剧烈哭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情严重的患儿应卧床休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特殊治疗后适当休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85C1-FD4F-4B83-83CD-7F1675F322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8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8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00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01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AutoShape 53"/>
          <p:cNvSpPr/>
          <p:nvPr/>
        </p:nvSpPr>
        <p:spPr>
          <a:xfrm>
            <a:off x="3276720" y="2565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供给足量的高蛋白、高热量、高维生素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当限制食盐摄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适量的蔬菜类粗纤维食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型患儿喂养困难，可先吸氧再喂食，斜抱位间歇喂乳少食多餐，必要时从静脉补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8E70-16E8-4119-A751-6DE3FFE77C9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3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3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4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4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5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5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6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6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7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7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7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7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5" name="AutoShape 53"/>
          <p:cNvSpPr/>
          <p:nvPr/>
        </p:nvSpPr>
        <p:spPr>
          <a:xfrm>
            <a:off x="3276720" y="3429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向患儿及家长介绍自我保护，防止感染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室分室居住，空气新鲜，温湿度适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穿着衣服薄厚要适中，防止受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拔牙等术前给予足量抗生素，一旦发生感染应积极治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预防接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9B0C-AC13-4EF4-BB99-DF73A687D8F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1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9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9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0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0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0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0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3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3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9" name="AutoShape 53"/>
          <p:cNvSpPr/>
          <p:nvPr/>
        </p:nvSpPr>
        <p:spPr>
          <a:xfrm>
            <a:off x="3348000" y="4221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心率、心律、脉搏、呼吸、血压及心脏杂音的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洛四联症患儿是否发生缺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青紫型先天性心脏病患儿有无血栓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合并贫血者，可加重缺氧，有无心力衰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合并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正常胎儿血液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39" name="Picture 3"/>
          <p:cNvGraphicFramePr/>
          <p:nvPr/>
        </p:nvGraphicFramePr>
        <p:xfrm>
          <a:off x="1042920" y="1197000"/>
          <a:ext cx="7129440" cy="5340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0" name="Pictur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71294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B367-691D-4C1F-8731-C3B898E9B7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5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54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4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5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5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9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6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6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7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7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7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7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8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8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3" name="AutoShape 53"/>
          <p:cNvSpPr/>
          <p:nvPr/>
        </p:nvSpPr>
        <p:spPr>
          <a:xfrm>
            <a:off x="3348000" y="49417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圆角矩形 54"/>
          <p:cNvSpPr/>
          <p:nvPr/>
        </p:nvSpPr>
        <p:spPr>
          <a:xfrm>
            <a:off x="4067280" y="2133720"/>
            <a:ext cx="446544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关心患儿，建立良好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消除恐惧心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服家长和患儿主动配合各项检查和治疗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帮助家长正视患儿的智能发育、情绪和行为问题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E746-4A1C-48D5-9F52-CAE27DC25A4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60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0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60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60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61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61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2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62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62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63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63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64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64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47" name="AutoShape 53"/>
          <p:cNvSpPr/>
          <p:nvPr/>
        </p:nvSpPr>
        <p:spPr>
          <a:xfrm>
            <a:off x="327672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0" name="圆角矩形 54"/>
          <p:cNvSpPr/>
          <p:nvPr/>
        </p:nvSpPr>
        <p:spPr>
          <a:xfrm>
            <a:off x="3924360" y="2924280"/>
            <a:ext cx="4465440" cy="353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导患儿及家长根据病情建立合理的生活制度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安排合适的活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足够的营养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防止各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掌握观察病情变化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到医院复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母亲妊娠史，在孕期最初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有无病毒感染、接触放射线和服用过影响胎儿发育的药物，孕母是否有代谢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出生时有无青紫、心脏杂音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出生后各阶段的生长发育状况以及是否有下列表现：喂养困难、易乏力、气促、咳嗽、持续性青紫，青紫的程度及与活动的关系，有无蹲踞现象或阵发性缺氧发作，是否常有呼吸道感染或出现心力衰竭等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患儿是否有体格发育落后、皮肤发绀、杵状指（趾），脉搏增快，呼吸急促，鼻翼扇动和三凹征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并初步分析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线、心电图、超声心动图、心导管、血液等检查结果的临床意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治疗过程以及高额的医疗费用对家庭经济造成的压力，都可能使患儿及其家长感到焦虑甚至恐慌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还要注意评估家长（尤其是母亲）是否有内疚感及其程度，患儿的智能发育、情绪和行为问题、自我意识及社会适应能力，尤其是亲子关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生长发育明显落后，口唇、鼻尖、耳垂、指趾青紫明显，伴杵状指（趾），双肺呼吸音清，胸骨左缘第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肋间闻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Ⅲ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级收缩期杂音，肺动脉第二音减弱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辅助检查：血常规示血红蛋白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0g/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胸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线显示心影呈“靴形”，双肺纹理减少；心电图提示右心室肥大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迟缓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心力衰竭、感染性心内膜炎、脑血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8959-9A89-4F6E-833A-1702A3DDEC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吃奶时突然阵发性呼吸困难、烦燥和青紫加重，出现晕厥。应考虑出现何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考虑出现了阵发性缺氧发作 ，应立即置患儿于膝胸屈曲位，轻症者可立即缓解；及时吸氧；遵医嘱给予强心剂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的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应限制活动，避免情绪激动和剧烈哭闹，以免加重心脏负担；护理操作相对集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可先吸氧再喂食，斜抱位间歇喂乳，应特别细心、耐心，少食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，防止并发症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心率、心律、脉搏、呼吸、血压及心脏杂音的变化，必要时使用监护仪监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一旦发生缺氧发作，可立即置于膝胸屈曲位，吸氧，通知医师，并做好普萘洛尔、吗啡应用和纠正酸中毒等准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形成血栓，造成重要器官栓塞的危险，因此应注意多饮水、必要时静脉输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毒性心肌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755640" y="27036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病毒侵犯心脏所致，引起心肌细胞变性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坏死为主要病理特征的疾病，病变也可累及心包或心内膜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211640" y="2133720"/>
            <a:ext cx="26654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94" y="12688"/>
                </a:moveTo>
                <a:lnTo>
                  <a:pt x="-618" y="2449"/>
                </a:lnTo>
              </a:path>
              <a:path w="21600" h="21600">
                <a:moveTo>
                  <a:pt x="-618" y="0"/>
                </a:moveTo>
                <a:lnTo>
                  <a:pt x="-618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上大多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肠道和呼吸道病毒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柯萨奇病毒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埃可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腺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髓灰质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流感和副流感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单纯疱疹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腮腺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轮状病毒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以心肌间质组织和附近血管周围单核细胞、淋巴细胞和中性粒细胞浸润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肌变性（肿胀、断裂、溶解和坏死等）者为少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典型病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起病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内多有前驱病毒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伴有发热、周身不适、胸痛、咽痛、肌痛、腹泻和皮疹等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受累时患儿常诉疲乏无力、气促、心悸和心前区不适或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面色苍白、血压下降等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后大多良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病例可发展为扩张性心肌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格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现心脏轻度扩大、心搏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尖区第一心音低钝或奔马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动过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肺部出现湿啰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伴心包炎者还可听到心包摩擦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时会有晕厥、心力衰竭及心源性休克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心肌酶谱测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CR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象及血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毒学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肌钙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Tn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nT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心肌和清除自由基的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肾上腺皮质激素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治心源性休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大剂量丙种球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2771640" y="1484280"/>
            <a:ext cx="4105440" cy="24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61" y="1862"/>
                </a:moveTo>
                <a:lnTo>
                  <a:pt x="-401" y="1008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道或消化道感染病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接种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3348000" y="2276640"/>
            <a:ext cx="4105440" cy="27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88" y="6490"/>
                </a:moveTo>
                <a:lnTo>
                  <a:pt x="-401" y="902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心前区不适、胸闷、气促、心悸、头晕、乏力、腹痛、多汗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烦躁不安、面色苍白、血压下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了解心电图、血液实验室检查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的结果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5" name="AutoShape 4"/>
          <p:cNvSpPr/>
          <p:nvPr/>
        </p:nvSpPr>
        <p:spPr>
          <a:xfrm>
            <a:off x="4427640" y="2205000"/>
            <a:ext cx="4105080" cy="338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58" y="15815"/>
                </a:moveTo>
                <a:lnTo>
                  <a:pt x="-401" y="729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该病的了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有无住院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庭经济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对患儿的照顾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和患儿有无焦虑、恐惧等不良心理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居住环境及社区医疗条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活动无耐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与心肌收缩力下降，组织供氧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律失常、心力衰竭、心源性休克、药物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焦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与病程长，活动受限制和休学后落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211640" y="3716280"/>
            <a:ext cx="352908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26" y="1052"/>
                </a:moveTo>
                <a:lnTo>
                  <a:pt x="-466" y="1804"/>
                </a:lnTo>
              </a:path>
              <a:path w="21600" h="21600">
                <a:moveTo>
                  <a:pt x="-466" y="0"/>
                </a:moveTo>
                <a:lnTo>
                  <a:pt x="-4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生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月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95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岁时形成解剖上的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8878-62E0-4BE6-A519-273F0F3E6E8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0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0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0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1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1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1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24" name="AutoShape 53"/>
          <p:cNvSpPr/>
          <p:nvPr/>
        </p:nvSpPr>
        <p:spPr>
          <a:xfrm>
            <a:off x="3419640" y="191628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5" name="圆角矩形 54"/>
          <p:cNvSpPr/>
          <p:nvPr/>
        </p:nvSpPr>
        <p:spPr>
          <a:xfrm>
            <a:off x="4356000" y="1268280"/>
            <a:ext cx="435312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急性期完全卧床至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般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后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心影恢复正常，可轻微活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恢复期至少半日卧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半年至一年后，可恢复全日学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脏增大者及心力衰竭者，需卧床半年以上至心脏缩小，待心衰控制、心脏情况好转后再逐渐开始活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C750-3C9D-4D5C-8FF8-9CEC41276B4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3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3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3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4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4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4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4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4" name="AutoShape 53"/>
          <p:cNvSpPr/>
          <p:nvPr/>
        </p:nvSpPr>
        <p:spPr>
          <a:xfrm>
            <a:off x="3780000" y="31417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心律，有明显心律紊乱者应连续心电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的精神状态、心率和呼吸频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面色、心率、呼吸、体温及血压的变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使用洋地黄时严格掌握剂量，注意观察有无心率过慢，有无新的心律失常、恶心、呕吐等消化系统症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2E58-BEDF-4EF9-8FAD-B0058FDF6CC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6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6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6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7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7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7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84" name="AutoShape 53"/>
          <p:cNvSpPr/>
          <p:nvPr/>
        </p:nvSpPr>
        <p:spPr>
          <a:xfrm>
            <a:off x="3492360" y="5013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倾听患儿及家长的倾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减少患儿和家长的焦虑、恐惧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嘱其出院后定期到门诊复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告知预防呼吸道感染、消化道感染的常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患儿进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会家长测量脉率、心律，发现异常要及时复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强调休息对本病恢复的重要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33:46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