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5013-DE98-4414-8B65-5599AFBEC5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5CE9-D941-4B39-98EC-5D4A9136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2BD2-2141-4692-9E62-507C9447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F2EC-67D5-4149-B0A6-4FE7E56458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2616-74AE-46FD-8D76-A0574CA9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7094-647E-4476-A5F5-867362E2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36DA-F744-4162-AAF4-86AAB589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EFA7-1206-49A2-9AEC-20E343A6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5BD3-96E9-4F7E-8FD7-977A4A35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9AA5-F711-4B1E-A73D-7BD8AE77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9D7D-705A-47AC-BD17-B0777A47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41A2-DF26-45E8-9606-842D37AE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79D5-1833-49DB-9901-8E82701F21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绪  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6800" y="4284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小儿及其家庭为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心整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减少创伤和疼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守法律和伦理道德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胎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从受精卵形成至小儿出生为止，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为胚胎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组织及器官的迅速生长和功能渐趋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5" descr="75783990"/>
          <p:cNvPicPr/>
          <p:nvPr/>
        </p:nvPicPr>
        <p:blipFill>
          <a:blip r:embed="rId1"/>
          <a:srcRect l="0" t="0" r="0" b="12560"/>
          <a:stretch/>
        </p:blipFill>
        <p:spPr>
          <a:xfrm>
            <a:off x="5500800" y="3786120"/>
            <a:ext cx="2857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新生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脐带结扎到生后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围产期或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胎龄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r>
              <a:rPr b="0" lang="en-US" sz="2200" spc="-1" strike="noStrike">
                <a:solidFill>
                  <a:srgbClr val="046ca6"/>
                </a:solidFill>
                <a:latin typeface="Arial Unicode MS"/>
                <a:ea typeface="Arial Unicode MS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足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活环境巨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命遭受最大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发病率高，死亡率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婴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到满一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最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营养需要量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致消化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感染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幼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稍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较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饮食结构改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活动范围扩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判断能力不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疾病较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变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增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格可塑性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免疫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体格稳步增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力发育趋于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求知能力增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性疾病降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女孩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男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二性征开始发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第二个高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理行为不稳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7143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任务和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士的角色和素质要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年龄分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护理学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小儿的年龄分期及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学的基础医学特点和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理解儿科护理学任务和范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比较不同年龄阶段小儿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儿科护士的角色和素质要求，明确如何做好一名合格的儿科护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3193-0FC8-4FED-B230-EDFFBA6872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一门以整体护理概念出发研究从胎儿期至青春期小儿生长发育、卫生保健、疾病预防和临床疾病护理的专科护理课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切涉及小儿时期健康和卫生的问题都属于儿科护理学的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综合性、广泛性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儿童体质，保障儿童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降低儿童发病率和死亡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高生命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服务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各年龄期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医学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年龄的不同而有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有不同的生理生化正常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病原体的反应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功能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塑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种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成人有所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复、波动、变化多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诊治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年龄阶段的小儿患病种类、临床表现都有独特之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后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易于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计划免疫、儿童保健、成人期疾病在儿童期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活动的计划者和执行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的宣讲者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咨询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的代言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素质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度责任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热爱儿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业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科学文化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沟通技巧和获取新信息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liang</dc:creator>
  <dc:description/>
  <dc:language>en-US</dc:language>
  <cp:lastModifiedBy>刘云涛</cp:lastModifiedBy>
  <cp:lastPrinted>1899-12-30T00:00:00Z</cp:lastPrinted>
  <dcterms:modified xsi:type="dcterms:W3CDTF">2015-09-01T06:03:45Z</dcterms:modified>
  <cp:revision>27</cp:revision>
  <dc:subject/>
  <dc:title>绪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