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18.jpeg" ContentType="image/jpeg"/>
  <Override PartName="/ppt/media/image7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9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3DD88F-9F89-438C-82EA-8C9CB2AB060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8E4314-7CF3-4F05-8476-E1C342C06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175705-636E-4E01-B8ED-5C2135D27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5F381E-261A-4494-B353-DEAAF375A56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1A969E-046D-469B-9C9C-ADE104EBB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42DD93-8188-4728-A792-A1051CA3B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22EB50-A2A7-4F70-9CE5-48E7A4137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649661-8190-41BF-8392-1E25E3AEC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D176A1-047A-44C0-99A2-AA8DA4B5E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284EA9-5A53-4643-968E-8CB17EDFB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6A34A3-64AC-4584-8038-629EB702E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4CB493-9D35-4FE0-9D3C-7EBDE6244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9D781B-8190-4F80-9762-13A882DFA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4D032E-9D22-4547-8208-00EA400A9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DFEF80-4783-4883-BD64-B58B4088E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B72891-6F10-4D84-862B-0F14EA92F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F4B26E-0977-4788-BD12-E9C099444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DF1B7E-EEEF-4128-988A-4CF3A295A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E470DE-F90A-4EEA-85E0-4A9B15266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1A1A64-8732-4233-87AB-E45C32CF2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31E2AE-39EB-4596-A9E4-13F22E35F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5F5402-44C6-4BE6-883E-C4D45035D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58B50F-8AAD-4AC4-BBDF-EBEDA8143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BF1EE3-5256-4481-AEAA-7CF86AA43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A7C00-3B3B-4A5E-BB03-2AEE3D17C36F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B35A1-CE17-4400-9A81-3BDBDAE86547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31</a:t>
            </a:fld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0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3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E49DF-B3FA-4834-B684-8F791CFF1B1D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31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4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5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3C2A3-AAE5-4856-96E6-F0D751696C48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第七章  营养性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疾病患儿的护理</a:t>
            </a: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  <a:ea typeface="宋体"/>
              </a:rPr>
              <a:t>北京大学护理学院     杨园园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生长发育改变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体重不增：最早出现的症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体重下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皮下脂肪减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顺序：腹部→躯干→臀部→四肢→面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身长不增，智力发育落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多脏器功能受损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并发症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C699C-6EB5-4CA1-91FC-91D369F2490B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并发症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营养性贫血：最常见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各种维生素缺乏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感染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自发性低血糖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17790-71CF-4F24-81D2-1145D044BB9F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临床分型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瘦型：能量供应不足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水肿型：蛋白质供应不足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瘦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水肿型：介于两者之间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85D68-35D9-4432-A880-B798B8CE87F9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临床分型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体重低下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生长迟缓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瘦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2D4F4-E230-4E4A-A9B7-42AD7CB0CFA0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血清白蛋白降低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胰岛素样生长因子降低：敏感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多种血清酶活性降低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31AC6-1552-4117-BF28-14404EF7715A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治疗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祛除病因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调整饮食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药物治疗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治疗并发症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B48F5-70D9-405A-A2C3-018834A07B0C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病例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儿入院后完善相关检查，给予补液纠正低血糖、电解质紊乱，给予肠黏膜保护剂及肠道微生态制剂，同时进行饮食调整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问题：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对患儿护理评估的内容包括哪些？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如何对该患儿进行饮食指导？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该患儿的日常生活护理应注意哪些方面？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BADB2-F253-4172-848A-84AC61656B7D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1408D-D238-4665-9470-E81B05DDA05D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31</a:t>
            </a:fld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健康史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身体状况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理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社会状况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E8658-460E-4FC7-B5FF-92AD2D9EC25D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常见护理诊断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问题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304560" y="13712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营养失调：低于机体需要量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与热量和（或）蛋白质摄入不足有关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有感染的危险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与营养素缺乏，机体免疫低下有关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成长发展改变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与营养素缺乏，不能满足小儿成长发展所需有关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潜在并发症：营养性缺铁性贫血、低血糖、维生素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缺乏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知识缺乏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患儿家长缺乏营养知识及小儿喂养知识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032AC-CDC3-45A9-9773-9B3DDB211B3C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饮食调整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能量的供给：少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多，稀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稠，循序渐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蛋白的供给：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.5~2g/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kg·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.0~4.5g/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kg·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维生素及微量元素的供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选择适当的喂养方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建立良好饮食习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EB4C4-69D2-4BCE-96D0-F8229DB6AAF8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8" name="Line 7"/>
          <p:cNvSpPr/>
          <p:nvPr/>
        </p:nvSpPr>
        <p:spPr>
          <a:xfrm>
            <a:off x="5237280" y="2565360"/>
            <a:ext cx="649080" cy="0"/>
          </a:xfrm>
          <a:prstGeom prst="line">
            <a:avLst/>
          </a:prstGeom>
          <a:ln cap="sq" w="28440">
            <a:solidFill>
              <a:srgbClr val="046ca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843280" y="1916280"/>
            <a:ext cx="3960720" cy="35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蛋白质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黑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能量营养不良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小儿单纯性肥胖症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维生素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黑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缺乏症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锌缺乏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54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55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6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7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58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61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62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3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4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65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AutoShape 16"/>
          <p:cNvSpPr/>
          <p:nvPr/>
        </p:nvSpPr>
        <p:spPr>
          <a:xfrm>
            <a:off x="1803240" y="451152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Line 21"/>
          <p:cNvSpPr/>
          <p:nvPr/>
        </p:nvSpPr>
        <p:spPr>
          <a:xfrm>
            <a:off x="2484360" y="5084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促进消化，改善食欲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预防感染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观察病情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健康教育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E34BE-BAC2-405F-B55D-A572D7C13067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临床诊断：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蛋白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能量营养不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44E57-98E3-492E-95F7-C0B7E4EDC4B9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6CFA9-60B0-4BB0-A5A9-3E9045561441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31</a:t>
            </a:fld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护理评估的内容：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健康史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：喂养史、生长发育史，有无母乳不足、喂养不当或不良的饮食习惯，有无消化道畸形或其他消耗性疾病，是否早产或多胎等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身体状况：身长、体重、皮下脂肪厚度、皮肤状况，有无精神改变、肌张力下降、体温下降以及心率心音等是否正常。检查血清白蛋白、胰岛素样生长因子Ⅰ、血清酶活性、血糖、胆固醇、各种电解质及微量元素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心理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社会状况 ：评估患儿和家长对疾病的认识程度、对治疗和护理的依从性，了解家庭亲子关系、经济状况以及患儿的个性特征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39804-5DB2-4D6C-BA09-372DFFE29F4C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E97AC-060B-47C9-8D87-55F077F1DA26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31</a:t>
            </a:fld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250560" y="1371240"/>
            <a:ext cx="8893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儿的饮食指导：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原则：根据病情和对食物的耐受程度调整饮食，由少到多，由稀到稠，循序渐进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能量的供给：该患儿属于中度营养不良，开始每日提供能量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4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～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60kcal/kg,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逐渐增加至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2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～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70kcal/kg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。待体重接近正常后再恢复至正常生理需要量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蛋白的供给：由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.5~2g/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kg·d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） 增加到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.0~4.5g/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kg·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选择富含各类维生素和微量元素的新鲜食物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选择适当的喂养方法：如果胃肠功能尚好，应尽量选择口服的方式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建立良好饮食习惯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7427E-4BA9-40C1-9BAB-A0E1F8D5E90C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9E1E3-F77B-48FF-BDB9-F6758F32C7CF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31</a:t>
            </a:fld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儿日常生活护理应注意的问题：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预防感染：保持皮肤、口腔清洁；注意室内空气清新，温度适宜；采用保护性隔离，预防呼吸系统感染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注意观察病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进行科学喂养，注意膳食合理搭配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加强体格锻炼，增强体质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A5B27-8B71-4278-81F2-F70C7360FAB2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87EF3-CFDF-430B-A2E0-7AD1CB91C79A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31</a:t>
            </a:fld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小儿单纯性肥胖症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肥胖症是由于能量的摄入长期超过人体的消耗，导致体内脂肪积蓄过多，体重超过一定范围的营养障碍性疾病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005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年我国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8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学龄儿童中，男生肥胖检出率介于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67%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1.97%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之间，女生肥胖检出率介于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0.70%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7. 22%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之间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81EA7-2DEB-4980-B8AE-A19DF063D7F1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能量摄入过多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活动过少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遗传因素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其他：疾病、精神创伤等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79762-05B4-41C5-9D66-76F039F35040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年龄：好发于婴儿期、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5~6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、青春期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食欲：旺盛、喜甜食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皮肤：白色或紫色皮纹、皱褶处易糜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体型：皮下脂肪丰满、分布均匀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理障碍：自卑、胆怯、孤独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34AE0-0174-43E4-824D-F4D57C48BC7B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治   疗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饮食疗法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运动疗法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理治疗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药物治疗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3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03D77-3A54-4048-83A9-8F4FE5BCDF03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护理诊断 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营养失调：高于机体需要量  与摄入高能量食物过多和（或）运动过少有关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社交障碍  与肥胖引起的心理障碍，不愿运动等有关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身体意象紊乱  与肥胖引起的自身形体改变有关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焦虑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与控制饮食困难有关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7AB7C-340A-469C-8EEB-858F1CC203D9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47" name="Picture 4" descr="u=2792694762,1971384169&amp;gp=-42"/>
          <p:cNvPicPr/>
          <p:nvPr/>
        </p:nvPicPr>
        <p:blipFill>
          <a:blip r:embed="rId1"/>
          <a:stretch/>
        </p:blipFill>
        <p:spPr>
          <a:xfrm>
            <a:off x="5796000" y="4330800"/>
            <a:ext cx="2305080" cy="179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识记：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28ae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说出小儿蛋白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能量营养不良和单纯性肥胖症病因和临床表现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描述维生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缺乏性佝偻病和手足搐搦症的病因和临床表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理解：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比较维生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缺乏性佝偻病和手足搐搦症的发病机制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描述锌缺乏症的临床表现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运用：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为蛋白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能量营养不良和单纯性肥胖症小儿做喂养指导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正确地为维生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缺乏性手足搐搦症患儿进行急救处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正确评估蛋白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能量营养不良、单纯性肥胖症和维生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缺乏性佝偻病患儿，并为其制订护理计划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1B5B2-EDD4-4A8B-AC04-2F4FB799622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饮食管理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A89EC-1C69-4119-84FB-67626C2850A7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1" name="Rectangle 4"/>
          <p:cNvSpPr/>
          <p:nvPr/>
        </p:nvSpPr>
        <p:spPr>
          <a:xfrm>
            <a:off x="755640" y="1989000"/>
            <a:ext cx="7993080" cy="3672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6969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摄入热能＜消耗，但要满足小儿的基本营养及生长发育需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96969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合理饮食结构：低脂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0%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~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5%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 、低糖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0%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~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5%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、高蛋白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0%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~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5%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96969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选择体积大、低热能的食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96969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培养良好饮食习惯：少食多餐、不吃零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增加运动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968F9-8793-4EF2-85EA-38F23D3A5FE9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5" name="Rectangle 5"/>
          <p:cNvSpPr/>
          <p:nvPr/>
        </p:nvSpPr>
        <p:spPr>
          <a:xfrm>
            <a:off x="611280" y="2276640"/>
            <a:ext cx="8208720" cy="4001760"/>
          </a:xfrm>
          <a:prstGeom prst="rect">
            <a:avLst/>
          </a:prstGeom>
          <a:solidFill>
            <a:srgbClr val="e8e7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96969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运动形式：有氧运动，容易坚持，有体重移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96969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运动量：以患儿最大耐受力而定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96969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鼓励家长参与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理护理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健康教育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预防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孕后期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婴儿期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学龄前期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青春期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66DB1-E1DE-4918-A826-A577359ED9E3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维生素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</a:rPr>
              <a:t>D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缺乏性佝偻病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731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由于体内维生素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不足，导致体内钙、磷代谢失常，造成以骨骼畸形为主要表现的全身性、慢性、营养性疾病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多见于婴幼儿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2F9FD-1685-4947-AE4C-EE69BE0CA6E9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病例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34560" y="1371240"/>
            <a:ext cx="8713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儿男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月，近两个月来夜间爱哭闹，不易安抚，多汗。母乳喂养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月后开始添加辅食，现每天添加菜泥、果泥及米粉。患儿生于北方，正值冬季，户外活动每日不足半小时且未规律服用维生素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制剂。母孕期无其他疾病。体检见：身长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65cm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体重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8kg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方颅，前囟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5cm×1.5cm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尚未出牙，枕后头发脱落，未出牙。其余检查均正常。实验室检查结果：血清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C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  <a:ea typeface="宋体"/>
              </a:rPr>
              <a:t>2+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.15mmol/L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K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  <a:ea typeface="宋体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.8mmol/L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碱性磷酸酶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35IU/L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；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线见尺桡骨远端干骺端临时钙化带模糊。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问题：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该患儿的临床诊断可能是什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该患儿的治疗要点有哪些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FED9D-B0D9-471E-B0CE-DEB6CB628BBD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81C31-7EC7-4B9D-A86E-B61A7FDED53C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31</a:t>
            </a:fld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402920" y="115560"/>
            <a:ext cx="7378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维生素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</a:rPr>
              <a:t>D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的来源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809280" y="1557360"/>
            <a:ext cx="6931080" cy="38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皮肤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7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脱氢胆固醇   主要来源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0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-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紫外线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-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胆骨化醇（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V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0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0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食物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0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动物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V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0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植物  麦角固醇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紫外线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麦角骨化醇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(V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0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0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药物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VD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制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0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0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胎盘转运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0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8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FC4A8-EC74-4FE8-B809-7BD6B0F0054C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9" name="AutoShape 4"/>
          <p:cNvSpPr/>
          <p:nvPr/>
        </p:nvSpPr>
        <p:spPr>
          <a:xfrm>
            <a:off x="755640" y="3068640"/>
            <a:ext cx="71280" cy="2664000"/>
          </a:xfrm>
          <a:custGeom>
            <a:avLst/>
            <a:gdLst>
              <a:gd name="textAreaLeft" fmla="*/ 20880 w 71280"/>
              <a:gd name="textAreaRight" fmla="*/ 71640 w 71280"/>
              <a:gd name="textAreaTop" fmla="*/ 34920 h 2664000"/>
              <a:gd name="textAreaBottom" fmla="*/ 2629080 h 266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284"/>
                  <a:pt x="0" y="568"/>
                </a:cubicBezTo>
                <a:lnTo>
                  <a:pt x="0" y="21032"/>
                </a:lnTo>
                <a:cubicBezTo>
                  <a:pt x="0" y="21316"/>
                  <a:pt x="10800" y="21600"/>
                  <a:pt x="21600" y="21600"/>
                </a:cubicBezTo>
              </a:path>
            </a:pathLst>
          </a:custGeom>
          <a:noFill/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0" name="Text Box 5"/>
          <p:cNvSpPr/>
          <p:nvPr/>
        </p:nvSpPr>
        <p:spPr>
          <a:xfrm>
            <a:off x="179280" y="3860640"/>
            <a:ext cx="503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外源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1" name="Text Box 6"/>
          <p:cNvSpPr/>
          <p:nvPr/>
        </p:nvSpPr>
        <p:spPr>
          <a:xfrm>
            <a:off x="179280" y="1752480"/>
            <a:ext cx="457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2" name="Line 7"/>
          <p:cNvSpPr/>
          <p:nvPr/>
        </p:nvSpPr>
        <p:spPr>
          <a:xfrm>
            <a:off x="3276720" y="198900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3" name="AutoShape 11"/>
          <p:cNvSpPr/>
          <p:nvPr/>
        </p:nvSpPr>
        <p:spPr>
          <a:xfrm>
            <a:off x="826920" y="3500280"/>
            <a:ext cx="152640" cy="533520"/>
          </a:xfrm>
          <a:custGeom>
            <a:avLst/>
            <a:gdLst>
              <a:gd name="textAreaLeft" fmla="*/ 44640 w 152640"/>
              <a:gd name="textAreaRight" fmla="*/ 153000 w 152640"/>
              <a:gd name="textAreaTop" fmla="*/ 21960 h 533520"/>
              <a:gd name="textAreaBottom" fmla="*/ 511560 h 533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1000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维生素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</a:rPr>
              <a:t>D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的转化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E3B16-E702-48F6-86E6-3A3965E79460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7" name="Text Box 3"/>
          <p:cNvSpPr/>
          <p:nvPr/>
        </p:nvSpPr>
        <p:spPr>
          <a:xfrm>
            <a:off x="4114800" y="175248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VD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8" name="Line 4"/>
          <p:cNvSpPr/>
          <p:nvPr/>
        </p:nvSpPr>
        <p:spPr>
          <a:xfrm>
            <a:off x="4419720" y="2362320"/>
            <a:ext cx="0" cy="91440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9" name="Text Box 5"/>
          <p:cNvSpPr/>
          <p:nvPr/>
        </p:nvSpPr>
        <p:spPr>
          <a:xfrm>
            <a:off x="3429000" y="350532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5-(OH)D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3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0" name="Line 6"/>
          <p:cNvSpPr/>
          <p:nvPr/>
        </p:nvSpPr>
        <p:spPr>
          <a:xfrm>
            <a:off x="4419720" y="4267080"/>
            <a:ext cx="0" cy="91440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1" name="Text Box 7"/>
          <p:cNvSpPr/>
          <p:nvPr/>
        </p:nvSpPr>
        <p:spPr>
          <a:xfrm>
            <a:off x="3429000" y="5257800"/>
            <a:ext cx="3505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  <a:ea typeface="宋体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，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  <a:ea typeface="宋体"/>
              </a:rPr>
              <a:t>25(OH)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宋体"/>
                <a:ea typeface="宋体"/>
              </a:rPr>
              <a:t>2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  <a:ea typeface="宋体"/>
              </a:rPr>
              <a:t>D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宋体"/>
                <a:ea typeface="宋体"/>
              </a:rPr>
              <a:t>3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2" name="Text Box 8"/>
          <p:cNvSpPr/>
          <p:nvPr/>
        </p:nvSpPr>
        <p:spPr>
          <a:xfrm>
            <a:off x="2590920" y="2514600"/>
            <a:ext cx="312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25-</a:t>
            </a:r>
            <a:r>
              <a:rPr b="1" lang="zh-CN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羟化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83" name="Picture 10" descr="图片1"/>
          <p:cNvPicPr/>
          <p:nvPr/>
        </p:nvPicPr>
        <p:blipFill>
          <a:blip r:embed="rId1"/>
          <a:srcRect l="7157" t="0" r="0" b="-5247"/>
          <a:stretch/>
        </p:blipFill>
        <p:spPr>
          <a:xfrm>
            <a:off x="4572000" y="4191120"/>
            <a:ext cx="660240" cy="990360"/>
          </a:xfrm>
          <a:prstGeom prst="rect">
            <a:avLst/>
          </a:prstGeom>
          <a:ln w="0">
            <a:noFill/>
          </a:ln>
        </p:spPr>
      </p:pic>
      <p:sp>
        <p:nvSpPr>
          <p:cNvPr id="384" name="Text Box 11"/>
          <p:cNvSpPr/>
          <p:nvPr/>
        </p:nvSpPr>
        <p:spPr>
          <a:xfrm>
            <a:off x="2638080" y="4419720"/>
            <a:ext cx="145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1-</a:t>
            </a:r>
            <a:r>
              <a:rPr b="1" lang="el-GR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α</a:t>
            </a:r>
            <a:r>
              <a:rPr b="1" lang="zh-CN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羟化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85" name="Picture 13" descr="图片2"/>
          <p:cNvPicPr/>
          <p:nvPr/>
        </p:nvPicPr>
        <p:blipFill>
          <a:blip r:embed="rId2"/>
          <a:srcRect l="1597" t="1606" r="816" b="2811"/>
          <a:stretch/>
        </p:blipFill>
        <p:spPr>
          <a:xfrm>
            <a:off x="4648320" y="2514600"/>
            <a:ext cx="990360" cy="604800"/>
          </a:xfrm>
          <a:prstGeom prst="rect">
            <a:avLst/>
          </a:prstGeom>
          <a:ln w="0">
            <a:noFill/>
          </a:ln>
        </p:spPr>
      </p:pic>
      <p:sp>
        <p:nvSpPr>
          <p:cNvPr id="386" name="Text Box 14"/>
          <p:cNvSpPr/>
          <p:nvPr/>
        </p:nvSpPr>
        <p:spPr>
          <a:xfrm>
            <a:off x="4724280" y="175248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＋ </a:t>
            </a:r>
            <a:r>
              <a:rPr b="1" lang="zh-CN" sz="2800" spc="-1" strike="noStrike">
                <a:solidFill>
                  <a:srgbClr val="046ca6"/>
                </a:solidFill>
                <a:latin typeface="华文仿宋"/>
                <a:ea typeface="华文仿宋"/>
              </a:rPr>
              <a:t>血浆中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DBP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7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399F9-9DE1-4B1A-BE3D-7A452A640E25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90" name="Picture 2" descr=""/>
          <p:cNvPicPr/>
          <p:nvPr/>
        </p:nvPicPr>
        <p:blipFill>
          <a:blip r:embed="rId1"/>
          <a:stretch/>
        </p:blipFill>
        <p:spPr>
          <a:xfrm>
            <a:off x="304920" y="3929040"/>
            <a:ext cx="2276280" cy="2571840"/>
          </a:xfrm>
          <a:prstGeom prst="rect">
            <a:avLst/>
          </a:prstGeom>
          <a:ln w="0">
            <a:noFill/>
          </a:ln>
        </p:spPr>
      </p:pic>
      <p:sp>
        <p:nvSpPr>
          <p:cNvPr id="391" name="Text Box 3"/>
          <p:cNvSpPr/>
          <p:nvPr/>
        </p:nvSpPr>
        <p:spPr>
          <a:xfrm>
            <a:off x="2790720" y="1033560"/>
            <a:ext cx="3560760" cy="703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7a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维生素</a:t>
            </a:r>
            <a:r>
              <a:rPr b="1" lang="en-US" sz="4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D</a:t>
            </a:r>
            <a:r>
              <a:rPr b="1" lang="zh-CN" sz="4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的作用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92" name="Picture 4" descr=""/>
          <p:cNvPicPr/>
          <p:nvPr/>
        </p:nvPicPr>
        <p:blipFill>
          <a:blip r:embed="rId3"/>
          <a:stretch/>
        </p:blipFill>
        <p:spPr>
          <a:xfrm>
            <a:off x="7162920" y="4614840"/>
            <a:ext cx="1109520" cy="1604880"/>
          </a:xfrm>
          <a:prstGeom prst="rect">
            <a:avLst/>
          </a:prstGeom>
          <a:ln w="0">
            <a:noFill/>
          </a:ln>
        </p:spPr>
      </p:pic>
      <p:sp>
        <p:nvSpPr>
          <p:cNvPr id="393" name="Line 6"/>
          <p:cNvSpPr/>
          <p:nvPr/>
        </p:nvSpPr>
        <p:spPr>
          <a:xfrm flipH="1">
            <a:off x="2195280" y="1841400"/>
            <a:ext cx="2971800" cy="365760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4" name="Text Box 7"/>
          <p:cNvSpPr/>
          <p:nvPr/>
        </p:nvSpPr>
        <p:spPr>
          <a:xfrm>
            <a:off x="3200400" y="3243240"/>
            <a:ext cx="2133720" cy="368280"/>
          </a:xfrm>
          <a:prstGeom prst="rect">
            <a:avLst/>
          </a:prstGeom>
          <a:solidFill>
            <a:srgbClr val="caeeca"/>
          </a:solidFill>
          <a:ln w="9360">
            <a:solidFill>
              <a:srgbClr val="ddb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华文仿宋"/>
              </a:rPr>
              <a:t>促进小肠黏膜对钙磷的吸收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5" name="Line 8"/>
          <p:cNvSpPr/>
          <p:nvPr/>
        </p:nvSpPr>
        <p:spPr>
          <a:xfrm flipH="1">
            <a:off x="2124000" y="1719360"/>
            <a:ext cx="1609920" cy="2576520"/>
          </a:xfrm>
          <a:prstGeom prst="line">
            <a:avLst/>
          </a:prstGeom>
          <a:ln w="38160">
            <a:solidFill>
              <a:srgbClr val="8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6" name="Text Box 9"/>
          <p:cNvSpPr/>
          <p:nvPr/>
        </p:nvSpPr>
        <p:spPr>
          <a:xfrm>
            <a:off x="1752480" y="2023920"/>
            <a:ext cx="2133720" cy="368280"/>
          </a:xfrm>
          <a:prstGeom prst="rect">
            <a:avLst/>
          </a:prstGeom>
          <a:solidFill>
            <a:srgbClr val="ffffb3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华文仿宋"/>
              </a:rPr>
              <a:t>促进肾小管对钙磷的重吸收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7" name="Line 10"/>
          <p:cNvSpPr/>
          <p:nvPr/>
        </p:nvSpPr>
        <p:spPr>
          <a:xfrm>
            <a:off x="5181480" y="1795320"/>
            <a:ext cx="2210040" cy="3200400"/>
          </a:xfrm>
          <a:prstGeom prst="line">
            <a:avLst/>
          </a:prstGeom>
          <a:ln w="3816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8" name="Text Box 11"/>
          <p:cNvSpPr/>
          <p:nvPr/>
        </p:nvSpPr>
        <p:spPr>
          <a:xfrm>
            <a:off x="5638680" y="3624120"/>
            <a:ext cx="2819520" cy="368280"/>
          </a:xfrm>
          <a:prstGeom prst="rect">
            <a:avLst/>
          </a:prstGeom>
          <a:solidFill>
            <a:srgbClr val="bdde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  <a:ea typeface="华文仿宋"/>
              </a:rPr>
              <a:t>促进成骨细胞增殖破骨细胞分化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病  因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日光照射不足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维生素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摄入不足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生长过速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疾病的影响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药物的影响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9E003-5F85-4CAF-BD02-6279B14DFF88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F5B7A-3C1A-4589-BFE7-92121C98FD94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3" name="Text Box 2"/>
          <p:cNvSpPr/>
          <p:nvPr/>
        </p:nvSpPr>
        <p:spPr>
          <a:xfrm>
            <a:off x="1908000" y="127080"/>
            <a:ext cx="48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                                                       </a:t>
            </a:r>
            <a:r>
              <a:rPr b="1" lang="en-US" sz="2800" spc="-1" strike="noStrike">
                <a:solidFill>
                  <a:srgbClr val="ffffff"/>
                </a:solidFill>
                <a:latin typeface="宋体"/>
                <a:ea typeface="宋体"/>
              </a:rPr>
              <a:t>VD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缺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4" name="Line 3"/>
          <p:cNvSpPr/>
          <p:nvPr/>
        </p:nvSpPr>
        <p:spPr>
          <a:xfrm flipH="1">
            <a:off x="5410080" y="2641680"/>
            <a:ext cx="457200" cy="38088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5" name="Line 5"/>
          <p:cNvSpPr/>
          <p:nvPr/>
        </p:nvSpPr>
        <p:spPr>
          <a:xfrm>
            <a:off x="5562720" y="4699080"/>
            <a:ext cx="0" cy="60948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6" name="Line 8"/>
          <p:cNvSpPr/>
          <p:nvPr/>
        </p:nvSpPr>
        <p:spPr>
          <a:xfrm>
            <a:off x="2286000" y="3479760"/>
            <a:ext cx="0" cy="68580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7" name="Line 9"/>
          <p:cNvSpPr/>
          <p:nvPr/>
        </p:nvSpPr>
        <p:spPr>
          <a:xfrm>
            <a:off x="2286000" y="4622760"/>
            <a:ext cx="0" cy="68112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8" name="Line 10"/>
          <p:cNvSpPr/>
          <p:nvPr/>
        </p:nvSpPr>
        <p:spPr>
          <a:xfrm>
            <a:off x="2268360" y="5716440"/>
            <a:ext cx="0" cy="50328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9" name="Line 11"/>
          <p:cNvSpPr/>
          <p:nvPr/>
        </p:nvSpPr>
        <p:spPr>
          <a:xfrm>
            <a:off x="6095880" y="660240"/>
            <a:ext cx="0" cy="228600"/>
          </a:xfrm>
          <a:prstGeom prst="line">
            <a:avLst/>
          </a:prstGeom>
          <a:ln cap="sq" w="3816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0" name="Line 12"/>
          <p:cNvSpPr/>
          <p:nvPr/>
        </p:nvSpPr>
        <p:spPr>
          <a:xfrm>
            <a:off x="6095880" y="1265400"/>
            <a:ext cx="0" cy="22860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1" name="Line 13"/>
          <p:cNvSpPr/>
          <p:nvPr/>
        </p:nvSpPr>
        <p:spPr>
          <a:xfrm>
            <a:off x="6095880" y="1803240"/>
            <a:ext cx="0" cy="30492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2" name="Line 14"/>
          <p:cNvSpPr/>
          <p:nvPr/>
        </p:nvSpPr>
        <p:spPr>
          <a:xfrm flipH="1">
            <a:off x="3885840" y="3251160"/>
            <a:ext cx="609480" cy="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3" name="Line 15"/>
          <p:cNvSpPr/>
          <p:nvPr/>
        </p:nvSpPr>
        <p:spPr>
          <a:xfrm flipH="1">
            <a:off x="3200040" y="5460840"/>
            <a:ext cx="1143000" cy="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4" name="Line 16"/>
          <p:cNvSpPr/>
          <p:nvPr/>
        </p:nvSpPr>
        <p:spPr>
          <a:xfrm>
            <a:off x="5580000" y="3556080"/>
            <a:ext cx="0" cy="57636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5" name="Rectangle 18"/>
          <p:cNvSpPr/>
          <p:nvPr/>
        </p:nvSpPr>
        <p:spPr>
          <a:xfrm>
            <a:off x="7093080" y="324000"/>
            <a:ext cx="25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发病机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416" name=""/>
          <p:cNvGraphicFramePr/>
          <p:nvPr/>
        </p:nvGraphicFramePr>
        <p:xfrm>
          <a:off x="5486400" y="2184480"/>
          <a:ext cx="1523880" cy="457200"/>
        </p:xfrm>
        <a:graphic>
          <a:graphicData uri="http://schemas.openxmlformats.org/drawingml/2006/table">
            <a:tbl>
              <a:tblPr/>
              <a:tblGrid>
                <a:gridCol w="15238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Times New Roman"/>
                          <a:ea typeface="华文仿宋"/>
                        </a:rPr>
                        <a:t>甲状旁腺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7" name="Line 25"/>
          <p:cNvSpPr/>
          <p:nvPr/>
        </p:nvSpPr>
        <p:spPr>
          <a:xfrm>
            <a:off x="2658960" y="6453360"/>
            <a:ext cx="2057400" cy="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8" name="Line 26"/>
          <p:cNvSpPr/>
          <p:nvPr/>
        </p:nvSpPr>
        <p:spPr>
          <a:xfrm flipH="1" flipV="1">
            <a:off x="1066680" y="1650600"/>
            <a:ext cx="4267440" cy="4680"/>
          </a:xfrm>
          <a:prstGeom prst="line">
            <a:avLst/>
          </a:prstGeom>
          <a:ln cap="sq"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9" name="Line 27"/>
          <p:cNvSpPr/>
          <p:nvPr/>
        </p:nvSpPr>
        <p:spPr>
          <a:xfrm>
            <a:off x="1066680" y="5460840"/>
            <a:ext cx="381240" cy="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0" name="Line 28"/>
          <p:cNvSpPr/>
          <p:nvPr/>
        </p:nvSpPr>
        <p:spPr>
          <a:xfrm>
            <a:off x="1066680" y="1655640"/>
            <a:ext cx="0" cy="3810240"/>
          </a:xfrm>
          <a:prstGeom prst="line">
            <a:avLst/>
          </a:prstGeom>
          <a:ln cap="sq"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421" name=""/>
          <p:cNvGraphicFramePr/>
          <p:nvPr/>
        </p:nvGraphicFramePr>
        <p:xfrm>
          <a:off x="4788000" y="6222960"/>
          <a:ext cx="1371600" cy="517680"/>
        </p:xfrm>
        <a:graphic>
          <a:graphicData uri="http://schemas.openxmlformats.org/drawingml/2006/table">
            <a:tbl>
              <a:tblPr/>
              <a:tblGrid>
                <a:gridCol w="13716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宋体"/>
                        </a:rPr>
                        <a:t>佝偻病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b3"/>
                    </a:solidFill>
                  </a:tcPr>
                </a:tc>
              </a:tr>
            </a:tbl>
          </a:graphicData>
        </a:graphic>
      </p:graphicFrame>
      <p:sp>
        <p:nvSpPr>
          <p:cNvPr id="422" name="Text Box 35"/>
          <p:cNvSpPr/>
          <p:nvPr/>
        </p:nvSpPr>
        <p:spPr>
          <a:xfrm>
            <a:off x="5105520" y="94140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华文仿宋"/>
                <a:ea typeface="华文仿宋"/>
              </a:rPr>
              <a:t>肠道吸收钙磷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↓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3" name="Text Box 36"/>
          <p:cNvSpPr/>
          <p:nvPr/>
        </p:nvSpPr>
        <p:spPr>
          <a:xfrm>
            <a:off x="5715000" y="14446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华文仿宋"/>
                <a:ea typeface="华文仿宋"/>
              </a:rPr>
              <a:t>血钙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↓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4" name="Text Box 37"/>
          <p:cNvSpPr/>
          <p:nvPr/>
        </p:nvSpPr>
        <p:spPr>
          <a:xfrm>
            <a:off x="1219320" y="302256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华文仿宋"/>
                <a:ea typeface="华文仿宋"/>
              </a:rPr>
              <a:t>肾小管重吸收磷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↓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5" name="Text Box 38"/>
          <p:cNvSpPr/>
          <p:nvPr/>
        </p:nvSpPr>
        <p:spPr>
          <a:xfrm>
            <a:off x="4648320" y="3027240"/>
            <a:ext cx="213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PTH</a:t>
            </a:r>
            <a:r>
              <a:rPr b="1" lang="zh-CN" sz="2000" spc="-1" strike="noStrike">
                <a:solidFill>
                  <a:srgbClr val="000000"/>
                </a:solidFill>
                <a:latin typeface="华文仿宋"/>
                <a:ea typeface="华文仿宋"/>
              </a:rPr>
              <a:t>分泌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↑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6" name="Text Box 40"/>
          <p:cNvSpPr/>
          <p:nvPr/>
        </p:nvSpPr>
        <p:spPr>
          <a:xfrm>
            <a:off x="4572000" y="410688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华文仿宋"/>
                <a:ea typeface="华文仿宋"/>
              </a:rPr>
              <a:t>破骨作用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↑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7" name="Text Box 42"/>
          <p:cNvSpPr/>
          <p:nvPr/>
        </p:nvSpPr>
        <p:spPr>
          <a:xfrm>
            <a:off x="1905120" y="408924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华文仿宋"/>
                <a:ea typeface="华文仿宋"/>
              </a:rPr>
              <a:t>血磷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↓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8" name="Text Box 44"/>
          <p:cNvSpPr/>
          <p:nvPr/>
        </p:nvSpPr>
        <p:spPr>
          <a:xfrm>
            <a:off x="1523880" y="523224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华文仿宋"/>
                <a:ea typeface="华文仿宋"/>
              </a:rPr>
              <a:t>钙磷乘积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↓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9" name="Text Box 45"/>
          <p:cNvSpPr/>
          <p:nvPr/>
        </p:nvSpPr>
        <p:spPr>
          <a:xfrm>
            <a:off x="4343400" y="523224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华文仿宋"/>
                <a:ea typeface="华文仿宋"/>
              </a:rPr>
              <a:t>血钙正常或稍低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0" name="Text Box 47"/>
          <p:cNvSpPr/>
          <p:nvPr/>
        </p:nvSpPr>
        <p:spPr>
          <a:xfrm>
            <a:off x="1295280" y="622296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华文仿宋"/>
                <a:ea typeface="华文仿宋"/>
              </a:rPr>
              <a:t>骨钙化受阻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31" name="Group 48"/>
          <p:cNvGrpSpPr/>
          <p:nvPr/>
        </p:nvGrpSpPr>
        <p:grpSpPr>
          <a:xfrm>
            <a:off x="6948360" y="3000240"/>
            <a:ext cx="2076480" cy="3033360"/>
            <a:chOff x="6948360" y="3000240"/>
            <a:chExt cx="2076480" cy="3033360"/>
          </a:xfrm>
        </p:grpSpPr>
        <p:sp>
          <p:nvSpPr>
            <p:cNvPr id="432" name="AutoShape 46"/>
            <p:cNvSpPr/>
            <p:nvPr/>
          </p:nvSpPr>
          <p:spPr>
            <a:xfrm>
              <a:off x="6948360" y="3000240"/>
              <a:ext cx="2076480" cy="3033360"/>
            </a:xfrm>
            <a:prstGeom prst="foldedCorner">
              <a:avLst>
                <a:gd name="adj" fmla="val 12500"/>
              </a:avLst>
            </a:prstGeom>
            <a:solidFill>
              <a:srgbClr val="dddddd"/>
            </a:solidFill>
            <a:ln w="9360">
              <a:solidFill>
                <a:srgbClr val="046ca6"/>
              </a:solidFill>
              <a:miter/>
            </a:ln>
            <a:effectLst>
              <a:outerShdw dist="107932" dir="2700000" blurRad="0" rotWithShape="0">
                <a:srgbClr val="777777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3" name="Text Box 47"/>
            <p:cNvSpPr/>
            <p:nvPr/>
          </p:nvSpPr>
          <p:spPr>
            <a:xfrm>
              <a:off x="6976800" y="3170520"/>
              <a:ext cx="1913040" cy="159588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buClr>
                  <a:srgbClr val="ff0000"/>
                </a:buClr>
                <a:buSzPct val="7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Arial"/>
                  <a:ea typeface="华文仿宋"/>
                </a:rPr>
                <a:t>骨质疏松、软化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buClr>
                  <a:srgbClr val="ff0000"/>
                </a:buClr>
                <a:buSzPct val="7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Arial"/>
                  <a:ea typeface="华文仿宋"/>
                </a:rPr>
                <a:t>未钙化的骨样组织增生堆积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4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5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6" dur="2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4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7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2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5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1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9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2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7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0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3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蛋白质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能量营养不良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缺乏能量和（或）蛋白质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多见于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以下的婴幼儿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010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年，＜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儿童中重度营养不良发生率为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55%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A9380-48D7-4C38-B536-B724D5FF19A9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402920" y="115560"/>
            <a:ext cx="7378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临床分期及表现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809280" y="2214360"/>
            <a:ext cx="39020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初期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激期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恢复期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后遗症期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36" name="" descr=""/>
          <p:cNvPicPr/>
          <p:nvPr/>
        </p:nvPicPr>
        <p:blipFill>
          <a:blip r:embed="rId1"/>
          <a:stretch/>
        </p:blipFill>
        <p:spPr>
          <a:xfrm>
            <a:off x="4863960" y="2214360"/>
            <a:ext cx="3903840" cy="3881160"/>
          </a:xfrm>
          <a:prstGeom prst="rect">
            <a:avLst/>
          </a:prstGeom>
          <a:ln w="0">
            <a:noFill/>
          </a:ln>
        </p:spPr>
      </p:pic>
      <p:sp>
        <p:nvSpPr>
          <p:cNvPr id="43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DD435-28E9-4ED3-8A99-77CC747CB61D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402920" y="115560"/>
            <a:ext cx="7378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佝偻病初期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809640" y="1197000"/>
            <a:ext cx="7362720" cy="38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多见于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个月以内小儿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神经精神症状：易激惹、睡眠不安、夜间啼哭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多汗、枕秃，骨骼改变不明显              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辅助检查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线 正常或钙化带稍模糊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血清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5-(OH)D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下降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血钙正常或稍低、血磷降低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AKP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正常或稍高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0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852E0-5B38-4809-A56C-04DE3B75831B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1" name="Rectangle 4"/>
          <p:cNvSpPr/>
          <p:nvPr/>
        </p:nvSpPr>
        <p:spPr>
          <a:xfrm>
            <a:off x="3429000" y="4876920"/>
            <a:ext cx="306864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500"/>
                                        <p:tgtEl>
                                          <p:spTgt spid="4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4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500"/>
                                        <p:tgtEl>
                                          <p:spTgt spid="4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4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402920" y="115560"/>
            <a:ext cx="7378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佝偻病激期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809280" y="1557360"/>
            <a:ext cx="7434360" cy="38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骨骼改变   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头部：颅骨软化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方颅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前囟增大 闭合延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出牙延迟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胸部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左右出现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肋骨串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郝氏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鸡胸、漏斗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F3F24-6DDE-44BB-AE17-3C555F82BBCD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4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" dur="500"/>
                                        <p:tgtEl>
                                          <p:spTgt spid="4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4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4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402920" y="115560"/>
            <a:ext cx="7378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佝偻病激期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809280" y="1557360"/>
            <a:ext cx="3902040" cy="38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骨骼改变   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四肢：手镯、脚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O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型腿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型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脊柱：后突或侧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骨盆：扁平骨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 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09F33-C90D-40D8-9262-986CCF14C9D5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500"/>
                                        <p:tgtEl>
                                          <p:spTgt spid="4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" dur="500"/>
                                        <p:tgtEl>
                                          <p:spTgt spid="4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佝偻病激期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生长发育迟缓：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肌肉松弛、肌张力下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语言和动作发育落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免疫功能低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52C69-6B13-4A3B-9E1B-9B604AFD6497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402920" y="115560"/>
            <a:ext cx="7378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</a:rPr>
              <a:t>佝偻病激期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809280" y="1844640"/>
            <a:ext cx="4554360" cy="38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辅助检查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线改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骨骺端钙化带消失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骨骺端呈杯口、毛刷状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骨骺软骨带增宽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骨质稀疏、皮质变薄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8A22F-7E96-4A1F-A7CB-226A69673328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ECC47-762D-4923-9BDD-7F92C6465B79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55" name="Picture 2" descr=""/>
          <p:cNvPicPr/>
          <p:nvPr/>
        </p:nvPicPr>
        <p:blipFill>
          <a:blip r:embed="rId1">
            <a:lum bright="24000"/>
          </a:blip>
          <a:srcRect l="0" t="5580" r="0" b="26342"/>
          <a:stretch/>
        </p:blipFill>
        <p:spPr>
          <a:xfrm>
            <a:off x="2571840" y="1143000"/>
            <a:ext cx="4348080" cy="500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8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58572-9C17-4BE3-8707-12E44F207C17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59" name="Picture 5" descr="Dsc00064"/>
          <p:cNvPicPr/>
          <p:nvPr/>
        </p:nvPicPr>
        <p:blipFill>
          <a:blip r:embed="rId1"/>
          <a:stretch/>
        </p:blipFill>
        <p:spPr>
          <a:xfrm>
            <a:off x="2022480" y="1413000"/>
            <a:ext cx="5099040" cy="4471920"/>
          </a:xfrm>
          <a:prstGeom prst="rect">
            <a:avLst/>
          </a:prstGeom>
          <a:ln w="0">
            <a:noFill/>
          </a:ln>
        </p:spPr>
      </p:pic>
      <p:sp>
        <p:nvSpPr>
          <p:cNvPr id="460" name="Line 7"/>
          <p:cNvSpPr/>
          <p:nvPr/>
        </p:nvSpPr>
        <p:spPr>
          <a:xfrm flipV="1">
            <a:off x="1673280" y="3978000"/>
            <a:ext cx="1170000" cy="530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1" name="Line 8"/>
          <p:cNvSpPr/>
          <p:nvPr/>
        </p:nvSpPr>
        <p:spPr>
          <a:xfrm flipV="1">
            <a:off x="1165320" y="2817360"/>
            <a:ext cx="1170000" cy="530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0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402920" y="115560"/>
            <a:ext cx="7378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佝偻病激期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809280" y="1773000"/>
            <a:ext cx="39020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生化改变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血钙稍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血磷明显降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AKP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明显增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AD1E6-1815-44D0-86A2-5B07A88D438F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佝偻病恢复期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临床症状明显减轻或消失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血钙、磷浓度逐渐恢复正常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AKP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个月恢复正常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线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周改善，逐渐恢复正常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B1E7C-4366-4F88-B03C-8B5608A026ED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病例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04560" y="1371240"/>
            <a:ext cx="8443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儿男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月，因体重不增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月就诊。患儿近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月主要以米粉喂养，食欲欠佳，间断性腹泻，大便稀水样，每日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次。患儿系第一胎，第一产，足月顺产，出生体重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kg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身长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50cm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。纯母乳喂养至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月，因母乳量不足，开始添加米粉，并以米粉为主。目前还添加少量菜泥和果泥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71289-8BC1-47FC-A3EB-6C4116B3C8E5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F123D-8E4D-4800-B0F5-70FA5F1699D8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31</a:t>
            </a:fld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402920" y="43920"/>
            <a:ext cx="7378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</a:rPr>
              <a:t>佝偻病后遗症期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809280" y="2214360"/>
            <a:ext cx="39020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多见于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后小儿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不同程度的骨骼畸形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无临床症状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辅助检查正常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0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17367-07A4-4EBE-9856-84481A1D5392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维生素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治疗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000~4000IU/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，口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m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，之后预防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400IU/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补钙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加强营养，及时添加辅食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户外活动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3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95FC9-F543-4E53-8554-D68FD0018F7B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护理诊断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108000" y="137124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营养失调：低于机体需要量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与日光照射不足，维生素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摄入不足等有关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成长发展迟缓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与维生素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缺乏导致骨骼畸形， 运动、精神发育迟缓有关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潜在并发症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骨骼畸形、维生素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中毒、肺部感染等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知识缺乏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儿家长缺乏佝偻病的预防和护理知识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6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D5BF5-BAE9-4B06-AC35-49E793FBC694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增加日光照射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合理补充维生素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D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母乳喂养，及时添加辅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按医嘱给予维生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，防止中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预防骨骼畸形和骨折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预防感染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健康教育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58151-D574-47AB-945E-40214C8D0776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预   防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孕母：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增加户外活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注意饮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补充维生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3C8BF-5F40-4245-9F19-16EF3D56BC51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预   防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婴儿：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尽早户外活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维生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预防量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生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~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周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400IU/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母乳喂养，及时添加辅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B3613-9203-4E2D-AC9A-D2B10FEDB722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8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临床诊断：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维生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缺乏性佝偻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治疗要点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维生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治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2000~4000IU/d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，口服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月，之后预防量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400IU/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补钙：若乳类摄入充足（每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500ml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，则不需要补充钙剂。在有低血钙、严重佝偻病或乳类摄入不足时需补充钙剂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加强营养，及时添加富含维生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的辅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增加户外活动，多晒太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8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27CFE-865D-4597-ACB7-A5C22465C242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14266-FAC3-484C-BD06-DD1F694EA01F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31</a:t>
            </a:fld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维生素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</a:rPr>
              <a:t>D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缺乏性手足搐搦症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由于维生素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缺乏，血钙降低导致神经肌肉兴奋性增高，出现惊厥、喉痉挛或手足抽搐等症状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多见于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个月以内小儿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2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6C4BA-5497-4236-8576-CF1314928560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FA24B-CC3D-4791-8AF0-7B8CA5C31371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4" name="Text Box 2"/>
          <p:cNvSpPr/>
          <p:nvPr/>
        </p:nvSpPr>
        <p:spPr>
          <a:xfrm>
            <a:off x="1285920" y="944640"/>
            <a:ext cx="7924680" cy="51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                     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VitD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缺乏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           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肠道吸收钙磷减少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              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血钙降低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              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甲状旁腺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肾小管重吸收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磷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减少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PTH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分泌增加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 </a:t>
            </a:r>
            <a:r>
              <a:rPr b="1" lang="en-US" sz="1800" spc="-1" strike="noStrike">
                <a:solidFill>
                  <a:srgbClr val="00b050"/>
                </a:solidFill>
                <a:latin typeface="黑体"/>
                <a:ea typeface="黑体"/>
              </a:rPr>
              <a:t>PTH</a:t>
            </a:r>
            <a:r>
              <a:rPr b="1" lang="zh-CN" sz="1800" spc="-1" strike="noStrike">
                <a:solidFill>
                  <a:srgbClr val="00b050"/>
                </a:solidFill>
                <a:latin typeface="黑体"/>
                <a:ea typeface="黑体"/>
              </a:rPr>
              <a:t>分泌不足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                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低血磷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骨盐溶解              </a:t>
            </a:r>
            <a:r>
              <a:rPr b="1" lang="zh-CN" sz="1800" spc="-1" strike="noStrike">
                <a:solidFill>
                  <a:srgbClr val="00b050"/>
                </a:solidFill>
                <a:latin typeface="Arial"/>
                <a:ea typeface="黑体"/>
              </a:rPr>
              <a:t>血钙下降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钙磷乘积下降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血钙正常或偏低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1" lang="zh-CN" sz="1800" spc="-1" strike="noStrike">
                <a:solidFill>
                  <a:srgbClr val="00b050"/>
                </a:solidFill>
                <a:latin typeface="Arial"/>
                <a:ea typeface="黑体"/>
              </a:rPr>
              <a:t>手足搐搦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骨钙化受阻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佝偻病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5" name="Line 3"/>
          <p:cNvSpPr/>
          <p:nvPr/>
        </p:nvSpPr>
        <p:spPr>
          <a:xfrm flipH="1">
            <a:off x="4757400" y="2671920"/>
            <a:ext cx="685800" cy="45720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6" name="Line 4"/>
          <p:cNvSpPr/>
          <p:nvPr/>
        </p:nvSpPr>
        <p:spPr>
          <a:xfrm>
            <a:off x="5672160" y="2671920"/>
            <a:ext cx="685800" cy="533160"/>
          </a:xfrm>
          <a:prstGeom prst="line">
            <a:avLst/>
          </a:prstGeom>
          <a:ln cap="sq" w="38160">
            <a:solidFill>
              <a:srgbClr val="00b05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7" name="Line 5"/>
          <p:cNvSpPr/>
          <p:nvPr/>
        </p:nvSpPr>
        <p:spPr>
          <a:xfrm>
            <a:off x="4857840" y="4357800"/>
            <a:ext cx="0" cy="60948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8" name="Line 6"/>
          <p:cNvSpPr/>
          <p:nvPr/>
        </p:nvSpPr>
        <p:spPr>
          <a:xfrm>
            <a:off x="6643800" y="3500280"/>
            <a:ext cx="0" cy="505080"/>
          </a:xfrm>
          <a:prstGeom prst="line">
            <a:avLst/>
          </a:prstGeom>
          <a:ln cap="sq" w="38160">
            <a:solidFill>
              <a:srgbClr val="00b05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9" name="Line 8"/>
          <p:cNvSpPr/>
          <p:nvPr/>
        </p:nvSpPr>
        <p:spPr>
          <a:xfrm>
            <a:off x="2286000" y="3386160"/>
            <a:ext cx="0" cy="68580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0" name="Line 11"/>
          <p:cNvSpPr/>
          <p:nvPr/>
        </p:nvSpPr>
        <p:spPr>
          <a:xfrm>
            <a:off x="5357880" y="2200320"/>
            <a:ext cx="0" cy="22860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1" name="Line 12"/>
          <p:cNvSpPr/>
          <p:nvPr/>
        </p:nvSpPr>
        <p:spPr>
          <a:xfrm>
            <a:off x="5357880" y="1200240"/>
            <a:ext cx="0" cy="22860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2" name="Line 13"/>
          <p:cNvSpPr/>
          <p:nvPr/>
        </p:nvSpPr>
        <p:spPr>
          <a:xfrm>
            <a:off x="5357880" y="1611360"/>
            <a:ext cx="0" cy="30492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3" name="Line 14"/>
          <p:cNvSpPr/>
          <p:nvPr/>
        </p:nvSpPr>
        <p:spPr>
          <a:xfrm flipH="1">
            <a:off x="928800" y="2500200"/>
            <a:ext cx="3962160" cy="0"/>
          </a:xfrm>
          <a:prstGeom prst="line">
            <a:avLst/>
          </a:prstGeom>
          <a:ln cap="sq"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4" name="Line 15"/>
          <p:cNvSpPr/>
          <p:nvPr/>
        </p:nvSpPr>
        <p:spPr>
          <a:xfrm>
            <a:off x="1000080" y="5929200"/>
            <a:ext cx="380880" cy="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5" name="Line 16"/>
          <p:cNvSpPr/>
          <p:nvPr/>
        </p:nvSpPr>
        <p:spPr>
          <a:xfrm flipH="1">
            <a:off x="3643200" y="3357720"/>
            <a:ext cx="457200" cy="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6" name="Line 19"/>
          <p:cNvSpPr/>
          <p:nvPr/>
        </p:nvSpPr>
        <p:spPr>
          <a:xfrm>
            <a:off x="4857840" y="3500280"/>
            <a:ext cx="0" cy="66528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7" name="Rectangle 20"/>
          <p:cNvSpPr/>
          <p:nvPr/>
        </p:nvSpPr>
        <p:spPr>
          <a:xfrm>
            <a:off x="5357880" y="357120"/>
            <a:ext cx="356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发病机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8" name="Line 28"/>
          <p:cNvSpPr/>
          <p:nvPr/>
        </p:nvSpPr>
        <p:spPr>
          <a:xfrm>
            <a:off x="928800" y="2476440"/>
            <a:ext cx="46080" cy="3452760"/>
          </a:xfrm>
          <a:prstGeom prst="line">
            <a:avLst/>
          </a:prstGeom>
          <a:ln cap="sq"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9" name="Line 45"/>
          <p:cNvSpPr/>
          <p:nvPr/>
        </p:nvSpPr>
        <p:spPr>
          <a:xfrm>
            <a:off x="6643800" y="4429080"/>
            <a:ext cx="0" cy="504720"/>
          </a:xfrm>
          <a:prstGeom prst="line">
            <a:avLst/>
          </a:prstGeom>
          <a:ln cap="sq" w="38160">
            <a:solidFill>
              <a:srgbClr val="00b05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510" name="直接箭头连接符 25"/>
          <p:cNvCxnSpPr/>
          <p:nvPr/>
        </p:nvCxnSpPr>
        <p:spPr>
          <a:xfrm>
            <a:off x="2857680" y="5928840"/>
            <a:ext cx="1429200" cy="2520"/>
          </a:xfrm>
          <a:prstGeom prst="straightConnector1">
            <a:avLst/>
          </a:prstGeom>
          <a:ln w="38160">
            <a:solidFill>
              <a:srgbClr val="046ca6"/>
            </a:solidFill>
            <a:miter/>
            <a:tailEnd len="med" type="arrow" w="med"/>
          </a:ln>
        </p:spPr>
      </p:cxnSp>
      <p:sp>
        <p:nvSpPr>
          <p:cNvPr id="511" name="Line 8"/>
          <p:cNvSpPr/>
          <p:nvPr/>
        </p:nvSpPr>
        <p:spPr>
          <a:xfrm>
            <a:off x="2286000" y="4314960"/>
            <a:ext cx="0" cy="68580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2" name="Line 8"/>
          <p:cNvSpPr/>
          <p:nvPr/>
        </p:nvSpPr>
        <p:spPr>
          <a:xfrm>
            <a:off x="2286000" y="5172120"/>
            <a:ext cx="0" cy="68580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nodeType="clickEffect" fill="hold">
                      <p:stCondLst>
                        <p:cond delay="0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典型发作：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惊厥：最常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手足抽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喉痉挛：严重者导致死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7BC71-6C08-46EA-8FC4-165C67333C30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516" name="Picture 6" descr="shouzhu "/>
          <p:cNvPicPr/>
          <p:nvPr/>
        </p:nvPicPr>
        <p:blipFill>
          <a:blip r:embed="rId1"/>
          <a:srcRect l="55672" t="26165" r="20935" b="37346"/>
          <a:stretch/>
        </p:blipFill>
        <p:spPr>
          <a:xfrm>
            <a:off x="6215040" y="2428920"/>
            <a:ext cx="2158920" cy="3021120"/>
          </a:xfrm>
          <a:prstGeom prst="rect">
            <a:avLst/>
          </a:prstGeom>
          <a:ln w="0">
            <a:noFill/>
          </a:ln>
        </p:spPr>
      </p:pic>
      <p:pic>
        <p:nvPicPr>
          <p:cNvPr id="517" name="Picture 7" descr="shouzhu "/>
          <p:cNvPicPr/>
          <p:nvPr/>
        </p:nvPicPr>
        <p:blipFill>
          <a:blip r:embed="rId2"/>
          <a:srcRect l="14321" t="38630" r="50576" b="37346"/>
          <a:stretch/>
        </p:blipFill>
        <p:spPr>
          <a:xfrm>
            <a:off x="2214720" y="4143240"/>
            <a:ext cx="3240000" cy="1989360"/>
          </a:xfrm>
          <a:prstGeom prst="rect">
            <a:avLst/>
          </a:prstGeom>
          <a:ln w="0">
            <a:noFill/>
          </a:ln>
        </p:spPr>
      </p:pic>
      <p:sp>
        <p:nvSpPr>
          <p:cNvPr id="518" name="Text Box 8"/>
          <p:cNvSpPr/>
          <p:nvPr/>
        </p:nvSpPr>
        <p:spPr>
          <a:xfrm>
            <a:off x="2857680" y="621504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助产士手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9" name="Text Box 9"/>
          <p:cNvSpPr/>
          <p:nvPr/>
        </p:nvSpPr>
        <p:spPr>
          <a:xfrm>
            <a:off x="6500880" y="585792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芭蕾舞足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病例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78920" y="1371240"/>
            <a:ext cx="8736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体检：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T36.3℃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P106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分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R26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分，身长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65cm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体重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5.5kg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。精神欠佳，前囟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2cm×1.2cm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稍凹陷，头发较少无光泽。皮肤干燥，弹性较差，无水肿。双肺呼吸音清，心音有力，未闻及杂音，腹部皮下脂肪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0.3cm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腹软，肝肋下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cm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质软。实验室检查结果：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Hb86g/L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TP48g/L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ALB29g/L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血钾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.6mmol/L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血钠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28mmol/L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空腹血糖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.5mmol/L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；大便常规（—）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问题：该患儿的临床诊断是什么？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60387-896E-431C-832C-56DDCCED8DA2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E6BE4-495D-498D-94FD-32A971E6661C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31</a:t>
            </a:fld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隐匿型体征：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面神经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腓反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陶瑟氏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2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9E56E-F2FD-46A6-A31B-04CA1C36E44C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治   疗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急救处理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吸氧，保持呼吸道通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控制惊厥、喉痉挛：首选安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钙剂治疗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％葡萄糖酸钙，静脉点滴或缓慢静脉注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(&gt;10mi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维生素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治疗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5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85ED7-3F07-455D-95D3-F33DC5F33E81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护理诊断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潜在并发症：窒息（喉痉挛）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有受伤的危险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与惊厥发作有关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营养失调：低于机体需要量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与维生素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缺乏有关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知识缺乏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家长缺乏预防维生素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缺乏的知识以及护理惊厥和喉痉挛的知识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8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B4B20-714C-4FB4-8938-22BAB3F7FA6F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观察病情，做好急救准备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遵医嘱使用镇静剂、钙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加强户外活动，补充维生素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D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健康教育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949BC-9431-431C-99EC-D770E65EBC82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锌缺乏症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病因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摄入不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吸收障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需要量增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丢失过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2DE66-546B-45B7-BDA4-8E9D5BE56CA5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食欲减退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生长发育落后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免疫功能降低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其他  脱发、皮肤粗糙、皮炎、地图舌等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3BA04-F867-41F8-9531-0ACB623DAD43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空腹血清锌浓度＜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1.47μmol/l(75μg/dl)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餐后血清锌浓度反应试验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PICR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＞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5%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2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E6196-72B3-4CCD-B9FF-E31F8CF3AFAB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治疗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针对病因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积极治疗原发疾病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适当增加富含锌的食物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口服锌制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6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832A6-40A1-4A01-84FC-4A9BE9E80A74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常见护理诊断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问题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营养失调： 低于机体需要量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有感染的危险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生长发育迟缓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知识缺乏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0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42DAF-727E-4C4C-B185-8CB8445E43E7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合理喂养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预防感染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健康教育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86FD6-E4F3-43CA-BCB1-EFC62CC87891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喂养不当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化吸收不良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耗增加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2F9B0-2418-41A3-895C-E03F57FEA2A6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08BAB-55B7-4E24-8A20-978239996238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7" name="WordArt 2"/>
          <p:cNvSpPr txBox="1"/>
          <p:nvPr/>
        </p:nvSpPr>
        <p:spPr>
          <a:xfrm>
            <a:off x="2643120" y="2643120"/>
            <a:ext cx="373392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谢谢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病理生理 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28D71-F984-452D-B976-016E75B8D511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94" name="Group 33"/>
          <p:cNvGrpSpPr/>
          <p:nvPr/>
        </p:nvGrpSpPr>
        <p:grpSpPr>
          <a:xfrm>
            <a:off x="2763720" y="1413000"/>
            <a:ext cx="2113200" cy="5205240"/>
            <a:chOff x="2763720" y="1413000"/>
            <a:chExt cx="2113200" cy="5205240"/>
          </a:xfrm>
        </p:grpSpPr>
        <p:sp>
          <p:nvSpPr>
            <p:cNvPr id="195" name="Text Box 7"/>
            <p:cNvSpPr/>
            <p:nvPr/>
          </p:nvSpPr>
          <p:spPr>
            <a:xfrm>
              <a:off x="2803680" y="2411280"/>
              <a:ext cx="1828800" cy="4849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9320" rIns="49320" tIns="24480" bIns="24480" anchor="t">
              <a:spAutoFit/>
            </a:bodyPr>
            <a:p>
              <a:pPr algn="ctr">
                <a:lnSpc>
                  <a:spcPct val="130000"/>
                </a:lnSpc>
                <a:spcBef>
                  <a:spcPts val="1125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脂肪消耗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↑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6" name="AutoShape 8"/>
            <p:cNvSpPr/>
            <p:nvPr/>
          </p:nvSpPr>
          <p:spPr>
            <a:xfrm>
              <a:off x="3657600" y="3075120"/>
              <a:ext cx="200160" cy="707760"/>
            </a:xfrm>
            <a:prstGeom prst="downArrow">
              <a:avLst>
                <a:gd name="adj1" fmla="val 50000"/>
                <a:gd name="adj2" fmla="val 48423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7" name="Text Box 9"/>
            <p:cNvSpPr/>
            <p:nvPr/>
          </p:nvSpPr>
          <p:spPr>
            <a:xfrm>
              <a:off x="2925720" y="3865680"/>
              <a:ext cx="1625760" cy="9234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9320" rIns="49320" tIns="24480" bIns="24480" anchor="t">
              <a:spAutoFit/>
            </a:bodyPr>
            <a:p>
              <a:pPr algn="ctr"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胆固醇和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皮下脂肪↓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8" name="Text Box 10"/>
            <p:cNvSpPr/>
            <p:nvPr/>
          </p:nvSpPr>
          <p:spPr>
            <a:xfrm>
              <a:off x="2763720" y="5516640"/>
              <a:ext cx="2113200" cy="11016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9320" rIns="49320" tIns="24480" bIns="24480" anchor="t">
              <a:spAutoFit/>
            </a:bodyPr>
            <a:p>
              <a:pPr algn="ctr">
                <a:lnSpc>
                  <a:spcPct val="70000"/>
                </a:lnSpc>
                <a:spcBef>
                  <a:spcPts val="1375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体重不增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spcBef>
                  <a:spcPts val="1375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肝脂肪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spcBef>
                  <a:spcPts val="1375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变性及浸润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9" name="AutoShape 11"/>
            <p:cNvSpPr/>
            <p:nvPr/>
          </p:nvSpPr>
          <p:spPr>
            <a:xfrm>
              <a:off x="3714840" y="4903920"/>
              <a:ext cx="214200" cy="541080"/>
            </a:xfrm>
            <a:prstGeom prst="downArrow">
              <a:avLst>
                <a:gd name="adj1" fmla="val 50000"/>
                <a:gd name="adj2" fmla="val 33306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0" name="AutoShape 20"/>
            <p:cNvSpPr/>
            <p:nvPr/>
          </p:nvSpPr>
          <p:spPr>
            <a:xfrm>
              <a:off x="3657600" y="1413000"/>
              <a:ext cx="200160" cy="873000"/>
            </a:xfrm>
            <a:prstGeom prst="downArrow">
              <a:avLst>
                <a:gd name="adj1" fmla="val 50000"/>
                <a:gd name="adj2" fmla="val 67018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01" name="Group 34"/>
          <p:cNvGrpSpPr/>
          <p:nvPr/>
        </p:nvGrpSpPr>
        <p:grpSpPr>
          <a:xfrm>
            <a:off x="4788000" y="1413000"/>
            <a:ext cx="1260360" cy="3144240"/>
            <a:chOff x="4788000" y="1413000"/>
            <a:chExt cx="1260360" cy="3144240"/>
          </a:xfrm>
        </p:grpSpPr>
        <p:sp>
          <p:nvSpPr>
            <p:cNvPr id="202" name="Text Box 12"/>
            <p:cNvSpPr/>
            <p:nvPr/>
          </p:nvSpPr>
          <p:spPr>
            <a:xfrm>
              <a:off x="4788000" y="2421000"/>
              <a:ext cx="1260360" cy="7196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9320" rIns="49320" tIns="24480" bIns="244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糖原不足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消耗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↑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3" name="Text Box 13"/>
            <p:cNvSpPr/>
            <p:nvPr/>
          </p:nvSpPr>
          <p:spPr>
            <a:xfrm>
              <a:off x="4790880" y="4005360"/>
              <a:ext cx="1220400" cy="551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9320" rIns="49320" tIns="24480" bIns="24480" anchor="t">
              <a:spAutoFit/>
            </a:bodyPr>
            <a:p>
              <a:pPr algn="ctr">
                <a:lnSpc>
                  <a:spcPct val="150000"/>
                </a:lnSpc>
                <a:spcBef>
                  <a:spcPts val="1375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血糖↓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4" name="AutoShape 14"/>
            <p:cNvSpPr/>
            <p:nvPr/>
          </p:nvSpPr>
          <p:spPr>
            <a:xfrm>
              <a:off x="5219640" y="3286080"/>
              <a:ext cx="205920" cy="684360"/>
            </a:xfrm>
            <a:prstGeom prst="downArrow">
              <a:avLst>
                <a:gd name="adj1" fmla="val 50000"/>
                <a:gd name="adj2" fmla="val 33388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5" name="AutoShape 21"/>
            <p:cNvSpPr/>
            <p:nvPr/>
          </p:nvSpPr>
          <p:spPr>
            <a:xfrm>
              <a:off x="5278320" y="1413000"/>
              <a:ext cx="218520" cy="831600"/>
            </a:xfrm>
            <a:prstGeom prst="downArrow">
              <a:avLst>
                <a:gd name="adj1" fmla="val 50000"/>
                <a:gd name="adj2" fmla="val 64043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06" name="Group 32"/>
          <p:cNvGrpSpPr/>
          <p:nvPr/>
        </p:nvGrpSpPr>
        <p:grpSpPr>
          <a:xfrm>
            <a:off x="411120" y="1005480"/>
            <a:ext cx="2870640" cy="5158080"/>
            <a:chOff x="411120" y="1005480"/>
            <a:chExt cx="2870640" cy="5158080"/>
          </a:xfrm>
        </p:grpSpPr>
        <p:sp>
          <p:nvSpPr>
            <p:cNvPr id="207" name="Text Box 2"/>
            <p:cNvSpPr/>
            <p:nvPr/>
          </p:nvSpPr>
          <p:spPr>
            <a:xfrm>
              <a:off x="411120" y="2411280"/>
              <a:ext cx="2127240" cy="48492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9320" rIns="49320" tIns="24480" bIns="24480" anchor="t">
              <a:spAutoFit/>
            </a:bodyPr>
            <a:p>
              <a:pPr algn="ctr">
                <a:lnSpc>
                  <a:spcPct val="130000"/>
                </a:lnSpc>
                <a:spcBef>
                  <a:spcPts val="1375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蛋白质不足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8" name="AutoShape 3"/>
            <p:cNvSpPr/>
            <p:nvPr/>
          </p:nvSpPr>
          <p:spPr>
            <a:xfrm>
              <a:off x="1270080" y="2951280"/>
              <a:ext cx="214200" cy="747720"/>
            </a:xfrm>
            <a:prstGeom prst="downArrow">
              <a:avLst>
                <a:gd name="adj1" fmla="val 50000"/>
                <a:gd name="adj2" fmla="val 46026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9" name="Text Box 4"/>
            <p:cNvSpPr/>
            <p:nvPr/>
          </p:nvSpPr>
          <p:spPr>
            <a:xfrm>
              <a:off x="452520" y="3824280"/>
              <a:ext cx="2031840" cy="96120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9320" rIns="49320" tIns="24480" bIns="24480" anchor="t">
              <a:spAutoFit/>
            </a:bodyPr>
            <a:p>
              <a:pPr>
                <a:lnSpc>
                  <a:spcPct val="110000"/>
                </a:lnSpc>
                <a:spcBef>
                  <a:spcPts val="1375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总蛋白＜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40g/L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spcBef>
                  <a:spcPts val="1375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白蛋白＜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0g/L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0" name="AutoShape 5"/>
            <p:cNvSpPr/>
            <p:nvPr/>
          </p:nvSpPr>
          <p:spPr>
            <a:xfrm>
              <a:off x="1270080" y="4946760"/>
              <a:ext cx="214200" cy="539640"/>
            </a:xfrm>
            <a:prstGeom prst="downArrow">
              <a:avLst>
                <a:gd name="adj1" fmla="val 50000"/>
                <a:gd name="adj2" fmla="val 33218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1" name="Text Box 6"/>
            <p:cNvSpPr/>
            <p:nvPr/>
          </p:nvSpPr>
          <p:spPr>
            <a:xfrm>
              <a:off x="411120" y="5611680"/>
              <a:ext cx="2200320" cy="5518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9320" rIns="49320" tIns="24480" bIns="24480" anchor="t">
              <a:spAutoFit/>
            </a:bodyPr>
            <a:p>
              <a:pPr algn="ctr">
                <a:lnSpc>
                  <a:spcPct val="150000"/>
                </a:lnSpc>
                <a:spcBef>
                  <a:spcPts val="1375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低蛋白水肿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2" name="AutoShape 23"/>
            <p:cNvSpPr/>
            <p:nvPr/>
          </p:nvSpPr>
          <p:spPr>
            <a:xfrm rot="3175200">
              <a:off x="2339280" y="695880"/>
              <a:ext cx="199800" cy="1960560"/>
            </a:xfrm>
            <a:prstGeom prst="downArrow">
              <a:avLst>
                <a:gd name="adj1" fmla="val 50000"/>
                <a:gd name="adj2" fmla="val 128791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13" name="Oval 24"/>
          <p:cNvSpPr/>
          <p:nvPr/>
        </p:nvSpPr>
        <p:spPr>
          <a:xfrm>
            <a:off x="3203640" y="506520"/>
            <a:ext cx="3097080" cy="112212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320" rIns="4932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r>
              <a:rPr b="1" lang="zh-CN" sz="1800" spc="-1" strike="noStrike">
                <a:solidFill>
                  <a:srgbClr val="dddddd"/>
                </a:solidFill>
                <a:latin typeface="Arial"/>
                <a:ea typeface="宋体"/>
              </a:rPr>
              <a:t> 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14" name="组合 36"/>
          <p:cNvGrpSpPr/>
          <p:nvPr/>
        </p:nvGrpSpPr>
        <p:grpSpPr>
          <a:xfrm>
            <a:off x="5982840" y="1234440"/>
            <a:ext cx="2543760" cy="5222520"/>
            <a:chOff x="5982840" y="1234440"/>
            <a:chExt cx="2543760" cy="5222520"/>
          </a:xfrm>
        </p:grpSpPr>
        <p:sp>
          <p:nvSpPr>
            <p:cNvPr id="215" name="Text Box 15"/>
            <p:cNvSpPr/>
            <p:nvPr/>
          </p:nvSpPr>
          <p:spPr>
            <a:xfrm>
              <a:off x="6401880" y="2421360"/>
              <a:ext cx="1584720" cy="82692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9320" rIns="49320" tIns="24480" bIns="24480" anchor="t">
              <a:spAutoFit/>
            </a:bodyPr>
            <a:p>
              <a:pPr algn="ctr">
                <a:lnSpc>
                  <a:spcPct val="80000"/>
                </a:lnSpc>
                <a:spcBef>
                  <a:spcPts val="1375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1375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6" name="Text Box 16"/>
            <p:cNvSpPr/>
            <p:nvPr/>
          </p:nvSpPr>
          <p:spPr>
            <a:xfrm>
              <a:off x="6114600" y="3934080"/>
              <a:ext cx="2235600" cy="58536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9320" rIns="49320" tIns="24480" bIns="24480" anchor="t">
              <a:spAutoFit/>
            </a:bodyPr>
            <a:p>
              <a:pPr algn="ctr">
                <a:lnSpc>
                  <a:spcPct val="160000"/>
                </a:lnSpc>
                <a:spcBef>
                  <a:spcPts val="1375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钠在细胞内潴留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7" name="Rectangle 17"/>
            <p:cNvSpPr/>
            <p:nvPr/>
          </p:nvSpPr>
          <p:spPr>
            <a:xfrm>
              <a:off x="6186240" y="5402520"/>
              <a:ext cx="2340360" cy="10544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9320" rIns="49320" tIns="24480" bIns="2448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低渗性脱水、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低血钾、酸中毒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8" name="AutoShape 18"/>
            <p:cNvSpPr/>
            <p:nvPr/>
          </p:nvSpPr>
          <p:spPr>
            <a:xfrm>
              <a:off x="7097760" y="3283200"/>
              <a:ext cx="250560" cy="541080"/>
            </a:xfrm>
            <a:prstGeom prst="downArrow">
              <a:avLst>
                <a:gd name="adj1" fmla="val 50000"/>
                <a:gd name="adj2" fmla="val 33322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9" name="AutoShape 19"/>
            <p:cNvSpPr/>
            <p:nvPr/>
          </p:nvSpPr>
          <p:spPr>
            <a:xfrm>
              <a:off x="7097760" y="4780440"/>
              <a:ext cx="250560" cy="539640"/>
            </a:xfrm>
            <a:prstGeom prst="downArrow">
              <a:avLst>
                <a:gd name="adj1" fmla="val 50000"/>
                <a:gd name="adj2" fmla="val 33223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0" name="AutoShape 22"/>
            <p:cNvSpPr/>
            <p:nvPr/>
          </p:nvSpPr>
          <p:spPr>
            <a:xfrm rot="18895200">
              <a:off x="6441480" y="1117800"/>
              <a:ext cx="251640" cy="1400040"/>
            </a:xfrm>
            <a:prstGeom prst="downArrow">
              <a:avLst>
                <a:gd name="adj1" fmla="val 50000"/>
                <a:gd name="adj2" fmla="val 145608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1" name="Text Box 29"/>
            <p:cNvSpPr/>
            <p:nvPr/>
          </p:nvSpPr>
          <p:spPr>
            <a:xfrm>
              <a:off x="6474960" y="2349720"/>
              <a:ext cx="15847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水电解质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代谢异常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22" name="Text Box 30"/>
          <p:cNvSpPr/>
          <p:nvPr/>
        </p:nvSpPr>
        <p:spPr>
          <a:xfrm>
            <a:off x="3564000" y="822240"/>
            <a:ext cx="24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新陈代谢异常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23" name="Group 36"/>
          <p:cNvGrpSpPr/>
          <p:nvPr/>
        </p:nvGrpSpPr>
        <p:grpSpPr>
          <a:xfrm>
            <a:off x="6372360" y="907920"/>
            <a:ext cx="2158920" cy="720720"/>
            <a:chOff x="6372360" y="907920"/>
            <a:chExt cx="2158920" cy="720720"/>
          </a:xfrm>
        </p:grpSpPr>
        <p:sp>
          <p:nvSpPr>
            <p:cNvPr id="224" name="AutoShape 27"/>
            <p:cNvSpPr/>
            <p:nvPr/>
          </p:nvSpPr>
          <p:spPr>
            <a:xfrm>
              <a:off x="6372360" y="1052280"/>
              <a:ext cx="690480" cy="235080"/>
            </a:xfrm>
            <a:prstGeom prst="rightArrow">
              <a:avLst>
                <a:gd name="adj1" fmla="val 50000"/>
                <a:gd name="adj2" fmla="val 59383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5" name="AutoShape 28"/>
            <p:cNvSpPr/>
            <p:nvPr/>
          </p:nvSpPr>
          <p:spPr>
            <a:xfrm>
              <a:off x="7307280" y="907920"/>
              <a:ext cx="1224000" cy="720720"/>
            </a:xfrm>
            <a:prstGeom prst="roundRect">
              <a:avLst>
                <a:gd name="adj" fmla="val 16667"/>
              </a:avLst>
            </a:prstGeom>
            <a:solidFill>
              <a:srgbClr val="f9bfcb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9320" rIns="49320" tIns="24480" bIns="24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6" name="Text Box 31"/>
            <p:cNvSpPr/>
            <p:nvPr/>
          </p:nvSpPr>
          <p:spPr>
            <a:xfrm>
              <a:off x="7380360" y="1052280"/>
              <a:ext cx="115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低体温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547280" y="1341360"/>
            <a:ext cx="45975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各系统功能低下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46FD0-FC12-4A7D-AD6F-93277D08D548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30" name="Group 39"/>
          <p:cNvGrpSpPr/>
          <p:nvPr/>
        </p:nvGrpSpPr>
        <p:grpSpPr>
          <a:xfrm>
            <a:off x="2340000" y="2077920"/>
            <a:ext cx="2376360" cy="4182120"/>
            <a:chOff x="2340000" y="2077920"/>
            <a:chExt cx="2376360" cy="4182120"/>
          </a:xfrm>
        </p:grpSpPr>
        <p:sp>
          <p:nvSpPr>
            <p:cNvPr id="231" name="AutoShape 3"/>
            <p:cNvSpPr/>
            <p:nvPr/>
          </p:nvSpPr>
          <p:spPr>
            <a:xfrm>
              <a:off x="3373560" y="2077920"/>
              <a:ext cx="198360" cy="547920"/>
            </a:xfrm>
            <a:prstGeom prst="downArrow">
              <a:avLst>
                <a:gd name="adj1" fmla="val 50000"/>
                <a:gd name="adj2" fmla="val 42112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2" name="Text Box 11"/>
            <p:cNvSpPr/>
            <p:nvPr/>
          </p:nvSpPr>
          <p:spPr>
            <a:xfrm>
              <a:off x="2641680" y="2625840"/>
              <a:ext cx="1828800" cy="405720"/>
            </a:xfrm>
            <a:prstGeom prst="rect">
              <a:avLst/>
            </a:prstGeom>
            <a:solidFill>
              <a:srgbClr val="e3fafd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9320" rIns="49320" tIns="24480" bIns="24480" anchor="t">
              <a:spAutoFit/>
            </a:bodyPr>
            <a:p>
              <a:pPr algn="ctr">
                <a:lnSpc>
                  <a:spcPct val="130000"/>
                </a:lnSpc>
                <a:spcBef>
                  <a:spcPts val="1125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1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循环系统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3" name="AutoShape 12"/>
            <p:cNvSpPr/>
            <p:nvPr/>
          </p:nvSpPr>
          <p:spPr>
            <a:xfrm>
              <a:off x="3332160" y="3220920"/>
              <a:ext cx="168120" cy="478080"/>
            </a:xfrm>
            <a:prstGeom prst="downArrow">
              <a:avLst>
                <a:gd name="adj1" fmla="val 50000"/>
                <a:gd name="adj2" fmla="val 29437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4" name="Text Box 13"/>
            <p:cNvSpPr/>
            <p:nvPr/>
          </p:nvSpPr>
          <p:spPr>
            <a:xfrm>
              <a:off x="2519280" y="3699000"/>
              <a:ext cx="1951200" cy="378360"/>
            </a:xfrm>
            <a:prstGeom prst="rect">
              <a:avLst/>
            </a:prstGeom>
            <a:solidFill>
              <a:srgbClr val="e3fafd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9320" rIns="49320" tIns="24480" bIns="24480" anchor="t">
              <a:spAutoFit/>
            </a:bodyPr>
            <a:p>
              <a:pPr algn="ctr">
                <a:lnSpc>
                  <a:spcPct val="120000"/>
                </a:lnSpc>
                <a:spcBef>
                  <a:spcPts val="451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1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心肌收缩力↓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5" name="Text Box 14"/>
            <p:cNvSpPr/>
            <p:nvPr/>
          </p:nvSpPr>
          <p:spPr>
            <a:xfrm>
              <a:off x="2847960" y="4654440"/>
              <a:ext cx="1422360" cy="460800"/>
            </a:xfrm>
            <a:prstGeom prst="rect">
              <a:avLst/>
            </a:prstGeom>
            <a:solidFill>
              <a:srgbClr val="e3fafd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9320" rIns="49320" tIns="24480" bIns="24480" anchor="t">
              <a:spAutoFit/>
            </a:bodyPr>
            <a:p>
              <a:pPr algn="ctr">
                <a:lnSpc>
                  <a:spcPct val="150000"/>
                </a:lnSpc>
                <a:spcBef>
                  <a:spcPts val="1125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1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心博量↓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6" name="AutoShape 15"/>
            <p:cNvSpPr/>
            <p:nvPr/>
          </p:nvSpPr>
          <p:spPr>
            <a:xfrm>
              <a:off x="3332160" y="4195800"/>
              <a:ext cx="168120" cy="458640"/>
            </a:xfrm>
            <a:prstGeom prst="downArrow">
              <a:avLst>
                <a:gd name="adj1" fmla="val 50000"/>
                <a:gd name="adj2" fmla="val 28240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7" name="AutoShape 20"/>
            <p:cNvSpPr/>
            <p:nvPr/>
          </p:nvSpPr>
          <p:spPr>
            <a:xfrm>
              <a:off x="3292560" y="5259240"/>
              <a:ext cx="207720" cy="540000"/>
            </a:xfrm>
            <a:prstGeom prst="downArrow">
              <a:avLst>
                <a:gd name="adj1" fmla="val 50000"/>
                <a:gd name="adj2" fmla="val 33254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8" name="Text Box 21"/>
            <p:cNvSpPr/>
            <p:nvPr/>
          </p:nvSpPr>
          <p:spPr>
            <a:xfrm>
              <a:off x="2340000" y="5799240"/>
              <a:ext cx="2376360" cy="460800"/>
            </a:xfrm>
            <a:prstGeom prst="rect">
              <a:avLst/>
            </a:prstGeom>
            <a:solidFill>
              <a:srgbClr val="e3fafd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9320" rIns="49320" tIns="24480" bIns="24480" anchor="t">
              <a:spAutoFit/>
            </a:bodyPr>
            <a:p>
              <a:pPr algn="ctr">
                <a:lnSpc>
                  <a:spcPct val="150000"/>
                </a:lnSpc>
                <a:spcBef>
                  <a:spcPts val="1125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1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脉细弱、 </a:t>
              </a:r>
              <a:r>
                <a:rPr b="1" lang="en-US" sz="1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BP ↓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39" name="Group 40"/>
          <p:cNvGrpSpPr/>
          <p:nvPr/>
        </p:nvGrpSpPr>
        <p:grpSpPr>
          <a:xfrm>
            <a:off x="4449600" y="1989000"/>
            <a:ext cx="2560680" cy="3372480"/>
            <a:chOff x="4449600" y="1989000"/>
            <a:chExt cx="2560680" cy="3372480"/>
          </a:xfrm>
        </p:grpSpPr>
        <p:sp>
          <p:nvSpPr>
            <p:cNvPr id="240" name="AutoShape 4"/>
            <p:cNvSpPr/>
            <p:nvPr/>
          </p:nvSpPr>
          <p:spPr>
            <a:xfrm>
              <a:off x="5405400" y="1989000"/>
              <a:ext cx="238320" cy="831960"/>
            </a:xfrm>
            <a:prstGeom prst="downArrow">
              <a:avLst>
                <a:gd name="adj1" fmla="val 50000"/>
                <a:gd name="adj2" fmla="val 63855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1" name="Text Box 16"/>
            <p:cNvSpPr/>
            <p:nvPr/>
          </p:nvSpPr>
          <p:spPr>
            <a:xfrm>
              <a:off x="4788000" y="2852640"/>
              <a:ext cx="1503360" cy="323640"/>
            </a:xfrm>
            <a:prstGeom prst="rect">
              <a:avLst/>
            </a:prstGeom>
            <a:solidFill>
              <a:srgbClr val="ffff8b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9320" rIns="49320" tIns="24480" bIns="2448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泌尿系统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2" name="Text Box 17"/>
            <p:cNvSpPr/>
            <p:nvPr/>
          </p:nvSpPr>
          <p:spPr>
            <a:xfrm>
              <a:off x="4551480" y="3870360"/>
              <a:ext cx="2252520" cy="460800"/>
            </a:xfrm>
            <a:prstGeom prst="rect">
              <a:avLst/>
            </a:prstGeom>
            <a:solidFill>
              <a:srgbClr val="ffff8b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9320" rIns="49320" tIns="24480" bIns="24480" anchor="t">
              <a:spAutoFit/>
            </a:bodyPr>
            <a:p>
              <a:pPr algn="ctr">
                <a:lnSpc>
                  <a:spcPct val="150000"/>
                </a:lnSpc>
                <a:spcBef>
                  <a:spcPts val="1125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肾小管重吸收↓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3" name="AutoShape 18"/>
            <p:cNvSpPr/>
            <p:nvPr/>
          </p:nvSpPr>
          <p:spPr>
            <a:xfrm>
              <a:off x="5405400" y="3330720"/>
              <a:ext cx="238320" cy="539640"/>
            </a:xfrm>
            <a:prstGeom prst="downArrow">
              <a:avLst>
                <a:gd name="adj1" fmla="val 50000"/>
                <a:gd name="adj2" fmla="val 33169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4" name="AutoShape 22"/>
            <p:cNvSpPr/>
            <p:nvPr/>
          </p:nvSpPr>
          <p:spPr>
            <a:xfrm>
              <a:off x="5405400" y="4473720"/>
              <a:ext cx="238320" cy="541080"/>
            </a:xfrm>
            <a:prstGeom prst="downArrow">
              <a:avLst>
                <a:gd name="adj1" fmla="val 50000"/>
                <a:gd name="adj2" fmla="val 33257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5" name="Text Box 23"/>
            <p:cNvSpPr/>
            <p:nvPr/>
          </p:nvSpPr>
          <p:spPr>
            <a:xfrm>
              <a:off x="4449600" y="5065560"/>
              <a:ext cx="2560680" cy="2959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9320" rIns="49320" tIns="24480" bIns="24480" anchor="t">
              <a:spAutoFit/>
            </a:bodyPr>
            <a:p>
              <a:pPr algn="ctr"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尿多、 尿比重↓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46" name="Group 38"/>
          <p:cNvGrpSpPr/>
          <p:nvPr/>
        </p:nvGrpSpPr>
        <p:grpSpPr>
          <a:xfrm>
            <a:off x="34920" y="1681560"/>
            <a:ext cx="2641680" cy="4954320"/>
            <a:chOff x="34920" y="1681560"/>
            <a:chExt cx="2641680" cy="4954320"/>
          </a:xfrm>
        </p:grpSpPr>
        <p:sp>
          <p:nvSpPr>
            <p:cNvPr id="247" name="AutoShape 6"/>
            <p:cNvSpPr/>
            <p:nvPr/>
          </p:nvSpPr>
          <p:spPr>
            <a:xfrm rot="3175200">
              <a:off x="1699200" y="1360800"/>
              <a:ext cx="189000" cy="1993680"/>
            </a:xfrm>
            <a:prstGeom prst="downArrow">
              <a:avLst>
                <a:gd name="adj1" fmla="val 50000"/>
                <a:gd name="adj2" fmla="val 130978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8" name="Text Box 7"/>
            <p:cNvSpPr/>
            <p:nvPr/>
          </p:nvSpPr>
          <p:spPr>
            <a:xfrm>
              <a:off x="244440" y="3159000"/>
              <a:ext cx="1787400" cy="40572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9320" rIns="49320" tIns="24480" bIns="24480" anchor="t">
              <a:spAutoFit/>
            </a:bodyPr>
            <a:p>
              <a:pPr algn="ctr">
                <a:lnSpc>
                  <a:spcPct val="130000"/>
                </a:lnSpc>
                <a:spcBef>
                  <a:spcPts val="1125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消化系统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9" name="AutoShape 8"/>
            <p:cNvSpPr/>
            <p:nvPr/>
          </p:nvSpPr>
          <p:spPr>
            <a:xfrm>
              <a:off x="974880" y="3740040"/>
              <a:ext cx="239400" cy="541440"/>
            </a:xfrm>
            <a:prstGeom prst="downArrow">
              <a:avLst>
                <a:gd name="adj1" fmla="val 50000"/>
                <a:gd name="adj2" fmla="val 33349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0" name="Text Box 9"/>
            <p:cNvSpPr/>
            <p:nvPr/>
          </p:nvSpPr>
          <p:spPr>
            <a:xfrm>
              <a:off x="34920" y="4357800"/>
              <a:ext cx="2641680" cy="35100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9320" rIns="49320" tIns="24480" bIns="24480" anchor="t">
              <a:spAutoFit/>
            </a:bodyPr>
            <a:p>
              <a:pPr algn="ctr">
                <a:lnSpc>
                  <a:spcPct val="110000"/>
                </a:lnSpc>
                <a:spcBef>
                  <a:spcPts val="1125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消化液和消化酶↓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1" name="AutoShape 10"/>
            <p:cNvSpPr/>
            <p:nvPr/>
          </p:nvSpPr>
          <p:spPr>
            <a:xfrm>
              <a:off x="974880" y="4903920"/>
              <a:ext cx="239400" cy="541080"/>
            </a:xfrm>
            <a:prstGeom prst="downArrow">
              <a:avLst>
                <a:gd name="adj1" fmla="val 50000"/>
                <a:gd name="adj2" fmla="val 33327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2" name="AutoShape 26"/>
            <p:cNvSpPr/>
            <p:nvPr/>
          </p:nvSpPr>
          <p:spPr>
            <a:xfrm>
              <a:off x="179280" y="5472000"/>
              <a:ext cx="1656000" cy="1163880"/>
            </a:xfrm>
            <a:prstGeom prst="octagon">
              <a:avLst>
                <a:gd name="adj" fmla="val 29287"/>
              </a:avLst>
            </a:prstGeom>
            <a:solidFill>
              <a:srgbClr val="ffcccc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9320" rIns="49320" tIns="24480" bIns="24480" anchor="ctr">
              <a:noAutofit/>
            </a:bodyPr>
            <a:p>
              <a:pPr algn="ctr"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菌群失调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腹泻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53" name="Group 42"/>
          <p:cNvGrpSpPr/>
          <p:nvPr/>
        </p:nvGrpSpPr>
        <p:grpSpPr>
          <a:xfrm>
            <a:off x="6421320" y="1413000"/>
            <a:ext cx="2543400" cy="720720"/>
            <a:chOff x="6421320" y="1413000"/>
            <a:chExt cx="2543400" cy="720720"/>
          </a:xfrm>
        </p:grpSpPr>
        <p:sp>
          <p:nvSpPr>
            <p:cNvPr id="254" name="AutoShape 27"/>
            <p:cNvSpPr/>
            <p:nvPr/>
          </p:nvSpPr>
          <p:spPr>
            <a:xfrm>
              <a:off x="7236000" y="1413000"/>
              <a:ext cx="1657080" cy="720720"/>
            </a:xfrm>
            <a:prstGeom prst="roundRect">
              <a:avLst>
                <a:gd name="adj" fmla="val 16667"/>
              </a:avLst>
            </a:prstGeom>
            <a:solidFill>
              <a:srgbClr val="f9bfcb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9320" rIns="49320" tIns="24480" bIns="24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5" name="AutoShape 28"/>
            <p:cNvSpPr/>
            <p:nvPr/>
          </p:nvSpPr>
          <p:spPr>
            <a:xfrm>
              <a:off x="6421320" y="1557720"/>
              <a:ext cx="690840" cy="230040"/>
            </a:xfrm>
            <a:prstGeom prst="rightArrow">
              <a:avLst>
                <a:gd name="adj1" fmla="val 50000"/>
                <a:gd name="adj2" fmla="val 59478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6" name="Text Box 35"/>
            <p:cNvSpPr/>
            <p:nvPr/>
          </p:nvSpPr>
          <p:spPr>
            <a:xfrm>
              <a:off x="7236000" y="1557720"/>
              <a:ext cx="1728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免疫功能↓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57" name="Group 41"/>
          <p:cNvGrpSpPr/>
          <p:nvPr/>
        </p:nvGrpSpPr>
        <p:grpSpPr>
          <a:xfrm>
            <a:off x="6184080" y="1755360"/>
            <a:ext cx="2851920" cy="4698000"/>
            <a:chOff x="6184080" y="1755360"/>
            <a:chExt cx="2851920" cy="4698000"/>
          </a:xfrm>
        </p:grpSpPr>
        <p:sp>
          <p:nvSpPr>
            <p:cNvPr id="258" name="AutoShape 5"/>
            <p:cNvSpPr/>
            <p:nvPr/>
          </p:nvSpPr>
          <p:spPr>
            <a:xfrm rot="18895200">
              <a:off x="6790680" y="1562760"/>
              <a:ext cx="201600" cy="1797120"/>
            </a:xfrm>
            <a:prstGeom prst="downArrow">
              <a:avLst>
                <a:gd name="adj1" fmla="val 50000"/>
                <a:gd name="adj2" fmla="val 154886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9" name="AutoShape 19"/>
            <p:cNvSpPr/>
            <p:nvPr/>
          </p:nvSpPr>
          <p:spPr>
            <a:xfrm>
              <a:off x="7812000" y="3860640"/>
              <a:ext cx="189000" cy="409680"/>
            </a:xfrm>
            <a:prstGeom prst="downArrow">
              <a:avLst>
                <a:gd name="adj1" fmla="val 50000"/>
                <a:gd name="adj2" fmla="val 25188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0" name="AutoShape 24"/>
            <p:cNvSpPr/>
            <p:nvPr/>
          </p:nvSpPr>
          <p:spPr>
            <a:xfrm>
              <a:off x="7236000" y="5445000"/>
              <a:ext cx="1512720" cy="1008360"/>
            </a:xfrm>
            <a:prstGeom prst="octagon">
              <a:avLst>
                <a:gd name="adj" fmla="val 29287"/>
              </a:avLst>
            </a:prstGeom>
            <a:solidFill>
              <a:srgbClr val="ccffcc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9320" rIns="49320" tIns="24480" bIns="24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1" name="AutoShape 25"/>
            <p:cNvSpPr/>
            <p:nvPr/>
          </p:nvSpPr>
          <p:spPr>
            <a:xfrm>
              <a:off x="6948360" y="3116160"/>
              <a:ext cx="1944720" cy="62388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9320" rIns="49320" tIns="24480" bIns="24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2" name="Rectangle 33"/>
            <p:cNvSpPr/>
            <p:nvPr/>
          </p:nvSpPr>
          <p:spPr>
            <a:xfrm>
              <a:off x="7380360" y="4292640"/>
              <a:ext cx="1295280" cy="720720"/>
            </a:xfrm>
            <a:prstGeom prst="rect">
              <a:avLst/>
            </a:prstGeom>
            <a:solidFill>
              <a:srgbClr val="c1ffe6"/>
            </a:solidFill>
            <a:ln cap="sq" w="1260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3" name="AutoShape 34"/>
            <p:cNvSpPr/>
            <p:nvPr/>
          </p:nvSpPr>
          <p:spPr>
            <a:xfrm>
              <a:off x="7812000" y="5084640"/>
              <a:ext cx="189000" cy="336600"/>
            </a:xfrm>
            <a:prstGeom prst="downArrow">
              <a:avLst>
                <a:gd name="adj1" fmla="val 50000"/>
                <a:gd name="adj2" fmla="val 24999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4" name="Text Box 36"/>
            <p:cNvSpPr/>
            <p:nvPr/>
          </p:nvSpPr>
          <p:spPr>
            <a:xfrm>
              <a:off x="6877080" y="3200400"/>
              <a:ext cx="208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中枢神经系统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5" name="Text Box 38"/>
            <p:cNvSpPr/>
            <p:nvPr/>
          </p:nvSpPr>
          <p:spPr>
            <a:xfrm>
              <a:off x="7380360" y="4335480"/>
              <a:ext cx="1655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脑体积↓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脑细胞↓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6" name="Text Box 39"/>
            <p:cNvSpPr/>
            <p:nvPr/>
          </p:nvSpPr>
          <p:spPr>
            <a:xfrm>
              <a:off x="7380360" y="5516640"/>
              <a:ext cx="129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脑不可逆损伤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67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病理生理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刘云涛</cp:lastModifiedBy>
  <dcterms:modified xsi:type="dcterms:W3CDTF">2015-09-01T09:36:15Z</dcterms:modified>
  <cp:revision>157</cp:revision>
  <dc:subject/>
  <dc:title>内科护理学</dc:title>
</cp:coreProperties>
</file>