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F4C9-9B2D-49E0-9C8A-C247386019A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8D0F-290F-4ABE-B2B5-F4B835FB7D1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5AA0-7826-4FA9-B3C7-F8F74A9304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7B539-58AF-42FA-A0C6-3CBF8F74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07502-4283-4B0E-8A9A-194DAAFE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AE3A9-3D84-4C06-89CE-B4FD36EFDE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2B1BF-36D7-436E-B9F8-1A93B892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F51D-E7EF-4CE1-98D0-4B0C1EE4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4477B-9097-446B-A174-DB593ADE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A2E79-B0D6-4C08-BA51-73172F0B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C9CC-48ED-4004-9F92-CB8CEEFE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886BB-845E-4143-BD09-DA5A52B2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EB3C9-4E68-40D1-8801-F0DABEF1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E563-D765-499F-BF9E-40145EF0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56A0-D93B-456A-8F88-0467689A160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章 消化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天津医科大学     陈慧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764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胎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新生儿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内即会排出胎粪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内排完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胎粪色黑绿或深绿，黏稠，无臭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若喂乳充分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后即转为正常婴儿粪便。 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黄色或金黄色，每日排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在添加辅食后次数即减少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岁后减至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对诊断本病有重要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壁积气和门静脉充气征为本病的特征性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气分析、血常规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R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、血培养及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重者常伴有中性粒细胞及血小板的减少，代谢性酸中毒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呼吸性酸中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休克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等，因此，这些监测对判断病情尤为重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1384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禁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疑似患儿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确诊病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重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禁食期间需进行胃肠减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依据细菌培养及药敏试验结果选择敏感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支持疗法或其他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明显腹膜炎时可考虑手术，肠穿孔时应立即手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坏死、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潜在并发症：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23640" y="1267920"/>
            <a:ext cx="81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详细记录体温、脉搏、呼吸、血压、神志、尿量的变化，观察肢端温度及皮肤有无瘀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一般需禁食，胃肠减压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，重症可延长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取侧卧位或半卧位，减轻腹部张力，缓解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矩形 4"/>
          <p:cNvSpPr/>
          <p:nvPr/>
        </p:nvSpPr>
        <p:spPr>
          <a:xfrm flipH="1">
            <a:off x="4571280" y="40464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85840" y="2643120"/>
            <a:ext cx="86104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第六节  肠套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套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肠管的一部分及其相应的肠系膜套入临近肠腔内的一种肠梗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病是婴儿时期最常见的急腹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常见于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岁以下婴幼儿，尤其是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10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个月的婴儿最多见。男孩要比女孩多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春秋季发病率较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原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9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为原发性，多见于婴幼儿，病因尚未完全明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继发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为年长儿，发生肠套叠的肠管可见明显的机械原因，如与肠息肉、肠肿瘤等牵拉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外，饮食改变、腹泻及其病毒感染等导致肠蠕动紊乱，从而诱发肠套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疾病早期出现的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起病不久即出现反射性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常于病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重要诊断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肠梗阻征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在套叠部位横断面可见同心圆或靶环状肿块图像，纵断面扫描可见套筒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淡黄色或灰黄色，较干稠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明显臭味，大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，易发生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如果只是排便间隔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，不伴任何不适，不应称为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混合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与人工喂养儿粪便相似，但较软、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灌肠疗法适用于病程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以内，全身情况良好，无腹胀、明显脱水及电解质紊乱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用于灌肠不能复位的失败病例、肠套叠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，疑有肠坏死或肠穿孔以及小肠型肠套叠的病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428760" y="1428840"/>
            <a:ext cx="757224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系膜受牵拉和肠管强烈收缩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：患儿家长缺乏有关疾病治疗及护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28240" y="1214280"/>
            <a:ext cx="830412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密切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腹痛的特点及部位，以助于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效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患儿腹痛、呕吐、腹部包块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前密切观察生命体征、意识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后患儿，注意维持胃肠减压功能，保持胃肠道通畅，预防感染及吻合口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4"/>
          <p:cNvSpPr txBox="1"/>
          <p:nvPr/>
        </p:nvSpPr>
        <p:spPr>
          <a:xfrm>
            <a:off x="1600200" y="1371600"/>
            <a:ext cx="6477120" cy="347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Thank You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鹅口疮又称雪口病，为白色念珠菌感染所致。多见于新生儿、营养不良、腹泻、长期使用广谱抗生素或激素的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61" name="内容占位符 4" descr="鹅口疮.jpg"/>
          <p:cNvPicPr/>
          <p:nvPr/>
        </p:nvPicPr>
        <p:blipFill>
          <a:blip r:embed="rId1"/>
          <a:stretch/>
        </p:blipFill>
        <p:spPr>
          <a:xfrm>
            <a:off x="928800" y="3643200"/>
            <a:ext cx="3373200" cy="2610000"/>
          </a:xfrm>
          <a:prstGeom prst="rect">
            <a:avLst/>
          </a:prstGeom>
          <a:ln w="0">
            <a:noFill/>
          </a:ln>
        </p:spPr>
      </p:pic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3" name="图片 5" descr="鹅口疮2.jpg"/>
          <p:cNvPicPr/>
          <p:nvPr/>
        </p:nvPicPr>
        <p:blipFill>
          <a:blip r:embed="rId2"/>
          <a:stretch/>
        </p:blipFill>
        <p:spPr>
          <a:xfrm>
            <a:off x="4316400" y="1285920"/>
            <a:ext cx="4068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28400" y="128556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腔黏膜表面覆盖白色乳凝块样小点或小片状物，可逐渐融合成大片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重症则全部口腔均被白色斑膜覆盖，甚至可蔓延到咽、喉头、食管、气管、肺等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疱疹性口腔炎为单纯疱疹病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I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型感染所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小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全年均可发病，冬春季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23640" y="1267920"/>
            <a:ext cx="774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时发热，体温可达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0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，齿龈、唇内、舌、颊黏膜等各部位口腔黏膜出现单个或成簇的小疱疹，周围有红晕，迅速破溃后形成浅表溃疡，其上覆盖白色膜样渗出物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5640" y="1125000"/>
            <a:ext cx="707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儿可表现拒食、流涎、烦躁、颌下淋巴结肿大，常因拒食啼哭才被发现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体温在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恢复正常，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局部淋巴结肿大可持续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9640" y="1341000"/>
            <a:ext cx="6818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溃疡性口炎是由链球菌、金黄色葡萄球菌、肺炎链球菌、绿脓杆菌或大肠杆菌等感染引起的口腔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5570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童消化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胃食管反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婴幼儿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肠套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35280" y="1682640"/>
            <a:ext cx="688320" cy="594000"/>
            <a:chOff x="1835280" y="1682640"/>
            <a:chExt cx="688320" cy="594000"/>
          </a:xfrm>
        </p:grpSpPr>
        <p:sp>
          <p:nvSpPr>
            <p:cNvPr id="116" name="AutoShape 5"/>
            <p:cNvSpPr/>
            <p:nvPr/>
          </p:nvSpPr>
          <p:spPr>
            <a:xfrm>
              <a:off x="1840680" y="169272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35280" y="16826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75240" y="171756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175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35280" y="2330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79640" y="240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35280" y="2979720"/>
            <a:ext cx="686880" cy="593640"/>
            <a:chOff x="1835280" y="2979720"/>
            <a:chExt cx="68688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40680" y="298980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35280" y="2979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75240" y="301464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9640" y="3051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35280" y="362736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91160" y="369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1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270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62728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1805040" y="492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1835280" y="4275000"/>
            <a:ext cx="688320" cy="594000"/>
            <a:chOff x="1835280" y="4275000"/>
            <a:chExt cx="688320" cy="594000"/>
          </a:xfrm>
        </p:grpSpPr>
        <p:sp>
          <p:nvSpPr>
            <p:cNvPr id="135" name="AutoShape 5"/>
            <p:cNvSpPr/>
            <p:nvPr/>
          </p:nvSpPr>
          <p:spPr>
            <a:xfrm>
              <a:off x="1840680" y="42850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AutoShape 6"/>
            <p:cNvSpPr/>
            <p:nvPr/>
          </p:nvSpPr>
          <p:spPr>
            <a:xfrm>
              <a:off x="1835280" y="42750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1874520" y="4309560"/>
              <a:ext cx="599760" cy="513000"/>
            </a:xfrm>
            <a:prstGeom prst="hexagon">
              <a:avLst>
                <a:gd name="adj" fmla="val 29223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8" name="Text Box 17"/>
          <p:cNvSpPr/>
          <p:nvPr/>
        </p:nvSpPr>
        <p:spPr>
          <a:xfrm>
            <a:off x="1992240" y="43480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1992240" y="499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2556000" y="4653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2556000" y="530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50560" y="1267920"/>
            <a:ext cx="717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唇内、舌及颊黏膜等处，可蔓延到唇及咽喉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初起黏膜充血、水肿、可有疱疹，随后形成大小不等的糜烂或溃疡，创面覆盖较厚的纤维素性渗出物形成的灰白色或黄色假膜，边界清楚，易于擦去，擦后遗留溢血的糜烂面，不久又重新出现假膜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50560" y="126792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口腔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针对病因使用恰当的溶液清洁口腔后涂药，年长儿可用含漱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进食后漱口，鼓励患儿多饮水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对流涎者，及时清除流出物，保持皮肤清洁、干燥，避免引起皮肤湿疹及糜烂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-360" y="1125360"/>
            <a:ext cx="80722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正确涂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涂药前应先将纱布或干棉球放在颊黏膜腮腺管口处或舌系带两侧，以隔断唾液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再用干棉球吸干病变表面的水分方能涂药。涂药后嘱患儿闭口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分钟，然后取出隔离唾液的纱布或棉球，并叮嘱患儿或家长，不可让患儿马上漱口、饮水或进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50560" y="1267920"/>
            <a:ext cx="7607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供给充足的营养和水分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饮食以高热量、高蛋白、富含维生素的温凉流质或半流质为宜，避免摄入刺激性食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50560" y="1267920"/>
            <a:ext cx="75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体温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注意观察体温变化，体温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.5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给予松解衣服、温水擦浴、置冰袋等物理降温，必要时给予药物降温，同时做很好皮肤护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54400" y="343440"/>
            <a:ext cx="588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胃内容物，包括从十二指肠流入胃的胆盐和胰酶等反流入食管甚至口咽部，分生理性和病理性两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反流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廓清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黏膜的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十二指肠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和婴儿以呕吐为主要表现。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第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即出现呕吐，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出现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灼烧感：见于有表达能力的年长儿，位于胸骨下端，饮用酸性饮料可使症状加重，服用抗酸剂症状减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咽下疼痛：婴幼儿表现为喂奶困难、烦躁、拒食，年长儿诉吞咽时疼痛，如并发食管狭窄则出现严重呕吐和持续性咽下困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血和便血：食管炎严重者可发生糜烂或溃疡，出现呕血或黑便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6760" y="1071360"/>
            <a:ext cx="82155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识记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儿童消化系统解剖生理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鹅口疮、疱疹性口炎及溃疡性口炎的病原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描述胃食管反流、婴幼儿腹泻、急性坏死性小肠结肠炎以及肠套叠的病因及临床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识别鹅口疮、疱疹性口炎及溃疡性口炎的临床表现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明婴幼儿腹泻的易感因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评估口炎、胃食管反流、腹泻、肠套叠、急性坏死性小肠结肠炎患儿并制订护理计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制定腹泻患儿就诊第一天的补液方案并说明补液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C020-668A-4676-8EFF-2E17CC795B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371240"/>
            <a:ext cx="74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arrette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由于慢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食管下端的鳞状上皮被增生的柱状上皮所替代，抗酸能力增强，但更易发生食管溃疡、狭窄和腺癌。溃疡较深者可发生食气管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外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系统症状、营养不良、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钡餐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最古老无创伤性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、食管炎的传统手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小时食管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动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目前最可靠灵敏的诊断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内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诊断反流性食管炎最主要、最适宜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动力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测定动力功能的重要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食管放射性核素闪烁扫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诊断儿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较敏感的方法之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促胃肠动力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潘立酮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吗丁啉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抑酸和抗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西咪替丁和奥美拉唑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洛赛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氢氧化铝凝胶和碳酸钙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黏膜保护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硫糖铝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硅酸铝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手术指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经内科治疗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无效，有严重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严重食管炎伴溃疡、狭窄或发现有食管裂孔疝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严重的呼吸道并发症，如呼吸道梗阻、反复发作吸入性肺炎或窒息、伴支气管肺发育不良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合并严重神经系统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267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窒息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溢奶和呕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反复呕吐致能量和各种营养素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胃内容物反流致反流性食管炎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家长缺乏本病护理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保持适宜体位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°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新生儿和小婴儿以前倾俯卧位为最佳，但为防止婴儿猝死综合征的发生，睡眠时宜采用仰卧位及左侧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长儿在清醒状态下以直立位和坐位最佳，睡眠时宜采取左侧卧位，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cm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以促进胃排空，减少反流频率及反流物误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营养，促进生长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量多餐，母乳喂养儿增加哺乳次数，人工喂养儿可在牛奶中加入糕干粉、米粉或谷类食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食用降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LE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张力和增加胃酸分泌的食物，如碳酸饮料、高脂饮食、巧克力和辛辣食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71320" y="1357200"/>
            <a:ext cx="7500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用药，缓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潘立酮应饭前半小时或睡前口服；服用西沙比利时，不能同时饮用橘子汁，同时加强观察心率和心律变化，出现心率加快或心律不齐时应及时联系医师进行处理；西咪替丁在进餐时或睡前服用效果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消化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371600"/>
            <a:ext cx="768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术前术后护理与其他腹部手术相似。术前配合做好各项检查和支持疗法；术后根据手术方式做好术后护理，做好引流管护理，注意观察有关腹部切口裂开、穿孔、大出血等并发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D7B7-EC18-4E12-B80F-FB7B74CFB4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23640" y="214200"/>
            <a:ext cx="67438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2600" y="1357200"/>
            <a:ext cx="77151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又称腹泻病，是由多种病原、多种因素引起的，以大便次数增多和大便性状改变为特点的消化道综合征，严重时可引起水、电解质和酸碱平衡紊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龄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 ，＜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者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：四季均可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秋末、春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细菌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夏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 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造成小儿营养不良、生长发育障碍的主要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4A99-A496-49F4-937B-D0433DA3F0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消化系统发育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长发育快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机体防御功能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85840" y="1142640"/>
            <a:ext cx="8215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内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可由病毒、细菌、真菌、寄生虫引起，以前两者多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外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中耳炎、上呼吸道感染、肺炎、泌尿道感染、皮肤感染或急性传染病时也可引起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包括食饵性腹泻、过敏因素、气候因素以及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性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原微生物能否引起肠道感染，决定于宿主防御功能的强弱，感染剂量的大小和微生物的毒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当进食过量或食物成分不恰当时，有利于肠道下部细菌上移和繁殖，造成内源性感染和消化功能紊乱，肠蠕动功能增加，引起腹泻，甚至出现水电解质紊乱及中毒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共同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4" descr="脱水-2 副本"/>
          <p:cNvPicPr/>
          <p:nvPr/>
        </p:nvPicPr>
        <p:blipFill>
          <a:blip r:embed="rId1"/>
          <a:stretch/>
        </p:blipFill>
        <p:spPr>
          <a:xfrm>
            <a:off x="708120" y="1371600"/>
            <a:ext cx="780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96000"/>
            <a:ext cx="8461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 口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唾液分泌少，易受损伤和细菌感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逐渐增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明显增多，但由于口底浅，常出现生理性流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01"/>
          <p:cNvPicPr/>
          <p:nvPr/>
        </p:nvPicPr>
        <p:blipFill>
          <a:blip r:embed="rId1"/>
          <a:srcRect l="2288" t="2302" r="0" b="2360"/>
          <a:stretch/>
        </p:blipFill>
        <p:spPr>
          <a:xfrm>
            <a:off x="2143080" y="1143000"/>
            <a:ext cx="4857840" cy="4692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4362120" y="5929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眶深度凹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02"/>
          <p:cNvPicPr/>
          <p:nvPr/>
        </p:nvPicPr>
        <p:blipFill>
          <a:blip r:embed="rId1"/>
          <a:srcRect l="0" t="2338" r="3032" b="0"/>
          <a:stretch/>
        </p:blipFill>
        <p:spPr>
          <a:xfrm>
            <a:off x="428760" y="2143080"/>
            <a:ext cx="3643200" cy="3502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03"/>
          <p:cNvPicPr/>
          <p:nvPr/>
        </p:nvPicPr>
        <p:blipFill>
          <a:blip r:embed="rId2"/>
          <a:srcRect l="1844" t="2329" r="0" b="0"/>
          <a:stretch/>
        </p:blipFill>
        <p:spPr>
          <a:xfrm>
            <a:off x="4143240" y="2143080"/>
            <a:ext cx="4554720" cy="35006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2571840" y="5715000"/>
            <a:ext cx="321444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皮肤弹性极差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重型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胃肠道内感染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胃肠道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每日十余次至数十次，多呈黄绿色水样便或蛋花汤样便，量多，可有少量黏液。大便镜检可见脂肪球及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水、电解质和酸碱平衡紊乱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全身中毒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高热或体温不升，烦躁不安，精神萎靡，嗜睡，甚至昏迷、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轮状病毒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又称秋季腹泻，多发生在秋、冬季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岁的婴幼儿，常伴有发热和上呼吸道感染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次数多、量大、水分多，呈黄色或淡黄色，水样或蛋花汤样便带少量黏液，无腥臭味，常并发脱水、酸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本病为自限性疾病，自然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产毒性大肠埃希菌和致病性大肠埃希菌肠炎：主要为排出大量绿色水样便伴恶心、呕吐，可发生水、电解质及酸碱失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出血性大肠埃希菌肠炎：表现为发热、排出黏液脓血便或血性便、腹痛、体温多正常，严重者可引起溶血尿毒综合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142640"/>
            <a:ext cx="705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侵袭性大肠埃希菌肠炎：临床表现与菌痢极其相似，可表现为发热、腹痛、腹泻频繁、里急后重、大便为黏液脓血便，可伴有严重的全身中毒症状甚至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金黄色葡萄球菌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多继发于使用大量抗生素后。表现为发热、呕吐、腹泻，不同程度中毒症状、脱水和电解质紊乱，甚至发生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典型大便为暗绿色，量多，带黏液，少数为血便。大便镜检有大量脓细胞和成簇的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G</a:t>
            </a:r>
            <a:r>
              <a:rPr b="0" lang="en-US" sz="2200" spc="-1" strike="noStrike" baseline="30000">
                <a:solidFill>
                  <a:srgbClr val="002060"/>
                </a:solidFill>
                <a:latin typeface="宋体"/>
                <a:ea typeface="宋体"/>
              </a:rPr>
              <a:t>+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球菌，培养有葡萄球菌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伪膜性小肠结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由难辨梭状芽胞杆菌引起，主要症状为腹泻，轻者每日数次，停用抗生素后很快痊愈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重者腹泻频繁，呈黄绿色水样便，可有毒素致肠黏膜坏死所形成的伪膜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真菌性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常见于营养不良或长期使用广谱抗生素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岁以下婴幼儿多见，多由白色念珠菌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主要症状为大便次数增多，黄色稀便，泡沫较多带黏液，有时可见豆腐渣样细块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菌落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大便镜检可见真菌孢子和菌丝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腹泻和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与营养不良和急性期未彻底治疗有关。迁延性腹泻病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为慢性腹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理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以内的婴儿。患儿外观虚胖，常伴湿疹，生后不久即出现腹泻。可能为乳糖不耐受的一种特殊类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 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食管下端贲门括约肌发育不成熟，常发生胃食管反流，绝大多数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此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吸奶时常因吞咽过多空气，而易发生溢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饥饿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发生于急性腹泻恢复期，因控制饮食使患儿大便缺少食物残渣而呈黏冻状，而被误认为腹泻未愈，仍继续限食。患儿因有饥饿感而哭闹，以粪便水分不多、量少为特点，只要逐渐增加饮食，粪便即可转为正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62000" y="1071360"/>
            <a:ext cx="8982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常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增多提示细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降低则提示病毒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也有例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嗜酸性粒细胞增多提示寄生虫感染或过敏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生化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了解电解质和体内酸碱平衡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大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便培养可检出致病菌。疑为病毒感染者应做病毒学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强调继续饮食，满足生理需要，补充疾病消耗以缩短腹泻后的康复时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560" y="1213920"/>
            <a:ext cx="8124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服补液盐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ORS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可用于腹泻时预防脱水及纠正轻、中度脱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轻度脱水口服液量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5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中度脱水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0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于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小时内将累积损失量补足。脱水纠正后，可将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ORS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用等量水稀释按病情需要随意口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21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静脉补液适用于中度以上脱水、吐泻严重或腹胀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输用溶液的成分、量和滴注持续时间必须根据不同的脱水程度和性质决定，同时要注意个体化，结合年龄、营养状况、自身调节功能而灵活掌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水样便腹泻患者：多为病毒及非侵袭性细菌所致，一般不用抗生素。可选用微生态制剂和黏膜保护剂。如伴有明显中毒症状不能用脱水解释者，应选用抗生素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黏液、脓血便患者多为侵袭性细菌感染，应根据临床特点，针对病原经验性选用抗菌药物，再根据大便细菌培养和药敏试验结果进行调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微生态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有助于恢复肠道正常菌群的生态平衡，抑制病原菌定植和侵袭，控制腹泻。微生态制剂如双歧杆菌、嗜酸乳杆菌、粪链球菌、需氧芽胞杆菌、腊样芽胞杆菌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肠黏膜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能吸附病原体和毒素，维持肠细胞的吸收和分泌功能，与肠道黏膜糖蛋白相互作用可增强其屏障功能，阻止病原微生物的攻击，如蒙脱石粉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思密达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分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脑啡肽酶抑制剂消旋卡多曲，通过加强内源性脑啡肽来抑制肠道水电解质的分泌，治疗分泌性腹泻，如肠毒素性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 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胃排空时间因食物种类不同而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水的排空时间为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牛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早产儿胃排空更慢，易发生胃储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急性腹泻补锌可以加快肠黏膜修复，缩短病程，减少慢性腹泻的发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避免用止泻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如洛哌丁醇，因为它有抑制胃肠动力的作用，会增加细菌繁殖和毒素的吸收，对于感染性腹泻有时是很危险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和慢性腹泻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针对病因进行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预防和治疗脱水，纠正电解质及酸碱平衡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营养治疗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参见饮食护理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生素：仅用于分离出特异病原的感染患儿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充微量元素和维生素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应用微生态调节剂和肠黏膜保护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温过高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感染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皮肤完整性受损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大便次数增多刺激臀部皮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应强调继续饮食，满足生理需要，补充疾病消耗，以缩短腹泻后的康复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的婴儿继续哺乳，暂停辅食；人工喂养儿可喂以等量米汤或稀释的牛奶或其他代乳品，由米汤、粥、面条等逐渐过渡到正常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严重呕吐者可暂时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禁水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待好转后继续喂食，由少到多，由稀到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05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肠炎多有继发性双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主要是乳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缺乏，可暂停乳类喂养，改为豆制代乳品，或发酵奶，或去乳糖配方奶粉以减轻腹泻，缩短病程。患儿在应用无双糖饮食后腹泻仍不改善时，需考虑对蛋白质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对牛奶或大豆蛋白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可能性，应改用其他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数严重患儿不能耐受口服营养物质者，可采用静脉高能营养。腹泻停止后逐渐恢复营养丰富的饮食，并每日加餐一次，共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水、电解质及酸碱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病情可选择口服补液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静脉补液。口服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补液时应指导家长让患儿多饮水，预防高钠血症发生；静脉补液时准确调整输液速度，并记录第一次排尿时间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入量，以此作为调整补液方案的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格按肠道传染病消毒隔离，护理患儿前后需认真洗手，防止交叉感染。对患儿的衣物、尿布、用具及便盆分类消毒。遵医嘱使用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评估并记录患儿皮肤状况，观察皮肤的颜色及表皮有无破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指导家长保持患儿臀部清洁干燥，勤换尿布，每次便后用温水清洗臀部及会阴部并吸干，女婴尿道口接近肛门，故会阴部的清洁要特别注意，防止上行性尿路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 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肠黏膜肌层发育差，肠系膜柔软而长，升结肠与后壁固定差，易发生肠扭转和肠套叠。肠壁薄故通透性高，屏障功能差，肠内毒素、消化不全产物和过敏原等可经肠黏膜进入体内，引起全身感染和变态反应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五、 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肝功能不成熟，解毒能力差，在传染病、心功能障碍、中毒等情况下易发生肝大和变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宜选用柔软、吸水性强的纯棉织品做尿布，避免使用不透气塑料布或橡皮布，防止尿布皮炎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及时更换卧位并给予良好的皮肤护理，以预防可能因脱水而产生的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生命体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神志、体温、脉搏、呼吸、血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大便情况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并记录大便次数、颜色、气味、性状、量，做好动态比较，为输液方案提供可靠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560" y="13712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水、电解质和酸碱平衡紊乱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脱水情况及其程度、代谢性酸中毒表现、低钾血症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全身中毒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发热、精神萎靡、嗜睡、烦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提倡母乳喂养，避免在夏季断奶，按时逐渐添加辅食，防止过食、偏食及饮食结构突然变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食物新鲜，食具、奶具及玩具等定期消毒，避免肠道内感染。教育儿童饭前便后洗手，勤剪指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7767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长期滥用广谱抗生素，指导患儿家长正确配制和使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气候变化，防止受凉或过热，冬天注意保暖，夏天多喝水，居室要通风。加强体格锻炼，积极参加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女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人工喂养。近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来大便次数明显增多，每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，蛋花汤样便，无脓血，偶有呕吐，无发热，近日尿量明显减少，哭时眼泪较前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查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T37℃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P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R4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 血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8/50 mmHg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精神萎靡，前囟、眼窝明显凹陷，口唇干、皮肤弹性差，双肺呼吸音清，心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心音无异常，腹平软，肠鸣音亢进，四肢温，神经系统无异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临床诊断及诊断依据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主要的护理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问题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喂养史：喂哺方式、次数和量，辅食的添加情况。有无不洁或不规则饮食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腹泻开始时间、次数、颜色、性状、气味和量。是否伴随发热、呕吐、腹胀、腹痛等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既往有无腹泻史，长期服用广谱抗生素史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1384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生命体征，如体温、脉搏、呼吸、血压、神志；观察营养状态、皮肤、黏膜、眼窝、前囟、尿量和末梢循环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脱水的程度和性质，有无低钾和代谢性酸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有无腹痛、大便性状等。检查肛周皮肤有无发炎、破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04920" y="1371240"/>
            <a:ext cx="81547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六、 胰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胰脂肪酶和胰蛋白酶的活性均较低，故对脂肪和蛋白质的消化和吸收不够完善，易发生消化不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七、 肠道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受食物成分影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单纯母乳喂养儿以双歧杆菌占绝对优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和混合喂养儿肠内的大肠杆菌、嗜酸杆菌、双歧杆菌及肠球菌所占比例几乎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50920" y="1125360"/>
            <a:ext cx="8534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各种辅助检查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、便常规，便培养和血生化结果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家长的心理反应及对本病病因、预防和护理知识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小儿喂养知识和卫生知识的了解情况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评估患儿家庭的经济状况、居住条件、卫生习惯、文化程度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腹泻，中度脱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大便次数明显增多，每日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~1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蛋花汤样便（大便次数增多和大便性状改变）可确诊为小儿腹泻病；尿量明显减少，哭时眼泪较前减少，精神萎靡，前囟、眼窝明显凹陷，口唇干、皮肤弹性差，是中度脱水的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皮肤完整性受损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 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8BEB-C2B7-493C-AC31-B08EF12708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饮食疗法：继续喂养，暂停辅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液体疗法：按医嘱给静脉补液，按照先盐后糖、先浓后淡、先快后慢、见尿补钾的原则输液，全面安排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小时的液体总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维持静脉输液通畅，保证足够的液体入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79280" y="1285920"/>
            <a:ext cx="8569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臀部护理：勤换尿布，便后清水洗净臀部并涂抹鞣酸软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生命体征变化，有无低血钾、代谢性酸中毒等表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输液后患儿脱水症状是否改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记录大便次数、颜色、性状、气味及量，及时送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水量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五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95280" y="1557000"/>
            <a:ext cx="867744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道缺血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的增值也与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NE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发生密切相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7790040" y="411120"/>
            <a:ext cx="10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本病多见于早产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多在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发病，极低出生体重儿可延迟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初表现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体温不升、呼吸暂停、心动过缓、拒乳、反应差、嗜睡及皮肤灰暗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同程度的消化道症状，如胃潴留、呕吐、腹胀、腹泻、及血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矩形 4"/>
          <p:cNvSpPr/>
          <p:nvPr/>
        </p:nvSpPr>
        <p:spPr>
          <a:xfrm>
            <a:off x="7778880" y="344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/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患儿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吐物含有胆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血水样便，或血丝便，或粪便隐血阳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量出血者很罕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矩形 4"/>
          <p:cNvSpPr/>
          <p:nvPr/>
        </p:nvSpPr>
        <p:spPr>
          <a:xfrm>
            <a:off x="7451640" y="37152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24000" y="1267920"/>
            <a:ext cx="837072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情严重者可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休克表现：高热或体温不升、反应差、四肢、皮肤呈花斑样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腹壁发红、肠型、腹部压痛、肠鸣音减弱或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败血症，肠穿孔和腹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衰竭、休克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矩形 4"/>
          <p:cNvSpPr/>
          <p:nvPr/>
        </p:nvSpPr>
        <p:spPr>
          <a:xfrm flipH="1">
            <a:off x="7308720" y="476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02:53Z</dcterms:modified>
  <cp:revision>8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