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9269-FB62-4E6C-8BB2-56EFE572254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5864-FAA2-4FCB-BCFD-1CE8E404054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1FF2-FB7A-4A4D-BB87-7D4D649CC376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E7F9-67DE-4D3E-8D25-148184E6EC4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8F93-A93F-4A35-9A64-DDD4BB7C296A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CFBC-F558-40FC-B747-A361CB65B2D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36BD-C1ED-4378-9A5A-6F16C063C557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B6C7-DDCC-44B3-AFF1-7F86502C564A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835F-908D-485C-8398-7E6D7B1D5AD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85A8-2001-41EB-A6A5-64ED786C2E3B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1775-EA87-4019-8CD4-21FC8B737BC0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550F-FD5C-4401-9ECF-0FD43885D24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3362-A273-430E-9EFD-D0A1D1F5D7DE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777F-C271-4A13-A860-74C1DCE1E75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6A6B7-A8F5-482B-90FD-4B10BBD7FA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96237-590A-4FFE-BC03-5278E6F0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9A764-A4C6-41C4-A287-4D56414A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224FF-C7D2-4226-87AB-2B450D4185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C481D-A47A-47C1-84BD-F95711A5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F627D-7553-4E50-B301-04381A0B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211DF-D829-41D0-BF51-41C278F6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4DD0E-3214-401F-A5C1-211019D5F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347C7-700D-4670-923F-C42B86A6B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55041-4FC5-4AC6-9BC8-364BB695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15322-20BD-4BC0-8490-0161B123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0E134-C963-4A5F-9AF2-D8451BA9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6F5F-375D-4BD0-BEDF-3DAEA2166C4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360"/>
              <a:ext cx="9115560" cy="1808280"/>
              <a:chOff x="28440" y="5049360"/>
              <a:chExt cx="9115560" cy="18082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360"/>
                <a:ext cx="9115560" cy="18082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36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4280"/>
              <a:chOff x="0" y="4689360"/>
              <a:chExt cx="9097920" cy="40428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0"/>
          <p:cNvSpPr/>
          <p:nvPr/>
        </p:nvSpPr>
        <p:spPr>
          <a:xfrm>
            <a:off x="1214280" y="5000760"/>
            <a:ext cx="6324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北大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2600" y="221472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二十五章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弧菌属与弯曲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500040" y="1857240"/>
            <a:ext cx="835812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传播途径：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通过污染的水源或食物经口摄入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传染源：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及无症状感染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引起烈性肠道传染病霍乱，为我国</a:t>
            </a: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甲类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法定传染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典型病例一般在吞食细菌后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3d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突然出现剧烈腹泻和呕吐，在疾病最严重时，每小时失水量可高达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1L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排出如</a:t>
            </a: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米泔水样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腹泻物。脱水，代谢性酸中毒，低碱血症和低容量性休克及心率不齐和肾衰竭，如未经治疗处理，病死率高达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60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副霍乱弧菌所致疾病较古典生物型所致疾病症状要轻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2"/>
          <p:cNvSpPr/>
          <p:nvPr/>
        </p:nvSpPr>
        <p:spPr>
          <a:xfrm>
            <a:off x="3728880" y="928800"/>
            <a:ext cx="124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571680" y="2071800"/>
            <a:ext cx="765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患过霍乱的人可获得牢固的免疫力，再感染者少见。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发病后数日内，血液中即出现特异性抗体。一般认为起主要作用的是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SIgA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可保护肠粘膜免受霍乱弧菌及肠毒素侵袭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矩形 2"/>
          <p:cNvSpPr/>
          <p:nvPr/>
        </p:nvSpPr>
        <p:spPr>
          <a:xfrm>
            <a:off x="3569040" y="11430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2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714240" y="1643040"/>
            <a:ext cx="8121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是烈性传染病，发现病人应尽快确诊，及时上报疫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标本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取患者“米泔水”样粪便或呕吐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镜检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悬滴法检查有无“鱼群”样穿梭运动的弧菌。 革兰染色后观察细菌形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养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标本接种于碱性蛋白胨水鉴定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快速诊断方法有免疫荧光法、协同凝集试验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矩形 2"/>
          <p:cNvSpPr/>
          <p:nvPr/>
        </p:nvSpPr>
        <p:spPr>
          <a:xfrm>
            <a:off x="2000160" y="857160"/>
            <a:ext cx="47149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857160" y="1857240"/>
            <a:ext cx="7923240" cy="23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坚持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预防为主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“标本兼治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,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综合治理”的原则，对疫区应采取以切断传播途径为主导的综合性措施。对患者和带菌者按我国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传染病防治法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及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防治手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的有关规定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由于疫苗免疫持续时间较短，另外能预防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也能预防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39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霍乱的高效疫苗尚未研制成功，因此对健康人群暂未推行霍乱菌苗的常规预防注射。</a:t>
            </a:r>
            <a:r>
              <a:rPr b="0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治疗：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及时和适当的补充液体，纠正电解质平衡紊乱，是治疗霍乱的关键。常用的抗生素有强力霉素、氯霉素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3411720" y="107172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 治 原 则</a:t>
            </a:r>
            <a:r>
              <a:rPr b="1" lang="zh-CN" sz="3600" spc="-1" strike="noStrike">
                <a:solidFill>
                  <a:srgbClr val="9900cc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500040" y="242892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一种嗜盐性细菌，存在于近海岸的海水、海底沉积物和鱼类、贝类等海产品中，可引起食物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其特点是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食入被细菌污染的海产品或淹渍品，或炊具、食物容器被污染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潜伏期短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6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小时），恢复快，病后免疫力不强；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临床主要症状为腹痛、呕吐、腹泻与发热，多为水样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矩形 2"/>
          <p:cNvSpPr/>
          <p:nvPr/>
        </p:nvSpPr>
        <p:spPr>
          <a:xfrm>
            <a:off x="928800" y="928800"/>
            <a:ext cx="580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副溶血性弧菌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parahemolyticus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矩形 2"/>
          <p:cNvSpPr/>
          <p:nvPr/>
        </p:nvSpPr>
        <p:spPr>
          <a:xfrm>
            <a:off x="928800" y="92880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弯曲菌属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Campylobacter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500040" y="242892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一类呈逗点状或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形的革兰阴性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对人致病的主要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空肠弯曲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导致散发性细菌性肠炎，部分血清型与格林巴利综合征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胎儿弯曲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引起牛、羊流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1285920" y="1500120"/>
            <a:ext cx="631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螺杆菌属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-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幽门螺杆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( Helicobacter pylori 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68360" y="3286080"/>
            <a:ext cx="810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革兰氏阴性，呈螺旋形、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单端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4~8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根鞭毛，运动活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体内富含尿素酶（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urease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），其检测可辅助快速诊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与慢性胃炎、消耗性溃疡关系密切，是胃癌发生的重要致病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1"/>
          <a:stretch/>
        </p:blipFill>
        <p:spPr>
          <a:xfrm rot="17431200">
            <a:off x="6032880" y="2627640"/>
            <a:ext cx="1935360" cy="21751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http://southmed.usouthal.edu/com/micro/faculty/mcgeefig2.jpg"/>
          <p:cNvPicPr/>
          <p:nvPr/>
        </p:nvPicPr>
        <p:blipFill>
          <a:blip r:embed="rId1"/>
          <a:srcRect l="2118" t="806" r="3328" b="4032"/>
          <a:stretch/>
        </p:blipFill>
        <p:spPr>
          <a:xfrm>
            <a:off x="128520" y="158760"/>
            <a:ext cx="7683480" cy="52149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0" y="5635800"/>
            <a:ext cx="91440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994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年，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国际癌症研究机构正式将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HP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列为第一类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即肯定的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致癌因子，是目前为止唯一被列为致癌因子的原核细胞型微生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矩形 3"/>
          <p:cNvSpPr/>
          <p:nvPr/>
        </p:nvSpPr>
        <p:spPr>
          <a:xfrm>
            <a:off x="7556400" y="1833480"/>
            <a:ext cx="16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4"/>
          <p:cNvSpPr/>
          <p:nvPr/>
        </p:nvSpPr>
        <p:spPr>
          <a:xfrm>
            <a:off x="7556400" y="2905200"/>
            <a:ext cx="158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溃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矩形 5"/>
          <p:cNvSpPr/>
          <p:nvPr/>
        </p:nvSpPr>
        <p:spPr>
          <a:xfrm>
            <a:off x="7812000" y="4149720"/>
            <a:ext cx="12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6" name="直接箭头连接符 7"/>
          <p:cNvCxnSpPr/>
          <p:nvPr/>
        </p:nvCxnSpPr>
        <p:spPr>
          <a:xfrm>
            <a:off x="8387280" y="2420640"/>
            <a:ext cx="1080" cy="47844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  <p:cxnSp>
        <p:nvCxnSpPr>
          <p:cNvPr id="157" name="直接箭头连接符 8"/>
          <p:cNvCxnSpPr/>
          <p:nvPr/>
        </p:nvCxnSpPr>
        <p:spPr>
          <a:xfrm>
            <a:off x="8387280" y="3499920"/>
            <a:ext cx="1080" cy="47700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785520" y="2357280"/>
            <a:ext cx="74293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生物学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肠毒素（ 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cholera toxin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的致病机理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和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空肠弯曲菌可导致格林巴利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幽门螺杆菌是导致胃癌的重要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矩形 4"/>
          <p:cNvSpPr/>
          <p:nvPr/>
        </p:nvSpPr>
        <p:spPr>
          <a:xfrm>
            <a:off x="3750840" y="107172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小       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428760" y="1214280"/>
            <a:ext cx="827568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弧菌属（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Vibrio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细菌是一大群短小、弯曲成弧形或逗点状的革兰阴性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本属细菌的主要特点是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适合生长在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碱性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培养基中，具有单端单鞭毛，运动活泼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细菌种类多，对人致病的主要有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霍乱弧菌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和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副溶血性弧菌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928800" y="1214280"/>
            <a:ext cx="724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</a:t>
            </a:r>
            <a:r>
              <a:rPr b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(</a:t>
            </a:r>
            <a:r>
              <a:rPr b="1" i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Cholera)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77880" y="2276640"/>
            <a:ext cx="79754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（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cholera</a:t>
            </a: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引起霍乱的病原菌。霍乱是一种烈性消化道传染病，属国际检疫的传染病，曾发生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7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次世界性大流行。主要表现为剧烈地呕吐、腹泻、脱水，重者可导致死亡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428760" y="2571840"/>
            <a:ext cx="59436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短小弧形或直线型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G</a:t>
            </a:r>
            <a:r>
              <a:rPr b="1" lang="en-US" sz="2400" spc="-1" strike="noStrike" baseline="30000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杆菌，产氧化酶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单鞭毛，运动活泼，无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857160" y="114300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生物学性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57120" y="3786120"/>
            <a:ext cx="4714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粪便标本做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悬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观察，成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“鱼群”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样穿梭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898560" y="20001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5072040" y="4000680"/>
            <a:ext cx="3649680" cy="2481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rcRect l="4978" t="4757" r="5688" b="6451"/>
          <a:stretch/>
        </p:blipFill>
        <p:spPr>
          <a:xfrm>
            <a:off x="6143760" y="1285920"/>
            <a:ext cx="2376360" cy="2627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images"/>
          <p:cNvPicPr/>
          <p:nvPr/>
        </p:nvPicPr>
        <p:blipFill>
          <a:blip r:embed="rId3"/>
          <a:stretch/>
        </p:blipFill>
        <p:spPr>
          <a:xfrm>
            <a:off x="714240" y="4929120"/>
            <a:ext cx="374364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霍乱弧菌－3"/>
          <p:cNvPicPr/>
          <p:nvPr/>
        </p:nvPicPr>
        <p:blipFill>
          <a:blip r:embed="rId1"/>
          <a:srcRect l="31425" t="1290" r="20855" b="20586"/>
          <a:stretch/>
        </p:blipFill>
        <p:spPr>
          <a:xfrm>
            <a:off x="1000080" y="1428840"/>
            <a:ext cx="2541600" cy="38131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911880" y="5373720"/>
            <a:ext cx="309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V. cholerae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在</a:t>
            </a:r>
            <a:r>
              <a:rPr b="1" lang="zh-CN" sz="20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培养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中生长。液体呈均匀混浊，有菌膜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6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8h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，左侧为阴性对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4143240" y="2214720"/>
            <a:ext cx="4572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需氧，营养要求不高。耐碱不耐酸，在</a:t>
            </a:r>
            <a:r>
              <a:rPr b="1" lang="en-US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pH8.4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9.0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的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或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碱性琼脂平板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上生长良好。故常用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作为选择性增殖霍乱弧菌的培养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5510160" y="1500120"/>
            <a:ext cx="12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    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rcRect l="13608" t="0" r="3160" b="0"/>
          <a:stretch/>
        </p:blipFill>
        <p:spPr>
          <a:xfrm>
            <a:off x="3708360" y="836640"/>
            <a:ext cx="5257800" cy="5184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357120" y="1571760"/>
            <a:ext cx="3276720" cy="382428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选择培养基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TCB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硫代硫酸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橼酸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胆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蔗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琼脂平板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霍乱弧菌形成较大菌落，发酵蔗糖产酸使菌落呈黄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785880" y="2643120"/>
            <a:ext cx="757224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有菌体抗原（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）和鞭毛抗原（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）。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与其它弧菌的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相同，无特异性。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特异性高，根据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的不同将其分为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150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余个血清群，其中 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、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39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引起霍乱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3"/>
          <p:cNvSpPr/>
          <p:nvPr/>
        </p:nvSpPr>
        <p:spPr>
          <a:xfrm>
            <a:off x="2428920" y="1500120"/>
            <a:ext cx="39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抗原构造与分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533520" y="2133720"/>
            <a:ext cx="821520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对热及消毒剂抵抗力弱，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55℃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湿热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5min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死亡，对酸的抵抗力更弱，在正常胃酸中仅能存活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4min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该菌在河水中能存活较长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对氯敏感，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漂白粉处理排泄物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可达消毒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EI Tor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生物型比古典生物型的抵抗力强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935520" y="1125360"/>
            <a:ext cx="124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抵 抗 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571680" y="1714680"/>
            <a:ext cx="814356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鞭毛与菌毛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pili and flagella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细菌进入小肠后，依靠活泼的鞭毛运动穿过粘膜表面的粘液层，通过菌毛粘附于肠壁上皮细胞刷状缘的微绒毛上，并在其上繁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霍乱肠毒素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cholera enterotoxin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CTX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外毒素，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作用于腺苷环化酶，使细胞内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AT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转变为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cAM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，促进肠粘膜细胞的分泌功能，肠液大量分泌，导致严重腹泻和呕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矩形 2"/>
          <p:cNvSpPr/>
          <p:nvPr/>
        </p:nvSpPr>
        <p:spPr>
          <a:xfrm>
            <a:off x="3809160" y="928800"/>
            <a:ext cx="127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5:23Z</dcterms:modified>
  <cp:revision>85</cp:revision>
  <dc:subject/>
  <dc:title>内科护理学</dc:title>
</cp:coreProperties>
</file>