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8BB0B-009B-4EB7-B628-B3D905618C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EE285-28CD-4DCD-BEED-7D126CB1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B308C-8CD1-4B7B-B4BD-109654F5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060C2-235E-47D1-BF74-61F4DA2D54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F10F5-CCDE-4757-B4ED-03741E3E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7C9EA-E3A6-4107-9946-5E0B290F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4EA8D-6669-4BD5-BEC3-05652AA5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9A1B1-2181-424B-AA37-6B83F282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DD9C3-4F0A-4A10-92C8-0E735BAC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03238-8DA9-4B21-823F-1935FEB7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78E99-03C6-4241-BA52-31CE7FBE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15E18-E98C-4963-B36C-B024A028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03874-5954-4BCC-85F1-79E338F6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BE573-A69A-4973-9F26-847E3DC3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723DB-BB11-4821-8CD2-37483185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506D0-CCAD-400B-843A-2BED5589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22014-2CA4-4544-954A-A5BE7334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95F011-5C83-41F3-835D-F88C4358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471F01-1FD1-4AE3-A89F-B60417F6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82990F-93FB-492C-A841-9A057B2F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FA1086-EB33-4BEB-B002-091E15B3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87FAF3-FED0-49D6-BA72-3B7BBFCF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63019-F864-473A-84A8-19E37710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951D9D-705D-42C7-8895-FDEE0EE4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3EF07C-0A53-4859-B08C-A2CA92CE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EB4104-D31F-4983-80CA-52722539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962583-BBB3-4B70-AF18-AE989C52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89754D-00D6-4DDF-9788-A352D005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6EE3EB-CC70-4B44-A30F-759FDA57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159C57-6C21-46FF-B436-BE84B65F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D457D-4E35-47E9-9F8A-B30FD2F2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AD632-2F95-495F-AD13-34872B1F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F90F9-1041-482B-B264-35AF4EEF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9E74-B368-4F6F-9D07-502378BC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10E9B-C5A5-42FC-95E0-A08F0F6E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3E20C-ABA7-4462-A6EC-D32C2E37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3729-A2F7-4E78-A38F-971BC94CC7FE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D72E-F064-4B50-936B-4BA34594252A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3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4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9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FFAD-E016-4C80-A126-C341750281B9}" type="slidenum">
              <a:rPr b="0" lang="en-US" sz="1400" spc="-1" strike="noStrike">
                <a:solidFill>
                  <a:srgbClr val="046ca6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5239;&#33647;&#32467;&#26680;&#33740;.MP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</a:rPr>
              <a:t>27</a:t>
            </a: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1360" y="2785680"/>
            <a:ext cx="7143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幼圆"/>
              </a:rPr>
              <a:t>分枝杆菌属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cobacteria</a:t>
            </a: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1" lang="en-US" sz="54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首都医科大学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郑群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6656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、微生物学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7280" y="2492280"/>
            <a:ext cx="6553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涂片染色镜检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痰涂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酸染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胺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因诊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197080" y="5229000"/>
            <a:ext cx="457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罗丹明染色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64" name="Picture 4" descr="P97图8-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952880" cy="464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97图8-4"/>
          <p:cNvPicPr/>
          <p:nvPr/>
        </p:nvPicPr>
        <p:blipFill>
          <a:blip r:embed="rId2"/>
          <a:srcRect l="31350" t="0" r="25814" b="3333"/>
          <a:stretch/>
        </p:blipFill>
        <p:spPr>
          <a:xfrm>
            <a:off x="7164360" y="0"/>
            <a:ext cx="19810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uramine rhodamine stain"/>
          <p:cNvPicPr/>
          <p:nvPr/>
        </p:nvPicPr>
        <p:blipFill>
          <a:blip r:embed="rId3"/>
          <a:srcRect l="36319" t="30238" r="0" b="0"/>
          <a:stretch/>
        </p:blipFill>
        <p:spPr>
          <a:xfrm>
            <a:off x="4952880" y="0"/>
            <a:ext cx="2176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四、防治原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3400" y="2606400"/>
            <a:ext cx="685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防：卡介苗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治疗：抗结核药 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用药    药物副作用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耐药菌株的产生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919080"/>
            <a:ext cx="7469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结核分枝杆菌小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2034720"/>
            <a:ext cx="8534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酸阳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菌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缓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侵袭力和毒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体类脂引起机体超敏反应引起结核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免疫与超敏反应共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验可诊断结核病和测定细胞免疫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用药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079640"/>
            <a:ext cx="7272360" cy="10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麻风分枝杆菌（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.lepra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2636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态染色：与结核杆菌相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：动物接种（小白鼠足垫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播途径：直接接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床分型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样型：皮肤、黏膜、周围神经（预后较好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瘤型麻风：全身脏器（传染性强、预后差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ptosy-who4"/>
          <p:cNvPicPr/>
          <p:nvPr/>
        </p:nvPicPr>
        <p:blipFill>
          <a:blip r:embed="rId1"/>
          <a:stretch/>
        </p:blipFill>
        <p:spPr>
          <a:xfrm>
            <a:off x="539640" y="2492280"/>
            <a:ext cx="2843280" cy="4216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0440" y="1452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ycobacterium lepra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leprosy-who"/>
          <p:cNvPicPr/>
          <p:nvPr/>
        </p:nvPicPr>
        <p:blipFill>
          <a:blip r:embed="rId2"/>
          <a:stretch/>
        </p:blipFill>
        <p:spPr>
          <a:xfrm>
            <a:off x="3637080" y="2924280"/>
            <a:ext cx="4937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50400"/>
            <a:ext cx="4843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22035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特点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种类及病原菌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核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麻风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结核分枝杆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腐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会致病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5797440" y="1273320"/>
            <a:ext cx="3167280" cy="4937040"/>
            <a:chOff x="5797440" y="1273320"/>
            <a:chExt cx="3167280" cy="4937040"/>
          </a:xfrm>
        </p:grpSpPr>
        <p:pic>
          <p:nvPicPr>
            <p:cNvPr id="142" name="Picture 8" descr="结核杆菌抗酸染色"/>
            <p:cNvPicPr/>
            <p:nvPr/>
          </p:nvPicPr>
          <p:blipFill>
            <a:blip r:embed="rId1"/>
            <a:stretch/>
          </p:blipFill>
          <p:spPr>
            <a:xfrm>
              <a:off x="5797440" y="1273320"/>
              <a:ext cx="309996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18-麻风杆菌 copy"/>
            <p:cNvPicPr/>
            <p:nvPr/>
          </p:nvPicPr>
          <p:blipFill>
            <a:blip r:embed="rId2"/>
            <a:stretch/>
          </p:blipFill>
          <p:spPr>
            <a:xfrm>
              <a:off x="5797440" y="3702240"/>
              <a:ext cx="316728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4160" y="2354400"/>
            <a:ext cx="748656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染色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胞壁含大量类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特点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缓慢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h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时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氏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wenste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固体培养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H6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8,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黄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花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~4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46" name="Picture 15" descr="myc-tub-dk"/>
          <p:cNvPicPr/>
          <p:nvPr/>
        </p:nvPicPr>
        <p:blipFill>
          <a:blip r:embed="rId1"/>
          <a:stretch/>
        </p:blipFill>
        <p:spPr>
          <a:xfrm>
            <a:off x="5724360" y="1268280"/>
            <a:ext cx="3348360" cy="251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6560" y="2203560"/>
            <a:ext cx="821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抗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燥、酸碱、染料（孔雀绿、结晶紫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热、紫外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、抗结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异性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耐药性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BC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280" y="1063440"/>
            <a:ext cx="863784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二、致病性与免疫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1520" y="211140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致病物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菌体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刺激单核细胞增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酪样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菌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破坏线粒体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肉芽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脑苷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吞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迟发型超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600" y="1279440"/>
            <a:ext cx="7727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5680" y="237312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核病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途径感染，最常引起肺结核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易播散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潜伏带菌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继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局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1380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次感染（外源性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6000" y="2017440"/>
            <a:ext cx="5923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儿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尚未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易扩散→原发综合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淋巴管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门淋巴结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 哑铃形阴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55" name="Picture 5" descr="18-哑铃阴影 copy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6372360" y="3502080"/>
            <a:ext cx="2539800" cy="2539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884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发感染（原发后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9840" y="2346480"/>
            <a:ext cx="66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感染（多为内源性感染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成年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已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灶局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增殖性病变为主：结核结节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0080" y="1208160"/>
            <a:ext cx="7296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5680" y="230148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疫特点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和超敏反应共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菌素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berculin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,P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zhe</cp:lastModifiedBy>
  <dcterms:modified xsi:type="dcterms:W3CDTF">2015-08-26T05:59:43Z</dcterms:modified>
  <cp:revision>2</cp:revision>
  <dc:subject/>
  <dc:title>第27章</dc:title>
</cp:coreProperties>
</file>