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A980-A893-4EF6-B581-34E604C48AD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C961AE-AC2B-44DB-A6E7-8C3C61EC0508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of the unique shape:  relates to the transportation of oxygen and  provides an increased surface area through which gas can diff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9BB6-5179-4CB8-BE20-D8CFB4C9961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875172-AFC4-40A9-9743-822CB37A620A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2ED92FFD-ED84-40EE-9EED-0E976B31210E}" type="slidenum">
              <a:rPr b="0" i="1" lang="en-US" sz="10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EE27-29A7-4170-9707-0E5FCA318D8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F580-406E-47A9-B728-2F3CAAADC7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8A45-9FA3-4AEE-B2A9-D0357AC7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855B-CDBB-4388-91DD-B66DA9D0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62A9-B328-46A9-90B8-14B4915676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32172-798D-4492-BFAC-6CBDEAA9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E2BC8-D792-4CCC-8EA7-560F1391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C7FE4-FA5B-42EB-A406-CB438635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F6A08-5274-4228-A40E-468F9D7C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FAEB8-255F-4B80-931E-A15A6202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8EC75-A8AA-4A52-B114-25E34F58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B39B3-74EE-42EC-B0B3-6EED5BEC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FB65-2E99-4F87-ABF3-3932FA7E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F7822-0FBD-4A71-BE0A-9A7360BF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3C6B8-C492-40CD-9B40-6C2B5C75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DD5DC-888B-4FB5-94E1-DFE0FC15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E64F5-DDA4-4D97-9037-5B7AAC22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5FC43-F81D-42B0-8E92-6814CAB3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94C3-4899-4196-AA65-75D1343157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A593-6949-4D51-8ECC-82B2A5EA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BB86-2A82-4F15-9E50-CC5262DB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4D1E-E20A-4460-A852-087E04AA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EB03-6EFA-436C-B1D2-D90FFEB8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9EB6-E23F-4E0D-9AEA-00F6FDDA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9C68-08CD-4296-AD9A-26C6358D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6F9C-3DA4-412F-AB02-318765A8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96A7-8D5A-4F2D-8443-73C4E5B6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198F-E547-4D91-B30A-65FB906F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E653-4BCF-4039-A647-50C93810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946C-FC5A-4F81-818B-F42BB563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A5F9-D8E1-48B0-A8CB-F1F72F85C6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E4C63-47C8-461E-9154-2366F5162E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2494F-535C-4126-AC9B-A7DDEBF3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1FC58-1619-4FB8-B3F1-D272608D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10D8-22F8-405B-A87C-1B2DE8C9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F9DD1-BFFD-4D15-9BBD-2FCD0A67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B7CA9-D22E-46A9-B438-CB8BC9BF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FBAD3-C665-469F-A6DD-7C618E04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C4A34-0719-4083-9135-1DDAA6B6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62CF9-1E4F-4592-90B5-EC5CB6F1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9FCD1-9064-4A6E-B0DF-F0A23B91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5EC8A-7F9A-4065-BE59-4A0C8DE7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82088-7FD9-4C93-9B8C-E113B6A2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22532-12B5-4C3B-AB82-9E9358D8B3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2728-4F77-408F-B50B-B4E73C64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6D60-E647-4703-8D6D-6A9E7664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E614E-2914-418D-87AB-FE6B9035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DF4E6-1632-4FE7-86F9-A3B22F0D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09DD5-15EF-466F-AF8F-CC11B721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96776-F96E-4766-ADD8-EC6044D4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4A96F-DEE2-44F1-A12C-DE73EB32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7B2B0-4ADC-40EB-84BC-C0C8BA4D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4291F-9AD1-44DE-A6EF-EA0B5706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EEE29-30AA-4691-887C-AFA1444A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9DA10-CE31-40EA-B09E-266FF586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205F-49E0-416D-B223-156479C0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5BB7A-2F03-45C1-9B6D-18891851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729CB-439C-4ED3-8B0D-EFA971B1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99CE1-CFB2-4CC0-81F4-6FE6548E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69521-2BE1-46AF-843D-AC20F043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0AE2B-5604-485E-ACAA-4639AE20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F8332-CE59-470C-A556-146AE7DA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9F746-D028-4040-873F-6A136C48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08400-2FC6-4ED7-978F-B7E4DEC1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9F0E3-D82F-4D1C-8EB2-8B24E37F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1D23A-B241-4587-97DE-B174DCA2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D31D-5C97-464D-B533-3DDB72A5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7FA5B-38DF-4F3C-B0F8-45AB1FBD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111D1-545D-4B85-B317-8FB89FDF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08AC1-F43D-4FFE-B8D7-6DB3D328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FFBD3-C06B-4504-888E-2B5C2A5E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59A8F-37CC-4A28-9279-887C8BC7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1467-16C6-4E56-9EC3-00DDAC8B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FFA5-E456-4E9E-9034-89F3D36E38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8D55-2451-4F50-9F4B-A5C9893E3E32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757C-3190-43DD-BEE5-A86A5F40CCC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AC2A-8F82-467F-9FD5-72DEFEF5175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9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7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9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8819-07A7-4967-A62F-02EDDA780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D129-AD47-4A8C-8673-3391CCD79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2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5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36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4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4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94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95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4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三章   血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（二）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黑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血浆渗透压的组成与正常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0600" y="47685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作用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细胞内外的水平衡和维持细胞形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42720" y="2181240"/>
            <a:ext cx="64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300mmo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770kPa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5790mmHg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914400" y="2714760"/>
            <a:ext cx="7761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宋体"/>
              </a:rPr>
              <a:t>1)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晶体渗透压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(crystal osmotic pressur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298.5mmo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766.7kPa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755640" y="3903840"/>
            <a:ext cx="815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晶体物质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*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NaC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形成的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7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7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75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900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黑体"/>
              </a:rPr>
              <a:t>2)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黑体"/>
              </a:rPr>
              <a:t>胶体渗透压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黑体"/>
              </a:rPr>
              <a:t>(colloid osmotic pressure)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1.5mmo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3.3 kP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4920" y="3193560"/>
            <a:ext cx="85345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胶体物质（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白蛋白）形成的渗透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77960" y="4292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Arial"/>
                <a:ea typeface="宋体"/>
              </a:rPr>
              <a:t>作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Rectangle 55"/>
          <p:cNvSpPr/>
          <p:nvPr/>
        </p:nvSpPr>
        <p:spPr>
          <a:xfrm>
            <a:off x="1403280" y="52974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持血管内外的水平衡和血浆容量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75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Users\xiaoqb\Desktop\第三章血液-姚阳\图片\渗透作用.jpg"/>
          <p:cNvPicPr/>
          <p:nvPr/>
        </p:nvPicPr>
        <p:blipFill>
          <a:blip r:embed="rId1"/>
          <a:stretch/>
        </p:blipFill>
        <p:spPr>
          <a:xfrm>
            <a:off x="1193760" y="1590840"/>
            <a:ext cx="6754680" cy="3676320"/>
          </a:xfrm>
          <a:prstGeom prst="rect">
            <a:avLst/>
          </a:prstGeom>
          <a:ln w="0">
            <a:noFill/>
          </a:ln>
        </p:spPr>
      </p:pic>
      <p:sp>
        <p:nvSpPr>
          <p:cNvPr id="53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286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双凹碟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FG16_06a"/>
          <p:cNvPicPr/>
          <p:nvPr/>
        </p:nvPicPr>
        <p:blipFill>
          <a:blip r:embed="rId1"/>
          <a:stretch/>
        </p:blipFill>
        <p:spPr>
          <a:xfrm>
            <a:off x="826920" y="249228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G16_06b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2876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68360" y="566100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径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~8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周厚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中心厚约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体积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90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5092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58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红细胞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ed blood cell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BC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3141360"/>
            <a:ext cx="388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6000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血红蛋白含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55640" y="1125360"/>
            <a:ext cx="6624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㈠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　正常值和生理功能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684360" y="50133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124000" y="5157720"/>
            <a:ext cx="2714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运输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 baseline="-14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16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缓冲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971640" y="1989000"/>
            <a:ext cx="667836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.5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8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6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Rectangle 31"/>
          <p:cNvSpPr/>
          <p:nvPr/>
        </p:nvSpPr>
        <p:spPr>
          <a:xfrm>
            <a:off x="1258920" y="3860640"/>
            <a:ext cx="3887640" cy="10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6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1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5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75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渗透脆性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(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华文新魏"/>
              </a:rPr>
              <a:t>osmotic fragility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4920" y="30682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在低渗盐溶液中易破裂、溶血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2340000" y="3940200"/>
            <a:ext cx="289080" cy="79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611280" y="4797360"/>
            <a:ext cx="784836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对低渗盐溶液有一定的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抵抗力与渗透脆性呈反变关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700360" y="4227480"/>
            <a:ext cx="60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35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完全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溶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627280" y="3651120"/>
            <a:ext cx="60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42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开始溶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217160" y="4011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42960" y="256536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渗透脆性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250920" y="1268280"/>
            <a:ext cx="716256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㈡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红细胞的生理特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3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75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75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75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4000" y="227664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能较稳定的悬浮于血浆不易下沉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测定指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571680" y="5500800"/>
            <a:ext cx="48639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4c74"/>
                </a:solidFill>
                <a:latin typeface="宋体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男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5 mm/h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女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 mm/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324000" y="981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悬浮稳定性</a:t>
            </a:r>
            <a:r>
              <a:rPr b="1" lang="zh-CN" sz="60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suspension stability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3286080"/>
            <a:ext cx="7667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沉降率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血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通常将第一小时末红细胞下沉的距离，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2"/>
          <p:cNvSpPr/>
          <p:nvPr/>
        </p:nvSpPr>
        <p:spPr>
          <a:xfrm>
            <a:off x="4187160" y="3716280"/>
            <a:ext cx="52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球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纤维蛋白原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胆固醇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106720" y="2637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成分变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539640" y="46530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血浆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Line 50"/>
          <p:cNvSpPr/>
          <p:nvPr/>
        </p:nvSpPr>
        <p:spPr>
          <a:xfrm>
            <a:off x="4859280" y="4005360"/>
            <a:ext cx="165600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Text Box 52"/>
          <p:cNvSpPr/>
          <p:nvPr/>
        </p:nvSpPr>
        <p:spPr>
          <a:xfrm>
            <a:off x="3203640" y="5300640"/>
            <a:ext cx="22096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卵磷脂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55"/>
          <p:cNvSpPr/>
          <p:nvPr/>
        </p:nvSpPr>
        <p:spPr>
          <a:xfrm>
            <a:off x="6659640" y="4221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62"/>
          <p:cNvGrpSpPr/>
          <p:nvPr/>
        </p:nvGrpSpPr>
        <p:grpSpPr>
          <a:xfrm>
            <a:off x="2195640" y="4076640"/>
            <a:ext cx="838080" cy="1676520"/>
            <a:chOff x="2195640" y="4076640"/>
            <a:chExt cx="838080" cy="1676520"/>
          </a:xfrm>
        </p:grpSpPr>
        <p:sp>
          <p:nvSpPr>
            <p:cNvPr id="575" name="Line 58"/>
            <p:cNvSpPr/>
            <p:nvPr/>
          </p:nvSpPr>
          <p:spPr>
            <a:xfrm>
              <a:off x="2195640" y="4914720"/>
              <a:ext cx="45720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Line 59"/>
            <p:cNvSpPr/>
            <p:nvPr/>
          </p:nvSpPr>
          <p:spPr>
            <a:xfrm>
              <a:off x="2652840" y="4076640"/>
              <a:ext cx="0" cy="16765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Line 60"/>
            <p:cNvSpPr/>
            <p:nvPr/>
          </p:nvSpPr>
          <p:spPr>
            <a:xfrm>
              <a:off x="2652840" y="575316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Line 61"/>
            <p:cNvSpPr/>
            <p:nvPr/>
          </p:nvSpPr>
          <p:spPr>
            <a:xfrm>
              <a:off x="2652840" y="407664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79" name="Line 63"/>
          <p:cNvSpPr/>
          <p:nvPr/>
        </p:nvSpPr>
        <p:spPr>
          <a:xfrm flipV="1">
            <a:off x="4932360" y="4723920"/>
            <a:ext cx="158292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Text Box 64"/>
          <p:cNvSpPr/>
          <p:nvPr/>
        </p:nvSpPr>
        <p:spPr>
          <a:xfrm>
            <a:off x="6227640" y="5589720"/>
            <a:ext cx="13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Rectangle 68"/>
          <p:cNvSpPr/>
          <p:nvPr/>
        </p:nvSpPr>
        <p:spPr>
          <a:xfrm>
            <a:off x="192240" y="155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ESR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Line 69"/>
          <p:cNvSpPr/>
          <p:nvPr/>
        </p:nvSpPr>
        <p:spPr>
          <a:xfrm>
            <a:off x="5724360" y="4508640"/>
            <a:ext cx="7923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Line 70"/>
          <p:cNvSpPr/>
          <p:nvPr/>
        </p:nvSpPr>
        <p:spPr>
          <a:xfrm>
            <a:off x="4859280" y="5589720"/>
            <a:ext cx="1152720" cy="144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 flipV="1">
            <a:off x="4859280" y="5949720"/>
            <a:ext cx="1154160" cy="215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42100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发生主动变形后又回复原状的特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原因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呈双凹碟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24000" y="1197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可塑变形性</a:t>
            </a:r>
            <a:r>
              <a:rPr b="1" lang="zh-CN" sz="66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plastic deformation of erythrocyte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395280" y="4648320"/>
            <a:ext cx="56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临床：遗传性球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75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75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75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59920" y="1197000"/>
            <a:ext cx="8610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（三）红细胞的生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骨髓造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1"/>
          <p:cNvSpPr/>
          <p:nvPr/>
        </p:nvSpPr>
        <p:spPr>
          <a:xfrm>
            <a:off x="635760" y="3357720"/>
            <a:ext cx="911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血干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1720080" y="314172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系定向祖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3162240" y="3500280"/>
            <a:ext cx="5461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TextBox 11"/>
          <p:cNvSpPr/>
          <p:nvPr/>
        </p:nvSpPr>
        <p:spPr>
          <a:xfrm>
            <a:off x="3782520" y="3424320"/>
            <a:ext cx="9118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早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4790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5798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晚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TextBox 14"/>
          <p:cNvSpPr/>
          <p:nvPr/>
        </p:nvSpPr>
        <p:spPr>
          <a:xfrm>
            <a:off x="687816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网织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TextBox 15"/>
          <p:cNvSpPr/>
          <p:nvPr/>
        </p:nvSpPr>
        <p:spPr>
          <a:xfrm>
            <a:off x="8325000" y="371628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99" name="直接箭头连接符 4"/>
          <p:cNvCxnSpPr/>
          <p:nvPr/>
        </p:nvCxnSpPr>
        <p:spPr>
          <a:xfrm>
            <a:off x="1547640" y="40762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直接箭头连接符 18"/>
          <p:cNvCxnSpPr/>
          <p:nvPr/>
        </p:nvCxnSpPr>
        <p:spPr>
          <a:xfrm>
            <a:off x="2722320" y="40762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1" name="直接箭头连接符 19"/>
          <p:cNvCxnSpPr/>
          <p:nvPr/>
        </p:nvCxnSpPr>
        <p:spPr>
          <a:xfrm>
            <a:off x="3708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直接箭头连接符 20"/>
          <p:cNvCxnSpPr/>
          <p:nvPr/>
        </p:nvCxnSpPr>
        <p:spPr>
          <a:xfrm>
            <a:off x="4716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直接箭头连接符 21"/>
          <p:cNvCxnSpPr/>
          <p:nvPr/>
        </p:nvCxnSpPr>
        <p:spPr>
          <a:xfrm>
            <a:off x="5702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直接箭头连接符 22"/>
          <p:cNvCxnSpPr/>
          <p:nvPr/>
        </p:nvCxnSpPr>
        <p:spPr>
          <a:xfrm>
            <a:off x="6710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直接箭头连接符 23"/>
          <p:cNvCxnSpPr/>
          <p:nvPr/>
        </p:nvCxnSpPr>
        <p:spPr>
          <a:xfrm>
            <a:off x="778968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6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42920" y="2179440"/>
            <a:ext cx="5041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的组成和理化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45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464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1989720" y="45799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962720" y="5229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1817640" y="5229360"/>
            <a:ext cx="687240" cy="593640"/>
            <a:chOff x="1817640" y="5229360"/>
            <a:chExt cx="687240" cy="593640"/>
          </a:xfrm>
        </p:grpSpPr>
        <p:sp>
          <p:nvSpPr>
            <p:cNvPr id="476" name="AutoShape 12"/>
            <p:cNvSpPr/>
            <p:nvPr/>
          </p:nvSpPr>
          <p:spPr>
            <a:xfrm>
              <a:off x="1823040" y="5239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1817640" y="5229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AutoShape 14"/>
            <p:cNvSpPr/>
            <p:nvPr/>
          </p:nvSpPr>
          <p:spPr>
            <a:xfrm>
              <a:off x="1857600" y="5264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9" name="Text Box 17"/>
          <p:cNvSpPr/>
          <p:nvPr/>
        </p:nvSpPr>
        <p:spPr>
          <a:xfrm>
            <a:off x="1970280" y="5300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843280" y="2997360"/>
            <a:ext cx="5041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2843280" y="3789360"/>
            <a:ext cx="2759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843280" y="4516560"/>
            <a:ext cx="504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2843280" y="5221440"/>
            <a:ext cx="5041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459160" y="5861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30360" y="1484280"/>
            <a:ext cx="8305560" cy="46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．红细胞生成所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基本原料：蛋白质和铁          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辅助因子：叶酸和维生素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46ca6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铁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合成血红蛋白的必需原料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95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％来自体内铁的再利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缺铁，使合成血红蛋白不足，引起小细胞低色素性贫血，即缺铁性贫血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0" y="1339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吸收与内因子有关，增加叶酸在体内的利用率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维生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活化后参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合成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与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缺乏都引起巨幼红细胞贫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4000" y="1484280"/>
            <a:ext cx="83055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促红细胞生成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EP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肾皮质管周细胞产生，对组织中氧分压的降低敏感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生成过程各时期红细胞的增殖与分化。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要细胞因子对红细胞生成的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38240" y="4030560"/>
            <a:ext cx="8964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5520" indent="-132552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雄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肾促红细胞生成素的生成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②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直接作用于骨髓，促进骨髓红细胞的生成及释放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920" y="119988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二、白细胞生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700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常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年人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013b1"/>
          <p:cNvPicPr/>
          <p:nvPr/>
        </p:nvPicPr>
        <p:blipFill>
          <a:blip r:embed="rId1"/>
          <a:stretch/>
        </p:blipFill>
        <p:spPr>
          <a:xfrm>
            <a:off x="4202280" y="4987800"/>
            <a:ext cx="1465200" cy="1567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013b2"/>
          <p:cNvPicPr/>
          <p:nvPr/>
        </p:nvPicPr>
        <p:blipFill>
          <a:blip r:embed="rId2"/>
          <a:stretch/>
        </p:blipFill>
        <p:spPr>
          <a:xfrm>
            <a:off x="2259000" y="5010120"/>
            <a:ext cx="1515960" cy="1460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013b3"/>
          <p:cNvPicPr/>
          <p:nvPr/>
        </p:nvPicPr>
        <p:blipFill>
          <a:blip r:embed="rId3"/>
          <a:stretch/>
        </p:blipFill>
        <p:spPr>
          <a:xfrm>
            <a:off x="504720" y="4959360"/>
            <a:ext cx="1341720" cy="1492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013b4"/>
          <p:cNvPicPr/>
          <p:nvPr/>
        </p:nvPicPr>
        <p:blipFill>
          <a:blip r:embed="rId4"/>
          <a:stretch/>
        </p:blipFill>
        <p:spPr>
          <a:xfrm>
            <a:off x="5916600" y="4826160"/>
            <a:ext cx="1279440" cy="1684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9" descr="013b5"/>
          <p:cNvPicPr/>
          <p:nvPr/>
        </p:nvPicPr>
        <p:blipFill>
          <a:blip r:embed="rId5"/>
          <a:stretch/>
        </p:blipFill>
        <p:spPr>
          <a:xfrm>
            <a:off x="7394400" y="4856040"/>
            <a:ext cx="1559160" cy="1562400"/>
          </a:xfrm>
          <a:prstGeom prst="rect">
            <a:avLst/>
          </a:prstGeom>
          <a:ln w="0">
            <a:noFill/>
          </a:ln>
        </p:spPr>
      </p:pic>
      <p:sp>
        <p:nvSpPr>
          <p:cNvPr id="630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16000" y="1700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               百分比          主要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219320" y="2743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14400" y="2438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性粒细胞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 ~70%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与消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酸性粒细胞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% ~4%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过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碱性粒细胞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% ~1%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~40%   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细胞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体液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核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 ~8%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、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5238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白细胞分类及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914400" y="1600200"/>
            <a:ext cx="7696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110600" y="3789360"/>
            <a:ext cx="309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小板的生理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258920" y="57340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致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诱导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539640" y="4437000"/>
            <a:ext cx="860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黏附</a:t>
            </a:r>
            <a:r>
              <a:rPr b="0" lang="en-US" sz="28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与非血小板表面的黏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11280" y="5157720"/>
            <a:ext cx="81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聚集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彼此黏着的现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856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三、血小板（</a:t>
            </a:r>
            <a:r>
              <a:rPr b="1" lang="en-US" sz="4000" spc="-1" strike="noStrike">
                <a:solidFill>
                  <a:srgbClr val="000058"/>
                </a:solidFill>
                <a:latin typeface="Arial"/>
                <a:ea typeface="黑体"/>
              </a:rPr>
              <a:t>platelet</a:t>
            </a: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1166760" y="2060640"/>
            <a:ext cx="29239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形态和数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527400" y="2708280"/>
            <a:ext cx="12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形态</a:t>
            </a: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2050920" y="2708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体积小，无核，梭形或椭圆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3212640"/>
            <a:ext cx="806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正常值：（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×10</a:t>
            </a:r>
            <a:r>
              <a:rPr b="1" lang="en-US" sz="2800" spc="-1" strike="noStrike" baseline="38000">
                <a:solidFill>
                  <a:srgbClr val="000058"/>
                </a:solidFill>
                <a:latin typeface="黑体"/>
                <a:ea typeface="黑体"/>
              </a:rPr>
              <a:t>9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/L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75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75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533520" y="1687680"/>
            <a:ext cx="861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①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一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迅速、可逆，外源性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低剂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)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68360" y="299736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②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二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缓慢、不可逆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内源性（高剂量）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380880" y="486900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）血栓烷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(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TX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PGE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NE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凝血酶，组胺等促进聚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684360" y="162864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吸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5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971640" y="170028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释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T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儿茶酚胺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Ca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2+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等活性物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1116000" y="357336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吸附凝血因子，促进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116000" y="537372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收缩蛋白收缩，血凝块回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75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75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75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75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75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1" dur="75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1247760" y="1268280"/>
            <a:ext cx="2649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㈢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生理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667880" y="2421000"/>
            <a:ext cx="6312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参与生理性止血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维持血管内皮的完整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血小板能沉着于血管壁填补内皮细胞脱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留下的空隙，对其进行修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紫癜：血小板减少引起毛细血管脆性增加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以及血管的微小破损所致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539640" y="1093680"/>
            <a:ext cx="734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.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血液凝固</a:t>
            </a:r>
            <a:r>
              <a:rPr b="1" lang="en-US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(blood coagulation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137160" indent="-137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964440" y="3284640"/>
            <a:ext cx="5778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㈠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凝血因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(blood coagulation factor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843120" y="40784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843120" y="5410080"/>
            <a:ext cx="34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种类及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755640" y="1916280"/>
            <a:ext cx="802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由流动的液态变成不能流动的凝胶状态的过程</a:t>
            </a:r>
            <a:r>
              <a:rPr b="0" lang="zh-CN" sz="3600" spc="-1" strike="noStrike">
                <a:solidFill>
                  <a:srgbClr val="734c74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8" name="Rectangle 17"/>
          <p:cNvSpPr/>
          <p:nvPr/>
        </p:nvSpPr>
        <p:spPr>
          <a:xfrm>
            <a:off x="1555920" y="4879800"/>
            <a:ext cx="60847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与组织中直接参与凝血的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75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9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75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75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455840"/>
            <a:ext cx="813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的组成血细胞比容的概念，血液的一般理化特性，识别血浆渗透压的组成及其生理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记各类血细胞的正常值与功能，描述红细胞的特性和生成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血小板的生理特性和生理功能，生理性止血和出血时间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凝固的基本过程，识别内、外源凝血途径，说出抗凝系统和纤溶系统的组成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的分型，知道血型检测，交叉配血试验和输血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4B27-174A-4F1D-8C6B-0C8607A406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78920" y="1052640"/>
            <a:ext cx="914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28320" indent="-230040">
              <a:lnSpc>
                <a:spcPct val="2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同义名                          合成部位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原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酶原                                    肝细胞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组织因子                                  内皮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加速素易变因子               内皮细胞和血小板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Ⅶ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转变素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Ⅷ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抗血友病因子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Ⅹ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Stuart-Prower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Ⅺ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前质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Ⅻ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接触因子     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XIII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"/>
          <p:cNvSpPr/>
          <p:nvPr/>
        </p:nvSpPr>
        <p:spPr>
          <a:xfrm>
            <a:off x="214200" y="5715000"/>
            <a:ext cx="8701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2" name="Line 6"/>
          <p:cNvSpPr/>
          <p:nvPr/>
        </p:nvSpPr>
        <p:spPr>
          <a:xfrm flipV="1">
            <a:off x="324000" y="1988640"/>
            <a:ext cx="8700840" cy="1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50920" y="1484280"/>
            <a:ext cx="87008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95280" y="90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凝血因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4920" y="1412640"/>
            <a:ext cx="83818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Ca</a:t>
            </a:r>
            <a:r>
              <a:rPr b="1" lang="en-US" sz="2800" spc="-1" strike="noStrike" baseline="38000">
                <a:solidFill>
                  <a:srgbClr val="00006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、磷脂外，都是蛋白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II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组织因子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TF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 外，都在血浆中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因子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肝合成，需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  <a:ea typeface="宋体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，均以无活性的酶原形式存在，需要其他水解酶的激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辅助因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, V, Ⅷ ,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高分子量激肽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丝氨酸蛋白酶：包括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Ⅺ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Ⅻ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前激肽释放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79280" y="982080"/>
            <a:ext cx="1575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280" y="1126800"/>
            <a:ext cx="3759480" cy="641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凝血过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5638680" y="3505320"/>
            <a:ext cx="9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91520" y="3505320"/>
            <a:ext cx="87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6172200" y="3886200"/>
            <a:ext cx="130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257800" y="2362320"/>
            <a:ext cx="647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6477120" y="2362320"/>
            <a:ext cx="102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Ｘ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57150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553080" y="4572000"/>
            <a:ext cx="6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8077320" y="4572000"/>
            <a:ext cx="1066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6781680" y="29718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705720" y="320040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2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108000" y="17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ca6"/>
                </a:solidFill>
                <a:latin typeface="Arial"/>
                <a:ea typeface="宋体"/>
              </a:rPr>
              <a:t>*</a:t>
            </a: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基本过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04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） 凝血酶原激活物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0492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凝血酶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04920" y="4648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纤维蛋白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380880" y="327672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380880" y="43434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6" name="Line 19"/>
          <p:cNvSpPr/>
          <p:nvPr/>
        </p:nvSpPr>
        <p:spPr>
          <a:xfrm>
            <a:off x="7696080" y="4114800"/>
            <a:ext cx="0" cy="76212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7086600" y="4952880"/>
            <a:ext cx="1219320" cy="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556272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Ⅲ    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Line 22"/>
          <p:cNvSpPr/>
          <p:nvPr/>
        </p:nvSpPr>
        <p:spPr>
          <a:xfrm>
            <a:off x="5867280" y="2057400"/>
            <a:ext cx="15264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Line 23"/>
          <p:cNvSpPr/>
          <p:nvPr/>
        </p:nvSpPr>
        <p:spPr>
          <a:xfrm flipH="1">
            <a:off x="6248160" y="2057400"/>
            <a:ext cx="22860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7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75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3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内容占位符 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121440" cy="4876560"/>
          </a:xfrm>
          <a:prstGeom prst="rect">
            <a:avLst/>
          </a:prstGeom>
          <a:ln w="0">
            <a:noFill/>
          </a:ln>
        </p:spPr>
      </p:pic>
      <p:sp>
        <p:nvSpPr>
          <p:cNvPr id="703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611280" y="1268280"/>
            <a:ext cx="79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影响血液凝固的因素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826920" y="1773360"/>
            <a:ext cx="6985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温度：在一定范围内，温度升高，凝血加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粗糙面：易于激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F</a:t>
            </a:r>
            <a:r>
              <a:rPr b="1" lang="en-US" sz="3200" spc="-1" strike="noStrike">
                <a:solidFill>
                  <a:srgbClr val="000058"/>
                </a:solidFill>
                <a:latin typeface="MS Mincho"/>
                <a:ea typeface="MS Mincho"/>
              </a:rPr>
              <a:t>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Ca</a:t>
            </a:r>
            <a:r>
              <a:rPr b="1" lang="en-US" sz="3200" spc="-1" strike="noStrike" baseline="30000">
                <a:solidFill>
                  <a:srgbClr val="000058"/>
                </a:solidFill>
                <a:latin typeface="Times New Roman"/>
                <a:ea typeface="宋体"/>
              </a:rPr>
              <a:t>2+</a:t>
            </a:r>
            <a:r>
              <a:rPr b="0" lang="en-US" sz="3200" spc="-1" strike="noStrike" baseline="30000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凝血因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6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"/>
          <p:cNvSpPr/>
          <p:nvPr/>
        </p:nvSpPr>
        <p:spPr>
          <a:xfrm>
            <a:off x="395280" y="1557360"/>
            <a:ext cx="617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四）抗凝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24000" y="2565360"/>
            <a:ext cx="831672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抗凝血酶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Ⅲ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液中最重要的抗凝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产生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肝和血管内皮细胞产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作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使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Ⅸ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Ⅻ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失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机制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丝氨酸蛋白酶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75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75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75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75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>
            <a:hlinkClick r:id="rId1" action="ppaction://hlinksldjump"/>
          </p:cNvPr>
          <p:cNvSpPr/>
          <p:nvPr/>
        </p:nvSpPr>
        <p:spPr>
          <a:xfrm>
            <a:off x="571680" y="14842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蛋白质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92200" y="256536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蛋白质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肝合成需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VitK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①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灭活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Ⅴ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Ⅷ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②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抑制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凝血酶原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；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468360" y="3645000"/>
            <a:ext cx="85345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小血管内皮细胞产生，抑制外源性凝血过程及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Ⅶ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a-TF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对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Ⅸ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320840" y="177336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3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组织因子途径抑制物（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>
            <a:hlinkClick r:id="rId1" action="ppaction://hlinksldjump"/>
          </p:cNvPr>
          <p:cNvSpPr/>
          <p:nvPr/>
        </p:nvSpPr>
        <p:spPr>
          <a:xfrm>
            <a:off x="826920" y="13413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4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肝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92280" y="2349360"/>
            <a:ext cx="8083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肥大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及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嗜碱性粒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产生，肺、心、肝、肌肉含量丰富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①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间接增强抗凝血酶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Ⅲ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的活性；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②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刺激血管内皮细胞释放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③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增强蛋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活性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11280" y="17575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维蛋白溶解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纤维蛋白逐渐溶解的过程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简称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-367920" y="3213000"/>
            <a:ext cx="88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溶系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、纤溶酶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抑制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11280" y="981000"/>
            <a:ext cx="511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二、纤维蛋白溶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75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血液的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1" name="Picture 5" descr="血液组成"/>
          <p:cNvPicPr/>
          <p:nvPr/>
        </p:nvPicPr>
        <p:blipFill>
          <a:blip r:embed="rId1"/>
          <a:stretch/>
        </p:blipFill>
        <p:spPr>
          <a:xfrm>
            <a:off x="1547640" y="1946160"/>
            <a:ext cx="6696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5" descr="C:\Users\xiaoqb\Desktop\第三章血液-姚阳\图片\纤溶.jpg"/>
          <p:cNvPicPr/>
          <p:nvPr/>
        </p:nvPicPr>
        <p:blipFill>
          <a:blip r:embed="rId1"/>
          <a:stretch/>
        </p:blipFill>
        <p:spPr>
          <a:xfrm>
            <a:off x="34920" y="1989000"/>
            <a:ext cx="9093240" cy="3384720"/>
          </a:xfrm>
          <a:prstGeom prst="rect">
            <a:avLst/>
          </a:prstGeom>
          <a:ln w="0">
            <a:noFill/>
          </a:ln>
        </p:spPr>
      </p:pic>
      <p:sp>
        <p:nvSpPr>
          <p:cNvPr id="72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27806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纤溶酶原的激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704960" y="17478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组织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813680" y="235584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尿激酶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20120" y="29415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二）纤维蛋白与纤维蛋白原的降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1819800" y="37958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三）纤溶抑制物及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404640" y="4653000"/>
            <a:ext cx="84981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抑制剂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-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2.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α2-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纤溶酶：抑制纤溶酶活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989000"/>
            <a:ext cx="8136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血型（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blood grou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）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膜上特异抗原的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凝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细胞凝集成簇的现象，其本质是抗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抗体反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75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75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7" dur="75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2" dur="75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695520" y="105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. ABO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755640" y="1844640"/>
            <a:ext cx="74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1. ABO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血型抗原与分型依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依据：红细胞膜上所含凝集原的种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Text Box 73"/>
          <p:cNvSpPr/>
          <p:nvPr/>
        </p:nvSpPr>
        <p:spPr>
          <a:xfrm>
            <a:off x="755640" y="3645000"/>
            <a:ext cx="788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根据红细胞膜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是否存在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与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将血液分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种血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75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75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05040" y="7646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系统分型与遗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型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红细胞         血清              基因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凝集原） （凝集素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228600" y="304812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58640" y="312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30040" y="18860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1128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06000" y="4648320"/>
            <a:ext cx="10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B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459000" y="541008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08000" y="31240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27446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692040" y="3124080"/>
            <a:ext cx="18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2667960" y="38862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4607640" y="3809880"/>
            <a:ext cx="8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6693120" y="380988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B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2502000" y="46483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2751480" y="541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6783120" y="4572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465660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4750920" y="5410080"/>
            <a:ext cx="14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6858720" y="54100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2868840" y="907920"/>
            <a:ext cx="30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. 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鉴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62" name="Picture 2" descr="C:\Users\xiaoqb\Desktop\第三章血液-姚阳\图片\血型检测.jpg"/>
          <p:cNvPicPr/>
          <p:nvPr/>
        </p:nvPicPr>
        <p:blipFill>
          <a:blip r:embed="rId1"/>
          <a:stretch/>
        </p:blipFill>
        <p:spPr>
          <a:xfrm>
            <a:off x="468360" y="1628640"/>
            <a:ext cx="7380360" cy="4754520"/>
          </a:xfrm>
          <a:prstGeom prst="rect">
            <a:avLst/>
          </a:prstGeom>
          <a:ln w="0">
            <a:noFill/>
          </a:ln>
        </p:spPr>
      </p:pic>
      <p:sp>
        <p:nvSpPr>
          <p:cNvPr id="76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896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输血原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049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      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35268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B     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75248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      O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167652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B     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9" name="Line 7"/>
          <p:cNvSpPr/>
          <p:nvPr/>
        </p:nvSpPr>
        <p:spPr>
          <a:xfrm>
            <a:off x="2362320" y="5715000"/>
            <a:ext cx="53316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762120" y="426708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809880" y="4267080"/>
            <a:ext cx="53352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2286000" y="281952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11"/>
          <p:cNvSpPr/>
          <p:nvPr/>
        </p:nvSpPr>
        <p:spPr>
          <a:xfrm flipH="1">
            <a:off x="990720" y="297180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352680" y="297180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2666880" y="2895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6" name="Line 14"/>
          <p:cNvSpPr/>
          <p:nvPr/>
        </p:nvSpPr>
        <p:spPr>
          <a:xfrm>
            <a:off x="990720" y="4343400"/>
            <a:ext cx="7617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3504960" y="4419720"/>
            <a:ext cx="685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5105520" y="2819520"/>
            <a:ext cx="419076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同型输血 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异型输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少量、慢且观察反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2669400" y="2133720"/>
            <a:ext cx="51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供血者的红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不被受血者的血清所凝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3143160" y="9079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输血与交叉配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交叉配血试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5334120" y="1523880"/>
            <a:ext cx="370188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①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两侧都不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不凝次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基本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凝：配血不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84" name="Picture 2" descr="C:\Users\xiaoqb\Desktop\第三章血液-姚阳\图片\交叉配血试验.jpg"/>
          <p:cNvPicPr/>
          <p:nvPr/>
        </p:nvPicPr>
        <p:blipFill>
          <a:blip r:embed="rId1"/>
          <a:stretch/>
        </p:blipFill>
        <p:spPr>
          <a:xfrm>
            <a:off x="527040" y="1917720"/>
            <a:ext cx="4807080" cy="3405240"/>
          </a:xfrm>
          <a:prstGeom prst="rect">
            <a:avLst/>
          </a:prstGeom>
          <a:ln w="0">
            <a:noFill/>
          </a:ln>
        </p:spPr>
      </p:pic>
      <p:sp>
        <p:nvSpPr>
          <p:cNvPr id="7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3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3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3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3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3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84000" y="1989000"/>
            <a:ext cx="830556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1.Rh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：以</a:t>
            </a: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活性最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分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971640" y="3573360"/>
            <a:ext cx="7345440" cy="16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膜上有无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抗原</a:t>
            </a:r>
            <a:r>
              <a:rPr b="0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① 有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阳性            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                  ② 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无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1006200" y="1126800"/>
            <a:ext cx="25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二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Rh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系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3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3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3.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细黑"/>
              </a:rPr>
              <a:t>临床意义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—</a:t>
            </a:r>
            <a:r>
              <a:rPr b="0" lang="en-US" sz="4000" spc="-1" strike="noStrike">
                <a:solidFill>
                  <a:srgbClr val="000058"/>
                </a:solidFill>
                <a:latin typeface="Arial"/>
                <a:ea typeface="华文细黑"/>
              </a:rPr>
              <a:t>Rh</a:t>
            </a:r>
            <a:r>
              <a:rPr b="0" lang="zh-CN" sz="4000" spc="-1" strike="noStrike">
                <a:solidFill>
                  <a:srgbClr val="000058"/>
                </a:solidFill>
                <a:latin typeface="Arial"/>
                <a:ea typeface="华文细黑"/>
              </a:rPr>
              <a:t>阴性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两次接受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2. 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孕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胎儿第二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75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3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3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3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3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00000" y="1628640"/>
            <a:ext cx="3656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比容：血细胞在血液中所占的容积百分比称为血细胞比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matocr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正常成年男性血细胞比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女性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7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8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新生儿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"/>
          <p:cNvPicPr/>
          <p:nvPr/>
        </p:nvPicPr>
        <p:blipFill>
          <a:blip r:embed="rId1"/>
          <a:stretch/>
        </p:blipFill>
        <p:spPr>
          <a:xfrm>
            <a:off x="5219640" y="1628640"/>
            <a:ext cx="280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58920" y="334152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195640" y="569592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24000" y="171936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㈠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颜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619280" y="32702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红细胞数量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619280" y="3773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3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浆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1619280" y="427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R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红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763560" y="499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㈢黏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2484360" y="5479920"/>
            <a:ext cx="4218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全血：４～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4 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363600" y="256860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㈡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比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75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75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75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75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75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1105920" y="227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㈣血浆渗透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105920" y="32194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㈤血浆酸碱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1258920" y="443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3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45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427640" y="4464000"/>
            <a:ext cx="4211640" cy="100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缓冲对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: 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NaH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/H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 (20:1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  <a:ea typeface="宋体"/>
              </a:rPr>
              <a:t>），最重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的成分及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419840" y="2768760"/>
            <a:ext cx="16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血浆蛋白 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484200" y="3645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85g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白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8g/L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球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0g/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纤维蛋白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1458360" y="206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晶体物质溶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140360" y="357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功能：形成血浆胶体渗透压；运输激素、脂质、离子、维生素代谢产物等；参与血液凝固、抗凝和纤溶等生理过程；抵御病原微生物的入侵；营养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4360" y="1052640"/>
            <a:ext cx="4392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渗透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1280" y="18050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（一）渗透压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渗透压：溶液中的溶质颗粒通过半透膜对水的吸引力。  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684360" y="3716280"/>
            <a:ext cx="74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渗透：水分透过半透膜，由低浓度一侧向高浓度一侧溶液转移的现象。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68360" y="480384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决定渗透压的因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11280" y="5373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与溶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颗粒数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成正变，与溶质种类和颗粒大小无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3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75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59:17Z</dcterms:modified>
  <cp:revision>6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