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8E00-EC77-4B47-8590-4D4485A997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0874-CBBA-49D4-B79A-504EDBE8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76A9-3B42-4395-8AF7-DBF3A691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977A-5226-421B-B7A2-2718C2F77E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762A-33C6-473E-B268-17924B29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87B5-FFF0-4F61-ABE0-C2349CF3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27F7-DC22-4511-AB54-B9903FD6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0F45-6A84-45ED-92BF-D638C13B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1B73-90FC-4B9F-BA91-1A151820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BE0D-2AA4-41A5-B1A5-27A5D544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8B12-DCFC-4FD6-94B5-D9076AA6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7FB2-A600-423C-8C43-E335F31F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7F1B-C2AA-42EB-A546-00584CEE17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言语治疗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30072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王海丽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手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言语障碍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针对性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言语治疗的原则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评定设定训练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订科学的训练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及时强化与反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言语康复的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者对言语障碍的认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医患关系直接影响言语的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心理状况和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8600" y="1413000"/>
            <a:ext cx="8610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统方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听理解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语表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阅读理解及朗读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书写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8360" y="1371600"/>
            <a:ext cx="80866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用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性交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5640" y="137124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构音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舌唇运动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音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言语速度和辨音的训练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吞咽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治疗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把食物引入口，加强吞咽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取食物的顺序一般是软食、半固体、固体、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吞咽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4-27T07:24:31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