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82C8AF-91D5-4B1A-A56A-98E40C2827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3D486B-B80E-4A34-9734-9E1FAC701F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B038772-2D30-4EC1-94A6-120BD0087D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B5940DA-3F90-4EA6-BA41-6BC6789379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990E8AC-851F-45BF-90FD-8A23FB20DF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6E27505-29BF-4E1E-AFF2-4786E26149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DA9EC4D-95DF-4523-B644-53DB41340C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1FAF972-83E2-4E2E-8205-E563F24B22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226CC63-5975-45AD-9C1F-39CDCB9989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033FF5-3B1D-4CDF-AE6B-8EBD359CA6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89914C-53F4-4140-8D6A-6FB7A8AD19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DBCD92-D718-433E-9BCE-B88154288C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07E03-E441-4445-9F23-30C8EB2B4AC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79930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3600"/>
            </a:br>
            <a:br>
              <a:rPr sz="3600"/>
            </a:br>
            <a:r>
              <a:rPr b="1" lang="zh-CN" sz="3200" spc="-1" strike="noStrike">
                <a:solidFill>
                  <a:srgbClr val="ffffff"/>
                </a:solidFill>
                <a:latin typeface="Verdana"/>
                <a:ea typeface="宋体"/>
              </a:rPr>
              <a:t>第二十节   慢性疼痛的康复</a:t>
            </a:r>
            <a:endParaRPr b="0" lang="en-US" sz="3200" spc="-1" strike="noStrike">
              <a:solidFill>
                <a:srgbClr val="ffffff"/>
              </a:solidFill>
              <a:latin typeface="Verdana"/>
            </a:endParaRPr>
          </a:p>
        </p:txBody>
      </p:sp>
      <p:sp>
        <p:nvSpPr>
          <p:cNvPr id="105" name="Text Box 5"/>
          <p:cNvSpPr/>
          <p:nvPr/>
        </p:nvSpPr>
        <p:spPr>
          <a:xfrm>
            <a:off x="6227640" y="5300640"/>
            <a:ext cx="19083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2800" spc="-1" strike="noStrike">
                <a:solidFill>
                  <a:srgbClr val="1d1496"/>
                </a:solidFill>
                <a:latin typeface="Arial"/>
                <a:ea typeface="宋体"/>
              </a:rPr>
              <a:t>勾丽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教育</a:t>
            </a:r>
            <a:endParaRPr b="0" lang="en-US" sz="3200" spc="-1" strike="noStrike">
              <a:solidFill>
                <a:srgbClr val="ffffff"/>
              </a:solidFill>
              <a:latin typeface="Verdana"/>
            </a:endParaRPr>
          </a:p>
        </p:txBody>
      </p:sp>
      <p:sp>
        <p:nvSpPr>
          <p:cNvPr id="129" name=""/>
          <p:cNvSpPr txBox="1"/>
          <p:nvPr/>
        </p:nvSpPr>
        <p:spPr>
          <a:xfrm>
            <a:off x="304920" y="1371240"/>
            <a:ext cx="8610480" cy="33433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向患者讲解疾病的有关知识，使其正确认识自身疾病性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当运动，避免不良姿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药，避免滥用及成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07" name=""/>
          <p:cNvSpPr txBox="1"/>
          <p:nvPr/>
        </p:nvSpPr>
        <p:spPr>
          <a:xfrm>
            <a:off x="304920" y="1371240"/>
            <a:ext cx="8610480" cy="33433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疼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康复治疗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9" name=""/>
          <p:cNvSpPr txBox="1"/>
          <p:nvPr/>
        </p:nvSpPr>
        <p:spPr>
          <a:xfrm>
            <a:off x="285840" y="1213920"/>
            <a:ext cx="8610480" cy="5272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定义：</a:t>
            </a:r>
            <a:r>
              <a:rPr b="1" lang="zh-CN" sz="2400" spc="-1" strike="noStrike">
                <a:solidFill>
                  <a:srgbClr val="00b0f0"/>
                </a:solidFill>
                <a:latin typeface="Verdana"/>
                <a:ea typeface="宋体"/>
              </a:rPr>
              <a:t>疼痛</a:t>
            </a:r>
            <a:r>
              <a:rPr b="1" lang="zh-CN" sz="2400" spc="-1" strike="noStrike">
                <a:solidFill>
                  <a:srgbClr val="00b0f0"/>
                </a:solidFill>
                <a:latin typeface="宋体"/>
                <a:ea typeface="宋体"/>
              </a:rPr>
              <a:t>是与现存或潜在的组织损伤有关或可用损伤来描述的一种不愉快的感觉和情绪体验。</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疼痛目前是医学的难题</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疼痛的发生是双刃剑，既以症状的形式出现，警告机体及时采取行为来避免伤害、寻找病因、减轻病痛；又可形成慢性疼痛综合征，给患者带来比疾病本身更严重的痛苦。</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随着社会经济的发展，人们对健康要求的提高，慢性疼痛日益引起人们的注意，消除疼痛成为医学上一个亟待解决的问题。也成为康复医学的主要病种之一。</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11" name=""/>
          <p:cNvSpPr txBox="1"/>
          <p:nvPr/>
        </p:nvSpPr>
        <p:spPr>
          <a:xfrm>
            <a:off x="304920" y="1143000"/>
            <a:ext cx="8610480" cy="51055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急性疼痛和慢性疼痛的区别</a:t>
            </a:r>
            <a:endParaRPr b="1" lang="en-US" sz="2800" spc="-1" strike="noStrike">
              <a:solidFill>
                <a:srgbClr val="8ac8de"/>
              </a:solidFill>
              <a:latin typeface="Verdana"/>
            </a:endParaRPr>
          </a:p>
        </p:txBody>
      </p:sp>
      <p:graphicFrame>
        <p:nvGraphicFramePr>
          <p:cNvPr id="112" name=""/>
          <p:cNvGraphicFramePr/>
          <p:nvPr/>
        </p:nvGraphicFramePr>
        <p:xfrm>
          <a:off x="357120" y="1785960"/>
          <a:ext cx="8218440" cy="4375080"/>
        </p:xfrm>
        <a:graphic>
          <a:graphicData uri="http://schemas.openxmlformats.org/drawingml/2006/table">
            <a:tbl>
              <a:tblPr/>
              <a:tblGrid>
                <a:gridCol w="1656000"/>
                <a:gridCol w="2879640"/>
                <a:gridCol w="3682800"/>
              </a:tblGrid>
              <a:tr h="506520">
                <a:tc gridSpan="3">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宋体"/>
                          <a:ea typeface="宋体"/>
                        </a:rPr>
                        <a:t>急性疼痛                   慢性疼痛</a:t>
                      </a:r>
                      <a:endParaRPr b="0" lang="en-US" sz="2400" spc="-1" strike="noStrike">
                        <a:solidFill>
                          <a:srgbClr val="046ca6"/>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09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治时间短</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长期存在，反复发作</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性质</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一个生物学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一种疾病，为主要不适</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79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情绪反应</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疼痛伴随焦虑</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疼痛伴随抑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22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使用</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需要的药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好采用非麻醉性止痛药及抗抑郁药</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成瘾</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少见</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重成瘾</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9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单纯</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杂</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治愈</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易于达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很难达到</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疼痛病史的采集</a:t>
            </a:r>
            <a:endParaRPr b="1" lang="en-US" sz="28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疼痛的发展过程</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严重程度和定位</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病前患者的功能状态</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对诊断与治疗的反应</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无医源性问题</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无药物滥用和成瘾</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社会关系</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加重和减轻疼痛的诱因</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过去和现在所用的药物和反应</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临床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ea typeface="宋体"/>
              </a:rPr>
              <a:t>目的：</a:t>
            </a:r>
            <a:r>
              <a:rPr b="1" lang="zh-CN" sz="2800" spc="-1" strike="noStrike">
                <a:solidFill>
                  <a:srgbClr val="8ac8de"/>
                </a:solidFill>
                <a:latin typeface="宋体"/>
                <a:ea typeface="宋体"/>
              </a:rPr>
              <a:t>除外症状性疼痛，确定其慢性疼痛的特征；搞清发生原因；注意继发性功能障碍的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ea typeface="宋体"/>
              </a:rPr>
              <a:t>内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神经系统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1</a:t>
            </a:r>
            <a:r>
              <a:rPr b="1" lang="zh-CN" sz="2800" spc="-1" strike="noStrike">
                <a:solidFill>
                  <a:srgbClr val="8ac8de"/>
                </a:solidFill>
                <a:latin typeface="宋体"/>
                <a:ea typeface="宋体"/>
              </a:rPr>
              <a:t>）感觉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神经功能的实验室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肌肉骨骼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3.</a:t>
            </a:r>
            <a:r>
              <a:rPr b="1" lang="zh-CN" sz="2800" spc="-1" strike="noStrike">
                <a:solidFill>
                  <a:srgbClr val="8ac8de"/>
                </a:solidFill>
                <a:latin typeface="宋体"/>
                <a:ea typeface="宋体"/>
              </a:rPr>
              <a:t>全身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影像学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04920" y="1371240"/>
            <a:ext cx="8610480" cy="4700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痛觉评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压力测痛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视觉模拟评分法（</a:t>
            </a:r>
            <a:r>
              <a:rPr b="1" lang="en-US" sz="2800" spc="-1" strike="noStrike">
                <a:solidFill>
                  <a:srgbClr val="8ac8de"/>
                </a:solidFill>
                <a:latin typeface="宋体"/>
                <a:ea typeface="宋体"/>
              </a:rPr>
              <a:t>VAS)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McGill</a:t>
            </a:r>
            <a:r>
              <a:rPr b="1" lang="zh-CN" sz="2800" spc="-1" strike="noStrike">
                <a:solidFill>
                  <a:srgbClr val="8ac8de"/>
                </a:solidFill>
                <a:latin typeface="宋体"/>
                <a:ea typeface="宋体"/>
              </a:rPr>
              <a:t>疼痛问卷法（</a:t>
            </a:r>
            <a:r>
              <a:rPr b="1" lang="en-US" sz="2800" spc="-1" strike="noStrike">
                <a:solidFill>
                  <a:srgbClr val="8ac8de"/>
                </a:solidFill>
                <a:latin typeface="宋体"/>
                <a:ea typeface="宋体"/>
              </a:rPr>
              <a:t>MPQ)</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心理学检查</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证实患者是否有焦虑与抑郁状态，鉴别疼痛是心理性的还是病理性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pic>
        <p:nvPicPr>
          <p:cNvPr id="121" name="Picture 2" descr="http://hiphotos.baidu.com/infusion520/pic/item/60a406272229da535243c187.jpg"/>
          <p:cNvPicPr/>
          <p:nvPr/>
        </p:nvPicPr>
        <p:blipFill>
          <a:blip r:embed="rId1"/>
          <a:stretch/>
        </p:blipFill>
        <p:spPr>
          <a:xfrm>
            <a:off x="5072040" y="2071800"/>
            <a:ext cx="3638520" cy="1609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疼痛康复治疗措施</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药物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片类药物</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非阿片类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物理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电刺激镇痛疗法</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热疗和冷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传统疗法</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针刺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按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疼痛康复治疗措施</a:t>
            </a:r>
            <a:endParaRPr b="0" lang="en-US" sz="3200" spc="-1" strike="noStrike">
              <a:solidFill>
                <a:srgbClr val="ffffff"/>
              </a:solidFill>
              <a:latin typeface="Verdana"/>
            </a:endParaRPr>
          </a:p>
        </p:txBody>
      </p:sp>
      <p:sp>
        <p:nvSpPr>
          <p:cNvPr id="126" name=""/>
          <p:cNvSpPr txBox="1"/>
          <p:nvPr/>
        </p:nvSpPr>
        <p:spPr>
          <a:xfrm>
            <a:off x="285840" y="1285920"/>
            <a:ext cx="8610480" cy="5286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注射疗法</a:t>
            </a:r>
            <a:endParaRPr b="1" lang="en-US" sz="28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神经阻滞疗法</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扳机点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经皮用药</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腱鞘内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关节腔内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外科技术</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运动疗法和手法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身体支持和支具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6T07:47:39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