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D12D99-5BA3-404F-B348-4F0EEF9BA1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ABB37E-6EDA-497E-951D-C1ABBD59E5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DF9BAEA-F68D-4CEB-B385-D6D1DE4F86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A51F31F-D39E-4443-AC73-15AF0A19C7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F397C0-2E16-43CE-B4B1-EEE35F5E13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37FBB55-C5B5-43F5-A157-63688DDEC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401C7F-0BF2-454B-A102-3F2C3DA233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C66CD76-1E58-473B-85D8-105063DA10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80647B1-F6A3-4EF8-83E5-03A8F52555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2C6EB0-D459-458C-A9CB-6FAFF23A3C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893A19-32B2-426D-8D47-8558AFD631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DD7293-5D72-44FB-9B35-BE9AD44197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AC5B-BEBE-41C0-829C-3F5335DCF92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Verdana"/>
                <a:ea typeface="宋体"/>
              </a:rPr>
              <a:t>第七节    关节炎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6" name="Text Box 5"/>
          <p:cNvSpPr/>
          <p:nvPr/>
        </p:nvSpPr>
        <p:spPr>
          <a:xfrm>
            <a:off x="6516720" y="5589720"/>
            <a:ext cx="194292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缓解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除炎症和肿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肌力及关节功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及纠正畸形</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提高生活质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去除患者的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治疗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休息与制动：疾病活动期时，较轻患者限制活动量，重症患者应严格卧床休息。可用支具进行短时间间断地局部功能位固定。</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疗法：急性期做无痛性的主动运动和肌力练习，关节被动活动和关节周围软组织按摩。慢性期，关节挛缩、僵硬、活动受限明显，活动以主动运动为主，每个关节要达到最大范围，活动量以不引起肿胀为度。</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①冷疗：急性活动期采用冷疗法，可缓解疼痛，减少渗出。如冰袋外敷、冰按摩、冰水浸浴、冷却剂喷雾等作用于关节局部，每次治疗时间</a:t>
            </a:r>
            <a:r>
              <a:rPr b="1" lang="en-US" sz="2800" spc="-1" strike="noStrike">
                <a:solidFill>
                  <a:srgbClr val="8ac8de"/>
                </a:solidFill>
                <a:latin typeface="Verdana"/>
                <a:ea typeface="宋体"/>
              </a:rPr>
              <a:t>10min</a:t>
            </a:r>
            <a:r>
              <a:rPr b="1" lang="zh-CN" sz="2800" spc="-1" strike="noStrike">
                <a:solidFill>
                  <a:srgbClr val="8ac8de"/>
                </a:solidFill>
                <a:latin typeface="Verdana"/>
                <a:ea typeface="宋体"/>
              </a:rPr>
              <a:t>左右。②热疗：在慢性稳定期，可采用温热疗法如温泉疗法、蒸汽浴、泥疗、蜡疗、红外线、高频电疗法等，以镇痛、消除肌痉挛，增加软组织伸展性及增加毛细血管通透性。③电疗：如</a:t>
            </a:r>
            <a:r>
              <a:rPr b="1" lang="en-US" sz="2800" spc="-1" strike="noStrike">
                <a:solidFill>
                  <a:srgbClr val="8ac8de"/>
                </a:solidFill>
                <a:latin typeface="Verdana"/>
                <a:ea typeface="宋体"/>
              </a:rPr>
              <a:t>TENS</a:t>
            </a:r>
            <a:r>
              <a:rPr b="1" lang="zh-CN" sz="2800" spc="-1" strike="noStrike">
                <a:solidFill>
                  <a:srgbClr val="8ac8de"/>
                </a:solidFill>
                <a:latin typeface="Verdana"/>
                <a:ea typeface="宋体"/>
              </a:rPr>
              <a:t>、干扰电疗法及音频电疗法，具有镇痛和防止肌肉挛缩作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作业治疗及</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活动训练：可通过编织、刺绣、弹琴、踏自行车、使用缝纫机等作业活动（</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其他方法：如矫形器的使用、中医治疗等。</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2" name="PlaceHolder 2"/>
          <p:cNvSpPr>
            <a:spLocks noGrp="1"/>
          </p:cNvSpPr>
          <p:nvPr>
            <p:ph/>
          </p:nvPr>
        </p:nvSpPr>
        <p:spPr>
          <a:xfrm>
            <a:off x="304560" y="1413000"/>
            <a:ext cx="86598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3" name="Picture 4" descr="DSCN4347"/>
          <p:cNvPicPr/>
          <p:nvPr/>
        </p:nvPicPr>
        <p:blipFill>
          <a:blip r:embed="rId1"/>
          <a:stretch/>
        </p:blipFill>
        <p:spPr>
          <a:xfrm>
            <a:off x="250920" y="1773360"/>
            <a:ext cx="3889440" cy="3327120"/>
          </a:xfrm>
          <a:prstGeom prst="rect">
            <a:avLst/>
          </a:prstGeom>
          <a:ln w="0">
            <a:noFill/>
          </a:ln>
        </p:spPr>
      </p:pic>
      <p:pic>
        <p:nvPicPr>
          <p:cNvPr id="134" name="Picture 5" descr="DSCN4346"/>
          <p:cNvPicPr/>
          <p:nvPr/>
        </p:nvPicPr>
        <p:blipFill>
          <a:blip r:embed="rId2"/>
          <a:stretch/>
        </p:blipFill>
        <p:spPr>
          <a:xfrm>
            <a:off x="4211640" y="1844640"/>
            <a:ext cx="4464000" cy="334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骨性关节炎 （</a:t>
            </a:r>
            <a:r>
              <a:rPr b="1" lang="en-US" sz="2800" spc="-1" strike="noStrike">
                <a:solidFill>
                  <a:srgbClr val="8ac8de"/>
                </a:solidFill>
                <a:latin typeface="Verdana"/>
                <a:ea typeface="宋体"/>
              </a:rPr>
              <a:t>osteoarthritis</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OA</a:t>
            </a:r>
            <a:r>
              <a:rPr b="1" lang="zh-CN" sz="2800" spc="-1" strike="noStrike">
                <a:solidFill>
                  <a:srgbClr val="8ac8de"/>
                </a:solidFill>
                <a:latin typeface="Verdana"/>
                <a:ea typeface="宋体"/>
              </a:rPr>
              <a:t>）是关节软骨退行性变和继发性骨质增生而导致的一种慢性、不对称的非炎症性疾病。</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  可能与年龄、遗传、体质、代谢等因素有关，主要为关节软骨的退行性病变。继发性骨关节炎是由其他疾病引起的骨关节机械性异常而导致的关节衰变，如创伤、软骨下血供减少、受累关节的过度活动与外伤、骨骼畸形致关节面应力改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及诊断</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疾病呈慢性进行，逐渐加重。</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受累关节疼痛、僵直、活动障碍。疼痛在活动时加重，休息后可减轻。</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由于关节废用可引起相应肌肉的萎缩。</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发生于脊柱者由于骨质增生压迫神经根引起相应症状</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有压痛，有时可触及增生的骨赘。</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实验室检查多为阴性。</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可见关节间隙变窄，关节面致密硬化，骨赘形成 ，滑膜和韧带附着骨骼处的纤维软骨骨化。软骨下骨质内有边界清楚的密度减低区，增生的骨赘在两关节骨端形成骨桥，有时可见关节内的游离体，晚期骨端变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3"/>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0BC66-2BEA-4AA2-8C3B-1DF0B5CB192A}"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sp>
        <p:nvSpPr>
          <p:cNvPr id="140" name="PlaceHolder 1"/>
          <p:cNvSpPr>
            <a:spLocks noGrp="1"/>
          </p:cNvSpPr>
          <p:nvPr>
            <p:ph type="title"/>
          </p:nvPr>
        </p:nvSpPr>
        <p:spPr>
          <a:xfrm>
            <a:off x="647280" y="228240"/>
            <a:ext cx="8153640" cy="824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重度内翻膝</a:t>
            </a:r>
            <a:endParaRPr b="0" lang="en-US" sz="3200" spc="-1" strike="noStrike">
              <a:solidFill>
                <a:srgbClr val="ffffff"/>
              </a:solidFill>
              <a:latin typeface="Verdana"/>
            </a:endParaRPr>
          </a:p>
        </p:txBody>
      </p:sp>
      <p:pic>
        <p:nvPicPr>
          <p:cNvPr id="141" name="Picture 3" descr="图片"/>
          <p:cNvPicPr/>
          <p:nvPr/>
        </p:nvPicPr>
        <p:blipFill>
          <a:blip r:embed="rId1"/>
          <a:stretch/>
        </p:blipFill>
        <p:spPr>
          <a:xfrm>
            <a:off x="611280" y="134136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br>
              <a:rPr sz="2800"/>
            </a:br>
            <a:r>
              <a:rPr b="1" lang="zh-CN" sz="2800" spc="-1" strike="noStrike">
                <a:solidFill>
                  <a:srgbClr val="8ac8de"/>
                </a:solidFill>
                <a:latin typeface="Verdana"/>
                <a:ea typeface="宋体"/>
              </a:rPr>
              <a:t>与类风湿关节炎的康复问题相似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对疼痛、关节活动范围、肌力、</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能力和心理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分级评定：根据</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片的表现，分为五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0</a:t>
            </a:r>
            <a:r>
              <a:rPr b="1" lang="zh-CN" sz="2800" spc="-1" strike="noStrike">
                <a:solidFill>
                  <a:srgbClr val="8ac8de"/>
                </a:solidFill>
                <a:latin typeface="Verdana"/>
                <a:ea typeface="宋体"/>
              </a:rPr>
              <a:t>级：无改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Ⅰ</a:t>
            </a:r>
            <a:r>
              <a:rPr b="1" lang="zh-CN" sz="2800" spc="-1" strike="noStrike">
                <a:solidFill>
                  <a:srgbClr val="8ac8de"/>
                </a:solidFill>
                <a:latin typeface="Verdana"/>
                <a:ea typeface="宋体"/>
              </a:rPr>
              <a:t>级：轻微骨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Ⅱ</a:t>
            </a:r>
            <a:r>
              <a:rPr b="1" lang="zh-CN" sz="2800" spc="-1" strike="noStrike">
                <a:solidFill>
                  <a:srgbClr val="8ac8de"/>
                </a:solidFill>
                <a:latin typeface="Verdana"/>
                <a:ea typeface="宋体"/>
              </a:rPr>
              <a:t>级</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明显骨赘，但未累及关节间隙</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Ⅲ</a:t>
            </a:r>
            <a:r>
              <a:rPr b="1" lang="zh-CN" sz="2800" spc="-1" strike="noStrike">
                <a:solidFill>
                  <a:srgbClr val="8ac8de"/>
                </a:solidFill>
                <a:latin typeface="Verdana"/>
                <a:ea typeface="宋体"/>
              </a:rPr>
              <a:t>级：关节间隙中度变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Ⅳ</a:t>
            </a:r>
            <a:r>
              <a:rPr b="1" lang="zh-CN" sz="2800" spc="-1" strike="noStrike">
                <a:solidFill>
                  <a:srgbClr val="8ac8de"/>
                </a:solidFill>
                <a:latin typeface="Verdana"/>
                <a:ea typeface="宋体"/>
              </a:rPr>
              <a:t>级：关节间隙明显变窄，软骨下骨硬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疼痛严重的非甾体抗炎药如吲哚美辛、布洛芬、消炎止痛，中药抗骨质增生丸、壮骨关节丸药物浴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症状明显时要注意休息，症状缓解后可进行适当的关节运动，保持肌力和关节稳定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可选用音频电疗、磁疗、短波、超短波、红外线、蜡疗、热水浴、矿泉浴、等，以促进血液循环、减轻肌肉痉挛、缓解疼痛。</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运动疗法：①关节运动  保持或恢复关节最大活动范围。②肌力练习：应加强股四头肌、腘绳肌肌力训练、腹肌、小腿肌力练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及辅助器具矫形器：如腋杖、手杖、护膝、护腕等辅助行走，减轻关节负重，防止关节损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类风湿性关节炎 （</a:t>
            </a:r>
            <a:r>
              <a:rPr b="1" lang="en-US" sz="2400" spc="-1" strike="noStrike">
                <a:solidFill>
                  <a:srgbClr val="8ac8de"/>
                </a:solidFill>
                <a:latin typeface="Verdana"/>
                <a:ea typeface="宋体"/>
              </a:rPr>
              <a:t>rheumatoid arthr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RA</a:t>
            </a:r>
            <a:r>
              <a:rPr b="1" lang="zh-CN" sz="2400" spc="-1" strike="noStrike">
                <a:solidFill>
                  <a:srgbClr val="8ac8de"/>
                </a:solidFill>
                <a:latin typeface="Verdana"/>
                <a:ea typeface="宋体"/>
              </a:rPr>
              <a:t>）是一种慢性全身自身免疫性疾病，其特征是多发性、对称性关节损害，呈慢性病变过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类风湿性关节炎的病因尚未明确，一般认为与感染、过敏、内分泌失调、自身免疫反应及家族遗传等因素有关。其基本病理改变为关节滑膜的慢性炎症，急性期滑膜表现为炎细胞浸润和渗出；慢性期滑膜变肥厚，形成绒毛样突起，突向关节腔内或侵入到软骨和软骨下的骨质，造成关节破坏、关节畸形和功能障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强直性脊柱炎 （</a:t>
            </a:r>
            <a:r>
              <a:rPr b="1" lang="en-US" sz="2400" spc="-1" strike="noStrike">
                <a:solidFill>
                  <a:srgbClr val="8ac8de"/>
                </a:solidFill>
                <a:latin typeface="Verdana"/>
                <a:ea typeface="宋体"/>
              </a:rPr>
              <a:t>ankylosing spondyl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S</a:t>
            </a:r>
            <a:r>
              <a:rPr b="1" lang="zh-CN" sz="2400" spc="-1" strike="noStrike">
                <a:solidFill>
                  <a:srgbClr val="8ac8de"/>
                </a:solidFill>
                <a:latin typeface="Verdana"/>
                <a:ea typeface="宋体"/>
              </a:rPr>
              <a:t>）是以中轴关节（包括骶髂关节、肋椎关节）慢性进展性炎症为主的自身免疫性疾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与遗传有关。</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病理变化附着在骨端的韧带、肌腱、关节囊的慢性炎症，由于炎症反复发作，相应部位骨和软骨局部有破坏和新骨形成。常先侵犯骶髂关节，继而累及脊柱。非特异性滑膜炎，有淋巴细胞和浆细胞浸润，滑膜增生，纤维蛋白渗出，关节软骨破坏，增生的纤维组织骨化导致骨性关节强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临床表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早期两侧骶髂关节疼痛和僵硬。</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胸腰椎疼痛和活动受限，胸廓活动度受限。</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脊柱后凸畸形。</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关节外表现：如复发性虹膜炎、心脏及肺部病变等。</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实验室检查：约</a:t>
            </a:r>
            <a:r>
              <a:rPr b="1" lang="en-US" sz="2400" spc="-1" strike="noStrike">
                <a:solidFill>
                  <a:srgbClr val="8ac8de"/>
                </a:solidFill>
                <a:latin typeface="Verdana"/>
                <a:ea typeface="宋体"/>
              </a:rPr>
              <a:t>96%</a:t>
            </a:r>
            <a:r>
              <a:rPr b="1" lang="zh-CN" sz="2400" spc="-1" strike="noStrike">
                <a:solidFill>
                  <a:srgbClr val="8ac8de"/>
                </a:solidFill>
                <a:latin typeface="Verdana"/>
                <a:ea typeface="宋体"/>
              </a:rPr>
              <a:t>的患者</a:t>
            </a:r>
            <a:r>
              <a:rPr b="1" lang="en-US" sz="2400" spc="-1" strike="noStrike">
                <a:solidFill>
                  <a:srgbClr val="8ac8de"/>
                </a:solidFill>
                <a:latin typeface="Verdana"/>
                <a:ea typeface="宋体"/>
              </a:rPr>
              <a:t>HLAB27</a:t>
            </a:r>
            <a:r>
              <a:rPr b="1" lang="zh-CN" sz="2400" spc="-1" strike="noStrike">
                <a:solidFill>
                  <a:srgbClr val="8ac8de"/>
                </a:solidFill>
                <a:latin typeface="Verdana"/>
                <a:ea typeface="宋体"/>
              </a:rPr>
              <a:t>抗原含量增高，活动期血沉加快，可合并贫血。</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早期双侧骶髂关节的中下段关节面模糊，继而出现多数小囊状骨质破坏区，邻近出现骨质增生硬化。晚期骨质破坏加重，关节间隙变窄，直至骨性关节强直。脊椎小关节模糊和关节骨性强直，表现为竹节样变。严重者股骨头坏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B60A0-0EE0-48FC-88F1-FD4F1FD39BD1}"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pic>
        <p:nvPicPr>
          <p:cNvPr id="153" name="Picture 2" descr="DSCN4441"/>
          <p:cNvPicPr/>
          <p:nvPr/>
        </p:nvPicPr>
        <p:blipFill>
          <a:blip r:embed="rId1"/>
          <a:stretch/>
        </p:blipFill>
        <p:spPr>
          <a:xfrm>
            <a:off x="252360" y="2347920"/>
            <a:ext cx="4259160" cy="3745080"/>
          </a:xfrm>
          <a:prstGeom prst="rect">
            <a:avLst/>
          </a:prstGeom>
          <a:ln w="0">
            <a:noFill/>
          </a:ln>
        </p:spPr>
      </p:pic>
      <p:sp>
        <p:nvSpPr>
          <p:cNvPr id="154" name="PlaceHolder 1"/>
          <p:cNvSpPr>
            <a:spLocks noGrp="1"/>
          </p:cNvSpPr>
          <p:nvPr>
            <p:ph type="title"/>
          </p:nvPr>
        </p:nvSpPr>
        <p:spPr>
          <a:xfrm>
            <a:off x="324000" y="228600"/>
            <a:ext cx="871200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强直性脊柱炎病人，</a:t>
            </a:r>
            <a:r>
              <a:rPr b="0" lang="zh-CN" sz="2800" spc="-1" strike="noStrike">
                <a:solidFill>
                  <a:srgbClr val="ffffff"/>
                </a:solidFill>
                <a:latin typeface="Verdana"/>
                <a:ea typeface="宋体"/>
              </a:rPr>
              <a:t>27</a:t>
            </a:r>
            <a:r>
              <a:rPr b="0" lang="zh-CN" sz="2800" spc="-1" strike="noStrike">
                <a:solidFill>
                  <a:srgbClr val="ffffff"/>
                </a:solidFill>
                <a:latin typeface="Verdana"/>
                <a:ea typeface="宋体"/>
              </a:rPr>
              <a:t>岁，双髋双膝均活动受限</a:t>
            </a:r>
            <a:endParaRPr b="0" lang="en-US" sz="2800" spc="-1" strike="noStrike">
              <a:solidFill>
                <a:srgbClr val="ffffff"/>
              </a:solidFill>
              <a:latin typeface="Verdana"/>
            </a:endParaRPr>
          </a:p>
        </p:txBody>
      </p:sp>
      <p:pic>
        <p:nvPicPr>
          <p:cNvPr id="155" name="Picture 4" descr="DSCN4447"/>
          <p:cNvPicPr/>
          <p:nvPr/>
        </p:nvPicPr>
        <p:blipFill>
          <a:blip r:embed="rId2"/>
          <a:stretch/>
        </p:blipFill>
        <p:spPr>
          <a:xfrm>
            <a:off x="4716360" y="2347920"/>
            <a:ext cx="4326120" cy="374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参见类风湿性关节炎。</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59" name="PlaceHolder 2"/>
          <p:cNvSpPr>
            <a:spLocks noGrp="1"/>
          </p:cNvSpPr>
          <p:nvPr>
            <p:ph/>
          </p:nvPr>
        </p:nvSpPr>
        <p:spPr>
          <a:xfrm>
            <a:off x="304920" y="1125000"/>
            <a:ext cx="8610480" cy="512316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脊柱前屈功能评定  病人直立，膝关节伸直，尽力弯腰以中指触地，测量指尖与地面距离，正常为</a:t>
            </a:r>
            <a:r>
              <a:rPr b="1" lang="en-US" sz="2000" spc="-1" strike="noStrike">
                <a:solidFill>
                  <a:srgbClr val="8ac8de"/>
                </a:solidFill>
                <a:latin typeface="Verdana"/>
                <a:ea typeface="宋体"/>
              </a:rPr>
              <a:t>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下蹲功能评定  主要测评髋、膝、踝关节功能障碍程度，为全蹲、半蹲、不能蹲三等。</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胸廓呼吸动度评定 分别测量深吸气和深呼气时的胸围，其差值正常人为</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cm</a:t>
            </a:r>
            <a:r>
              <a:rPr b="1" lang="zh-CN" sz="2000" spc="-1" strike="noStrike">
                <a:solidFill>
                  <a:srgbClr val="8ac8de"/>
                </a:solidFill>
                <a:latin typeface="Verdana"/>
                <a:ea typeface="宋体"/>
              </a:rPr>
              <a:t>，若小于</a:t>
            </a:r>
            <a:r>
              <a:rPr b="1" lang="en-US" sz="2000" spc="-1" strike="noStrike">
                <a:solidFill>
                  <a:srgbClr val="8ac8de"/>
                </a:solidFill>
                <a:latin typeface="Verdana"/>
                <a:ea typeface="宋体"/>
              </a:rPr>
              <a:t>2.5cm</a:t>
            </a:r>
            <a:r>
              <a:rPr b="1" lang="zh-CN" sz="2000" spc="-1" strike="noStrike">
                <a:solidFill>
                  <a:srgbClr val="8ac8de"/>
                </a:solidFill>
                <a:latin typeface="Verdana"/>
                <a:ea typeface="宋体"/>
              </a:rPr>
              <a:t>说明胸廓呼吸动度变小，活动受限。</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DL</a:t>
            </a:r>
            <a:r>
              <a:rPr b="1" lang="zh-CN" sz="2000" spc="-1" strike="noStrike">
                <a:solidFill>
                  <a:srgbClr val="8ac8de"/>
                </a:solidFill>
                <a:latin typeface="Verdana"/>
                <a:ea typeface="宋体"/>
              </a:rPr>
              <a:t>能力评定 主要用于晚期患者，有严重脊柱、髋、膝关节功能障碍时，影响起立、坐下、弯腰、行走、穿脱衣服等动作，应针对这些项目重点评估。</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整体功能评定 参照美国风湿病协会提供的残疾分级标准，采用</a:t>
            </a:r>
            <a:r>
              <a:rPr b="1" lang="en-US" sz="2000" spc="-1" strike="noStrike">
                <a:solidFill>
                  <a:srgbClr val="8ac8de"/>
                </a:solidFill>
                <a:latin typeface="Verdana"/>
                <a:ea typeface="宋体"/>
              </a:rPr>
              <a:t>Steinbracker</a:t>
            </a:r>
            <a:r>
              <a:rPr b="1" lang="zh-CN" sz="2000" spc="-1" strike="noStrike">
                <a:solidFill>
                  <a:srgbClr val="8ac8de"/>
                </a:solidFill>
                <a:latin typeface="Verdana"/>
                <a:ea typeface="宋体"/>
              </a:rPr>
              <a:t>功能指数，将残疾分为四级：</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仅有腰骶部功能受限或晨僵，能无困难完成所有日常工作。</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脊柱活动受限甚至部分强直，但仍能进行日常活动。</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脊柱强直，只能进行极少的一般职业活动，生活尚可自理。</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脊柱驼背固定，生活基本不能自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控制炎症，缓解症状，保持腰椎最佳功能位置，避免脊柱畸形，维持正常生活和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原则 强直性脊柱炎的治疗重在早期诊断，早期康复治疗，控制中期发展，改善晚期症状，采取综合治疗为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3" name="PlaceHolder 2"/>
          <p:cNvSpPr>
            <a:spLocks noGrp="1"/>
          </p:cNvSpPr>
          <p:nvPr>
            <p:ph/>
          </p:nvPr>
        </p:nvSpPr>
        <p:spPr>
          <a:xfrm>
            <a:off x="324000" y="1628280"/>
            <a:ext cx="8610480" cy="37450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康复方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可采用非甾体类抗炎药，如萘普生、布洛芬、吲哚美辛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与制动：急性发作期应卧硬板床休息，枕头不能过高，以保持脊柱的生理弯曲。避免长时间侧卧位，特别是屈腿侧卧位，以防导致脊柱驼背畸形。</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①脊柱操训练；②腰背肌力锻炼；③呼吸体操训练；④其他方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物理疗法：可采用、小剂量牵引、温泉浴、蒸汽浴、泥疗、沙浴及盐水浴，红外线照射，超短波、微波疗法，蜡疗，超声波疗法，音频疗法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部分脊柱强直和髋关节功能障碍的病人，应训练其脱衣裤、行走、下蹲、弯腰、上厕所及上下楼梯等日常活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按摩、推拿及针灸疗法：每次</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矫形器的应用：对有进行性脊柱变形的患者，可用脊柱矫形器来维持脊柱的正常姿势和畸形矫正。</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与诊断</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起病缓慢，可有数周发热、全身肌肉酸软无力、食欲减退等症状，以后逐渐出现典型的关节症状。</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关节疼痛和晨僵：典型病人多为对称性四肢小关节受累，尤其是掌指关节和近侧指间关节，其次为膝、腕、足、踝、肘、肩、髋关节受累，关节梭形肿胀、压痛。晚期肌肉萎缩，出现各种关节畸形，严重影响功能。</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关节外表现：可累及任何滑膜关节、韧带、肌腱、骨骼、心、肺及血管。常见有类风湿结节、类风湿血管炎、肺间质性变和结节样变、胸膜炎、心包炎及胃肠道、肾、神经系统、血液系统等的改变。</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实验室检查：有轻度贫血、活动期血沉加快、</a:t>
            </a:r>
            <a:r>
              <a:rPr b="1" lang="en-US" sz="2400" spc="-1" strike="noStrike">
                <a:solidFill>
                  <a:srgbClr val="8ac8de"/>
                </a:solidFill>
                <a:latin typeface="Verdana"/>
                <a:ea typeface="宋体"/>
              </a:rPr>
              <a:t>C</a:t>
            </a:r>
            <a:r>
              <a:rPr b="1" lang="zh-CN" sz="2400" spc="-1" strike="noStrike">
                <a:solidFill>
                  <a:srgbClr val="8ac8de"/>
                </a:solidFill>
                <a:latin typeface="Verdana"/>
                <a:ea typeface="宋体"/>
              </a:rPr>
              <a:t>反应蛋白升高、类风湿因子 （</a:t>
            </a:r>
            <a:r>
              <a:rPr b="1" lang="en-US" sz="2400" spc="-1" strike="noStrike">
                <a:solidFill>
                  <a:srgbClr val="8ac8de"/>
                </a:solidFill>
                <a:latin typeface="Verdana"/>
                <a:ea typeface="宋体"/>
              </a:rPr>
              <a:t>RF</a:t>
            </a:r>
            <a:r>
              <a:rPr b="1" lang="zh-CN" sz="2400" spc="-1" strike="noStrike">
                <a:solidFill>
                  <a:srgbClr val="8ac8de"/>
                </a:solidFill>
                <a:latin typeface="Verdana"/>
                <a:ea typeface="宋体"/>
              </a:rPr>
              <a:t>）大多阳性。免疫复合物和补体、关节滑液、类风湿结节活检及关节的</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有助于诊断。</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2" name="PlaceHolder 2"/>
          <p:cNvSpPr>
            <a:spLocks noGrp="1"/>
          </p:cNvSpPr>
          <p:nvPr>
            <p:ph/>
          </p:nvPr>
        </p:nvSpPr>
        <p:spPr>
          <a:xfrm>
            <a:off x="395280" y="1773360"/>
            <a:ext cx="842472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诊断标准：依据美国风湿病协会制订的标准，确诊类风湿性关节炎最少需符合下述两个标准，如符合</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个以上的标准，则诊断为典型的类风湿性关节炎：①晨僵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②</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关节以上的肿痛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手关节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关节的对称性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③类风湿结节；④血清类风湿因子阳性；⑤典型的影像学检查结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临床治疗  治疗原则为控制炎症，缓解疼痛，保护关节功能和防止畸形。一般首选阿司匹林，若不能耐受或效果不佳，可换用其他非甾体类抗炎药，如吲哚美辛、布洛芬等消炎止痛。改善病情的药物常选用金制剂、青霉胺、雷公藤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手术治疗  延缓病情发展和矫正畸形，使关节功能恢复。早期手术可做关节滑膜切除术，后期可做关节成形术或全关节置换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7CFE-26C9-441E-A709-7D2485EDCA3F}"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pic>
        <p:nvPicPr>
          <p:cNvPr id="116" name="Picture 2" descr="DSCN0900"/>
          <p:cNvPicPr/>
          <p:nvPr/>
        </p:nvPicPr>
        <p:blipFill>
          <a:blip r:embed="rId1"/>
          <a:stretch/>
        </p:blipFill>
        <p:spPr>
          <a:xfrm>
            <a:off x="639720" y="1371600"/>
            <a:ext cx="3552840" cy="4876920"/>
          </a:xfrm>
          <a:prstGeom prst="rect">
            <a:avLst/>
          </a:prstGeom>
          <a:ln w="0">
            <a:noFill/>
          </a:ln>
        </p:spPr>
      </p:pic>
      <p:sp>
        <p:nvSpPr>
          <p:cNvPr id="117" name="PlaceHolder 1"/>
          <p:cNvSpPr>
            <a:spLocks noGrp="1"/>
          </p:cNvSpPr>
          <p:nvPr>
            <p:ph type="title"/>
          </p:nvPr>
        </p:nvSpPr>
        <p:spPr>
          <a:xfrm>
            <a:off x="647280" y="228600"/>
            <a:ext cx="815364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双膝类风湿关节炎</a:t>
            </a:r>
            <a:endParaRPr b="0" lang="en-US" sz="3200" spc="-1" strike="noStrike">
              <a:solidFill>
                <a:srgbClr val="ffffff"/>
              </a:solidFill>
              <a:latin typeface="Verdana"/>
            </a:endParaRPr>
          </a:p>
        </p:txBody>
      </p:sp>
      <p:pic>
        <p:nvPicPr>
          <p:cNvPr id="118" name="Picture 4" descr="DSCN0904"/>
          <p:cNvPicPr/>
          <p:nvPr/>
        </p:nvPicPr>
        <p:blipFill>
          <a:blip r:embed="rId2"/>
          <a:stretch/>
        </p:blipFill>
        <p:spPr>
          <a:xfrm>
            <a:off x="5025960" y="137160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日常生活活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肉萎缩和肌力减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障碍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生活质量下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障碍 由于上述多种原因可产生严重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病残 评定根据美国风湿协会提供的标准将其分为四级：</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功能完好，能无困难地进行各种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虽有单个或多个关节不适或功能受限，但仍能完成日常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功能受限，部分或不能完成正常工作或仅能完成部分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大部分或完全功能丧失，需卧床或限于依靠轮椅行动，生活自理能力丧失或仅保留极少部分。</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病期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早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轻度骨质疏松，但无软骨和骨破坏。</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中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骨质疏松，有或无轻度软骨破坏，关节活动受限，无关节畸形，邻近肌肉有萎缩，可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严重期：除骨质疏松外，</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有软骨和骨破坏，关节畸形，不全脱位，尺侧偏，过伸，无纤维性或骨性强直，广泛性肌萎缩，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晚期：具有严重期各项变化，并有关节纤维性强直或骨性强直。</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度的评定主要针对掌指、指间关节活动度的测定，选择适宜的改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能力的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其他评定包括心理和社会因素的评定、炎症活动性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5T09:05:16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