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38BF9-DAA2-42C6-86A4-432C9F493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EA32C-FD64-4DC9-AAF0-226897372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12679-40F9-411A-BF46-8079B55C8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B52AF-9D05-4E2C-A10F-7E05DA4AA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045E7-62F7-433C-B90D-C7A338424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7E7A-3244-47F2-AA7D-9CB7B0AE6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52AD2-87C2-4FFF-8181-CBE56BAE8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0195A-C574-4529-9CF0-2FD730971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4BF7A-AAB7-400E-A083-5497391A6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F5F9F-71CC-44E1-AB2A-07A41F69E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94CCD-0DBB-4542-AC12-AD8E5371C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FA81-0655-467D-A5BB-0ACADEED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E1B45-C378-471A-8832-F87CDAE47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4D0A7-EA81-4AD5-A52C-3E4B8C7A4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4C313-BC41-4B11-85A4-857F53165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BCF39-F858-48D1-919D-643569093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B4E34-05FC-42B4-B2A6-01EFCBF1A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44423-A96A-4E63-87F5-A9F82A369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71DFE-DCD2-4B45-999D-390A0916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F6E69-9EEA-4E74-BFE5-C70F1F0DC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CECD-38D9-4B62-BC54-A11CEABBA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1DF12-C1F7-4D7D-9FD7-7E6CF9068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75082-36C8-4BAD-B548-F8B585AC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EA10-88A5-4CE3-850B-8805F05DE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8A7E-6DB2-4E15-BD7C-CF9A554D27D1}" type="datetime3">
              <a:rPr b="0" lang="en-US" sz="1400" spc="-1" strike="noStrike">
                <a:solidFill>
                  <a:srgbClr val="000000"/>
                </a:solidFill>
                <a:latin typeface="Arial"/>
              </a:rPr>
              <a:t>July 28,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AE54-876C-436C-B295-FF37030F9FF2}"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03AC-036F-4BFF-B0FE-C75026B91E8B}" type="datetime3">
              <a:rPr b="0" lang="en-US" sz="1400" spc="-1" strike="noStrike">
                <a:solidFill>
                  <a:srgbClr val="ffffff"/>
                </a:solidFill>
                <a:latin typeface="Arial"/>
              </a:rPr>
              <a:t>July 28,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89CB-E1CB-4A37-B8FF-44099CFD4582}"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7453-7768-4226-97AC-4FA5D0F31D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361B-AE75-4BE5-84C1-2D7CC70B513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8839-BC22-450B-A1FE-471367D967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9A78-3691-4E6D-89E3-BDD3F922F29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2056-65CF-4E3F-8554-56DCE94A0D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AE633-DFF3-4A4A-A04D-E64682C9380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CA3C-B1FC-4E97-8E06-9215552F4E5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E82D-EA45-4571-89B6-4EA08374E5D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7E83-5F3C-43AA-A067-40C12403C0B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B56F-8B6F-4B75-AE38-8C6B8B4C6E2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99E2-C653-4C50-84B7-11E186D342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988F-DAF0-4C48-A613-FF7A20017C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310D-7668-45DD-85E0-0DEC71244F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48C5-A53E-4BF3-867E-516AE8F126D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16A5-AC42-4D15-AA95-F85236ED39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7399-5DC4-43FA-8A65-A93B29C20C1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AC6B-86E5-45ED-9575-39D21E76567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F4D0-C56A-40E5-83DB-C6ADCF3E46B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28D6-7433-49DF-845B-76103EA268B6}"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4892-A737-4A9A-A3F4-67193E76EC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221E-3449-4679-817F-214FC99878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D60C-7C97-4E9E-BA07-3BD07B2E0EC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DC9A5-3EC3-48C9-84ED-C1BBEB48DD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9A16-DC9F-400B-87E3-8B5A0EE3AA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D427-CD5A-4994-B272-280661ACE26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A8BA-BC0C-40DB-A229-3FF34B3FEAA8}"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CAC6-1F76-48CA-9632-A6E66C1B18A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6907-7FFF-4D8B-8B0F-A0E30EB4C3D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7D9D-6E3C-4459-9B3A-6F418CB0628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8A8D-57D5-4A15-B684-D5C15DA54C3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BB1D-40FF-4979-9459-511798DA05E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0E99-06B7-4F78-8D8E-9D2E45B4D0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D0E86-8903-4174-9777-F89BE2C87D3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04BB0-31D2-4E36-A38A-EAAFD1DD745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98A1-EB35-47A6-A70A-DABAE684194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E3CA-91F1-4310-8682-264625DF0A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CEB8-AB54-4649-98AC-E11C18EDADB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AB2C-7D4B-4E5E-81E1-99F450A7BAE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5DA1-3DCE-4ECC-AAA1-A0D52279A94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8497-0C6D-47D6-9CC7-1CBFD4302640}"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A826-14E2-4A38-A147-232E57F099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221B-340D-4FDF-9471-0415250F74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