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0180-2A7A-4CC0-B44E-A0F78F9D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8DF1-F6B5-40A3-95B7-784B256D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FCD9-4AC8-411F-8F9E-78BF0693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D9D1-E65B-4E6E-91C1-DA885DFF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F0B2-4E41-4E09-BC79-C8DE3086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1FD4-3F2B-4871-B002-CE848BF1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E224-04FF-4A1B-95A7-AFD97CB6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DB27-9E39-4BDE-9D95-398D5099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B01F-8FFC-43BC-8DCD-9A253A4A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346-655E-4F46-88EE-32A5375E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C55C-D352-4864-962D-6EC58026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009B-C412-4527-9D38-F37C397C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48BC-493C-445E-86D1-11ABDA438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1557360"/>
            <a:ext cx="4724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 九 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4320" y="2421000"/>
            <a:ext cx="889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物质代谢的联系与调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a66"/>
                </a:solidFill>
                <a:latin typeface="Arial"/>
              </a:rPr>
              <a:t>Metabolic Interrelationships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F056-C314-4FAF-8DA6-1EFF2FD28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2127240" y="2324160"/>
            <a:ext cx="6191280" cy="545760"/>
            <a:chOff x="2127240" y="2324160"/>
            <a:chExt cx="6191280" cy="545760"/>
          </a:xfrm>
        </p:grpSpPr>
        <p:sp>
          <p:nvSpPr>
            <p:cNvPr id="169" name="Rectangle 3"/>
            <p:cNvSpPr/>
            <p:nvPr/>
          </p:nvSpPr>
          <p:spPr>
            <a:xfrm>
              <a:off x="2127240" y="23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>
              <a:off x="334980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384440" y="232416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8508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093080" y="23493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8"/>
          <p:cNvSpPr/>
          <p:nvPr/>
        </p:nvSpPr>
        <p:spPr>
          <a:xfrm>
            <a:off x="971640" y="1557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蛋白质可以转变为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00000" y="2997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氨基酸可作为合成磷脂的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2462040" y="3789360"/>
            <a:ext cx="5272200" cy="2436480"/>
            <a:chOff x="2462040" y="3789360"/>
            <a:chExt cx="5272200" cy="2436480"/>
          </a:xfrm>
        </p:grpSpPr>
        <p:sp>
          <p:nvSpPr>
            <p:cNvPr id="177" name="Rectangle 11"/>
            <p:cNvSpPr/>
            <p:nvPr/>
          </p:nvSpPr>
          <p:spPr>
            <a:xfrm>
              <a:off x="248580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3733560" y="4066560"/>
              <a:ext cx="152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219640" y="37893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脂酰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916000" y="4363560"/>
              <a:ext cx="0" cy="32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2629800" y="474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3816360" y="4997160"/>
              <a:ext cx="1331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302080" y="4776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脑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2925720" y="5302800"/>
              <a:ext cx="0" cy="33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462040" y="5686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5292720" y="5705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卵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3708360" y="5959800"/>
              <a:ext cx="144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2"/>
          <p:cNvSpPr/>
          <p:nvPr/>
        </p:nvSpPr>
        <p:spPr>
          <a:xfrm>
            <a:off x="17928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三）脂类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DE2F-3662-4220-93B8-165B61D5E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208160" y="5545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但不能说，脂类可转变为氨基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044720" y="2060640"/>
            <a:ext cx="6948360" cy="3139920"/>
            <a:chOff x="1044720" y="2060640"/>
            <a:chExt cx="6948360" cy="3139920"/>
          </a:xfrm>
        </p:grpSpPr>
        <p:sp>
          <p:nvSpPr>
            <p:cNvPr id="192" name="Rectangle 4"/>
            <p:cNvSpPr/>
            <p:nvPr/>
          </p:nvSpPr>
          <p:spPr>
            <a:xfrm>
              <a:off x="1117080" y="20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20066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837880" y="207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38354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673880" y="206064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甘油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5969160" y="2698920"/>
              <a:ext cx="0" cy="609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12000" y="2724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糖酵解途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131080" y="33084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969160" y="3994200"/>
              <a:ext cx="0" cy="60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826160" y="4680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其他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α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44720" y="387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某些非必需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278600" y="3660840"/>
              <a:ext cx="838080" cy="38124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278240" y="4346640"/>
              <a:ext cx="685800" cy="53352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26920" y="1125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脂肪的甘油部分可转变为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9C3F-3F2A-4F05-B197-3BA210676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338640" y="905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404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黑体"/>
              </a:rPr>
              <a:t>（四）核酸与糖、蛋白质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39960" y="968400"/>
            <a:ext cx="18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990720" y="13161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是体内合成核酸的重要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302840" y="2205000"/>
            <a:ext cx="6594840" cy="2687400"/>
            <a:chOff x="1302840" y="2205000"/>
            <a:chExt cx="6594840" cy="2687400"/>
          </a:xfrm>
        </p:grpSpPr>
        <p:sp>
          <p:nvSpPr>
            <p:cNvPr id="212" name="Rectangle 7"/>
            <p:cNvSpPr/>
            <p:nvPr/>
          </p:nvSpPr>
          <p:spPr>
            <a:xfrm>
              <a:off x="1302840" y="273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甘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3636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天冬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620960" y="2247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氨酰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449760" y="2705040"/>
              <a:ext cx="14479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碳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243160" y="437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嘌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1801800" y="3238560"/>
              <a:ext cx="304560" cy="99036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2868480" y="2705040"/>
              <a:ext cx="7632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3554280" y="2781360"/>
              <a:ext cx="129528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3934800" y="3238560"/>
              <a:ext cx="2590920" cy="10666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6059520" y="4371840"/>
              <a:ext cx="1034280" cy="520560"/>
            </a:xfrm>
            <a:prstGeom prst="rect">
              <a:avLst/>
            </a:prstGeom>
            <a:noFill/>
            <a:ln cap="sq" w="12600">
              <a:solidFill>
                <a:srgbClr val="7cb7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嘧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3706560" y="2628720"/>
              <a:ext cx="2210040" cy="152424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611680" y="2705040"/>
              <a:ext cx="990720" cy="13716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 flipH="1">
              <a:off x="7059240" y="3238560"/>
              <a:ext cx="152280" cy="91440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0"/>
          <p:cNvSpPr/>
          <p:nvPr/>
        </p:nvSpPr>
        <p:spPr>
          <a:xfrm>
            <a:off x="1042920" y="5084640"/>
            <a:ext cx="750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核糖由磷酸戊糖途径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嘧啶的代谢终产物为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7C8F-CC0A-489B-B30A-E92552C47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438280" y="228600"/>
            <a:ext cx="23623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葡萄糖、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657600" y="83808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7164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09680" y="306864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438280" y="3886200"/>
            <a:ext cx="2743200" cy="2743200"/>
          </a:xfrm>
          <a:prstGeom prst="ellipse">
            <a:avLst/>
          </a:prstGeom>
          <a:noFill/>
          <a:ln cap="sq" w="57240">
            <a:solidFill>
              <a:srgbClr val="007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 rot="20472600">
            <a:off x="3817800" y="3575160"/>
            <a:ext cx="285840" cy="39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528" h="576">
                <a:moveTo>
                  <a:pt x="0" y="0"/>
                </a:moveTo>
                <a:cubicBezTo>
                  <a:pt x="28" y="144"/>
                  <a:pt x="56" y="288"/>
                  <a:pt x="144" y="384"/>
                </a:cubicBezTo>
                <a:cubicBezTo>
                  <a:pt x="232" y="480"/>
                  <a:pt x="464" y="544"/>
                  <a:pt x="528" y="576"/>
                </a:cubicBezTo>
              </a:path>
            </a:pathLst>
          </a:custGeom>
          <a:noFill/>
          <a:ln cap="sq" w="28440">
            <a:solidFill>
              <a:srgbClr val="007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740720" y="549360"/>
            <a:ext cx="914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4419720" y="2209680"/>
            <a:ext cx="2133360" cy="990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4495680" y="2286000"/>
            <a:ext cx="2286000" cy="1066680"/>
          </a:xfrm>
          <a:prstGeom prst="line">
            <a:avLst/>
          </a:prstGeom>
          <a:ln cap="sq" w="28440">
            <a:solidFill>
              <a:srgbClr val="0074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2"/>
          <p:cNvGrpSpPr/>
          <p:nvPr/>
        </p:nvGrpSpPr>
        <p:grpSpPr>
          <a:xfrm>
            <a:off x="4419720" y="3580920"/>
            <a:ext cx="3429000" cy="520920"/>
            <a:chOff x="4419720" y="3580920"/>
            <a:chExt cx="3429000" cy="520920"/>
          </a:xfrm>
        </p:grpSpPr>
        <p:sp>
          <p:nvSpPr>
            <p:cNvPr id="238" name="Rectangle 13"/>
            <p:cNvSpPr/>
            <p:nvPr/>
          </p:nvSpPr>
          <p:spPr>
            <a:xfrm>
              <a:off x="533412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eu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 flipV="1">
              <a:off x="4419720" y="3580920"/>
              <a:ext cx="914400" cy="3049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5"/>
          <p:cNvSpPr/>
          <p:nvPr/>
        </p:nvSpPr>
        <p:spPr>
          <a:xfrm>
            <a:off x="17524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草酰乙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85128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酮戊二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924360" y="60930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琥珀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828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胡索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9"/>
          <p:cNvGrpSpPr/>
          <p:nvPr/>
        </p:nvGrpSpPr>
        <p:grpSpPr>
          <a:xfrm>
            <a:off x="324000" y="5589720"/>
            <a:ext cx="1447200" cy="825480"/>
            <a:chOff x="324000" y="5589720"/>
            <a:chExt cx="1447200" cy="825480"/>
          </a:xfrm>
        </p:grpSpPr>
        <p:sp>
          <p:nvSpPr>
            <p:cNvPr id="245" name="Rectangle 20"/>
            <p:cNvSpPr/>
            <p:nvPr/>
          </p:nvSpPr>
          <p:spPr>
            <a:xfrm>
              <a:off x="324000" y="5589720"/>
              <a:ext cx="91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161720" y="60732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2"/>
          <p:cNvGrpSpPr/>
          <p:nvPr/>
        </p:nvGrpSpPr>
        <p:grpSpPr>
          <a:xfrm>
            <a:off x="5148000" y="5445000"/>
            <a:ext cx="2895840" cy="1252080"/>
            <a:chOff x="5148000" y="5445000"/>
            <a:chExt cx="2895840" cy="1252080"/>
          </a:xfrm>
        </p:grpSpPr>
        <p:sp>
          <p:nvSpPr>
            <p:cNvPr id="248" name="Rectangle 23"/>
            <p:cNvSpPr/>
            <p:nvPr/>
          </p:nvSpPr>
          <p:spPr>
            <a:xfrm>
              <a:off x="6215040" y="5445000"/>
              <a:ext cx="18288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Val, Il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Met, 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4"/>
            <p:cNvSpPr/>
            <p:nvPr/>
          </p:nvSpPr>
          <p:spPr>
            <a:xfrm flipH="1">
              <a:off x="5148000" y="6359400"/>
              <a:ext cx="9903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5"/>
          <p:cNvGrpSpPr/>
          <p:nvPr/>
        </p:nvGrpSpPr>
        <p:grpSpPr>
          <a:xfrm>
            <a:off x="324000" y="4437000"/>
            <a:ext cx="1523880" cy="459720"/>
            <a:chOff x="324000" y="4437000"/>
            <a:chExt cx="1523880" cy="459720"/>
          </a:xfrm>
        </p:grpSpPr>
        <p:sp>
          <p:nvSpPr>
            <p:cNvPr id="251" name="Rectangle 26"/>
            <p:cNvSpPr/>
            <p:nvPr/>
          </p:nvSpPr>
          <p:spPr>
            <a:xfrm>
              <a:off x="324000" y="4437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7"/>
            <p:cNvSpPr/>
            <p:nvPr/>
          </p:nvSpPr>
          <p:spPr>
            <a:xfrm>
              <a:off x="1238400" y="47808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8"/>
          <p:cNvGrpSpPr/>
          <p:nvPr/>
        </p:nvGrpSpPr>
        <p:grpSpPr>
          <a:xfrm>
            <a:off x="3886200" y="1219320"/>
            <a:ext cx="2133360" cy="228240"/>
            <a:chOff x="3886200" y="1219320"/>
            <a:chExt cx="2133360" cy="228240"/>
          </a:xfrm>
        </p:grpSpPr>
        <p:sp>
          <p:nvSpPr>
            <p:cNvPr id="254" name="Line 29"/>
            <p:cNvSpPr/>
            <p:nvPr/>
          </p:nvSpPr>
          <p:spPr>
            <a:xfrm flipH="1">
              <a:off x="5056200" y="1219320"/>
              <a:ext cx="96336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0"/>
            <p:cNvSpPr/>
            <p:nvPr/>
          </p:nvSpPr>
          <p:spPr>
            <a:xfrm flipH="1">
              <a:off x="3886200" y="1219320"/>
              <a:ext cx="1032480" cy="2282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4038480" y="1295280"/>
            <a:ext cx="1980720" cy="152640"/>
            <a:chOff x="4038480" y="1295280"/>
            <a:chExt cx="1980720" cy="152640"/>
          </a:xfrm>
        </p:grpSpPr>
        <p:sp>
          <p:nvSpPr>
            <p:cNvPr id="257" name="Line 32"/>
            <p:cNvSpPr/>
            <p:nvPr/>
          </p:nvSpPr>
          <p:spPr>
            <a:xfrm flipH="1">
              <a:off x="4038480" y="1447920"/>
              <a:ext cx="1022400" cy="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>
              <a:off x="5124600" y="1295280"/>
              <a:ext cx="894600" cy="15264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4"/>
          <p:cNvSpPr/>
          <p:nvPr/>
        </p:nvSpPr>
        <p:spPr>
          <a:xfrm>
            <a:off x="2362320" y="2743200"/>
            <a:ext cx="838080" cy="1752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0" h="864">
                <a:moveTo>
                  <a:pt x="960" y="0"/>
                </a:moveTo>
                <a:cubicBezTo>
                  <a:pt x="960" y="4"/>
                  <a:pt x="960" y="8"/>
                  <a:pt x="864" y="48"/>
                </a:cubicBezTo>
                <a:cubicBezTo>
                  <a:pt x="768" y="88"/>
                  <a:pt x="528" y="104"/>
                  <a:pt x="384" y="240"/>
                </a:cubicBezTo>
                <a:cubicBezTo>
                  <a:pt x="240" y="376"/>
                  <a:pt x="56" y="760"/>
                  <a:pt x="0" y="864"/>
                </a:cubicBezTo>
              </a:path>
            </a:pathLst>
          </a:custGeom>
          <a:noFill/>
          <a:ln cap="sq"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5"/>
          <p:cNvGrpSpPr/>
          <p:nvPr/>
        </p:nvGrpSpPr>
        <p:grpSpPr>
          <a:xfrm>
            <a:off x="1981080" y="838080"/>
            <a:ext cx="1524240" cy="3657600"/>
            <a:chOff x="1981080" y="838080"/>
            <a:chExt cx="1524240" cy="3657600"/>
          </a:xfrm>
        </p:grpSpPr>
        <p:sp>
          <p:nvSpPr>
            <p:cNvPr id="261" name="Freeform 36"/>
            <p:cNvSpPr/>
            <p:nvPr/>
          </p:nvSpPr>
          <p:spPr>
            <a:xfrm>
              <a:off x="1981080" y="1828800"/>
              <a:ext cx="1524240" cy="26668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960" h="864">
                  <a:moveTo>
                    <a:pt x="960" y="0"/>
                  </a:moveTo>
                  <a:cubicBezTo>
                    <a:pt x="960" y="4"/>
                    <a:pt x="960" y="8"/>
                    <a:pt x="864" y="48"/>
                  </a:cubicBezTo>
                  <a:cubicBezTo>
                    <a:pt x="768" y="88"/>
                    <a:pt x="528" y="104"/>
                    <a:pt x="384" y="240"/>
                  </a:cubicBezTo>
                  <a:cubicBezTo>
                    <a:pt x="240" y="376"/>
                    <a:pt x="56" y="760"/>
                    <a:pt x="0" y="864"/>
                  </a:cubicBezTo>
                </a:path>
              </a:pathLst>
            </a:custGeom>
            <a:noFill/>
            <a:ln cap="sq" w="2844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7"/>
            <p:cNvSpPr/>
            <p:nvPr/>
          </p:nvSpPr>
          <p:spPr>
            <a:xfrm>
              <a:off x="3505320" y="838080"/>
              <a:ext cx="0" cy="914400"/>
            </a:xfrm>
            <a:prstGeom prst="line">
              <a:avLst/>
            </a:prstGeom>
            <a:ln cap="sq" w="2844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38"/>
          <p:cNvSpPr/>
          <p:nvPr/>
        </p:nvSpPr>
        <p:spPr>
          <a:xfrm>
            <a:off x="3657600" y="1219320"/>
            <a:ext cx="0" cy="30456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3657600" y="160020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6013440" y="5013360"/>
            <a:ext cx="433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221440" y="6237360"/>
            <a:ext cx="1009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1187280" y="465300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6"/>
          <p:cNvGrpSpPr/>
          <p:nvPr/>
        </p:nvGrpSpPr>
        <p:grpSpPr>
          <a:xfrm>
            <a:off x="5940000" y="4437000"/>
            <a:ext cx="2790720" cy="1191240"/>
            <a:chOff x="5940000" y="4437000"/>
            <a:chExt cx="2790720" cy="1191240"/>
          </a:xfrm>
        </p:grpSpPr>
        <p:sp>
          <p:nvSpPr>
            <p:cNvPr id="271" name="Rectangle 47"/>
            <p:cNvSpPr/>
            <p:nvPr/>
          </p:nvSpPr>
          <p:spPr>
            <a:xfrm>
              <a:off x="6445080" y="4797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8"/>
            <p:cNvSpPr/>
            <p:nvPr/>
          </p:nvSpPr>
          <p:spPr>
            <a:xfrm flipH="1">
              <a:off x="5940000" y="5157720"/>
              <a:ext cx="45684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7740360" y="44370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0"/>
            <p:cNvSpPr/>
            <p:nvPr/>
          </p:nvSpPr>
          <p:spPr>
            <a:xfrm flipH="1">
              <a:off x="7165800" y="515772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1"/>
            <p:cNvSpPr/>
            <p:nvPr/>
          </p:nvSpPr>
          <p:spPr>
            <a:xfrm flipH="1">
              <a:off x="7165800" y="50133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4572000" y="3124080"/>
            <a:ext cx="4114800" cy="520560"/>
            <a:chOff x="4572000" y="3124080"/>
            <a:chExt cx="4114800" cy="520560"/>
          </a:xfrm>
        </p:grpSpPr>
        <p:sp>
          <p:nvSpPr>
            <p:cNvPr id="277" name="Line 53"/>
            <p:cNvSpPr/>
            <p:nvPr/>
          </p:nvSpPr>
          <p:spPr>
            <a:xfrm>
              <a:off x="4572000" y="3429000"/>
              <a:ext cx="1676520" cy="0"/>
            </a:xfrm>
            <a:prstGeom prst="line">
              <a:avLst/>
            </a:prstGeom>
            <a:ln cap="sq" w="28440">
              <a:solidFill>
                <a:srgbClr val="0074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6248520" y="3124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胆固醇、酮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539640" y="981000"/>
            <a:ext cx="2438280" cy="2288520"/>
            <a:chOff x="539640" y="981000"/>
            <a:chExt cx="2438280" cy="2288520"/>
          </a:xfrm>
        </p:grpSpPr>
        <p:sp>
          <p:nvSpPr>
            <p:cNvPr id="280" name="Rectangle 56"/>
            <p:cNvSpPr/>
            <p:nvPr/>
          </p:nvSpPr>
          <p:spPr>
            <a:xfrm>
              <a:off x="539640" y="981000"/>
              <a:ext cx="990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7"/>
            <p:cNvSpPr/>
            <p:nvPr/>
          </p:nvSpPr>
          <p:spPr>
            <a:xfrm>
              <a:off x="1454040" y="2581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6019920" y="914400"/>
            <a:ext cx="1828800" cy="1358640"/>
            <a:chOff x="6019920" y="914400"/>
            <a:chExt cx="1828800" cy="1358640"/>
          </a:xfrm>
        </p:grpSpPr>
        <p:sp>
          <p:nvSpPr>
            <p:cNvPr id="283" name="Rectangle 59"/>
            <p:cNvSpPr/>
            <p:nvPr/>
          </p:nvSpPr>
          <p:spPr>
            <a:xfrm>
              <a:off x="6019920" y="914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6553080" y="1752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1"/>
            <p:cNvSpPr/>
            <p:nvPr/>
          </p:nvSpPr>
          <p:spPr>
            <a:xfrm flipH="1">
              <a:off x="7308720" y="1052640"/>
              <a:ext cx="432000" cy="720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 flipH="1">
              <a:off x="6948000" y="1052640"/>
              <a:ext cx="792360" cy="72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3A62-1D7A-4C0A-980E-721D411B9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279160" y="4549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19920" y="325440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酵解      乳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05320" y="2819520"/>
            <a:ext cx="16002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3-P-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甘油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2743200" y="3123720"/>
            <a:ext cx="76212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 flipV="1">
            <a:off x="4187520" y="1786320"/>
            <a:ext cx="23040" cy="9547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>
            <a:off x="2437920" y="3352680"/>
            <a:ext cx="1295640" cy="1143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267080" y="3352680"/>
            <a:ext cx="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2819520" y="4876920"/>
            <a:ext cx="3200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0" y="4267080"/>
            <a:ext cx="152388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2057400" y="502920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5105520" y="3276720"/>
            <a:ext cx="8380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134080" y="282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H="1" flipV="1">
            <a:off x="2851560" y="2222640"/>
            <a:ext cx="830880" cy="539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527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66168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581400" y="3124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228600" y="892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-P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939640" y="2036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-6-P   G-1-P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5181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516720" y="230832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7728120" y="228276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1218240" y="5516640"/>
            <a:ext cx="18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3879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0C10-3091-4480-ACAC-C80F31C77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6705720" y="3124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867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581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124080"/>
            <a:ext cx="18288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219320" y="838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5720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葡萄糖      脂肪酸      酮体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酮氨基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胆固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糖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2603520" y="278604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724280" y="1371600"/>
            <a:ext cx="0" cy="1676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V="1">
            <a:off x="4343400" y="1447560"/>
            <a:ext cx="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5562720" y="1371240"/>
            <a:ext cx="1066680" cy="1676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5257440" y="1295280"/>
            <a:ext cx="1143000" cy="17528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514600" y="1371600"/>
            <a:ext cx="1447920" cy="1752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886200" y="4648320"/>
            <a:ext cx="1905120" cy="10666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三羧酸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5562720" y="563868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4724280" y="3733920"/>
            <a:ext cx="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55640" y="314172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314360" y="310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1475280" y="6165720"/>
            <a:ext cx="402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E1C6-FB22-40D4-A309-0907B1F93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88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水平的调节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活性调节（变构调节和化学修饰调节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同工酶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量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内酶的隔离分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激素水平的调节（膜受体激素、胞内受体激素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整体水平的调节（短期饥饿、长期饥饿 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代谢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8070-A1B9-4195-94AD-3AFEE5B5C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84360" y="3284640"/>
            <a:ext cx="75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98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、细胞中酶的调节是最基本的调节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水平的代谢调节主要是酶水平的调节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内酶呈隔离分布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途径的速度、方向由其中的调节酶活性决定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调节主要是通过对调节酶活性的调节而实现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5660-4F87-43F8-81B6-007D5F4A6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50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细胞内酶的隔离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71640" y="198900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代谢途径有关酶类常常组成多酶体系，分布于细胞的某一区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胞内分区"/>
          <p:cNvPicPr/>
          <p:nvPr/>
        </p:nvPicPr>
        <p:blipFill>
          <a:blip r:embed="rId1"/>
          <a:stretch/>
        </p:blipFill>
        <p:spPr>
          <a:xfrm>
            <a:off x="1042920" y="162864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BE9D-7CAF-4555-B3E1-87E015285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908000" y="549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酶体系在细胞内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762120" y="1523880"/>
          <a:ext cx="71247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1247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FD32-1F52-4BE5-8768-F78825DE2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特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类重要物质代谢的相互联系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类物质分解代谢的共同途径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糖和脂肪供能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羧酸循环的枢纽作用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酶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激素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整体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3CD0-9FD5-477A-B232-95E0F86B3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14560" y="1376280"/>
          <a:ext cx="69148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76280"/>
                    <a:ext cx="6914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325E-0879-40F2-A82E-1087CD48E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187280" y="5084640"/>
            <a:ext cx="6901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的隔离分布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避免了各种代谢途径互相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826920" y="1197000"/>
          <a:ext cx="7201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201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E4BC-9E08-4ACE-8C4D-AEEF72315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706320" y="1801800"/>
            <a:ext cx="29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快速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77960" y="4251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迟缓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116000" y="2565360"/>
            <a:ext cx="3529080" cy="1096920"/>
            <a:chOff x="1116000" y="2565360"/>
            <a:chExt cx="3529080" cy="1096920"/>
          </a:xfrm>
        </p:grpSpPr>
        <p:sp>
          <p:nvSpPr>
            <p:cNvPr id="359" name="Rectangle 5"/>
            <p:cNvSpPr/>
            <p:nvPr/>
          </p:nvSpPr>
          <p:spPr>
            <a:xfrm>
              <a:off x="1116000" y="2565360"/>
              <a:ext cx="26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秒、数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16000" y="3141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活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138320" y="4937040"/>
            <a:ext cx="3044880" cy="1130040"/>
            <a:chOff x="1138320" y="4937040"/>
            <a:chExt cx="3044880" cy="1130040"/>
          </a:xfrm>
        </p:grpSpPr>
        <p:sp>
          <p:nvSpPr>
            <p:cNvPr id="362" name="Rectangle 8"/>
            <p:cNvSpPr/>
            <p:nvPr/>
          </p:nvSpPr>
          <p:spPr>
            <a:xfrm>
              <a:off x="1138320" y="49370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小时、几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138320" y="5546520"/>
              <a:ext cx="30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含量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4140360" y="2492280"/>
            <a:ext cx="4875120" cy="2039040"/>
            <a:chOff x="4140360" y="2492280"/>
            <a:chExt cx="4875120" cy="2039040"/>
          </a:xfrm>
        </p:grpSpPr>
        <p:sp>
          <p:nvSpPr>
            <p:cNvPr id="365" name="AutoShape 11"/>
            <p:cNvSpPr/>
            <p:nvPr/>
          </p:nvSpPr>
          <p:spPr>
            <a:xfrm>
              <a:off x="4140360" y="2852640"/>
              <a:ext cx="217440" cy="10796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4284720" y="2492280"/>
              <a:ext cx="47307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变构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258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allosteric regul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4357800" y="3645000"/>
              <a:ext cx="403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化学修饰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5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chemical modific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4"/>
          <p:cNvSpPr/>
          <p:nvPr/>
        </p:nvSpPr>
        <p:spPr>
          <a:xfrm>
            <a:off x="2093040" y="765000"/>
            <a:ext cx="536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代谢调节主要是通过对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调节酶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活性的调节而实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BFBB-915B-47EC-B3A2-56A0897D5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9640" y="260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例：糖代谢的调节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808200"/>
          <a:ext cx="7994880" cy="5662440"/>
        </p:xfrm>
        <a:graphic>
          <a:graphicData uri="http://schemas.openxmlformats.org/drawingml/2006/table">
            <a:tbl>
              <a:tblPr/>
              <a:tblGrid>
                <a:gridCol w="3151440"/>
                <a:gridCol w="484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代谢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调节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降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酵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有氧氧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异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己糖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果糖激酶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脱氢酶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柠檬酸合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异柠檬酸脱氢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羧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烯醇式丙酮酸羧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果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磷酸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4"/>
          <p:cNvSpPr/>
          <p:nvPr/>
        </p:nvSpPr>
        <p:spPr>
          <a:xfrm>
            <a:off x="6094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85800" y="2330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646200" y="351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39720" y="4886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823A-9FCC-44C0-92AC-B5E26A57C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332000" y="198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变构调节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116000" y="2924280"/>
            <a:ext cx="691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分子化合物与酶分子活性中心以外的某一部位特异结合，引起酶蛋白分子构象变化，从而改变酶的活性，这种调节称为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90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调节酶的变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05416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47D2-99C8-4C22-A284-72D10143A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wy 副本"/>
          <p:cNvPicPr/>
          <p:nvPr/>
        </p:nvPicPr>
        <p:blipFill>
          <a:blip r:embed="rId1"/>
          <a:stretch/>
        </p:blipFill>
        <p:spPr>
          <a:xfrm>
            <a:off x="1981080" y="0"/>
            <a:ext cx="59342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191120" y="2362320"/>
            <a:ext cx="2514600" cy="2438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324480" y="5361120"/>
            <a:ext cx="281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6400800" y="33526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6877080" y="765000"/>
            <a:ext cx="1309680" cy="505080"/>
          </a:xfrm>
          <a:prstGeom prst="wedgeRoundRectCallout">
            <a:avLst>
              <a:gd name="adj1" fmla="val -146000"/>
              <a:gd name="adj2" fmla="val 398111"/>
              <a:gd name="adj3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底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684360" y="836640"/>
            <a:ext cx="2592360" cy="1008000"/>
          </a:xfrm>
          <a:prstGeom prst="wedgeRoundRectCallout">
            <a:avLst>
              <a:gd name="adj1" fmla="val 74250"/>
              <a:gd name="adj2" fmla="val 258976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活性中心以外的必需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755640" y="5589720"/>
            <a:ext cx="1743120" cy="609480"/>
          </a:xfrm>
          <a:prstGeom prst="wedgeRoundRectCallout">
            <a:avLst>
              <a:gd name="adj1" fmla="val 202004"/>
              <a:gd name="adj2" fmla="val -237500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结合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8229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7010280" y="3352680"/>
            <a:ext cx="1809720" cy="507960"/>
          </a:xfrm>
          <a:prstGeom prst="wedgeRoundRectCallout">
            <a:avLst>
              <a:gd name="adj1" fmla="val -97370"/>
              <a:gd name="adj2" fmla="val 4064"/>
              <a:gd name="adj3" fmla="val 16667"/>
            </a:avLst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催化基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6781680" y="5867280"/>
            <a:ext cx="1751040" cy="533520"/>
          </a:xfrm>
          <a:prstGeom prst="wedgeRoundRectCallout">
            <a:avLst>
              <a:gd name="adj1" fmla="val -106300"/>
              <a:gd name="adj2" fmla="val -254166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活性中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97B4-369D-483C-B181-A0CDB0A59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826920" y="907920"/>
            <a:ext cx="792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被调节的酶称为变构酶或别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2720" indent="7920">
              <a:lnSpc>
                <a:spcPct val="12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酶发生变构效应的物质，称为变构效应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ffector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600200" y="3657600"/>
            <a:ext cx="684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激活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activa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增加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抑制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inhibi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降低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0694-D100-44D6-89AA-E46CA877C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39640" y="981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三）酶的化学修饰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403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71640" y="2997360"/>
            <a:ext cx="7129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酶蛋白肽链上某些残基在酶的催化下发生可逆的共价修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covalent modificatio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引起酶活性改变，这种调节称为酶的化学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8388-AE7A-4579-B8B3-7B8573CF5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900000" y="907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主要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771640" y="198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磷酸化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 - -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去磷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789280" y="28130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酰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乙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71640" y="3645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基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甲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771640" y="4437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腺苷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腺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484360" y="5300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— 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互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53CC-8A21-445B-8497-2D8E48DC3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484360" y="551664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酶的磷酸化与去磷酸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258920" y="1916280"/>
            <a:ext cx="2484000" cy="2615760"/>
            <a:chOff x="1258920" y="1916280"/>
            <a:chExt cx="2484000" cy="2615760"/>
          </a:xfrm>
        </p:grpSpPr>
        <p:sp>
          <p:nvSpPr>
            <p:cNvPr id="409" name="Text Box 4"/>
            <p:cNvSpPr/>
            <p:nvPr/>
          </p:nvSpPr>
          <p:spPr>
            <a:xfrm>
              <a:off x="2447640" y="2643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1258920" y="1916280"/>
              <a:ext cx="1836000" cy="2615760"/>
              <a:chOff x="1258920" y="1916280"/>
              <a:chExt cx="1836000" cy="2615760"/>
            </a:xfrm>
          </p:grpSpPr>
          <p:grpSp>
            <p:nvGrpSpPr>
              <p:cNvPr id="411" name="Group 6"/>
              <p:cNvGrpSpPr/>
              <p:nvPr/>
            </p:nvGrpSpPr>
            <p:grpSpPr>
              <a:xfrm>
                <a:off x="1258920" y="1916280"/>
                <a:ext cx="1295280" cy="1981080"/>
                <a:chOff x="1258920" y="1916280"/>
                <a:chExt cx="1295280" cy="1981080"/>
              </a:xfrm>
            </p:grpSpPr>
            <p:sp>
              <p:nvSpPr>
                <p:cNvPr id="412" name="Oval 7"/>
                <p:cNvSpPr/>
                <p:nvPr/>
              </p:nvSpPr>
              <p:spPr>
                <a:xfrm>
                  <a:off x="1258920" y="1916280"/>
                  <a:ext cx="1295280" cy="1981080"/>
                </a:xfrm>
                <a:prstGeom prst="ellipse">
                  <a:avLst/>
                </a:prstGeom>
                <a:solidFill>
                  <a:srgbClr val="99ccff"/>
                </a:solidFill>
                <a:ln cap="sq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8"/>
                <p:cNvSpPr/>
                <p:nvPr/>
              </p:nvSpPr>
              <p:spPr>
                <a:xfrm>
                  <a:off x="1715760" y="2068560"/>
                  <a:ext cx="761760" cy="15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S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9"/>
              <p:cNvSpPr/>
              <p:nvPr/>
            </p:nvSpPr>
            <p:spPr>
              <a:xfrm>
                <a:off x="1295280" y="4011480"/>
                <a:ext cx="17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酶蛋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0"/>
          <p:cNvGrpSpPr/>
          <p:nvPr/>
        </p:nvGrpSpPr>
        <p:grpSpPr>
          <a:xfrm>
            <a:off x="2514240" y="3505320"/>
            <a:ext cx="3809880" cy="1653120"/>
            <a:chOff x="2514240" y="3505320"/>
            <a:chExt cx="3809880" cy="1653120"/>
          </a:xfrm>
        </p:grpSpPr>
        <p:sp>
          <p:nvSpPr>
            <p:cNvPr id="416" name="Freeform 11"/>
            <p:cNvSpPr/>
            <p:nvPr/>
          </p:nvSpPr>
          <p:spPr>
            <a:xfrm flipH="1">
              <a:off x="3200400" y="4267080"/>
              <a:ext cx="2286000" cy="38124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5257800" y="46483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2514240" y="3505320"/>
              <a:ext cx="3809880" cy="1602720"/>
              <a:chOff x="2514240" y="3505320"/>
              <a:chExt cx="3809880" cy="1602720"/>
            </a:xfrm>
          </p:grpSpPr>
          <p:sp>
            <p:nvSpPr>
              <p:cNvPr id="419" name="Freeform 14"/>
              <p:cNvSpPr/>
              <p:nvPr/>
            </p:nvSpPr>
            <p:spPr>
              <a:xfrm flipH="1" flipV="1">
                <a:off x="2513880" y="3733200"/>
                <a:ext cx="3809880" cy="533160"/>
              </a:xfrm>
              <a:custGeom>
                <a:avLst/>
                <a:gdLst>
                  <a:gd name="textAreaLeft" fmla="*/ -360 w 3809880"/>
                  <a:gd name="textAreaRight" fmla="*/ 3809880 w 3809880"/>
                  <a:gd name="textAreaTop" fmla="*/ -360 h 533160"/>
                  <a:gd name="textAreaBottom" fmla="*/ 533160 h 533160"/>
                </a:gdLst>
                <a:ahLst/>
                <a:rect l="textAreaLeft" t="textAreaTop" r="textAreaRight" b="textAreaBottom"/>
                <a:pathLst>
                  <a:path w="2688" h="240">
                    <a:moveTo>
                      <a:pt x="0" y="240"/>
                    </a:moveTo>
                    <a:cubicBezTo>
                      <a:pt x="424" y="120"/>
                      <a:pt x="848" y="0"/>
                      <a:pt x="1296" y="0"/>
                    </a:cubicBezTo>
                    <a:cubicBezTo>
                      <a:pt x="1744" y="0"/>
                      <a:pt x="2456" y="200"/>
                      <a:pt x="2688" y="24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"/>
              <p:cNvSpPr/>
              <p:nvPr/>
            </p:nvSpPr>
            <p:spPr>
              <a:xfrm>
                <a:off x="289548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6"/>
              <p:cNvSpPr/>
              <p:nvPr/>
            </p:nvSpPr>
            <p:spPr>
              <a:xfrm>
                <a:off x="3276720" y="35053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磷蛋白磷酸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7"/>
          <p:cNvGrpSpPr/>
          <p:nvPr/>
        </p:nvGrpSpPr>
        <p:grpSpPr>
          <a:xfrm>
            <a:off x="2556000" y="692280"/>
            <a:ext cx="6408360" cy="4266720"/>
            <a:chOff x="2556000" y="692280"/>
            <a:chExt cx="6408360" cy="4266720"/>
          </a:xfrm>
        </p:grpSpPr>
        <p:sp>
          <p:nvSpPr>
            <p:cNvPr id="423" name="Freeform 18"/>
            <p:cNvSpPr/>
            <p:nvPr/>
          </p:nvSpPr>
          <p:spPr>
            <a:xfrm>
              <a:off x="2556000" y="1606680"/>
              <a:ext cx="3898440" cy="533520"/>
            </a:xfrm>
            <a:custGeom>
              <a:avLst/>
              <a:gdLst>
                <a:gd name="textAreaLeft" fmla="*/ 0 w 3898440"/>
                <a:gd name="textAreaRight" fmla="*/ 3898440 w 389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9"/>
            <p:cNvSpPr/>
            <p:nvPr/>
          </p:nvSpPr>
          <p:spPr>
            <a:xfrm>
              <a:off x="2711520" y="6922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V="1">
              <a:off x="3335400" y="1225440"/>
              <a:ext cx="2339280" cy="380880"/>
            </a:xfrm>
            <a:custGeom>
              <a:avLst/>
              <a:gdLst>
                <a:gd name="textAreaLeft" fmla="*/ 0 w 2339280"/>
                <a:gd name="textAreaRight" fmla="*/ 2339640 w 233928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1"/>
            <p:cNvSpPr/>
            <p:nvPr/>
          </p:nvSpPr>
          <p:spPr>
            <a:xfrm>
              <a:off x="5362920" y="692280"/>
              <a:ext cx="10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2"/>
            <p:cNvSpPr/>
            <p:nvPr/>
          </p:nvSpPr>
          <p:spPr>
            <a:xfrm>
              <a:off x="3647520" y="1758960"/>
              <a:ext cx="20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蛋白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3"/>
            <p:cNvGrpSpPr/>
            <p:nvPr/>
          </p:nvGrpSpPr>
          <p:grpSpPr>
            <a:xfrm>
              <a:off x="6350760" y="1995480"/>
              <a:ext cx="1324800" cy="1981440"/>
              <a:chOff x="6350760" y="1995480"/>
              <a:chExt cx="1324800" cy="1981440"/>
            </a:xfrm>
          </p:grpSpPr>
          <p:sp>
            <p:nvSpPr>
              <p:cNvPr id="429" name="Oval 24"/>
              <p:cNvSpPr/>
              <p:nvPr/>
            </p:nvSpPr>
            <p:spPr>
              <a:xfrm>
                <a:off x="6350760" y="1995480"/>
                <a:ext cx="1324800" cy="1981440"/>
              </a:xfrm>
              <a:prstGeom prst="ellipse">
                <a:avLst/>
              </a:prstGeom>
              <a:solidFill>
                <a:srgbClr val="99ccff"/>
              </a:solidFill>
              <a:ln cap="sq"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818040" y="2148120"/>
                <a:ext cx="7794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h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y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6"/>
            <p:cNvSpPr/>
            <p:nvPr/>
          </p:nvSpPr>
          <p:spPr>
            <a:xfrm>
              <a:off x="7588440" y="2679840"/>
              <a:ext cx="137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-PO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3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Times New Roman"/>
                  <a:ea typeface="黑体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6498360" y="4011840"/>
              <a:ext cx="16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磷酸化的酶蛋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3AA5-822B-415D-ADF9-FC13DF2B8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33280" y="5691240"/>
            <a:ext cx="865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6.NADP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合成代谢所需的还原当量，还原酶的辅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47640" y="404640"/>
            <a:ext cx="5856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  物质代谢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119700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体内外物质形成共有的代谢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2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调节保持代谢的动态平衡，以防止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产物的堆积和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3103560"/>
            <a:ext cx="7910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细胞、激素和整体水平的调节控制代谢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调；不同组织、器官代谢各具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1080" y="43498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代谢是相互联系，互相转变、制约、形成一个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82760" y="49975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AT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机体能量利用的共同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6AE5-C0C3-4E29-B259-F7BD8FAE5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11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化学修饰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042920" y="838080"/>
            <a:ext cx="7274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酶蛋白的共价修饰是可逆的酶促反应，在不同酶的作用下，酶蛋白的活性状态可互相转变。催化互变反应的酶在体内可受调节因素如激素的调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一个酶可催化多个酶蛋白修饰，即出现级联放大效应，效率较变构调节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化与去磷酸是最常见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61128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同一个酶可以同时受变构调节和化学修饰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D800-7201-47B8-8C92-436ECC360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539640" y="90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四）酶量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332000" y="19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酶蛋白合成的诱导与阻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47640" y="321300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加速酶合成的化合物称为诱导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in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547640" y="450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减少酶合成的化合物称为阻遏剂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epresso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7C32-E2A8-47A4-A16A-E781591CF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1042920" y="765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酶蛋白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258920" y="3068640"/>
            <a:ext cx="6879960" cy="2702160"/>
            <a:chOff x="1258920" y="3068640"/>
            <a:chExt cx="6879960" cy="2702160"/>
          </a:xfrm>
        </p:grpSpPr>
        <p:sp>
          <p:nvSpPr>
            <p:cNvPr id="445" name="Rectangle 4"/>
            <p:cNvSpPr/>
            <p:nvPr/>
          </p:nvSpPr>
          <p:spPr>
            <a:xfrm>
              <a:off x="1258920" y="3068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溶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1258920" y="42210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蛋白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195280" y="3573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释放蛋白水解酶，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195280" y="4653000"/>
              <a:ext cx="5943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泛素识别、结合蛋白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8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水解酶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8"/>
          <p:cNvSpPr/>
          <p:nvPr/>
        </p:nvSpPr>
        <p:spPr>
          <a:xfrm>
            <a:off x="1042920" y="1628640"/>
            <a:ext cx="691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改变酶蛋白分子的降解速度，也能调节酶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DB1F-E945-4DD4-8B38-7675183C6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368360" y="28065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、外环境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300560" y="2589120"/>
            <a:ext cx="3282840" cy="947160"/>
            <a:chOff x="4300560" y="2589120"/>
            <a:chExt cx="3282840" cy="947160"/>
          </a:xfrm>
        </p:grpSpPr>
        <p:sp>
          <p:nvSpPr>
            <p:cNvPr id="453" name="Line 4"/>
            <p:cNvSpPr/>
            <p:nvPr/>
          </p:nvSpPr>
          <p:spPr>
            <a:xfrm>
              <a:off x="4300560" y="311112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329080" y="2589120"/>
              <a:ext cx="225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机体相关组织分泌激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5508720" y="3716280"/>
            <a:ext cx="2333520" cy="2153880"/>
            <a:chOff x="5508720" y="3716280"/>
            <a:chExt cx="2333520" cy="2153880"/>
          </a:xfrm>
        </p:grpSpPr>
        <p:sp>
          <p:nvSpPr>
            <p:cNvPr id="456" name="Line 7"/>
            <p:cNvSpPr/>
            <p:nvPr/>
          </p:nvSpPr>
          <p:spPr>
            <a:xfrm>
              <a:off x="6402240" y="3716280"/>
              <a:ext cx="0" cy="99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5508720" y="4923000"/>
              <a:ext cx="233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激素与靶细胞上的受体结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1116000" y="4869000"/>
            <a:ext cx="4230720" cy="947160"/>
            <a:chOff x="1116000" y="4869000"/>
            <a:chExt cx="4230720" cy="947160"/>
          </a:xfrm>
        </p:grpSpPr>
        <p:sp>
          <p:nvSpPr>
            <p:cNvPr id="459" name="Line 10"/>
            <p:cNvSpPr/>
            <p:nvPr/>
          </p:nvSpPr>
          <p:spPr>
            <a:xfrm>
              <a:off x="4356360" y="544356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1116000" y="4869000"/>
              <a:ext cx="321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靶细胞产生生物学效应，适应内外环境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2"/>
          <p:cNvSpPr/>
          <p:nvPr/>
        </p:nvSpPr>
        <p:spPr>
          <a:xfrm>
            <a:off x="25092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黑体"/>
              </a:rPr>
              <a:t>激素作用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40328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二、激素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4D11-B22B-4E97-87C8-83BE10C19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116000" y="12682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激素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700360" y="3573360"/>
            <a:ext cx="3906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黑体"/>
                <a:ea typeface="黑体"/>
              </a:rPr>
              <a:t>Ι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膜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Ⅱ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胞内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258920" y="2421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激素受体在细胞的部位不同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C0F8-237C-4CFE-958C-22040DCF0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75564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膜受体激素的作用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000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激素作用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膜受体作用方式807"/>
          <p:cNvPicPr/>
          <p:nvPr/>
        </p:nvPicPr>
        <p:blipFill>
          <a:blip r:embed="rId1"/>
          <a:stretch/>
        </p:blipFill>
        <p:spPr>
          <a:xfrm>
            <a:off x="1835280" y="2205000"/>
            <a:ext cx="5400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C13C-6388-4678-A980-E5256D92E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腺苷酸环化酶体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肾上腺素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膜受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腺苷酸环化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T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转化为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PK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效应蛋白磷酸化       产生一系列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780000" y="206064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5076720" y="234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 flipH="1">
            <a:off x="3058920" y="2924280"/>
            <a:ext cx="86508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 flipH="1">
            <a:off x="3419640" y="3860640"/>
            <a:ext cx="100800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635280" y="450864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3708360" y="3645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39640" y="5300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是重要的第二信使，胰高血糖素、肾上腺素、促肾上腺皮质激素、甲状旁腺素及降钙素等都是通过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444C-5C45-4E35-9968-881AF0E83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92170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磷脂酰肌醇体系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如：去甲肾上腺素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AD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等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激素与膜受体结合      激活另一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蛋白    激活磷脂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C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催化膜上磷脂酰肌醇二磷酸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(PIP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）水解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 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甘油二酯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DG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+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三磷酸肌醇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(IP3)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755640" y="3357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964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 (P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58053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催化一些蛋白质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1692360" y="3789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716360" y="3789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3528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与钙调蛋白结合调节酶或蛋白质活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169236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16000" y="465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451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851280" y="44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内质网中钙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Ca</a:t>
            </a:r>
            <a:r>
              <a:rPr b="1" lang="en-US" sz="16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1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＋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）释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6227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6732720" y="364500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6948360" y="4292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971640" y="27082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7308720" y="2708280"/>
            <a:ext cx="865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740E-39C9-404A-9592-9538452F0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557360"/>
            <a:ext cx="83516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酪氨酸蛋白激酶体系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生长因子、胰岛素与受体结合       激活酪氨酸蛋白激酶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质酪氨酸残基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导致蛋白质活性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485928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673272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6732720" y="429264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26920" y="5589720"/>
            <a:ext cx="7345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参与调节和细胞增殖分化有关的信息传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F889-1BCA-42A3-BD45-81A3868C7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348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靶向抗癌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3855518293"/>
          <p:cNvPicPr/>
          <p:nvPr/>
        </p:nvPicPr>
        <p:blipFill>
          <a:blip r:embed="rId1"/>
          <a:stretch/>
        </p:blipFill>
        <p:spPr>
          <a:xfrm>
            <a:off x="5651640" y="404640"/>
            <a:ext cx="2854080" cy="1754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1_120727015005_1"/>
          <p:cNvPicPr/>
          <p:nvPr/>
        </p:nvPicPr>
        <p:blipFill>
          <a:blip r:embed="rId2"/>
          <a:stretch/>
        </p:blipFill>
        <p:spPr>
          <a:xfrm>
            <a:off x="468360" y="1830240"/>
            <a:ext cx="6480000" cy="502632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2771640" y="1197000"/>
            <a:ext cx="91440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u=3851015655,3093469676&amp;fm=21&amp;gp=0"/>
          <p:cNvPicPr/>
          <p:nvPr/>
        </p:nvPicPr>
        <p:blipFill>
          <a:blip r:embed="rId3"/>
          <a:stretch/>
        </p:blipFill>
        <p:spPr>
          <a:xfrm>
            <a:off x="5148360" y="4059360"/>
            <a:ext cx="863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2C2C-79DB-46C3-B4CB-E5CACCD85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1440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黑体"/>
              </a:rPr>
              <a:t>共同的代谢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24354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化吸收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371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2280" y="485136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2641680" y="2554560"/>
            <a:ext cx="1423440" cy="2759040"/>
            <a:chOff x="2641680" y="2554560"/>
            <a:chExt cx="1423440" cy="2759040"/>
          </a:xfrm>
        </p:grpSpPr>
        <p:sp>
          <p:nvSpPr>
            <p:cNvPr id="60" name="AutoShape 7"/>
            <p:cNvSpPr/>
            <p:nvPr/>
          </p:nvSpPr>
          <p:spPr>
            <a:xfrm>
              <a:off x="2745360" y="379332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102800">
              <a:off x="2820960" y="273636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20626200">
              <a:off x="2669760" y="477468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4267080" y="3040200"/>
            <a:ext cx="1900080" cy="2112480"/>
            <a:chOff x="4267080" y="3040200"/>
            <a:chExt cx="1900080" cy="2112480"/>
          </a:xfrm>
        </p:grpSpPr>
        <p:sp>
          <p:nvSpPr>
            <p:cNvPr id="64" name="AutoShape 11"/>
            <p:cNvSpPr/>
            <p:nvPr/>
          </p:nvSpPr>
          <p:spPr>
            <a:xfrm>
              <a:off x="4267080" y="3040200"/>
              <a:ext cx="1900080" cy="2112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5050"/>
                </a:gs>
                <a:gs pos="50000">
                  <a:srgbClr val="ffffff"/>
                </a:gs>
                <a:gs pos="100000">
                  <a:srgbClr val="ff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4722480" y="4019760"/>
              <a:ext cx="9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3"/>
          <p:cNvSpPr/>
          <p:nvPr/>
        </p:nvSpPr>
        <p:spPr>
          <a:xfrm>
            <a:off x="6324480" y="3948120"/>
            <a:ext cx="1150920" cy="3589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543800" y="3124080"/>
            <a:ext cx="936360" cy="2160720"/>
            <a:chOff x="7543800" y="3124080"/>
            <a:chExt cx="936360" cy="2160720"/>
          </a:xfrm>
        </p:grpSpPr>
        <p:sp>
          <p:nvSpPr>
            <p:cNvPr id="68" name="Rectangle 15"/>
            <p:cNvSpPr/>
            <p:nvPr/>
          </p:nvSpPr>
          <p:spPr>
            <a:xfrm>
              <a:off x="7543800" y="3124080"/>
              <a:ext cx="93636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7700400" y="3133800"/>
              <a:ext cx="60696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全身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DE78-97B1-45A5-8A3F-A3A949EBC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687240" y="1197000"/>
            <a:ext cx="8169480" cy="5718240"/>
            <a:chOff x="687240" y="1197000"/>
            <a:chExt cx="8169480" cy="5718240"/>
          </a:xfrm>
        </p:grpSpPr>
        <p:pic>
          <p:nvPicPr>
            <p:cNvPr id="516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0000" y="1197000"/>
              <a:ext cx="7956720" cy="57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4"/>
            <p:cNvGrpSpPr/>
            <p:nvPr/>
          </p:nvGrpSpPr>
          <p:grpSpPr>
            <a:xfrm>
              <a:off x="687240" y="1346040"/>
              <a:ext cx="6795720" cy="4790520"/>
              <a:chOff x="687240" y="1346040"/>
              <a:chExt cx="6795720" cy="4790520"/>
            </a:xfrm>
          </p:grpSpPr>
          <p:sp>
            <p:nvSpPr>
              <p:cNvPr id="518" name="Text Box 5"/>
              <p:cNvSpPr/>
              <p:nvPr/>
            </p:nvSpPr>
            <p:spPr>
              <a:xfrm>
                <a:off x="687240" y="13460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类固醇激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1650600" y="2709720"/>
                <a:ext cx="91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"/>
              <p:cNvSpPr/>
              <p:nvPr/>
            </p:nvSpPr>
            <p:spPr>
              <a:xfrm>
                <a:off x="1538280" y="4532400"/>
                <a:ext cx="132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活化的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3830040" y="28386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613840" y="20779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33"/>
                    </a:solidFill>
                    <a:latin typeface="Arial"/>
                    <a:ea typeface="楷体_GB2312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10"/>
              <p:cNvSpPr/>
              <p:nvPr/>
            </p:nvSpPr>
            <p:spPr>
              <a:xfrm>
                <a:off x="5612040" y="3213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6581160" y="5102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基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5371560" y="52228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4828680" y="57675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3792240" y="579924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蛋白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2470680" y="57992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生物效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4451760" y="56404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翻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3600" y="37782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转录起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1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二 ）胞内受体激素的作用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AD87-8452-42FB-ADD3-6FDB572E4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68360" y="11556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饥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92360" y="2666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原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72000" y="266688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糖趋于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637080" y="295416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5796000" y="331488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924360" y="3890880"/>
            <a:ext cx="36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岛素分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高血糖素分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5796000" y="5043600"/>
            <a:ext cx="0" cy="460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419640" y="5589720"/>
            <a:ext cx="48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一系列的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258920" y="1947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短期饥饿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908000" y="476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整体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DDB7-EC86-4E4E-9774-26925E4AA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16000" y="105264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76364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加强，氨基酸异生成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260360" y="2563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763640" y="3284640"/>
            <a:ext cx="6265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加强，主要原料为氨基酸和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对葡萄糖利用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351080" y="47372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83528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加强，酮体生成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8EA3-405A-4302-82A6-415777DEA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75564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长期饥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50920" y="14130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700360" y="21337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分解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24000" y="2924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700360" y="3429000"/>
            <a:ext cx="59054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糖异生增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糖异生减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的主要原料为乳酸、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5229360"/>
            <a:ext cx="453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进一步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组织利用酮体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5076720" y="176040"/>
            <a:ext cx="3816360" cy="2022480"/>
            <a:chOff x="5076720" y="176040"/>
            <a:chExt cx="3816360" cy="2022480"/>
          </a:xfrm>
        </p:grpSpPr>
        <p:pic>
          <p:nvPicPr>
            <p:cNvPr id="559" name="Picture 9" descr="8374145_143501035301_2"/>
            <p:cNvPicPr/>
            <p:nvPr/>
          </p:nvPicPr>
          <p:blipFill>
            <a:blip r:embed="rId1"/>
            <a:srcRect l="4400" t="3523" r="4106" b="18257"/>
            <a:stretch/>
          </p:blipFill>
          <p:spPr>
            <a:xfrm>
              <a:off x="5076720" y="176040"/>
              <a:ext cx="3816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" descr="20120216_fe4430309c21f5f1c911Ljpq3hyROHuB"/>
            <p:cNvPicPr/>
            <p:nvPr/>
          </p:nvPicPr>
          <p:blipFill>
            <a:blip r:embed="rId2"/>
            <a:srcRect l="0" t="0" r="0" b="6562"/>
            <a:stretch/>
          </p:blipFill>
          <p:spPr>
            <a:xfrm>
              <a:off x="6732720" y="660240"/>
              <a:ext cx="1657080" cy="153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2C1B-97D4-4B2E-B352-656ECB4FF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-252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一、在能量代谢上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2637000"/>
            <a:ext cx="2070360" cy="520560"/>
          </a:xfrm>
          <a:prstGeom prst="rect">
            <a:avLst/>
          </a:prstGeom>
          <a:solidFill>
            <a:srgbClr val="a3cae7"/>
          </a:solidFill>
          <a:ln cap="sq" w="12600">
            <a:solidFill>
              <a:srgbClr val="a3c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大营养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35280" y="3284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共同中间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83280" y="2421000"/>
            <a:ext cx="1778040" cy="9471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共同最终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2650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61720" y="444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06280" y="543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378240" y="4410000"/>
            <a:ext cx="1871640" cy="52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154240" y="4699080"/>
            <a:ext cx="844560" cy="0"/>
          </a:xfrm>
          <a:prstGeom prst="line">
            <a:avLst/>
          </a:prstGeom>
          <a:ln cap="sq" w="57240">
            <a:solidFill>
              <a:srgbClr val="00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2081160" y="3906720"/>
            <a:ext cx="909720" cy="3351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2297160" y="5130720"/>
            <a:ext cx="770040" cy="457200"/>
          </a:xfrm>
          <a:prstGeom prst="line">
            <a:avLst/>
          </a:prstGeom>
          <a:ln w="38160">
            <a:solidFill>
              <a:srgbClr val="a3cae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570640" y="4122720"/>
            <a:ext cx="1511280" cy="1617840"/>
          </a:xfrm>
          <a:prstGeom prst="ellipse">
            <a:avLst/>
          </a:prstGeom>
          <a:solidFill>
            <a:srgbClr val="ff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402240" y="4122720"/>
            <a:ext cx="648000" cy="144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6978600" y="405144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369200" y="4483080"/>
            <a:ext cx="83340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 rot="19759200">
            <a:off x="7701840" y="43052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氧化磷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842240" y="592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6978600" y="54910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1"/>
          <p:cNvSpPr/>
          <p:nvPr/>
        </p:nvSpPr>
        <p:spPr>
          <a:xfrm rot="4656600">
            <a:off x="6855120" y="5238000"/>
            <a:ext cx="576360" cy="73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6" h="304">
                <a:moveTo>
                  <a:pt x="0" y="96"/>
                </a:moveTo>
                <a:cubicBezTo>
                  <a:pt x="256" y="200"/>
                  <a:pt x="512" y="304"/>
                  <a:pt x="768" y="288"/>
                </a:cubicBezTo>
                <a:cubicBezTo>
                  <a:pt x="1024" y="272"/>
                  <a:pt x="1408" y="48"/>
                  <a:pt x="1536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5394240" y="4157280"/>
            <a:ext cx="647640" cy="289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24000" y="14130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buClr>
                <a:srgbClr val="333399"/>
              </a:buClr>
              <a:buSzPct val="65000"/>
              <a:buFont typeface="Arial Unicode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大营养素可在体内氧化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1280" y="115920"/>
            <a:ext cx="853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 几类重要物质代谢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BD82-2DCF-4F8C-8CC6-9FE532839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糖代谢与脂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42920" y="263700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摄入的糖量超过能量消耗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57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  <a:ea typeface="黑体"/>
              </a:rPr>
              <a:t>二、糖、脂和蛋白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之间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3933720"/>
            <a:ext cx="7391520" cy="2113200"/>
            <a:chOff x="1187280" y="3933720"/>
            <a:chExt cx="7391520" cy="2113200"/>
          </a:xfrm>
        </p:grpSpPr>
        <p:sp>
          <p:nvSpPr>
            <p:cNvPr id="98" name="Rectangle 6"/>
            <p:cNvSpPr/>
            <p:nvPr/>
          </p:nvSpPr>
          <p:spPr>
            <a:xfrm>
              <a:off x="1187280" y="4581360"/>
              <a:ext cx="648000" cy="9471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908000" y="55180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203640" y="5265720"/>
              <a:ext cx="17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6084720" y="5014800"/>
              <a:ext cx="2494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（脂肪组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V="1">
              <a:off x="2340000" y="42937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2786040" y="3933720"/>
              <a:ext cx="49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糖原储存（肝、肌肉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1824120" y="46969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00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565308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6" descr="3f036cc4d5204e7d"/>
          <p:cNvPicPr/>
          <p:nvPr/>
        </p:nvPicPr>
        <p:blipFill>
          <a:blip r:embed="rId1"/>
          <a:srcRect l="0" t="20512" r="6789" b="21343"/>
          <a:stretch/>
        </p:blipFill>
        <p:spPr>
          <a:xfrm>
            <a:off x="6659640" y="1197000"/>
            <a:ext cx="2484360" cy="12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B2B6-8CF4-485F-99A4-EB6744213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脂肪的甘油部分能在体内转变为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3116160"/>
            <a:ext cx="7745400" cy="3049200"/>
            <a:chOff x="684360" y="3116160"/>
            <a:chExt cx="7745400" cy="3049200"/>
          </a:xfrm>
        </p:grpSpPr>
        <p:sp>
          <p:nvSpPr>
            <p:cNvPr id="112" name="Rectangle 4"/>
            <p:cNvSpPr/>
            <p:nvPr/>
          </p:nvSpPr>
          <p:spPr>
            <a:xfrm>
              <a:off x="1763640" y="56354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43280" y="5924520"/>
              <a:ext cx="8380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708360" y="56354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6516720" y="5635440"/>
              <a:ext cx="14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8"/>
            <p:cNvGrpSpPr/>
            <p:nvPr/>
          </p:nvGrpSpPr>
          <p:grpSpPr>
            <a:xfrm>
              <a:off x="5435280" y="5708520"/>
              <a:ext cx="457200" cy="456840"/>
              <a:chOff x="5435280" y="5708520"/>
              <a:chExt cx="457200" cy="456840"/>
            </a:xfrm>
          </p:grpSpPr>
          <p:sp>
            <p:nvSpPr>
              <p:cNvPr id="117" name="Line 9"/>
              <p:cNvSpPr/>
              <p:nvPr/>
            </p:nvSpPr>
            <p:spPr>
              <a:xfrm flipH="1">
                <a:off x="543528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"/>
              <p:cNvSpPr/>
              <p:nvPr/>
            </p:nvSpPr>
            <p:spPr>
              <a:xfrm>
                <a:off x="543564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1187280" y="5275080"/>
              <a:ext cx="576360" cy="5763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84360" y="4195800"/>
              <a:ext cx="574560" cy="1068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V="1">
              <a:off x="1258920" y="3908520"/>
              <a:ext cx="53352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1692360" y="35481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2765520" y="3805200"/>
              <a:ext cx="2022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916360" y="3259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2916360" y="38354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肝、肾、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975200" y="3500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80400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730872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7667640" y="311616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364000" y="592452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6012000" y="5924520"/>
              <a:ext cx="5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4" descr="untitled"/>
          <p:cNvPicPr/>
          <p:nvPr/>
        </p:nvPicPr>
        <p:blipFill>
          <a:blip r:embed="rId1"/>
          <a:stretch/>
        </p:blipFill>
        <p:spPr>
          <a:xfrm>
            <a:off x="5796000" y="476280"/>
            <a:ext cx="28335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34EE-3575-4800-A7A9-1EA603C78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1125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糖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37162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0472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290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68600" y="5257800"/>
            <a:ext cx="15699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6530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脱氨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24360" y="5257800"/>
            <a:ext cx="1568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4036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308720" y="4925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1989000"/>
            <a:ext cx="77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部分氨基酸脱氨基后，生成相应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酮酸，可转变为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E84F-3D05-4397-A3D2-F086ED387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26920" y="836640"/>
            <a:ext cx="741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糖代谢的中间产物可氨基化生成某些  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28560" y="3476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635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24000" y="35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492360" y="37893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5080" y="3500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草酰乙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2480" y="3276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494400" y="3817800"/>
            <a:ext cx="885960" cy="979560"/>
          </a:xfrm>
          <a:custGeom>
            <a:avLst/>
            <a:gdLst>
              <a:gd name="textAreaLeft" fmla="*/ 0 w 885960"/>
              <a:gd name="textAreaRight" fmla="*/ 886320 w 885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7379640" y="3932280"/>
            <a:ext cx="73080" cy="530280"/>
          </a:xfrm>
          <a:custGeom>
            <a:avLst/>
            <a:gdLst>
              <a:gd name="textAreaLeft" fmla="*/ -360 w 73080"/>
              <a:gd name="textAreaRight" fmla="*/ 73080 w 73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73272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柠檬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5580000" y="50133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64000" y="47973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酮戊二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207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708280"/>
            <a:ext cx="1630440" cy="820440"/>
            <a:chOff x="2987640" y="2708280"/>
            <a:chExt cx="1630440" cy="820440"/>
          </a:xfrm>
        </p:grpSpPr>
        <p:sp>
          <p:nvSpPr>
            <p:cNvPr id="159" name="Line 16"/>
            <p:cNvSpPr/>
            <p:nvPr/>
          </p:nvSpPr>
          <p:spPr>
            <a:xfrm flipV="1">
              <a:off x="2987640" y="314784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797280" y="270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651640" y="2637000"/>
            <a:ext cx="2158920" cy="914400"/>
            <a:chOff x="5651640" y="2637000"/>
            <a:chExt cx="2158920" cy="914400"/>
          </a:xfrm>
        </p:grpSpPr>
        <p:sp>
          <p:nvSpPr>
            <p:cNvPr id="162" name="Line 19"/>
            <p:cNvSpPr/>
            <p:nvPr/>
          </p:nvSpPr>
          <p:spPr>
            <a:xfrm flipV="1">
              <a:off x="5651640" y="3141720"/>
              <a:ext cx="647640" cy="4096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6032520" y="263700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天冬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3421080" y="5373720"/>
            <a:ext cx="1110960" cy="807840"/>
            <a:chOff x="3421080" y="5373720"/>
            <a:chExt cx="1110960" cy="807840"/>
          </a:xfrm>
        </p:grpSpPr>
        <p:sp>
          <p:nvSpPr>
            <p:cNvPr id="165" name="Line 22"/>
            <p:cNvSpPr/>
            <p:nvPr/>
          </p:nvSpPr>
          <p:spPr>
            <a:xfrm flipH="1">
              <a:off x="3922560" y="537372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342108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谷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15:09Z</dcterms:created>
  <dc:creator>thtfpc user</dc:creator>
  <dc:description/>
  <dc:language>en-US</dc:language>
  <cp:lastModifiedBy>ZhangLL</cp:lastModifiedBy>
  <dcterms:modified xsi:type="dcterms:W3CDTF">2014-12-04T06:31:33Z</dcterms:modified>
  <cp:revision>32</cp:revision>
  <dc:subject/>
  <dc:title>幻灯片 1</dc:title>
</cp:coreProperties>
</file>