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B9A32-FEBF-44B8-A1BA-25101D722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B362D-B694-49A3-9896-A05052FF4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5ABF5-7A59-4396-BBE4-C6827EEA6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7298E-40F7-4B71-BDCF-AEA1A0F05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D57C9-2EC5-4097-B2D6-492E3B8D3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693F3-5552-4981-9831-218828E5E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AB779-5CF3-4143-A73B-54AA60A4D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0BA41-904F-4B87-96E4-81E51B876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95E33-83A4-4F81-AB6A-9C2C0C379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2B31D-5E6E-49CC-A42F-4B6362403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1FC20-D017-4C5B-B4F4-451745026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89AC0-B5B1-48D0-B1CF-2113FA23C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25DAC-BB97-4EB5-8A58-C5EF81AAC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B9964-99EA-412F-9243-28406711B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2F53B-DF6C-415D-85F1-D3E737713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4613C1-0E9B-4D9B-9675-56D9677C6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AA6F2-9EA4-473B-BFE1-400B81E2F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7F4D-AAB3-45B7-BB73-5655DB064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6D935-E265-45D6-A36E-72C0CA0AB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2C847-98D7-4C5E-BC5D-3BE8ED7DE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B9AF1-D21C-402F-92BE-3911B4212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6F15-809E-4C78-B87D-3565ECE6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7CE3D-FBD7-4EC0-847B-31B2DF0A3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3C7F4-EADD-49DB-B7EE-1D8657349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0333-ADBD-4CEF-B23F-5D2305212FAA}"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6105-E323-4E68-8AAD-9097620C43FB}"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4AF3-1068-4E3A-9899-171916275029}" type="datetime3">
              <a:rPr b="0" lang="en-US" sz="1400" spc="-1" strike="noStrike">
                <a:solidFill>
                  <a:srgbClr val="ffffff"/>
                </a:solidFill>
                <a:latin typeface="Arial"/>
              </a:rPr>
              <a:t>July 29,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9343-4988-4191-857B-72B34D594E2F}"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FE63-464D-4603-9A49-4AFEE7FAD47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3EBB-2149-433C-93A5-0D06BF99037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05E0-4717-424E-94BA-6F61962DF04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E8E8-39ED-4FDF-B45B-D87D978719B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C0F1-E173-40E2-AB21-8E0B499B4D6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C305-E632-4C6C-8F04-35C3988CD73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48B6-9A93-4C93-AF31-68716968EA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CF2C-ADDF-4577-9AE8-F6AF34BD0E7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2F3C-A7B9-4D65-B90A-E264179CE1F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94C6-CD80-490C-B976-3C34CE5F731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2D69-9D20-44B3-A54B-66FE171D01E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6E57-ECC4-4AAA-9E15-F51D87D1F6D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089D-8BBC-4FF4-9B3A-4AD5A4FBADC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CC24-D5B5-42CB-A10B-FE218B5D538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70FA-4CC2-417F-84F7-67F6A9923F9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058A-3EA0-4633-8079-4004241B79B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4361-228E-436E-B0EB-BB5636FEF68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301B-F3CD-475C-8A88-B5DF7B7289F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2CDF-0315-43D5-AA3F-4D0260D0665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0AF6-EDCF-4CE2-9847-E4B544CF5E0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172D-0014-4B5B-BA3C-86C1CF682E9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4906-682E-4992-B03E-A634288E963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5956-77EA-42D9-96B0-6D4C3A1894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0B19-588C-4631-84EC-243EC292BF6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53D1-2C9F-4077-AB40-C4FF5CA5A33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90F1-8E10-4827-B36D-7DCA77DA84D7}"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E406-4151-4A8E-A20C-9B16A0DBE8D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7238-2899-4B5C-9BD0-37C8914A327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F114-8442-4E8D-B3FB-F1272DCCBE2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9076-9129-4BFB-8C9D-AEF80BB2EBE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25AB-2F61-4325-9159-DD638D65EEE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DBB3-EE2F-42E3-B27F-1879B677B37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12A9-8521-41C0-AF49-8A31B057019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6734-D8FC-400D-942A-4B00D6EBEAA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B3F9-5360-49DB-8800-0C0819E42E0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8388-035E-4247-B378-1A8E7A403A7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A7BF-7E95-48B3-983C-634F57E4F02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ED79-B87B-4349-B192-BD4161F628B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1CF7-EAB1-48EA-A1F5-76CC9AEE12F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D41E-87BF-4C6F-8480-C563133572C8}"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846B-4321-4028-9549-BAE73E47BE9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B928-7072-41B7-B186-03006C0E9E3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