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9C075-816B-49A8-BD9E-4E19CDC95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C2D84-C077-450E-8736-3BE0917FD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F7BF1-AD7D-4137-B8D2-8533C13A7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6C74D-AF87-491C-81F0-B5893BF60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9C837-11AF-4E9D-9319-956576F01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09E7C-64B3-4F2D-A2CE-0789125F4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F5CF4-A894-47C8-AC89-5813FEBA5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1D928-B346-4D94-861E-C8B0B951F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EB7DC-5EDB-4F65-8330-6F6AD4FFA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87253-ECBD-465F-A3C2-413EE7382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F56D4-A40B-407C-80AF-BEF4836B8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93A44-D749-48EA-AFC0-234B3D438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13922-68DC-4054-844C-897EC4511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68E40-0BAD-4802-9755-FDA35F4D5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079E8-A6D0-411E-B590-4F2D7FC70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CD896-76B1-4045-BA4B-FD9486C8A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BC3ED-7DE5-4182-9B74-8F2397448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A51FF-18AE-4FA6-A2C6-A55EE3EC8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0F64C-C4C0-485B-AD52-52EE4458F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806CB-A59E-4CC0-8798-111FC4DBB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66176-B27D-4B8F-8424-3C4A4C25A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9A860-863C-40D4-9507-20E16E22F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7BDD-1A5A-475C-B0C9-F07BE687E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869D7-0847-40D0-BC96-12847A1F7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8496-2EDA-4EC0-BD33-52B471E77912}" type="datetime3">
              <a:rPr b="0" lang="en-US" sz="1400" spc="-1" strike="noStrike">
                <a:solidFill>
                  <a:srgbClr val="000000"/>
                </a:solidFill>
                <a:latin typeface="Arial"/>
              </a:rPr>
              <a:t>July 30,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0E4B-A40A-4814-BB7A-84190483D63C}"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C105-D641-4424-8353-D4B8A5342D20}" type="datetime3">
              <a:rPr b="0" lang="en-US" sz="1400" spc="-1" strike="noStrike">
                <a:solidFill>
                  <a:srgbClr val="ffffff"/>
                </a:solidFill>
                <a:latin typeface="Arial"/>
              </a:rPr>
              <a:t>July 30,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CAD3-C5DA-4337-8252-47F0598ACA74}"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AC6D-F178-4AD7-8E41-8C8A7CE6F95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D321-F88B-4C34-9E4C-899F736C6DB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26AF-23EE-440E-8060-BD44B48603E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0A5B-7A57-4975-94AA-DE1763BBF5F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6A42-9B54-4A49-87BF-ED8CC31E0C8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A6A2-F120-4461-A01A-2430735075A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7E74-308C-4F9D-BD65-6E6665851A3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F647-4FDB-4B89-90BB-5CF615F069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97BE-82A8-4C97-9D9C-13934106694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9EF1-E52C-4C9D-9B1A-2B568CDBB06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20CB-BFB7-4228-AAA5-458411FB00D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055B-B109-4CA1-8CC8-2608C163B6D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3707-C502-4C13-9B7B-60AAEF5DC4C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32A6-25DD-4C9F-A25F-D4E4892990E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1DFE-310D-4118-BB54-F160B508F79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CA81-8A70-4700-B9BB-BAE16B4B405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5CF3-A0C8-4732-A1BA-0143DBB39A0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04BA-F9F2-4536-95F2-1674423FD89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5F13-EAB6-4A7B-B122-76C54DB3483B}"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44DD-5774-4688-8FC0-58010BD9599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2CEC-09A6-4E1A-B21E-1E9E78EC0EC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72C6-BA3F-4520-AE36-C130AF6251B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E3A6-40B2-4698-AD48-71D1BC2BD83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EF5B-A19D-4F24-9231-6D0C2F0486C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030F-6540-4939-9D1D-25662C985F8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7D0D-9331-4ADB-9B53-B12D6277E25F}"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07AE-F6F1-4FD9-904E-7FD16351A6B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306F-8D7B-4D03-92A3-AC3EC87EA13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9456-ABF0-4407-A527-3F794A4626E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3F28-C714-4B3A-ADA6-09577BD45AC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798B-C29B-438C-A4C8-498539F04B7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E19E-4469-4D1B-AB4B-20E66B6B51E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3FB4-B40F-497E-9202-E48D2D2FBF3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4502-A169-4B15-83B7-4E8E2BF2C48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BB0D-463F-4401-B87F-2F0EDC4FDCF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4194-C8CA-49AF-B52F-DE6F88CDCFF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C323-8C21-4539-BE5A-74282399295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492C-5F5F-4E22-9DF5-845691043EC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5F5D-227A-4832-AAC0-170F4852A13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6C73-43FD-482A-B4F7-0911F2659AE5}"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C582-4F94-4535-A9BE-34CB5A006AD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3A06-C046-419E-AB6E-ECAB3C90B2E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