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6.wmf" ContentType="image/x-wmf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8.png" ContentType="image/png"/>
  <Override PartName="/ppt/media/image38.png" ContentType="image/png"/>
  <Override PartName="/ppt/media/image41.wmf" ContentType="image/x-wmf"/>
  <Override PartName="/ppt/media/image3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5.wmf" ContentType="image/x-wmf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  <p:sldId id="304" r:id="rId64"/>
    <p:sldId id="305" r:id="rId65"/>
    <p:sldId id="306" r:id="rId66"/>
    <p:sldId id="307" r:id="rId67"/>
    <p:sldId id="308" r:id="rId68"/>
    <p:sldId id="309" r:id="rId69"/>
    <p:sldId id="310" r:id="rId70"/>
    <p:sldId id="311" r:id="rId71"/>
    <p:sldId id="312" r:id="rId72"/>
    <p:sldId id="313" r:id="rId73"/>
    <p:sldId id="31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slide" Target="slides/slide49.xml"/><Relationship Id="rId65" Type="http://schemas.openxmlformats.org/officeDocument/2006/relationships/slide" Target="slides/slide50.xml"/><Relationship Id="rId66" Type="http://schemas.openxmlformats.org/officeDocument/2006/relationships/slide" Target="slides/slide51.xml"/><Relationship Id="rId67" Type="http://schemas.openxmlformats.org/officeDocument/2006/relationships/slide" Target="slides/slide52.xml"/><Relationship Id="rId68" Type="http://schemas.openxmlformats.org/officeDocument/2006/relationships/slide" Target="slides/slide53.xml"/><Relationship Id="rId69" Type="http://schemas.openxmlformats.org/officeDocument/2006/relationships/slide" Target="slides/slide54.xml"/><Relationship Id="rId70" Type="http://schemas.openxmlformats.org/officeDocument/2006/relationships/slide" Target="slides/slide55.xml"/><Relationship Id="rId71" Type="http://schemas.openxmlformats.org/officeDocument/2006/relationships/slide" Target="slides/slide56.xml"/><Relationship Id="rId72" Type="http://schemas.openxmlformats.org/officeDocument/2006/relationships/slide" Target="slides/slide57.xml"/><Relationship Id="rId73" Type="http://schemas.openxmlformats.org/officeDocument/2006/relationships/slide" Target="slides/slide58.xml"/><Relationship Id="rId74" Type="http://schemas.openxmlformats.org/officeDocument/2006/relationships/slide" Target="slides/slide59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6343-D005-4C82-A936-5D51DB22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FB8-1675-4CEA-B546-F3DF593B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024BA-EB74-4673-83DF-330D6A64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FAF32E-74A9-4909-96E3-8CE26B63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30051-B334-4F3C-AAE9-757D009D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B1C30-9A82-4D6D-96C2-66356B3A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AF1BE-B7E3-4A16-897B-00EC0084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279183-A047-49CF-8FA2-49E9D48F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C38C8-F5BB-40CD-99DC-F45D8830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231B2-94E5-45A0-A38B-ADC8B71F1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F7FDA-1630-4AF1-8860-3625997D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F9135-869C-4848-82BA-0B7B3E3E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B278-42B0-4F7A-996E-7A2701B60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7F796-612C-4D91-A36D-791C06F9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9CE1CA-8E30-41BA-84AC-6164F94A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BDC1B-4816-403A-B6AD-21494FE2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CDC76-67A2-4308-B14F-ADCE32C5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2E6F6-5C10-4254-92FA-E0FA99B6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1BC9C8-B68B-46DD-9763-7E907DFF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CFD7F-2F8A-44B4-827A-9B12AD42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3884D-737A-45C4-97EC-6D0BD21C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6A7D2-8C70-4DAA-B55E-01641C97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D0D4B-E99C-4381-8FA8-481E3B651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A056-B933-4934-AE0D-81941436C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6E5F6-C0D7-49B7-B163-DA82C69A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5AA79-A183-4372-B622-955BF3C1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9F7F1-3253-49D7-8C40-527888EF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B5E51-C505-428A-B919-15BF0882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CD2E3-06E7-4EBB-9930-56758E41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78867-08C4-4573-91A1-60FB36F8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F353F-9D15-41D4-AFB8-014CCFA6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4399C-B227-47FC-9F65-C94ECA47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51EDB-FC9A-42D1-9B75-2C6E29FA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F3E84-D953-402E-B5DA-1E571BD3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23A5-6AB4-4672-856F-FCFF31CA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4FCCD-792A-419D-BE1F-9750E7935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127B9-018B-4405-9C32-FABF4BEC6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61C47-D8B6-4ED9-8B29-6E88D7F5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A63EF-ED95-499B-BF4A-17075D8F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8263D-0050-4DAD-A803-73F05B49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2F0DB-DA0E-403D-8084-32B2AC5D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33EE8-4804-4481-A944-4FA0A08B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C2F73-7B26-4C08-A5AA-E078A7C1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6EEF6-CBAD-449C-8F25-693FA2EE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1E2DB-7399-46BD-9496-05A62FEF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DD73D-C5C5-4D17-BB3E-A7F5E399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FE948-7FB3-4881-BBF6-F3BADB1A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9322B-0510-42BD-9F4C-2E7015CD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EB9DA7-C297-4FB6-8287-63507591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30811-61B4-4310-9609-753C62A1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B364E-0233-4251-A1FE-3022D471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94697-3B00-41B5-AB7C-DBC86A79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899313-424D-430F-B566-0311C02F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3E1F67-5FB6-4EB7-9660-B422CF3D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9B3DD4-BA02-4D59-90C7-385D86ED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F9847-DB97-445F-BA31-32757981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58D2-B085-4FFE-B880-22707FDA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40882-368D-424F-B6A0-D78FF941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6672E-CFD4-400F-90B4-FC427238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30FC9-C201-403B-89FD-A487D3B4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8BDEE1-1521-40E6-A822-11E953F6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B6A74F-E148-46CA-AC37-60060BBF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6ACE3-DE66-4E3D-8261-920F7C4E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1A079B-771E-462F-8677-637E499D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676972-BCC5-482F-AA27-29B3712F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BE024A-406C-4640-AF01-0C293C25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8B94D8-38CB-4778-BEFB-5E2DD2E7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C865-93DB-4991-A105-99422089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EAEE32-9E80-45B0-9609-B82330C9A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098F55-0F00-41EC-BCF2-83531DEA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36AB8A-4956-4687-9653-8F15767B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116B64-0C59-4F15-BA40-0E4CE43E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355E10-21C0-4269-84D5-DCE7D633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767416-4BA3-4509-A68F-00765A0E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D65DE-DA84-43CF-A719-58951C5B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5DC3E2-30EC-49A9-A4FE-C9DD6E49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888C6C-AD8E-460B-A836-C4AD13B7F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5266-416B-48DE-A48C-49CF78DD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440E-A17D-43EB-AE74-7701988D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C7D8-71D1-4391-B74B-8ACFC307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0841-091A-41F6-BF5B-055D8D5C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D85D-B2A1-4773-90A2-68336EA2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AA73-D9AB-44E7-82F0-32FA1AC9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4E45-4C97-437D-8636-E15A179A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43F8-88E0-4017-A7E2-B342C7A4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3089-4C55-4049-B3D0-B4A00D6D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B3465-D6A7-45B8-A154-C34CE6C7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1B759-DF47-4AF7-9335-8DC1BAB4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CDEC6-9C5E-4386-B38F-5C41E07C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CE4DC-48FB-498E-8C88-94E0EBA7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66787-5734-4ED7-B89F-DAC77F573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970C-5379-459F-AFC3-ADDAE504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25E22-A33E-404F-B82C-5F35AD91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86F5A-3195-4262-B31E-D956600B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8CC76-8BBD-4738-B518-00EE820C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AAC49-C6DA-4782-ACE5-7A1D9519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DADA2-302E-49FC-8154-62E46955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FE4EA-57AF-4125-A556-4A363282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71134-1C50-4726-B5C4-EAA025F9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A1AF7-8E27-4F57-A27C-92A1722A0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0556C-F924-4265-AAD8-E36886BB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FDCE1-4BF3-4680-B422-1BBC775C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BEFB-DACA-4579-B634-8F3895C4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4E21A-8798-4D17-B8AC-DF8EAA34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E4BFE-0D06-4312-846B-7C14C771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2A0C2-2337-4893-937E-0E16EE0E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09A27-F39E-415B-9BD2-C7AED81A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31DF8-AB14-4129-8314-19E86759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87173-96C0-43EA-B2EE-90C1786C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AF90A-0841-4E6A-B8E2-3C7C53B2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AEBB5-1CC1-44B5-B934-EDFEA3DB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328E8-AE47-4F2B-B765-5A2A57C9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652CD-F3E4-4D2B-B3D3-7975259B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61A7-3137-4058-AF3C-C5EC6838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D7C94-19DC-4315-9A17-326EA5E2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A1236-B6D4-4C19-83AA-72FB2FB81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46C82-55DA-4E97-AB41-C159D7AD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572CB-EF46-4C93-8100-1DC220BD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0AB19-505D-4011-B48A-0E886FC7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86D20-DFFA-4B6A-BB13-F8AD960D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01B64-2D9B-4769-BD31-F83455A6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BE048-8069-4A1B-B7BF-CB6870FA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0A06F-514D-48D6-8EF0-B4ED5834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68385-63C6-4FA1-BBF5-810CDDA3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984-BA02-49E8-A9A8-006F1B3E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10EEB-B0F3-4404-95B0-9E88E023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B1C39-92D1-4C0C-B4D5-E8CC555A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6E122-574D-40C1-A0B6-B08FDF7F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18CDE-C9AF-4B5E-87D6-FED47F7B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562F4-A6D5-4859-B19D-0F4B5CDC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9CDDE-D8D6-4D76-9194-2684E924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21B9C-C5CF-437D-BF0B-83D08454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64BEB-13B9-4D5A-9F01-ADA87132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BC2C3-4198-4503-96E7-5A88C995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9BABE-0BFF-4239-A59F-9B0CEDCC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9992-A485-411A-8626-19F1AE84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F9D48-9CB2-423A-A233-9C6AE463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EA3A3-5D6B-4BFE-B456-E766CEC8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D547A-AA9B-4A9C-BE79-3F08323D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467E3-AB24-46CD-A7DC-17571AC2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A7AE5-1FE3-4F5B-9B9F-72EA8D2B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916B79-A691-41D9-8EE4-F88D7C3D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6D665-358E-4920-B4EC-45B2105D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A0203-8AA2-4B5C-A312-BB97A45C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37088-FB21-41B8-AF74-476D5CBC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B9A7A-B280-485F-B6C5-84AF47AD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4767-3F17-4C76-A05F-7A8E6FE9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5E6A6-8017-460F-99C4-A1C6CEEB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5F622-5CFC-4C7D-B942-367417AD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F4EA4-77C2-42AD-8C47-6FC9A4CC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972F1-A5E1-438F-A372-8A5615B0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35AEE-9F62-4E6C-9915-D07D9BB3C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1B7E9-97E8-4DE9-83A5-DB4AF8A5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35751-D714-45B5-A230-5E93D5C0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90105-0FD8-42CC-B0AB-EB39BAC3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344C0-A862-43FF-8E59-39700B25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6911F-65D1-4E87-A607-D3167D7F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539D-E441-4536-BDB1-82F43BFB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A3779-0A98-4E52-8BD7-E0EA5A18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C86A9-707F-4E7F-A835-6EE53374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FB4E0-57E2-4C61-88DE-193EB7C5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23481-4908-4E68-9F4C-8204B781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5C4CD-6945-42BC-8BBD-FEEE3274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75089-8F14-4B32-B630-FF1D862D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151FC-36BA-4901-89A4-F18F7513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3F2F1-D4F5-46AD-9149-AECD580C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BE679-6C94-4CB4-AF0C-578A7658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83D18-9046-4EFA-8EAF-75EAAB70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85BE-7E3F-47FA-893C-D7A76DF3C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C326-F711-40AB-882C-9C20B8CAF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F72C-71EE-4376-A21E-58FFD0187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2F8A-3CF5-40E0-B489-F91E85F28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863E-9BFC-45BE-9D4A-A820C8610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B6EE-7511-496F-BEFA-75D243D14A19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C61B7-1175-4352-AD3D-D90815B80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23E1-1A44-4760-BBAD-C0B6A61E6B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9655-F637-4B19-AA06-BD10BABA0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294F-EB9E-400A-B37E-D71A1B5A1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A352-565B-4773-A8C8-E9EADD810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2761-54E4-4FBF-97E0-8469B0238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96E7-198D-49A0-9831-ADDB28FD1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BE0B-7DCB-4694-9C56-A88352C61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1413000"/>
            <a:ext cx="733896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六章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生物氧化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763640" y="249228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Biological Oxidation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76" name="Picture 4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5991120" cy="255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四、催化生物氧化的酶包括氧化酶类和脱氢酶类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氧化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酶类的辅基常含有金属离子如铁或铜，催化代谢物脱氢氧化，氧分子接受氢生成水。如抗坏血酸氧化酶、细胞色素氧化酶等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酶类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脱氢酶类的催化作用需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FAD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P+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为辅基或辅酶，催化代谢物脱氢。根据是否需要氧作为直接受氢体，可将脱氢酶分为需氧脱氢酶和不需氧脱氢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3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700" fill="hold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三）其他酶类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除上述酶类外，体内还有加单氧酶、加双氧酶、过氧化氢酶、过氧化物酶、超氧化物歧化酶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SOD)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等参与氧化还原反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30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五、生物氧化过程中有机酸脱羧基产生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类及蛋白质在体内代谢过程中产生不同的有机酸，有机酸在酶的催化下，脱羧基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根据脱去的羧基在有机酸的位置，分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α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和</a:t>
            </a:r>
            <a:r>
              <a:rPr b="0" lang="en-US" sz="3200" spc="-1" strike="noStrike">
                <a:solidFill>
                  <a:srgbClr val="ff3399"/>
                </a:solidFill>
                <a:latin typeface="Arial"/>
              </a:rPr>
              <a:t>β-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两种。又根据脱羧反应是否伴有脱氢，分为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单纯脱羧和氧化脱羧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0" dur="2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仿宋"/>
                <a:ea typeface="仿宋"/>
              </a:rPr>
              <a:t>第二节  线粒体内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2" name="Picture 3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54064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呼吸链包含多种成分，并按一定顺序排列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呼吸链的主要成分及其作用机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主要功能是接受从代谢物上脱下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+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，然后传递给呼吸链另一组分黄素蛋白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递氢体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800" fill="hold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无名"/>
          <p:cNvPicPr/>
          <p:nvPr/>
        </p:nvPicPr>
        <p:blipFill>
          <a:blip r:embed="rId1"/>
          <a:stretch/>
        </p:blipFill>
        <p:spPr>
          <a:xfrm>
            <a:off x="1042920" y="1916280"/>
            <a:ext cx="7161120" cy="41940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3"/>
          <p:cNvSpPr/>
          <p:nvPr/>
        </p:nvSpPr>
        <p:spPr>
          <a:xfrm>
            <a:off x="1042920" y="692280"/>
            <a:ext cx="7489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=H: 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;      R=H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PO</a:t>
            </a:r>
            <a:r>
              <a:rPr b="0" lang="en-US" sz="32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8" name="Picture 3" descr="NAD(P)-NAD(P)H`"/>
          <p:cNvPicPr/>
          <p:nvPr/>
        </p:nvPicPr>
        <p:blipFill>
          <a:blip r:embed="rId1"/>
          <a:stretch/>
        </p:blipFill>
        <p:spPr>
          <a:xfrm>
            <a:off x="468360" y="1773360"/>
            <a:ext cx="813600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黄素酶或黄素蛋白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F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0" name="Picture 3" descr=""/>
          <p:cNvPicPr/>
          <p:nvPr/>
        </p:nvPicPr>
        <p:blipFill>
          <a:blip r:embed="rId1"/>
          <a:stretch/>
        </p:blipFill>
        <p:spPr>
          <a:xfrm>
            <a:off x="301680" y="190512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2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  <p:sp>
        <p:nvSpPr>
          <p:cNvPr id="613" name="Line 4"/>
          <p:cNvSpPr/>
          <p:nvPr/>
        </p:nvSpPr>
        <p:spPr>
          <a:xfrm flipV="1">
            <a:off x="1547640" y="4292280"/>
            <a:ext cx="576360" cy="57636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Line 5"/>
          <p:cNvSpPr/>
          <p:nvPr/>
        </p:nvSpPr>
        <p:spPr>
          <a:xfrm flipH="1">
            <a:off x="2987280" y="2133720"/>
            <a:ext cx="360360" cy="64764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铁硫蛋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Fe-S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结构及递电子机制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6" name="Picture 3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7026480" cy="41940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4"/>
          <p:cNvSpPr/>
          <p:nvPr/>
        </p:nvSpPr>
        <p:spPr>
          <a:xfrm>
            <a:off x="6104520" y="4797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Ⓢ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表示无机硫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学    习     重     点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生物氧化的概念及意义；了解生物氧化的特点及主要酶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呼吸链的主要组成成分，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呼吸链的电子传递顺序；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线粒体外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转运进入线粒体的机制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掌握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磷酸化的概念、偶联部位；了解氧化磷酸化机制及影响因素。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熟悉体内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主要方式及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的生理功用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5.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了解不生成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氧化途径、主要场所及主要氧化体系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9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泛醌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U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又称辅酶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Q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结构与递氢机制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9" name="Picture 3" descr=""/>
          <p:cNvPicPr/>
          <p:nvPr/>
        </p:nvPicPr>
        <p:blipFill>
          <a:blip r:embed="rId1"/>
          <a:stretch/>
        </p:blipFill>
        <p:spPr>
          <a:xfrm>
            <a:off x="0" y="2565360"/>
            <a:ext cx="9144000" cy="3888000"/>
          </a:xfrm>
          <a:prstGeom prst="rect">
            <a:avLst/>
          </a:prstGeom>
          <a:ln w="0">
            <a:noFill/>
          </a:ln>
        </p:spPr>
      </p:pic>
      <p:sp>
        <p:nvSpPr>
          <p:cNvPr id="620" name="Line 4"/>
          <p:cNvSpPr/>
          <p:nvPr/>
        </p:nvSpPr>
        <p:spPr>
          <a:xfrm flipH="1" flipV="1">
            <a:off x="6659640" y="3284640"/>
            <a:ext cx="792000" cy="7128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1" name="Line 5"/>
          <p:cNvSpPr/>
          <p:nvPr/>
        </p:nvSpPr>
        <p:spPr>
          <a:xfrm flipH="1">
            <a:off x="6732720" y="5950080"/>
            <a:ext cx="792000" cy="0"/>
          </a:xfrm>
          <a:prstGeom prst="line">
            <a:avLst/>
          </a:prstGeom>
          <a:ln w="9360">
            <a:solidFill>
              <a:srgbClr val="ff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39640" y="2565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氧化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3" name="Text Box 7"/>
          <p:cNvSpPr/>
          <p:nvPr/>
        </p:nvSpPr>
        <p:spPr>
          <a:xfrm>
            <a:off x="5651640" y="2708280"/>
            <a:ext cx="19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CoQH</a:t>
            </a:r>
            <a:r>
              <a:rPr b="0" lang="en-US" sz="1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还原型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（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yt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）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细胞色素是一类以铁铁卟啉为辅基的催化电子传递的酶类，根据它们吸收光谱不同而分类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呼吸链中的细胞色素有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等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很难分开，组成一复合体，统称为细胞色素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yt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传递电子的顺序：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→c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→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c → a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20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细胞色素传递电子机制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155600" y="2953440"/>
            <a:ext cx="6832800" cy="20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3+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+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-      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Cyt-Fe</a:t>
            </a:r>
            <a:r>
              <a:rPr b="0" lang="en-US" sz="4400" spc="-1" strike="noStrike" baseline="30000">
                <a:solidFill>
                  <a:srgbClr val="007a77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8" name="AutoShape 4"/>
          <p:cNvSpPr/>
          <p:nvPr/>
        </p:nvSpPr>
        <p:spPr>
          <a:xfrm>
            <a:off x="4356000" y="3933720"/>
            <a:ext cx="1511280" cy="216000"/>
          </a:xfrm>
          <a:prstGeom prst="leftRightArrow">
            <a:avLst>
              <a:gd name="adj1" fmla="val 50000"/>
              <a:gd name="adj2" fmla="val 139285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9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9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递氢体               递电子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NADP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+       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e-S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MN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AD                        Cyt-Fe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UQ(CoQ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呼吸链中大部分组成成分形成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个蛋白复合体，只有少数游离存在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32" name="Object 3"/>
          <p:cNvGraphicFramePr/>
          <p:nvPr/>
        </p:nvGraphicFramePr>
        <p:xfrm>
          <a:off x="380880" y="2225520"/>
          <a:ext cx="838224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25520"/>
                    <a:ext cx="83822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Rectangle 4"/>
          <p:cNvSpPr/>
          <p:nvPr/>
        </p:nvSpPr>
        <p:spPr>
          <a:xfrm>
            <a:off x="2535480" y="5877000"/>
            <a:ext cx="3225240" cy="368280"/>
          </a:xfrm>
          <a:prstGeom prst="rect">
            <a:avLst/>
          </a:prstGeom>
          <a:solidFill>
            <a:srgbClr val="dc5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泛醌 和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yt c 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均不包含在上述四种复合体中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呼吸链各复合体在线粒体内膜中的位置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6" name="Picture 3" descr="6-1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呼吸链组分按氧化还原电位由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低到高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排列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5407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目前普遍认为呼吸链的传递顺序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              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39" name="Picture 4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867564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和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两条重要的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1. NADH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氧化呼吸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ADH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Ⅰ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979a5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7979a5"/>
                </a:solidFill>
                <a:latin typeface="Arial"/>
              </a:rPr>
              <a:t>琥珀酸氧化呼吸链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琥珀酸 →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Ⅱ 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Q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Ⅲ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Cyt c →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复合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Ⅳ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9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一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是体内最常见的一条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3" name="Picture 3" descr="NAD氧化呼吸链"/>
          <p:cNvPicPr/>
          <p:nvPr/>
        </p:nvPicPr>
        <p:blipFill>
          <a:blip r:embed="rId1"/>
          <a:stretch/>
        </p:blipFill>
        <p:spPr>
          <a:xfrm>
            <a:off x="684360" y="1844640"/>
            <a:ext cx="784836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ADH</a:t>
            </a:r>
            <a:r>
              <a:rPr b="0" lang="en-US" sz="40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呼吸链也叫琥珀酸氧化呼吸链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5" name="Picture 3" descr="FAD氧化呼吸链"/>
          <p:cNvPicPr/>
          <p:nvPr/>
        </p:nvPicPr>
        <p:blipFill>
          <a:blip r:embed="rId1"/>
          <a:stretch/>
        </p:blipFill>
        <p:spPr>
          <a:xfrm>
            <a:off x="539640" y="2421000"/>
            <a:ext cx="813600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一节  概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生物氧化是物质在体内氧化分解的过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8036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3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两条呼吸链传递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7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传递机制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684360" y="2120760"/>
            <a:ext cx="7991280" cy="404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糖代谢与呼吸链联系示意图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424720" cy="43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三、生物氧化过程中有部分能量用于生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T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3" name="Organization Chart 3"/>
          <p:cNvGrpSpPr/>
          <p:nvPr/>
        </p:nvGrpSpPr>
        <p:grpSpPr>
          <a:xfrm>
            <a:off x="0" y="1916280"/>
            <a:ext cx="8747640" cy="4192560"/>
            <a:chOff x="0" y="1916280"/>
            <a:chExt cx="8747640" cy="4192560"/>
          </a:xfrm>
        </p:grpSpPr>
        <p:cxnSp>
          <p:nvCxnSpPr>
            <p:cNvPr id="654" name="_s1028"/>
            <p:cNvCxnSpPr>
              <a:stCxn id="655" idx="0"/>
              <a:endCxn id="656" idx="2"/>
            </p:cNvCxnSpPr>
            <p:nvPr/>
          </p:nvCxnSpPr>
          <p:spPr>
            <a:xfrm flipV="1" rot="16200000">
              <a:off x="5131080" y="2833920"/>
              <a:ext cx="839160" cy="235620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657" name="_s1029"/>
            <p:cNvCxnSpPr>
              <a:stCxn id="658" idx="0"/>
              <a:endCxn id="656" idx="2"/>
            </p:cNvCxnSpPr>
            <p:nvPr/>
          </p:nvCxnSpPr>
          <p:spPr>
            <a:xfrm flipH="1" flipV="1" rot="5400000">
              <a:off x="2776320" y="2834640"/>
              <a:ext cx="839160" cy="23551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656" name="_s1030"/>
            <p:cNvSpPr/>
            <p:nvPr/>
          </p:nvSpPr>
          <p:spPr>
            <a:xfrm>
              <a:off x="2354400" y="191628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两种形式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8" name="_s1031"/>
            <p:cNvSpPr/>
            <p:nvPr/>
          </p:nvSpPr>
          <p:spPr>
            <a:xfrm>
              <a:off x="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底物水平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55" name="_s1032"/>
            <p:cNvSpPr/>
            <p:nvPr/>
          </p:nvSpPr>
          <p:spPr>
            <a:xfrm>
              <a:off x="4710240" y="4431960"/>
              <a:ext cx="4037400" cy="167688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500" spc="-1" strike="noStrike">
                  <a:solidFill>
                    <a:srgbClr val="007a77"/>
                  </a:solidFill>
                  <a:latin typeface="Arial"/>
                </a:rPr>
                <a:t>氧化磷酸化</a:t>
              </a:r>
              <a:endParaRPr b="0" lang="en-US" sz="3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底物水平磷酸化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substrate level phosphorylation)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底物分子内部能量重新分布，生成高能键，使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磷酸化生成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的过程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AutoShape 4"/>
          <p:cNvSpPr/>
          <p:nvPr/>
        </p:nvSpPr>
        <p:spPr>
          <a:xfrm>
            <a:off x="1979640" y="3789360"/>
            <a:ext cx="6948360" cy="259236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水解时释放的能量大于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21KJ/mo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45720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仿宋"/>
                <a:ea typeface="仿宋"/>
              </a:rPr>
              <a:t>的磷酸酯键，称为高能键。常表示为 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7a77"/>
                </a:solidFill>
                <a:latin typeface="仿宋"/>
                <a:ea typeface="仿宋"/>
              </a:rPr>
              <a:t>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48640" cy="5418360"/>
          </a:xfrm>
          <a:prstGeom prst="rect">
            <a:avLst/>
          </a:prstGeom>
          <a:ln w="0">
            <a:noFill/>
          </a:ln>
        </p:spPr>
      </p:pic>
      <p:sp>
        <p:nvSpPr>
          <p:cNvPr id="663" name="Oval 3"/>
          <p:cNvSpPr/>
          <p:nvPr/>
        </p:nvSpPr>
        <p:spPr>
          <a:xfrm>
            <a:off x="0" y="1341360"/>
            <a:ext cx="1042920" cy="4103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含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能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键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化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物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4" name="Line 4"/>
          <p:cNvSpPr/>
          <p:nvPr/>
        </p:nvSpPr>
        <p:spPr>
          <a:xfrm flipV="1">
            <a:off x="971640" y="1557000"/>
            <a:ext cx="792000" cy="6476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1116000" y="3357720"/>
            <a:ext cx="7192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971640" y="4724280"/>
            <a:ext cx="936360" cy="649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氧化磷酸化 </a:t>
            </a:r>
            <a:r>
              <a:rPr b="1" lang="en-US" sz="4000" spc="-1" strike="noStrike">
                <a:solidFill>
                  <a:srgbClr val="7979a5"/>
                </a:solidFill>
                <a:latin typeface="Arial"/>
              </a:rPr>
              <a:t>(oxidative phosphorylation)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8423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定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在呼吸链电子传递过程中偶联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D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磷酸化，生成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又称为</a:t>
            </a:r>
            <a:r>
              <a:rPr b="1" lang="zh-CN" sz="2800" spc="-1" strike="noStrike">
                <a:solidFill>
                  <a:srgbClr val="7979a5"/>
                </a:solidFill>
                <a:latin typeface="Arial"/>
              </a:rPr>
              <a:t>偶联磷酸化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Arial"/>
              </a:rPr>
              <a:t>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69" name="Object 4"/>
          <p:cNvGraphicFramePr/>
          <p:nvPr/>
        </p:nvGraphicFramePr>
        <p:xfrm>
          <a:off x="1042920" y="4076640"/>
          <a:ext cx="7489800" cy="231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076640"/>
                    <a:ext cx="7489800" cy="23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4" dur="1000"/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Picture 2" descr="链1"/>
          <p:cNvPicPr/>
          <p:nvPr/>
        </p:nvPicPr>
        <p:blipFill>
          <a:blip r:embed="rId1"/>
          <a:stretch/>
        </p:blipFill>
        <p:spPr>
          <a:xfrm>
            <a:off x="684360" y="836640"/>
            <a:ext cx="8135640" cy="3313080"/>
          </a:xfrm>
          <a:prstGeom prst="rect">
            <a:avLst/>
          </a:prstGeom>
          <a:ln w="0">
            <a:noFill/>
          </a:ln>
        </p:spPr>
      </p:pic>
      <p:grpSp>
        <p:nvGrpSpPr>
          <p:cNvPr id="672" name="Group 3"/>
          <p:cNvGrpSpPr/>
          <p:nvPr/>
        </p:nvGrpSpPr>
        <p:grpSpPr>
          <a:xfrm>
            <a:off x="755640" y="4365720"/>
            <a:ext cx="2286000" cy="779760"/>
            <a:chOff x="755640" y="4365720"/>
            <a:chExt cx="2286000" cy="779760"/>
          </a:xfrm>
        </p:grpSpPr>
        <p:sp>
          <p:nvSpPr>
            <p:cNvPr id="673" name="Line 4"/>
            <p:cNvSpPr/>
            <p:nvPr/>
          </p:nvSpPr>
          <p:spPr>
            <a:xfrm>
              <a:off x="3041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4" name="Line 5"/>
            <p:cNvSpPr/>
            <p:nvPr/>
          </p:nvSpPr>
          <p:spPr>
            <a:xfrm>
              <a:off x="755640" y="4365720"/>
              <a:ext cx="0" cy="7617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5" name="Line 6"/>
            <p:cNvSpPr/>
            <p:nvPr/>
          </p:nvSpPr>
          <p:spPr>
            <a:xfrm flipH="1">
              <a:off x="7556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6" name="Line 7"/>
            <p:cNvSpPr/>
            <p:nvPr/>
          </p:nvSpPr>
          <p:spPr>
            <a:xfrm>
              <a:off x="2584440" y="4964400"/>
              <a:ext cx="4572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77" name="Text Box 8"/>
            <p:cNvSpPr/>
            <p:nvPr/>
          </p:nvSpPr>
          <p:spPr>
            <a:xfrm>
              <a:off x="1365120" y="474660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  <a:ea typeface="GungsuhChe"/>
                </a:rPr>
                <a:t>ATP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78" name="Group 9"/>
          <p:cNvGrpSpPr/>
          <p:nvPr/>
        </p:nvGrpSpPr>
        <p:grpSpPr>
          <a:xfrm>
            <a:off x="3203280" y="4508640"/>
            <a:ext cx="3429360" cy="452880"/>
            <a:chOff x="3203280" y="4508640"/>
            <a:chExt cx="3429360" cy="452880"/>
          </a:xfrm>
        </p:grpSpPr>
        <p:sp>
          <p:nvSpPr>
            <p:cNvPr id="679" name="Line 10"/>
            <p:cNvSpPr/>
            <p:nvPr/>
          </p:nvSpPr>
          <p:spPr>
            <a:xfrm>
              <a:off x="6632640" y="4508640"/>
              <a:ext cx="0" cy="268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0" name="Line 11"/>
            <p:cNvSpPr/>
            <p:nvPr/>
          </p:nvSpPr>
          <p:spPr>
            <a:xfrm flipH="1">
              <a:off x="3203280" y="4627800"/>
              <a:ext cx="609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1" name="Line 12"/>
            <p:cNvSpPr/>
            <p:nvPr/>
          </p:nvSpPr>
          <p:spPr>
            <a:xfrm>
              <a:off x="6099120" y="4627800"/>
              <a:ext cx="5335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4482360" y="4562640"/>
              <a:ext cx="79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683" name="Group 14"/>
          <p:cNvGrpSpPr/>
          <p:nvPr/>
        </p:nvGrpSpPr>
        <p:grpSpPr>
          <a:xfrm>
            <a:off x="6781680" y="4365720"/>
            <a:ext cx="2361960" cy="499680"/>
            <a:chOff x="6781680" y="4365720"/>
            <a:chExt cx="2361960" cy="499680"/>
          </a:xfrm>
        </p:grpSpPr>
        <p:sp>
          <p:nvSpPr>
            <p:cNvPr id="684" name="Line 15"/>
            <p:cNvSpPr/>
            <p:nvPr/>
          </p:nvSpPr>
          <p:spPr>
            <a:xfrm>
              <a:off x="678168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5" name="Line 16"/>
            <p:cNvSpPr/>
            <p:nvPr/>
          </p:nvSpPr>
          <p:spPr>
            <a:xfrm>
              <a:off x="9143640" y="4365720"/>
              <a:ext cx="0" cy="4460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6" name="Line 17"/>
            <p:cNvSpPr/>
            <p:nvPr/>
          </p:nvSpPr>
          <p:spPr>
            <a:xfrm flipH="1">
              <a:off x="67816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7" name="Line 18"/>
            <p:cNvSpPr/>
            <p:nvPr/>
          </p:nvSpPr>
          <p:spPr>
            <a:xfrm>
              <a:off x="8700480" y="4588560"/>
              <a:ext cx="44280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88" name="Rectangle 19"/>
            <p:cNvSpPr/>
            <p:nvPr/>
          </p:nvSpPr>
          <p:spPr>
            <a:xfrm>
              <a:off x="7180200" y="446652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   </a:t>
              </a:r>
              <a:r>
                <a:rPr b="1" lang="en-US" sz="2000" spc="-1" strike="noStrike">
                  <a:solidFill>
                    <a:srgbClr val="b72415"/>
                  </a:solidFill>
                  <a:latin typeface="Verdana"/>
                </a:rPr>
                <a:t>ATP  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89" name="Rectangle 20"/>
          <p:cNvSpPr/>
          <p:nvPr/>
        </p:nvSpPr>
        <p:spPr>
          <a:xfrm>
            <a:off x="4067280" y="5445000"/>
            <a:ext cx="3657600" cy="6098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楷体"/>
                <a:ea typeface="华文楷体"/>
              </a:rPr>
              <a:t>氧化磷酸化偶联部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9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氧化磷酸化及偶联部位示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1" name="Picture 3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40640" cy="419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关于呼吸链产生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数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是指物质氧化时，每消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摩尔氧原子所消耗的无机磷的摩尔数（或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），即生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摩尔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实验所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分别为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~3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为电子供体）和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~2</a:t>
            </a:r>
            <a:r>
              <a:rPr b="1" i="1" lang="zh-CN" sz="3200" spc="-1" strike="noStrike">
                <a:solidFill>
                  <a:srgbClr val="ffffff"/>
                </a:solidFill>
                <a:latin typeface="Arial"/>
              </a:rPr>
              <a:t>（琥珀酸为电子供体）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折中数据，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H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；琥珀酸氧化呼吸链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/O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比为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5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6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1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6" dur="2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生物氧化由酶催化逐步进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0866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糖、脂肪及蛋白质等营养物质在体内氧化及体外燃烧虽然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终产物都是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，释放的总能量也完全相等，氧化反应类型也相同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但二者在条件、能量释放等方面却大不相同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3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氧化磷酸化的机制示意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化学渗透学说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5" name="Picture 3" descr="无标题"/>
          <p:cNvPicPr/>
          <p:nvPr/>
        </p:nvPicPr>
        <p:blipFill>
          <a:blip r:embed="rId1">
            <a:grayscl/>
          </a:blip>
          <a:stretch/>
        </p:blipFill>
        <p:spPr>
          <a:xfrm>
            <a:off x="684360" y="2133720"/>
            <a:ext cx="7343640" cy="395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2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8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（三）影响氧化磷酸化作用的因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＊</a:t>
            </a: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是调节氧化磷酸化的主要因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c59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甲状腺素能使机体耗氧和产热均增加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氧化磷酸化抑制剂：主要有呼吸链阻断剂和解偶     联剂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5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5" dur="10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10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c5900"/>
                </a:solidFill>
                <a:latin typeface="Arial"/>
              </a:rPr>
              <a:t>1. ADP/ATP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调节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9" name="Diagram 3"/>
          <p:cNvGrpSpPr/>
          <p:nvPr/>
        </p:nvGrpSpPr>
        <p:grpSpPr>
          <a:xfrm>
            <a:off x="536400" y="1805760"/>
            <a:ext cx="8092440" cy="4324320"/>
            <a:chOff x="536400" y="1805760"/>
            <a:chExt cx="8092440" cy="4324320"/>
          </a:xfrm>
        </p:grpSpPr>
        <p:sp>
          <p:nvSpPr>
            <p:cNvPr id="700" name="_s2052"/>
            <p:cNvSpPr/>
            <p:nvPr/>
          </p:nvSpPr>
          <p:spPr>
            <a:xfrm flipV="1">
              <a:off x="3233160" y="1805040"/>
              <a:ext cx="2698920" cy="1441800"/>
            </a:xfrm>
            <a:custGeom>
              <a:avLst/>
              <a:gdLst>
                <a:gd name="textAreaLeft" fmla="*/ 968400 w 2698920"/>
                <a:gd name="textAreaRight" fmla="*/ 1730520 w 2698920"/>
                <a:gd name="textAreaTop" fmla="*/ 517320 h 1441800"/>
                <a:gd name="textAreaBottom" fmla="*/ 92448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Arial"/>
                </a:rPr>
                <a:t>AD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1" name="_s2053"/>
            <p:cNvSpPr/>
            <p:nvPr/>
          </p:nvSpPr>
          <p:spPr>
            <a:xfrm flipV="1">
              <a:off x="1884960" y="3247920"/>
              <a:ext cx="5395680" cy="1440000"/>
            </a:xfrm>
            <a:custGeom>
              <a:avLst/>
              <a:gdLst>
                <a:gd name="textAreaLeft" fmla="*/ 1186560 w 5395680"/>
                <a:gd name="textAreaRight" fmla="*/ 4209120 w 5395680"/>
                <a:gd name="textAreaTop" fmla="*/ 316440 h 1440000"/>
                <a:gd name="textAreaBottom" fmla="*/ 1123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7a77"/>
                  </a:solidFill>
                  <a:latin typeface="Arial"/>
                </a:rPr>
                <a:t>ATP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2" name="_s2054"/>
            <p:cNvSpPr/>
            <p:nvPr/>
          </p:nvSpPr>
          <p:spPr>
            <a:xfrm flipV="1">
              <a:off x="536400" y="4687560"/>
              <a:ext cx="8092440" cy="1441800"/>
            </a:xfrm>
            <a:custGeom>
              <a:avLst/>
              <a:gdLst>
                <a:gd name="textAreaLeft" fmla="*/ 1404720 w 8092440"/>
                <a:gd name="textAreaRight" fmla="*/ 6687720 w 8092440"/>
                <a:gd name="textAreaTop" fmla="*/ 250200 h 1441800"/>
                <a:gd name="textAreaBottom" fmla="*/ 1191600 h 144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bf7ff"/>
            </a:solidFill>
            <a:ln w="46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氧化磷酸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7a77"/>
                  </a:solidFill>
                  <a:latin typeface="Arial"/>
                </a:rPr>
                <a:t>化速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03" name="Rectangle 8"/>
          <p:cNvSpPr/>
          <p:nvPr/>
        </p:nvSpPr>
        <p:spPr>
          <a:xfrm>
            <a:off x="5278320" y="3789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4" name="Rectangle 9"/>
          <p:cNvSpPr/>
          <p:nvPr/>
        </p:nvSpPr>
        <p:spPr>
          <a:xfrm>
            <a:off x="448632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AutoShape 10"/>
          <p:cNvSpPr/>
          <p:nvPr/>
        </p:nvSpPr>
        <p:spPr>
          <a:xfrm>
            <a:off x="5724360" y="5589720"/>
            <a:ext cx="71640" cy="360360"/>
          </a:xfrm>
          <a:prstGeom prst="upArrow">
            <a:avLst>
              <a:gd name="adj1" fmla="val 50000"/>
              <a:gd name="adj2" fmla="val 125754"/>
            </a:avLst>
          </a:prstGeom>
          <a:solidFill>
            <a:srgbClr val="dc59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59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dc5900"/>
                </a:solidFill>
                <a:latin typeface="Arial"/>
              </a:rPr>
              <a:t>甲状腺素调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7" name="Organization Chart 3"/>
          <p:cNvGrpSpPr/>
          <p:nvPr/>
        </p:nvGrpSpPr>
        <p:grpSpPr>
          <a:xfrm>
            <a:off x="2627280" y="1989000"/>
            <a:ext cx="4194000" cy="4192920"/>
            <a:chOff x="2627280" y="1989000"/>
            <a:chExt cx="4194000" cy="4192920"/>
          </a:xfrm>
        </p:grpSpPr>
        <p:cxnSp>
          <p:nvCxnSpPr>
            <p:cNvPr id="708" name="_s3076"/>
            <p:cNvCxnSpPr>
              <a:stCxn id="709" idx="0"/>
              <a:endCxn id="710" idx="2"/>
            </p:cNvCxnSpPr>
            <p:nvPr/>
          </p:nvCxnSpPr>
          <p:spPr>
            <a:xfrm flipV="1" rot="16200000">
              <a:off x="4868640" y="3520080"/>
              <a:ext cx="839160" cy="113004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cxnSp>
          <p:nvCxnSpPr>
            <p:cNvPr id="711" name="_s3077"/>
            <p:cNvCxnSpPr>
              <a:stCxn id="712" idx="0"/>
              <a:endCxn id="710" idx="2"/>
            </p:cNvCxnSpPr>
            <p:nvPr/>
          </p:nvCxnSpPr>
          <p:spPr>
            <a:xfrm flipH="1" flipV="1" rot="5400000">
              <a:off x="3739680" y="3520440"/>
              <a:ext cx="839160" cy="1129320"/>
            </a:xfrm>
            <a:prstGeom prst="bentConnector3">
              <a:avLst>
                <a:gd name="adj1" fmla="val 13605"/>
              </a:avLst>
            </a:prstGeom>
            <a:ln w="28440">
              <a:solidFill>
                <a:srgbClr val="007a77"/>
              </a:solidFill>
              <a:miter/>
            </a:ln>
          </p:spPr>
        </p:cxnSp>
        <p:sp>
          <p:nvSpPr>
            <p:cNvPr id="710" name="_s3078"/>
            <p:cNvSpPr/>
            <p:nvPr/>
          </p:nvSpPr>
          <p:spPr>
            <a:xfrm>
              <a:off x="3755880" y="198900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甲状腺素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12" name="_s3079"/>
            <p:cNvSpPr/>
            <p:nvPr/>
          </p:nvSpPr>
          <p:spPr>
            <a:xfrm>
              <a:off x="262728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Na+,K+–ATP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酶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09" name="_s3080"/>
            <p:cNvSpPr/>
            <p:nvPr/>
          </p:nvSpPr>
          <p:spPr>
            <a:xfrm>
              <a:off x="4885560" y="4504680"/>
              <a:ext cx="1935720" cy="1677240"/>
            </a:xfrm>
            <a:prstGeom prst="roundRect">
              <a:avLst>
                <a:gd name="adj" fmla="val 16667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解偶联蛋白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基因表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13" name="Text Box 10"/>
          <p:cNvSpPr/>
          <p:nvPr/>
        </p:nvSpPr>
        <p:spPr>
          <a:xfrm>
            <a:off x="2268360" y="40766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活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AutoShape 11"/>
          <p:cNvSpPr/>
          <p:nvPr/>
        </p:nvSpPr>
        <p:spPr>
          <a:xfrm>
            <a:off x="1116000" y="4941720"/>
            <a:ext cx="71280" cy="792360"/>
          </a:xfrm>
          <a:prstGeom prst="upArrow">
            <a:avLst>
              <a:gd name="adj1" fmla="val 50000"/>
              <a:gd name="adj2" fmla="val 27790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AutoShape 12"/>
          <p:cNvSpPr/>
          <p:nvPr/>
        </p:nvSpPr>
        <p:spPr>
          <a:xfrm>
            <a:off x="7164360" y="4797360"/>
            <a:ext cx="71640" cy="863640"/>
          </a:xfrm>
          <a:prstGeom prst="upArrow">
            <a:avLst>
              <a:gd name="adj1" fmla="val 50000"/>
              <a:gd name="adj2" fmla="val 30138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5940360" y="4005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使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332000" y="4869000"/>
            <a:ext cx="215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5"/>
          <p:cNvSpPr/>
          <p:nvPr/>
        </p:nvSpPr>
        <p:spPr>
          <a:xfrm flipH="1">
            <a:off x="1834920" y="5373720"/>
            <a:ext cx="64908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Text Box 16"/>
          <p:cNvSpPr/>
          <p:nvPr/>
        </p:nvSpPr>
        <p:spPr>
          <a:xfrm>
            <a:off x="197964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分解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7"/>
          <p:cNvSpPr/>
          <p:nvPr/>
        </p:nvSpPr>
        <p:spPr>
          <a:xfrm>
            <a:off x="7380360" y="5445000"/>
            <a:ext cx="57636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Text Box 18"/>
          <p:cNvSpPr/>
          <p:nvPr/>
        </p:nvSpPr>
        <p:spPr>
          <a:xfrm>
            <a:off x="8028000" y="4005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大量释放热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7451640" y="4653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造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9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4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9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9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9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9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1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24" name="Picture 3" descr="链1"/>
          <p:cNvPicPr/>
          <p:nvPr/>
        </p:nvPicPr>
        <p:blipFill>
          <a:blip r:embed="rId1"/>
          <a:stretch/>
        </p:blipFill>
        <p:spPr>
          <a:xfrm>
            <a:off x="1116000" y="2924280"/>
            <a:ext cx="7128000" cy="2305080"/>
          </a:xfrm>
          <a:prstGeom prst="rect">
            <a:avLst/>
          </a:prstGeom>
          <a:ln w="0">
            <a:noFill/>
          </a:ln>
        </p:spPr>
      </p:pic>
      <p:sp>
        <p:nvSpPr>
          <p:cNvPr id="725" name="Line 4"/>
          <p:cNvSpPr/>
          <p:nvPr/>
        </p:nvSpPr>
        <p:spPr>
          <a:xfrm flipH="1">
            <a:off x="4716000" y="2781360"/>
            <a:ext cx="71640" cy="1701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24000" y="62064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c59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氧化磷酸化抑制剂主要有呼吸链阻断剂和解偶联剂 </a:t>
            </a: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4426560" y="177336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抗霉素</a:t>
            </a:r>
            <a:r>
              <a:rPr b="1" lang="en-US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A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华文楷体"/>
                <a:ea typeface="华文楷体"/>
              </a:rPr>
              <a:t>二巯基丙醇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7"/>
          <p:cNvSpPr/>
          <p:nvPr/>
        </p:nvSpPr>
        <p:spPr>
          <a:xfrm>
            <a:off x="7740720" y="2565360"/>
            <a:ext cx="0" cy="213372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7020000" y="1773360"/>
            <a:ext cx="157320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O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CN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N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3</a:t>
            </a:r>
            <a:r>
              <a:rPr b="1" lang="en-US" sz="2000" spc="-1" strike="noStrike" baseline="30000">
                <a:solidFill>
                  <a:srgbClr val="007a77"/>
                </a:solidFill>
                <a:latin typeface="Times New Roman"/>
                <a:ea typeface="华文中宋"/>
              </a:rPr>
              <a:t>-</a:t>
            </a:r>
            <a:r>
              <a:rPr b="1" lang="zh-CN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及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H</a:t>
            </a:r>
            <a:r>
              <a:rPr b="1" lang="en-US" sz="2000" spc="-1" strike="noStrike" baseline="-25000">
                <a:solidFill>
                  <a:srgbClr val="007a77"/>
                </a:solidFill>
                <a:latin typeface="Times New Roman"/>
                <a:ea typeface="华文中宋"/>
              </a:rPr>
              <a:t>2</a:t>
            </a:r>
            <a:r>
              <a:rPr b="1" lang="en-US" sz="2000" spc="-1" strike="noStrike">
                <a:solidFill>
                  <a:srgbClr val="007a77"/>
                </a:solidFill>
                <a:latin typeface="Times New Roman"/>
                <a:ea typeface="华文中宋"/>
              </a:rPr>
              <a:t>S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Oval 9"/>
          <p:cNvSpPr/>
          <p:nvPr/>
        </p:nvSpPr>
        <p:spPr>
          <a:xfrm>
            <a:off x="4859280" y="350028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Oval 10"/>
          <p:cNvSpPr/>
          <p:nvPr/>
        </p:nvSpPr>
        <p:spPr>
          <a:xfrm>
            <a:off x="7812000" y="3357720"/>
            <a:ext cx="38124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2" name="Line 11"/>
          <p:cNvSpPr/>
          <p:nvPr/>
        </p:nvSpPr>
        <p:spPr>
          <a:xfrm flipV="1">
            <a:off x="2843280" y="3933720"/>
            <a:ext cx="73080" cy="1656000"/>
          </a:xfrm>
          <a:prstGeom prst="line">
            <a:avLst/>
          </a:prstGeom>
          <a:ln w="57240">
            <a:solidFill>
              <a:srgbClr val="007a7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2124000" y="544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鱼藤酮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粉蝶霉素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4" name="Oval 13"/>
          <p:cNvSpPr/>
          <p:nvPr/>
        </p:nvSpPr>
        <p:spPr>
          <a:xfrm>
            <a:off x="2987640" y="5013360"/>
            <a:ext cx="380880" cy="4572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×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5" name="Rectangle 14"/>
          <p:cNvSpPr/>
          <p:nvPr/>
        </p:nvSpPr>
        <p:spPr>
          <a:xfrm>
            <a:off x="3635280" y="5229360"/>
            <a:ext cx="5184720" cy="52056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华文楷体"/>
              </a:rPr>
              <a:t>各种呼吸链抑制剂的阻断位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四、细胞质中生成的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ADH</a:t>
            </a:r>
            <a:r>
              <a:rPr b="0" lang="zh-CN" sz="2800" spc="-1" strike="noStrike">
                <a:solidFill>
                  <a:srgbClr val="003399"/>
                </a:solidFill>
                <a:latin typeface="Arial"/>
              </a:rPr>
              <a:t>通过穿梭进入线粒体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一）苹果酸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-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天冬氨酸穿梭主要存在于心肌和肝组织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38" name="Picture 4" descr="图6-1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9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9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（二）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α-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磷酸甘油穿梭主要存在于骨骼肌和脑组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40" name="Picture 3" descr="7-9"/>
          <p:cNvPicPr/>
          <p:nvPr/>
        </p:nvPicPr>
        <p:blipFill>
          <a:blip r:embed="rId1"/>
          <a:srcRect l="2360" t="0" r="3542" b="0"/>
          <a:stretch/>
        </p:blipFill>
        <p:spPr>
          <a:xfrm>
            <a:off x="301680" y="1197000"/>
            <a:ext cx="8540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有重要生理功能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机体各种生理、生化活动的主要供能物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转变成其他三磷酸核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3" name="Group 4"/>
          <p:cNvGrpSpPr/>
          <p:nvPr/>
        </p:nvGrpSpPr>
        <p:grpSpPr>
          <a:xfrm>
            <a:off x="1763640" y="3573360"/>
            <a:ext cx="6318360" cy="3550680"/>
            <a:chOff x="1763640" y="3573360"/>
            <a:chExt cx="6318360" cy="3550680"/>
          </a:xfrm>
        </p:grpSpPr>
        <p:sp>
          <p:nvSpPr>
            <p:cNvPr id="744" name="Rectangle 5"/>
            <p:cNvSpPr/>
            <p:nvPr/>
          </p:nvSpPr>
          <p:spPr>
            <a:xfrm>
              <a:off x="1763640" y="3573360"/>
              <a:ext cx="6318360" cy="35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</a:rPr>
                <a:t>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核苷二磷酸激酶的作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UDP          ADP + U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CDP          ADP + C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ATP + GDP          ADP + GTP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745" name="Group 6"/>
            <p:cNvGrpSpPr/>
            <p:nvPr/>
          </p:nvGrpSpPr>
          <p:grpSpPr>
            <a:xfrm>
              <a:off x="3708360" y="4870440"/>
              <a:ext cx="792000" cy="72720"/>
              <a:chOff x="3708360" y="4870440"/>
              <a:chExt cx="792000" cy="72720"/>
            </a:xfrm>
          </p:grpSpPr>
          <p:sp>
            <p:nvSpPr>
              <p:cNvPr id="746" name="Line 7"/>
              <p:cNvSpPr/>
              <p:nvPr/>
            </p:nvSpPr>
            <p:spPr>
              <a:xfrm>
                <a:off x="3708360" y="487044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7" name="Line 8"/>
              <p:cNvSpPr/>
              <p:nvPr/>
            </p:nvSpPr>
            <p:spPr>
              <a:xfrm flipH="1">
                <a:off x="3708360" y="4943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48" name="Group 9"/>
            <p:cNvGrpSpPr/>
            <p:nvPr/>
          </p:nvGrpSpPr>
          <p:grpSpPr>
            <a:xfrm>
              <a:off x="3708360" y="5518080"/>
              <a:ext cx="792000" cy="73080"/>
              <a:chOff x="3708360" y="5518080"/>
              <a:chExt cx="792000" cy="73080"/>
            </a:xfrm>
          </p:grpSpPr>
          <p:sp>
            <p:nvSpPr>
              <p:cNvPr id="749" name="Line 10"/>
              <p:cNvSpPr/>
              <p:nvPr/>
            </p:nvSpPr>
            <p:spPr>
              <a:xfrm>
                <a:off x="3708360" y="551808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0" name="Line 11"/>
              <p:cNvSpPr/>
              <p:nvPr/>
            </p:nvSpPr>
            <p:spPr>
              <a:xfrm flipH="1">
                <a:off x="3708360" y="559116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2"/>
            <p:cNvGrpSpPr/>
            <p:nvPr/>
          </p:nvGrpSpPr>
          <p:grpSpPr>
            <a:xfrm>
              <a:off x="3708360" y="6165720"/>
              <a:ext cx="792000" cy="73080"/>
              <a:chOff x="3708360" y="6165720"/>
              <a:chExt cx="792000" cy="73080"/>
            </a:xfrm>
          </p:grpSpPr>
          <p:sp>
            <p:nvSpPr>
              <p:cNvPr id="752" name="Line 13"/>
              <p:cNvSpPr/>
              <p:nvPr/>
            </p:nvSpPr>
            <p:spPr>
              <a:xfrm>
                <a:off x="3708360" y="616572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3" name="Line 14"/>
              <p:cNvSpPr/>
              <p:nvPr/>
            </p:nvSpPr>
            <p:spPr>
              <a:xfrm flipH="1">
                <a:off x="3708360" y="6238800"/>
                <a:ext cx="792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10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（三）磷酸肌酸是肌肉和脑组织中能量的一种储存形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55" name="Picture 3" descr="肌酸激酶"/>
          <p:cNvPicPr/>
          <p:nvPr/>
        </p:nvPicPr>
        <p:blipFill>
          <a:blip r:embed="rId1"/>
          <a:stretch/>
        </p:blipFill>
        <p:spPr>
          <a:xfrm>
            <a:off x="395280" y="1844640"/>
            <a:ext cx="8064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9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8" dur="2000" fill="hold"/>
                                        <p:tgtEl>
                                          <p:spTgt spid="7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627280" y="1905120"/>
            <a:ext cx="3889440" cy="353988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3399"/>
                </a:solidFill>
                <a:latin typeface="Arial"/>
              </a:rPr>
              <a:t>ATP</a:t>
            </a:r>
            <a:r>
              <a:rPr b="0" lang="zh-CN" sz="4800" spc="-1" strike="noStrike">
                <a:solidFill>
                  <a:srgbClr val="003399"/>
                </a:solidFill>
                <a:latin typeface="Arial"/>
              </a:rPr>
              <a:t>的生成和利用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58" name="Group 4"/>
          <p:cNvGrpSpPr/>
          <p:nvPr/>
        </p:nvGrpSpPr>
        <p:grpSpPr>
          <a:xfrm>
            <a:off x="578880" y="4653000"/>
            <a:ext cx="2263680" cy="971640"/>
            <a:chOff x="578880" y="4653000"/>
            <a:chExt cx="2263680" cy="971640"/>
          </a:xfrm>
        </p:grpSpPr>
        <p:sp>
          <p:nvSpPr>
            <p:cNvPr id="759" name="Text Box 5"/>
            <p:cNvSpPr/>
            <p:nvPr/>
          </p:nvSpPr>
          <p:spPr>
            <a:xfrm>
              <a:off x="578880" y="4653000"/>
              <a:ext cx="211896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66"/>
                  </a:solidFill>
                  <a:latin typeface="Times New Roman"/>
                  <a:ea typeface="华文中宋"/>
                </a:rPr>
                <a:t>         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氧化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993366"/>
                  </a:solidFill>
                  <a:latin typeface="华文楷体"/>
                  <a:ea typeface="华文楷体"/>
                </a:rPr>
                <a:t>底物水平磷酸化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0" name="AutoShape 6"/>
            <p:cNvSpPr/>
            <p:nvPr/>
          </p:nvSpPr>
          <p:spPr>
            <a:xfrm>
              <a:off x="2770560" y="4878360"/>
              <a:ext cx="72000" cy="533520"/>
            </a:xfrm>
            <a:custGeom>
              <a:avLst/>
              <a:gdLst>
                <a:gd name="textAreaLeft" fmla="*/ 0 w 72000"/>
                <a:gd name="textAreaRight" fmla="*/ 25920 w 7200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646d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61" name="AutoShape 7"/>
          <p:cNvSpPr/>
          <p:nvPr/>
        </p:nvSpPr>
        <p:spPr>
          <a:xfrm>
            <a:off x="6084720" y="1268280"/>
            <a:ext cx="3059280" cy="5113440"/>
          </a:xfrm>
          <a:prstGeom prst="sun">
            <a:avLst>
              <a:gd name="adj" fmla="val 25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肌肉收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物质主动转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合成代谢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生物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99"/>
                </a:solidFill>
                <a:latin typeface="Arial"/>
              </a:rPr>
              <a:t>维持体温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1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8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体内外物质氧化比较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01680" y="1905120"/>
          <a:ext cx="8540640" cy="4438440"/>
        </p:xfrm>
        <a:graphic>
          <a:graphicData uri="http://schemas.openxmlformats.org/drawingml/2006/table">
            <a:tbl>
              <a:tblPr/>
              <a:tblGrid>
                <a:gridCol w="2846160"/>
                <a:gridCol w="2848320"/>
                <a:gridCol w="2846160"/>
              </a:tblGrid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对比项目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物氧化（体内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体外氧化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条件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温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剧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反应过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酶促反应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一步完成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能量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逐步进行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瞬间释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8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生成方式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有机酸脱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碳和氧结合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水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需要水参加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需要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" dur="2000" fill="hold"/>
                                        <p:tgtEl>
                                          <p:spTgt spid="5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3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节  线粒体外的生物氧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场所：微粒体和过氧化物酶体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特点：氧化过程中不伴有偶联磷酸化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16" dur="indefinite" restart="never" nodeType="tmRoot">
          <p:childTnLst>
            <p:seq>
              <p:cTn id="1117" dur="indefinite" nodeType="mainSeq">
                <p:childTnLst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9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9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nodeType="clickEffect" fill="hold">
                      <p:stCondLst>
                        <p:cond delay="indefinite"/>
                      </p:stCondLst>
                      <p:childTnLst>
                        <p:par>
                          <p:cTn id="1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9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38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一、微粒体氧化体系主要为加单氧酶系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br>
              <a:rPr sz="3600"/>
            </a:b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催化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的一个氧原子加到作用物分子上，另一个氧原子被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还原成水，因此该酶又称为混合功能氧化酶或者羟化酶。反应需要细胞色素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450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DPH+H</a:t>
            </a:r>
            <a:r>
              <a:rPr b="0" lang="en-US" sz="3200" spc="-1" strike="noStrike" baseline="30000">
                <a:solidFill>
                  <a:srgbClr val="003399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AD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参加。其反应式如下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7870680" cy="936720"/>
          </a:xfrm>
          <a:prstGeom prst="rect">
            <a:avLst/>
          </a:prstGeom>
          <a:ln w="0">
            <a:noFill/>
          </a:ln>
        </p:spPr>
      </p:pic>
      <p:sp>
        <p:nvSpPr>
          <p:cNvPr id="766" name="AutoShape 4"/>
          <p:cNvSpPr/>
          <p:nvPr/>
        </p:nvSpPr>
        <p:spPr>
          <a:xfrm>
            <a:off x="3924360" y="522936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3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二、过氧化物酶体氧化体系氧化过程产生活性氧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AutoShape 4"/>
          <p:cNvSpPr/>
          <p:nvPr/>
        </p:nvSpPr>
        <p:spPr>
          <a:xfrm>
            <a:off x="-108000" y="1268280"/>
            <a:ext cx="8748720" cy="5589720"/>
          </a:xfrm>
          <a:prstGeom prst="horizontalScroll">
            <a:avLst>
              <a:gd name="adj" fmla="val 125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过氧化物酶体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一种特殊的细胞器，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于动物组织的肝脏、肾脏、中性粒细胞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肠黏膜细胞中。过氧化物酶体中含多种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化酶，能氧化氨基酸、脂肪酸等多种底物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活性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eactive oxygen species,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RO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0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9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9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9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10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9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1" dur="1000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900" fill="hold"/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产生的原因   氧分子必须接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电子才能完全还原，产生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O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–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再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zh-CN" sz="3200" spc="-1" strike="noStrike" baseline="30000">
                <a:solidFill>
                  <a:srgbClr val="007a77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成水。如果电子供给不足， 就会产生不稳定的活性氧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种类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72" name="Picture 4" descr="活性氧的生成"/>
          <p:cNvPicPr/>
          <p:nvPr/>
        </p:nvPicPr>
        <p:blipFill>
          <a:blip r:embed="rId1"/>
          <a:stretch/>
        </p:blipFill>
        <p:spPr>
          <a:xfrm>
            <a:off x="684360" y="4076640"/>
            <a:ext cx="763272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9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9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活性氧的损伤作用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生物大分子有氧化作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1403280" y="2852640"/>
            <a:ext cx="2808360" cy="1081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细胞膜不饱和脂肪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3851280" y="4508640"/>
            <a:ext cx="2016000" cy="86508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蛋白质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7" name="AutoShape 6"/>
          <p:cNvSpPr/>
          <p:nvPr/>
        </p:nvSpPr>
        <p:spPr>
          <a:xfrm>
            <a:off x="5796000" y="2924280"/>
            <a:ext cx="1440000" cy="1009440"/>
          </a:xfrm>
          <a:prstGeom prst="flowChartMagneticTap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核酸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8" name="AutoShape 7"/>
          <p:cNvSpPr/>
          <p:nvPr/>
        </p:nvSpPr>
        <p:spPr>
          <a:xfrm>
            <a:off x="4067280" y="2565360"/>
            <a:ext cx="2017440" cy="2232000"/>
          </a:xfrm>
          <a:prstGeom prst="irregularSeal2">
            <a:avLst/>
          </a:prstGeom>
          <a:solidFill>
            <a:srgbClr val="ebf7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活性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9" name="Line 8"/>
          <p:cNvSpPr/>
          <p:nvPr/>
        </p:nvSpPr>
        <p:spPr>
          <a:xfrm flipH="1">
            <a:off x="2340000" y="3933720"/>
            <a:ext cx="503280" cy="50328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0" name="Line 9"/>
          <p:cNvSpPr/>
          <p:nvPr/>
        </p:nvSpPr>
        <p:spPr>
          <a:xfrm flipV="1">
            <a:off x="7164360" y="2924280"/>
            <a:ext cx="432000" cy="28872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1" name="Line 10"/>
          <p:cNvSpPr/>
          <p:nvPr/>
        </p:nvSpPr>
        <p:spPr>
          <a:xfrm>
            <a:off x="4572000" y="5300640"/>
            <a:ext cx="863640" cy="43344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2" name="Oval 11"/>
          <p:cNvSpPr/>
          <p:nvPr/>
        </p:nvSpPr>
        <p:spPr>
          <a:xfrm>
            <a:off x="755640" y="4508640"/>
            <a:ext cx="1800360" cy="144144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导致细胞肿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3" name="AutoShape 12"/>
          <p:cNvSpPr/>
          <p:nvPr/>
        </p:nvSpPr>
        <p:spPr>
          <a:xfrm>
            <a:off x="5435640" y="5661000"/>
            <a:ext cx="2160720" cy="79236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机体免疫力下降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4" name="AutoShape 13"/>
          <p:cNvSpPr/>
          <p:nvPr/>
        </p:nvSpPr>
        <p:spPr>
          <a:xfrm>
            <a:off x="7524720" y="1197000"/>
            <a:ext cx="1368360" cy="2448000"/>
          </a:xfrm>
          <a:prstGeom prst="triangle">
            <a:avLst>
              <a:gd name="adj" fmla="val 48634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诱发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肿瘤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动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粥样硬化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1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8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7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2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机体有清除活性氧的能力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超氧化物歧化酶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OD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87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7488360" cy="1225440"/>
          </a:xfrm>
          <a:prstGeom prst="rect">
            <a:avLst/>
          </a:prstGeom>
          <a:ln w="0">
            <a:noFill/>
          </a:ln>
        </p:spPr>
      </p:pic>
      <p:sp>
        <p:nvSpPr>
          <p:cNvPr id="788" name="Line 5"/>
          <p:cNvSpPr/>
          <p:nvPr/>
        </p:nvSpPr>
        <p:spPr>
          <a:xfrm>
            <a:off x="4284720" y="3645000"/>
            <a:ext cx="244800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9" name="Oval 6"/>
          <p:cNvSpPr/>
          <p:nvPr/>
        </p:nvSpPr>
        <p:spPr>
          <a:xfrm>
            <a:off x="2700360" y="4724280"/>
            <a:ext cx="3672000" cy="1081080"/>
          </a:xfrm>
          <a:prstGeom prst="ellipse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90" name="Picture 7" descr=""/>
          <p:cNvPicPr/>
          <p:nvPr/>
        </p:nvPicPr>
        <p:blipFill>
          <a:blip r:embed="rId2"/>
          <a:stretch/>
        </p:blipFill>
        <p:spPr>
          <a:xfrm>
            <a:off x="3492360" y="4869000"/>
            <a:ext cx="201636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0" dur="5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3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9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过氧化氢酶和过氧化物酶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1332000" y="1905120"/>
            <a:ext cx="6624720" cy="13795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4" descr=""/>
          <p:cNvPicPr/>
          <p:nvPr/>
        </p:nvPicPr>
        <p:blipFill>
          <a:blip r:embed="rId2"/>
          <a:stretch/>
        </p:blipFill>
        <p:spPr>
          <a:xfrm>
            <a:off x="1692360" y="4221000"/>
            <a:ext cx="6191280" cy="720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5" descr=""/>
          <p:cNvPicPr/>
          <p:nvPr/>
        </p:nvPicPr>
        <p:blipFill>
          <a:blip r:embed="rId3"/>
          <a:stretch/>
        </p:blipFill>
        <p:spPr>
          <a:xfrm>
            <a:off x="1835280" y="4941720"/>
            <a:ext cx="5761080" cy="935280"/>
          </a:xfrm>
          <a:prstGeom prst="rect">
            <a:avLst/>
          </a:prstGeom>
          <a:ln w="0">
            <a:noFill/>
          </a:ln>
        </p:spPr>
      </p:pic>
      <p:sp>
        <p:nvSpPr>
          <p:cNvPr id="795" name="AutoShape 6"/>
          <p:cNvSpPr/>
          <p:nvPr/>
        </p:nvSpPr>
        <p:spPr>
          <a:xfrm>
            <a:off x="250920" y="3284640"/>
            <a:ext cx="8893080" cy="936360"/>
          </a:xfrm>
          <a:prstGeom prst="flowChartTerminator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过氧化物酶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能催化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解生成水，并放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氧原子直接氧化酚类和胺类等有毒物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9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nodeType="clickEffect" fill="hold">
                      <p:stCondLst>
                        <p:cond delay="indefinite"/>
                      </p:stCondLst>
                      <p:childTnLst>
                        <p:par>
                          <p:cTn id="1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900" fill="hold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1" dur="10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900" fill="hold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1680" y="6094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谷胱甘肽过氧化物酶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利用还原型谷胱甘肽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GS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使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H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O</a:t>
            </a:r>
            <a:r>
              <a:rPr b="0" lang="en-US" sz="3600" spc="-1" strike="noStrike" baseline="-25000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或其他过氧化物（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ROOH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</a:rPr>
              <a:t>）还原，对组织细胞具有保护作用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540640" cy="25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思考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呼吸链有哪些组成成分？它们在体内的传递电子的顺序有几种？相同的传递顺序是什么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叙述氧化磷酸化概念、偶联部位及影响因素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学会根据脱氢酶的辅酶判断，脱下的氢会进入哪条呼吸链并会计算产生的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TP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1000" fill="hold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1000" fill="hold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01" name="Picture 3" descr="MC900434471[1]"/>
          <p:cNvPicPr/>
          <p:nvPr/>
        </p:nvPicPr>
        <p:blipFill>
          <a:blip r:embed="rId1"/>
          <a:stretch/>
        </p:blipFill>
        <p:spPr>
          <a:xfrm>
            <a:off x="4859280" y="2852640"/>
            <a:ext cx="3384720" cy="216072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4" descr="MC900428903[1]"/>
          <p:cNvPicPr/>
          <p:nvPr/>
        </p:nvPicPr>
        <p:blipFill>
          <a:blip r:embed="rId2"/>
          <a:stretch/>
        </p:blipFill>
        <p:spPr>
          <a:xfrm>
            <a:off x="611280" y="765000"/>
            <a:ext cx="4356000" cy="25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三、生物氧化反应的类型有脱电子、脱氢、加氧等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一）脱电子反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分子上脱去一个电子，从而使其原子或离子的正价增加而被氧化，脱去的电子由受电子体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接受而被还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889308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54064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（二）脱氢反应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从作用物分子中脱去一对氢，由受氢体接受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497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因一对氢原子是由一对质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H 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和一对电子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e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组成，故脱氢反应也包括脱电子反应。脱氢反应的另一种类型是“加水脱氢”。作用物先与水结合，然后脱去两个氢原子，结果是作用物分子上加了一个氧原子。如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2" name="Picture 3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7993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.750000011175871"/>
                                  </p:iterate>
                                  <p:childTnLst>
                                    <p:set>
                                      <p:cBhvr>
                                        <p:cTn id="175" dur="3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（三）加氧反应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作用物分子中直接加入氧原子或氧分子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64720" cy="36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800" fill="hold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9:01:40Z</dcterms:created>
  <dc:creator>user</dc:creator>
  <dc:description/>
  <dc:language>en-US</dc:language>
  <cp:lastModifiedBy>ZhangLL</cp:lastModifiedBy>
  <dcterms:modified xsi:type="dcterms:W3CDTF">2014-12-04T06:27:25Z</dcterms:modified>
  <cp:revision>168</cp:revision>
  <dc:subject/>
  <dc:title>第六章  生物氧化</dc:title>
</cp:coreProperties>
</file>