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6BA5-8BA4-494A-B7DC-032921FE9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6E4-47BD-419D-B756-EF40F900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2A7-2A2A-417B-89A3-F54E37B3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442-40CA-46B2-B5A8-93FAEAA17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267-B7B1-47D3-B31D-03B7A118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186D-D320-41A9-BAF0-7AB0863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D7E-50AA-433B-AB0C-A335B841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707-924E-47E9-8EE4-0627C320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367-C9C2-46B0-977D-AA91BB65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83B2-3B73-4B8F-BE41-85407F62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B93-9BCE-4C13-93D0-FC4F9D48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B1B-8DF7-4F16-9727-186A8A8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B84-38BC-4BEA-92D1-801F43C8E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7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八章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br>
              <a:rPr sz="4800"/>
            </a:br>
            <a:r>
              <a:rPr b="1" lang="zh-CN" sz="60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细胞增殖调控分子</a:t>
            </a:r>
            <a:br>
              <a:rPr sz="4800"/>
            </a:b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Regulators of Cellular Proliferation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00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二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肿瘤抑制基因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tumor suppressor g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4360" y="1989000"/>
            <a:ext cx="77054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肿瘤抑制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tumor suppressor gene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7160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抑制细胞过度生长、增殖从而遏制肿瘤形成的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00000" y="404640"/>
            <a:ext cx="6337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、肿瘤抑制基因的基本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87280" y="47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杂交试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"/>
          <p:cNvSpPr/>
          <p:nvPr/>
        </p:nvSpPr>
        <p:spPr>
          <a:xfrm>
            <a:off x="3429000" y="3429000"/>
            <a:ext cx="1752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1328760" y="1833480"/>
            <a:ext cx="6077520" cy="1106280"/>
            <a:chOff x="1328760" y="1833480"/>
            <a:chExt cx="6077520" cy="1106280"/>
          </a:xfrm>
        </p:grpSpPr>
        <p:sp>
          <p:nvSpPr>
            <p:cNvPr id="63" name="Text Box 5"/>
            <p:cNvSpPr/>
            <p:nvPr/>
          </p:nvSpPr>
          <p:spPr>
            <a:xfrm>
              <a:off x="1328760" y="18856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1328760" y="24192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"/>
            <p:cNvSpPr/>
            <p:nvPr/>
          </p:nvSpPr>
          <p:spPr>
            <a:xfrm>
              <a:off x="2995560" y="22903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8"/>
            <p:cNvSpPr/>
            <p:nvPr/>
          </p:nvSpPr>
          <p:spPr>
            <a:xfrm flipV="1">
              <a:off x="2995560" y="2595240"/>
              <a:ext cx="312480" cy="151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2995560" y="2518920"/>
              <a:ext cx="312480" cy="22824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3308040" y="2518920"/>
              <a:ext cx="140580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11"/>
            <p:cNvSpPr/>
            <p:nvPr/>
          </p:nvSpPr>
          <p:spPr>
            <a:xfrm>
              <a:off x="5518800" y="226656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438360" y="1833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3"/>
          <p:cNvGrpSpPr/>
          <p:nvPr/>
        </p:nvGrpSpPr>
        <p:grpSpPr>
          <a:xfrm>
            <a:off x="1192320" y="3333600"/>
            <a:ext cx="6180480" cy="1054080"/>
            <a:chOff x="1192320" y="3333600"/>
            <a:chExt cx="6180480" cy="1054080"/>
          </a:xfrm>
        </p:grpSpPr>
        <p:sp>
          <p:nvSpPr>
            <p:cNvPr id="72" name="Text Box 14"/>
            <p:cNvSpPr/>
            <p:nvPr/>
          </p:nvSpPr>
          <p:spPr>
            <a:xfrm>
              <a:off x="1192320" y="333360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5"/>
            <p:cNvSpPr/>
            <p:nvPr/>
          </p:nvSpPr>
          <p:spPr>
            <a:xfrm>
              <a:off x="1192320" y="3867120"/>
              <a:ext cx="132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肿瘤细胞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6"/>
            <p:cNvSpPr/>
            <p:nvPr/>
          </p:nvSpPr>
          <p:spPr>
            <a:xfrm>
              <a:off x="3464280" y="33573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杂交融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>
              <a:off x="3098880" y="3510000"/>
              <a:ext cx="31536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3019680" y="366228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9"/>
            <p:cNvSpPr/>
            <p:nvPr/>
          </p:nvSpPr>
          <p:spPr>
            <a:xfrm flipV="1">
              <a:off x="3019680" y="3890520"/>
              <a:ext cx="315720" cy="22860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0"/>
            <p:cNvSpPr/>
            <p:nvPr/>
          </p:nvSpPr>
          <p:spPr>
            <a:xfrm>
              <a:off x="3335760" y="3890880"/>
              <a:ext cx="14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1"/>
            <p:cNvSpPr/>
            <p:nvPr/>
          </p:nvSpPr>
          <p:spPr>
            <a:xfrm>
              <a:off x="5485320" y="3638520"/>
              <a:ext cx="188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8080"/>
                  </a:solidFill>
                  <a:latin typeface="Times New Roman"/>
                  <a:ea typeface="华文楷体"/>
                </a:rPr>
                <a:t>非肿瘤型杂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22"/>
          <p:cNvGrpSpPr/>
          <p:nvPr/>
        </p:nvGrpSpPr>
        <p:grpSpPr>
          <a:xfrm>
            <a:off x="1328400" y="4653000"/>
            <a:ext cx="5362200" cy="725400"/>
            <a:chOff x="1328400" y="4653000"/>
            <a:chExt cx="5362200" cy="725400"/>
          </a:xfrm>
        </p:grpSpPr>
        <p:sp>
          <p:nvSpPr>
            <p:cNvPr id="81" name="Text Box 23"/>
            <p:cNvSpPr/>
            <p:nvPr/>
          </p:nvSpPr>
          <p:spPr>
            <a:xfrm>
              <a:off x="1328400" y="4857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正常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24"/>
            <p:cNvSpPr/>
            <p:nvPr/>
          </p:nvSpPr>
          <p:spPr>
            <a:xfrm>
              <a:off x="3231360" y="46530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19508"/>
                  </a:solidFill>
                  <a:latin typeface="Times New Roman"/>
                  <a:ea typeface="华文楷体"/>
                </a:rPr>
                <a:t>失去某些基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5"/>
            <p:cNvSpPr/>
            <p:nvPr/>
          </p:nvSpPr>
          <p:spPr>
            <a:xfrm>
              <a:off x="5656320" y="4857840"/>
              <a:ext cx="1034280" cy="520560"/>
            </a:xfrm>
            <a:prstGeom prst="rect">
              <a:avLst/>
            </a:prstGeom>
            <a:noFill/>
            <a:ln w="9360">
              <a:solidFill>
                <a:srgbClr val="9f29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2e3770"/>
                  </a:solidFill>
                  <a:latin typeface="Times New Roman"/>
                  <a:ea typeface="华文楷体"/>
                </a:rPr>
                <a:t>肿瘤细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6"/>
            <p:cNvSpPr/>
            <p:nvPr/>
          </p:nvSpPr>
          <p:spPr>
            <a:xfrm>
              <a:off x="2883960" y="5186160"/>
              <a:ext cx="2321280" cy="0"/>
            </a:xfrm>
            <a:prstGeom prst="line">
              <a:avLst/>
            </a:prstGeom>
            <a:ln w="38160">
              <a:solidFill>
                <a:srgbClr val="9f29a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9"/>
          <p:cNvPicPr/>
          <p:nvPr/>
        </p:nvPicPr>
        <p:blipFill>
          <a:blip r:embed="rId1"/>
          <a:stretch/>
        </p:blipFill>
        <p:spPr>
          <a:xfrm>
            <a:off x="468360" y="1700280"/>
            <a:ext cx="7956360" cy="3666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042920" y="404640"/>
            <a:ext cx="55450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常见的肿瘤抑制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611280" y="836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视网膜母细胞瘤基因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Rb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图18-1"/>
          <p:cNvPicPr/>
          <p:nvPr/>
        </p:nvPicPr>
        <p:blipFill>
          <a:blip r:embed="rId1"/>
          <a:stretch/>
        </p:blipFill>
        <p:spPr>
          <a:xfrm>
            <a:off x="1116000" y="1844640"/>
            <a:ext cx="6578640" cy="4495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042920" y="260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p53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蛋白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基因卫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图18-2"/>
          <p:cNvPicPr/>
          <p:nvPr/>
        </p:nvPicPr>
        <p:blipFill>
          <a:blip r:embed="rId1"/>
          <a:srcRect l="15981" t="8741" r="0" b="0"/>
          <a:stretch/>
        </p:blipFill>
        <p:spPr>
          <a:xfrm>
            <a:off x="1116000" y="981000"/>
            <a:ext cx="6402240" cy="573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肿瘤抑制基因具有多种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1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染色体的稳定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2. 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控细胞衰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3.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调节细胞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三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生长因子</a:t>
            </a:r>
            <a:br>
              <a:rPr sz="48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growth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1700280"/>
            <a:ext cx="748836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生长因子</a:t>
            </a:r>
            <a:r>
              <a:rPr b="1" lang="en-US" sz="3200" spc="-1" strike="noStrike">
                <a:solidFill>
                  <a:srgbClr val="990000"/>
                </a:solidFill>
                <a:latin typeface="华文楷体"/>
                <a:ea typeface="华文楷体"/>
              </a:rPr>
              <a:t>(growth factor)</a:t>
            </a:r>
            <a:r>
              <a:rPr b="1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质膜上特异的受体，将信息传递至细胞内部，调节细胞生长与增殖的多肽类物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619280" y="404640"/>
            <a:ext cx="25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974880" y="590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58920" y="1052640"/>
            <a:ext cx="590400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华文楷体"/>
                <a:ea typeface="华文楷体"/>
              </a:rPr>
              <a:t>作用模式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内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end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旁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para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82520">
              <a:lnSpc>
                <a:spcPct val="1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自分泌</a:t>
            </a:r>
            <a:r>
              <a:rPr b="0" lang="zh-CN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 </a:t>
            </a:r>
            <a:r>
              <a:rPr b="1" lang="en-US" sz="3600" spc="-1" strike="noStrike">
                <a:solidFill>
                  <a:srgbClr val="99cc00"/>
                </a:solidFill>
                <a:latin typeface="华文楷体"/>
                <a:ea typeface="华文楷体"/>
              </a:rPr>
              <a:t>(autocr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1280" y="1915920"/>
            <a:ext cx="417672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一  节  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癌   基   因</a:t>
            </a:r>
            <a:br>
              <a:rPr sz="4000"/>
            </a:b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Oncoge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8"/>
          <p:cNvPicPr/>
          <p:nvPr/>
        </p:nvPicPr>
        <p:blipFill>
          <a:blip r:embed="rId1"/>
          <a:srcRect l="31991" t="0" r="0" b="0"/>
          <a:stretch/>
        </p:blipFill>
        <p:spPr>
          <a:xfrm>
            <a:off x="2843280" y="1557360"/>
            <a:ext cx="6048360" cy="4010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8"/>
          <p:cNvPicPr/>
          <p:nvPr/>
        </p:nvPicPr>
        <p:blipFill>
          <a:blip r:embed="rId2"/>
          <a:srcRect l="0" t="0" r="71272" b="0"/>
          <a:stretch/>
        </p:blipFill>
        <p:spPr>
          <a:xfrm>
            <a:off x="287280" y="1557360"/>
            <a:ext cx="2556000" cy="4010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492360" y="2565360"/>
            <a:ext cx="26593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产生相应第二信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3716280"/>
            <a:ext cx="2179800" cy="8254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胞内相关蛋白质被磷酸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919880" y="1484280"/>
            <a:ext cx="12780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c3300"/>
                </a:solidFill>
                <a:latin typeface="华文楷体"/>
                <a:ea typeface="华文楷体"/>
              </a:rPr>
              <a:t>膜受体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468360" y="2565360"/>
            <a:ext cx="23274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酪氨酸激酶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94800" y="4005360"/>
            <a:ext cx="135720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蛋白激酶活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539640" y="5373720"/>
            <a:ext cx="275436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活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27640" y="5373720"/>
            <a:ext cx="1515960" cy="45972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imes New Roman"/>
                <a:ea typeface="华文楷体"/>
              </a:rPr>
              <a:t>基因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6805440" y="1484280"/>
            <a:ext cx="146088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</a:t>
            </a:r>
            <a:r>
              <a:rPr b="1" lang="zh-CN" sz="2400" spc="-1" strike="noStrike">
                <a:solidFill>
                  <a:srgbClr val="c104e0"/>
                </a:solidFill>
                <a:latin typeface="Times New Roman"/>
                <a:ea typeface="华文楷体"/>
              </a:rPr>
              <a:t>胞内受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1332000" y="1989000"/>
            <a:ext cx="38088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3348000" y="1989000"/>
            <a:ext cx="1371600" cy="4572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332000" y="3121200"/>
            <a:ext cx="0" cy="6094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3"/>
          <p:cNvSpPr/>
          <p:nvPr/>
        </p:nvSpPr>
        <p:spPr>
          <a:xfrm>
            <a:off x="1332000" y="4653000"/>
            <a:ext cx="0" cy="601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4859280" y="3213000"/>
            <a:ext cx="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2843280" y="4221000"/>
            <a:ext cx="91440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3429000" y="5638680"/>
            <a:ext cx="762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88000" y="256536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生长因子 </a:t>
            </a:r>
            <a:r>
              <a:rPr b="1" lang="en-US" sz="24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–</a:t>
            </a:r>
            <a:r>
              <a:rPr b="1" lang="en-US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 </a:t>
            </a: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受体复合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7667640" y="198900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7667640" y="4869000"/>
            <a:ext cx="0" cy="761760"/>
          </a:xfrm>
          <a:prstGeom prst="line">
            <a:avLst/>
          </a:prstGeom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H="1" flipV="1">
            <a:off x="6156360" y="5587560"/>
            <a:ext cx="1495440" cy="190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1403280" y="404640"/>
            <a:ext cx="6121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生长因子作用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6588000" y="4149720"/>
            <a:ext cx="2160720" cy="45972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华文楷体"/>
                <a:ea typeface="华文楷体"/>
              </a:rPr>
              <a:t>活化相关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7667640" y="3500280"/>
            <a:ext cx="0" cy="5032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979640" y="6453360"/>
            <a:ext cx="2448000" cy="40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图18-3"/>
          <p:cNvPicPr/>
          <p:nvPr/>
        </p:nvPicPr>
        <p:blipFill>
          <a:blip r:embed="rId1"/>
          <a:stretch/>
        </p:blipFill>
        <p:spPr>
          <a:xfrm>
            <a:off x="539640" y="399960"/>
            <a:ext cx="7707600" cy="578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6"/>
          <p:cNvPicPr/>
          <p:nvPr/>
        </p:nvPicPr>
        <p:blipFill>
          <a:blip r:embed="rId1"/>
          <a:stretch/>
        </p:blipFill>
        <p:spPr>
          <a:xfrm>
            <a:off x="1619280" y="692280"/>
            <a:ext cx="5832360" cy="5813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四 节</a:t>
            </a:r>
            <a:br>
              <a:rPr sz="4800"/>
            </a:br>
            <a:r>
              <a:rPr b="1" lang="zh-CN" sz="48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周期相关蛋白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、细胞周期蛋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yclin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周期蛋白是一类伴随细胞周期的不同阶段表达、累积和降解的蛋白质因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图18-4"/>
          <p:cNvPicPr/>
          <p:nvPr/>
        </p:nvPicPr>
        <p:blipFill>
          <a:blip r:embed="rId1"/>
          <a:srcRect l="0" t="0" r="11526" b="21512"/>
          <a:stretch/>
        </p:blipFill>
        <p:spPr>
          <a:xfrm>
            <a:off x="2700360" y="2852640"/>
            <a:ext cx="330192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周期蛋白依赖性蛋白激酶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yclin-dependent protein kinas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周期蛋白依赖性蛋白激酶是一类丝氨酸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/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苏氨酸蛋白激酶，在细胞周期的调节中起关键作用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258920" y="1125360"/>
          <a:ext cx="6626160" cy="4757760"/>
        </p:xfrm>
        <a:graphic>
          <a:graphicData uri="http://schemas.openxmlformats.org/drawingml/2006/table">
            <a:tbl>
              <a:tblPr/>
              <a:tblGrid>
                <a:gridCol w="901800"/>
                <a:gridCol w="907920"/>
                <a:gridCol w="2708280"/>
                <a:gridCol w="2108160"/>
              </a:tblGrid>
              <a:tr h="31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属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与之结合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作用的细胞周期或功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裂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G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出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酵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C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n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b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61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哺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动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1, E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5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uronal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、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yclin 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K-activating kin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cript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1718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1" lang="fr-FR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抑制蛋白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otor of CDK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K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抑制蛋白是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负调节因子，与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竞争性结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，拮抗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作用，阻止细胞经过“检测点”（</a:t>
            </a:r>
            <a:r>
              <a:rPr b="0" lang="en-US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checkpoint</a:t>
            </a:r>
            <a:r>
              <a:rPr b="0" lang="zh-CN" sz="32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，调节细胞周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776320" y="1135440"/>
            <a:ext cx="318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Cyclin-CDK-CKI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相互作用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42920" y="2060640"/>
          <a:ext cx="6985080" cy="2952720"/>
        </p:xfrm>
        <a:graphic>
          <a:graphicData uri="http://schemas.openxmlformats.org/drawingml/2006/table">
            <a:tbl>
              <a:tblPr/>
              <a:tblGrid>
                <a:gridCol w="1111320"/>
                <a:gridCol w="1746360"/>
                <a:gridCol w="1406520"/>
                <a:gridCol w="2720880"/>
              </a:tblGrid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ylc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细胞周期作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相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B(B1,B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D(D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～</a:t>
                      </a: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C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4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（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5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6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CDK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 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S,G</a:t>
                      </a:r>
                      <a:r>
                        <a:rPr b="1" lang="en-US" sz="1400" spc="-1" strike="noStrike" baseline="-30000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,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7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15, p16, p21, p27, p18, p19, 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2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p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华文楷体"/>
                          <a:ea typeface="华文楷体"/>
                        </a:rPr>
                        <a:t>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826920" y="1844640"/>
            <a:ext cx="7490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oncoge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华文楷体"/>
                <a:ea typeface="华文楷体"/>
              </a:rPr>
              <a:t>细胞内控制细胞生长和分化的基因，它的结构异常或表达异常，可以引起细胞癌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8920" y="1773360"/>
            <a:ext cx="5545080" cy="26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第 五 节</a:t>
            </a:r>
            <a:br>
              <a:rPr sz="4400"/>
            </a:br>
            <a:r>
              <a:rPr b="1" lang="zh-CN" sz="4400" spc="-1" strike="noStrike">
                <a:solidFill>
                  <a:srgbClr val="019508"/>
                </a:solidFill>
                <a:latin typeface="楷体_GB2312"/>
                <a:ea typeface="楷体_GB2312"/>
              </a:rPr>
              <a:t>细胞增殖异常与疾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增殖异常是肿瘤发生的重要细胞学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监控机制受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1/S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G2/M 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交界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细胞周期驱动机制失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1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yclin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的异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2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K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增多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（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3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）</a:t>
            </a:r>
            <a:r>
              <a:rPr b="0" lang="en-US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CDI</a:t>
            </a:r>
            <a:r>
              <a:rPr b="0" lang="zh-CN" sz="2400" spc="-1" strike="noStrike">
                <a:solidFill>
                  <a:srgbClr val="009999"/>
                </a:solidFill>
                <a:latin typeface="华文楷体"/>
                <a:ea typeface="华文楷体"/>
              </a:rPr>
              <a:t>表达不足和突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某些心血管疾病也存在细胞增殖异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0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原发性高血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动脉粥样硬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  <a:ea typeface="华文楷体"/>
              </a:rPr>
              <a:t>、心肌肥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71640" y="1916280"/>
            <a:ext cx="7416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14b22"/>
                </a:solidFill>
                <a:latin typeface="Times New Roman"/>
                <a:ea typeface="华文楷体"/>
              </a:rPr>
              <a:t>病毒癌基因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行楷"/>
              </a:rPr>
              <a:t>(virus oncogene,v-on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7192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病毒基因组中的癌基因，它不编码病毒的结构成分，对病毒复制也没有作用，但可以使细胞持续增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116000" y="40464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病毒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501804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、细胞癌基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细胞癌基因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cellular-oncogene, c-onc</a:t>
            </a: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  <a:ea typeface="华文楷体"/>
              </a:rPr>
              <a:t>存在于生物正常细胞基因组中的癌基因，或称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原癌基因 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(proto-oncogenes , pro-onc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088080" y="1550880"/>
            <a:ext cx="3183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lnSpc>
                <a:spcPct val="15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泛存在于生物界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基因序列高度保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用通过其产物蛋白质来体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413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被激活后，形成癌性的细胞转化基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116000" y="333360"/>
            <a:ext cx="59770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30000"/>
              </a:lnSpc>
              <a:buClr>
                <a:srgbClr val="009999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华文楷体"/>
                <a:ea typeface="华文楷体"/>
              </a:rPr>
              <a:t>细胞癌基因的分类及其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00000" y="1773360"/>
            <a:ext cx="763272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根据原癌基因的表达产物在细胞中的定位和功能分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</a:t>
            </a:r>
            <a:r>
              <a:rPr b="1" lang="en-US" sz="2800" spc="-1" strike="noStrike">
                <a:solidFill>
                  <a:srgbClr val="9f29ab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酪氨酸蛋白激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C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4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si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P28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类人血小板源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. </a:t>
            </a:r>
            <a:r>
              <a:rPr b="1" i="1" lang="en-US" sz="2800" spc="-1" strike="noStrike">
                <a:solidFill>
                  <a:srgbClr val="9f29ab"/>
                </a:solidFill>
                <a:latin typeface="Times New Roman"/>
                <a:ea typeface="Arial Unicode MS"/>
              </a:rPr>
              <a:t>my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家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——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核内转录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908000" y="1052640"/>
            <a:ext cx="669636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一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启动子插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二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点突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三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转座子跳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四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染色体易位与重排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五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 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基因扩增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908000" y="4724280"/>
            <a:ext cx="597708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新的表达产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过量的正常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现异常、截短的表达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971640" y="404640"/>
            <a:ext cx="54720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癌基因活化的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1187280" y="40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癌基因被激活的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26920" y="1413000"/>
            <a:ext cx="756144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一）细胞外生长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--P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二）跨膜的生长因子受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三）细胞内信号传导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sr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ab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c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H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K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N-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c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（四）核内转录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6160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my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、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华文楷体"/>
              </a:rPr>
              <a:t>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1042920" y="404640"/>
            <a:ext cx="6553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、原癌基因的产物与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6T04:13:42Z</dcterms:created>
  <dc:creator>thtfpc user</dc:creator>
  <dc:description/>
  <dc:language>en-US</dc:language>
  <cp:lastModifiedBy>ZhangLL</cp:lastModifiedBy>
  <dcterms:modified xsi:type="dcterms:W3CDTF">2014-12-04T03:24:07Z</dcterms:modified>
  <cp:revision>18</cp:revision>
  <dc:subject/>
  <dc:title>第十八章  细胞增殖调控分子 </dc:title>
</cp:coreProperties>
</file>