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2.png" ContentType="image/png"/>
  <Override PartName="/ppt/media/image20.gif" ContentType="image/gif"/>
  <Override PartName="/ppt/media/image19.gif" ContentType="image/gif"/>
  <Override PartName="/ppt/media/image18.png" ContentType="image/png"/>
  <Override PartName="/ppt/media/image17.wmf" ContentType="image/x-wmf"/>
  <Override PartName="/ppt/media/image16.jpeg" ContentType="image/jpeg"/>
  <Override PartName="/ppt/media/image7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868F-87C0-4E0A-87E8-AF84497B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4040-31E2-4161-9DCC-C79D2B3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9CB-D7EE-4FC7-8B32-90FDC620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5D2E-41F5-4BC6-8E13-975BFE65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E77F-32B2-467B-B497-2A12C9FC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B776-FEA8-4E0E-88DD-1BAEA9E5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D3F7-3074-4E3E-AB6A-B027473C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3EA0-4B5E-42EB-92F2-D160395D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CF82-4681-4AC2-831B-F50BE366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99F1-EF37-49FF-AF98-68C93C36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54EC-CF80-47E8-A751-B63FDC88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789F-A503-46B4-B614-F2C7C282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C60-9FB4-4E87-840C-EB0DBCE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B42B-8B4D-4403-A484-70330983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5143-4F9E-4C60-8059-B0221E9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590A-35AA-4BCD-A262-D8850425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D09F-C2F2-436B-97F4-5C3AA6E1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DA8B4-57ED-46F3-B231-AB656108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C62E6-8E34-48E6-BD6B-EF5FBF64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457E0-7CA7-46D1-B5E9-DDA8A5F4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D7717-47B2-4FA0-85D4-961E340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75134-A010-47B1-A2A0-A68E3466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C29F-21DA-492B-AD14-CAB0D8AE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F9DEA-E908-4114-BDB4-80BD75CD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F8158-3E57-48EA-99B3-181E1629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A999-2EBE-4F04-9286-F994C79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7A5D7-DBBA-4875-92C6-5AFC9A4E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3C86-050B-48A1-936A-621CA945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4D591-9EBA-4C8F-B07A-B32C61A15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EFEDF-6E6B-40F0-B786-378D7747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31FA06-F380-4AAA-90F7-B4180E20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680C4-31BE-4043-9153-6C7B286F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444E9-E90E-4470-9381-EC020B99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5ACC-D38B-46A0-890D-075784A5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E35CEA-63D3-4BED-B50A-99EE3535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4F2AA-F321-489D-8903-D0122EF4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266C31-32A0-47C1-8A4D-33DA3D0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2DDFB2-01C6-4154-983B-D0A1DD79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136A2C-DA50-4A2D-AFCD-7085EBE8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D73431-1AE1-4497-877A-500AE832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E3EC18-48D2-43A0-BB31-AF5C78A2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0FF1DC-06DA-4B01-BF88-ED4C9F26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C4BE1C-F391-4757-B8EB-3AD6A3086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E57CD-FB01-4C4D-93F3-E6380B4A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42C-774F-42B6-801B-311767D4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C5B96-88B7-4B39-9AAB-1A412AFA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7DAF-80A8-4062-BA64-BABE7CC9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A50E2-47E2-49F5-930C-B8A76556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D7A0-B911-42B4-AE8E-89218FE2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A3A064-A288-469D-8822-F8A3F72D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E66AB-2015-4628-891E-6233C5F2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DDC0-663A-4FAD-B9DE-5AB016A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5986D-DD59-4C45-AECB-3572DE5A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BAF89-7574-4B94-83F5-49563D0D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2EC07-ED28-43CD-8994-A4ABFB926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673F-A1CB-40E7-8C51-AB744FC6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A9898-2E0F-49F3-AF1F-85060DDF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F1860-51AF-47FA-A361-6F016D1B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5D933-4A06-40B1-8147-0760B1C6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51674-7EB5-4E13-A22B-8D715809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74212-6EEF-460A-AC4B-99273A6EA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B770-4C41-4929-A411-D861C70C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3976-AC48-4AEB-BB6B-A899C75F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F5BE-FCED-4D0B-B1A1-5C9138A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AD60D-7B08-4B1B-9A21-397EC3F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5274-26E1-467A-8605-B41F33A5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E85-4CD1-4505-BFF6-272BA65E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BF7E7-9788-487C-9743-CCA14F9F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F0C37-2626-4DCA-BE15-832D0778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BC2CE-65F8-4ABD-971F-DF646921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4881F2-E9F8-4EC3-8706-47A34503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4D2E0B-5524-461D-8F1B-850C28C2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729B51-D244-4824-9603-C7448EB7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3662F1-043D-454A-90E4-CFA6FD9C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628B0D-6A5E-47DD-998A-3F79348F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64D167-069D-4A6C-9159-D2727A1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6991FF-3279-415D-A249-8BDBB76E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A5FD-91CD-4F79-A7F8-8846A410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1D843-84F2-4A2F-9A41-19CA0069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1072E8-5851-4AC2-ACFE-F5A1486A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10535-46A3-4065-8EF2-C83F343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89FF9A-03EA-4C49-9325-E805785C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25C8F7-C5C4-4AB5-BFA5-F2C1A65F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7D3-2F20-424C-AA59-AD401BB0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A7A0-FAA6-4080-94CA-FB862BE9577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EBD4-7574-4D06-A275-B8ADA1AA77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7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F027-FF75-42A2-A6DF-060078B60EA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29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835C-FBE1-430B-A322-789DACD7E7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9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A7EA-47CD-4E77-9F54-222BA654E81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圆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B15C-EE53-4A56-9C96-2FA7F15F0B9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圆角矩形 6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268" name="圆角矩形 6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 flipV="1">
            <a:off x="84240" y="1202400"/>
            <a:ext cx="9013680" cy="903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84240" y="1168560"/>
            <a:ext cx="9013680" cy="44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84240" y="1295280"/>
            <a:ext cx="901368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2A50-CDC3-4B52-8382-D064900B2AA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十六章 骨骼与钙磷代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2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哈尔滨医科大学  袁丽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" Target="slide1.xml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" descr="未标题-1"/>
          <p:cNvPicPr/>
          <p:nvPr/>
        </p:nvPicPr>
        <p:blipFill>
          <a:blip r:embed="rId1"/>
          <a:stretch/>
        </p:blipFill>
        <p:spPr>
          <a:xfrm>
            <a:off x="387360" y="3141720"/>
            <a:ext cx="2550960" cy="32796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6"/>
          <p:cNvSpPr/>
          <p:nvPr/>
        </p:nvSpPr>
        <p:spPr>
          <a:xfrm>
            <a:off x="342000" y="1549440"/>
            <a:ext cx="8542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r>
              <a:rPr b="0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骨骼与钙磷代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Bone and Calcium-phosphorus Metabo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2"/>
          <p:cNvGrpSpPr/>
          <p:nvPr/>
        </p:nvGrpSpPr>
        <p:grpSpPr>
          <a:xfrm>
            <a:off x="1062000" y="1284120"/>
            <a:ext cx="7254720" cy="2226960"/>
            <a:chOff x="1062000" y="1284120"/>
            <a:chExt cx="7254720" cy="2226960"/>
          </a:xfrm>
        </p:grpSpPr>
        <p:sp>
          <p:nvSpPr>
            <p:cNvPr id="386" name="Text Box 3"/>
            <p:cNvSpPr/>
            <p:nvPr/>
          </p:nvSpPr>
          <p:spPr>
            <a:xfrm>
              <a:off x="1062000" y="1284120"/>
              <a:ext cx="725472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O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心肌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1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有利心肌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相拮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"/>
            <p:cNvSpPr/>
            <p:nvPr/>
          </p:nvSpPr>
          <p:spPr>
            <a:xfrm>
              <a:off x="3359160" y="20188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5"/>
          <p:cNvGrpSpPr/>
          <p:nvPr/>
        </p:nvGrpSpPr>
        <p:grpSpPr>
          <a:xfrm>
            <a:off x="1042920" y="3573360"/>
            <a:ext cx="7238880" cy="2653560"/>
            <a:chOff x="1042920" y="3573360"/>
            <a:chExt cx="7238880" cy="2653560"/>
          </a:xfrm>
        </p:grpSpPr>
        <p:sp>
          <p:nvSpPr>
            <p:cNvPr id="389" name="Text Box 6"/>
            <p:cNvSpPr/>
            <p:nvPr/>
          </p:nvSpPr>
          <p:spPr>
            <a:xfrm>
              <a:off x="1042920" y="3573360"/>
              <a:ext cx="723888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N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 [K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肌肉兴奋性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[Ca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M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+[H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楷体_GB2312"/>
                  <a:ea typeface="楷体_GB2312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2)[Ca</a:t>
              </a:r>
              <a:r>
                <a:rPr b="1" lang="en-US" sz="2800" spc="-1" strike="noStrike" baseline="30000">
                  <a:solidFill>
                    <a:srgbClr val="cc3300"/>
                  </a:solidFill>
                  <a:latin typeface="楷体_GB2312"/>
                  <a:ea typeface="楷体_GB2312"/>
                </a:rPr>
                <a:t>2+</a:t>
              </a:r>
              <a:r>
                <a:rPr b="1" lang="en-US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]:</a:t>
              </a:r>
              <a:r>
                <a:rPr b="1" lang="zh-CN" sz="28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参与肌肉收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神经肌肉的兴奋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降低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: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抽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7"/>
            <p:cNvSpPr/>
            <p:nvPr/>
          </p:nvSpPr>
          <p:spPr>
            <a:xfrm>
              <a:off x="3268440" y="4294080"/>
              <a:ext cx="365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8"/>
          <p:cNvSpPr/>
          <p:nvPr/>
        </p:nvSpPr>
        <p:spPr>
          <a:xfrm>
            <a:off x="1222200" y="620640"/>
            <a:ext cx="51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持神经、肌肉的兴奋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755640" y="836640"/>
            <a:ext cx="78487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信使作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调节酶活性、细胞分泌、递质合成、微管聚合、有丝分裂、肌肉收缩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其他：突触传递、血液凝固、细胞粘连、降低毛细血管和细胞膜的通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39640" y="3213000"/>
          <a:ext cx="8064720" cy="3043440"/>
        </p:xfrm>
        <a:graphic>
          <a:graphicData uri="http://schemas.openxmlformats.org/drawingml/2006/table">
            <a:tbl>
              <a:tblPr/>
              <a:tblGrid>
                <a:gridCol w="2679840"/>
                <a:gridCol w="2416320"/>
                <a:gridCol w="2968560"/>
              </a:tblGrid>
              <a:tr h="360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底物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酸化的结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生理意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组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失去对转录的阻遏作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中酸性蛋白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转录，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核蛋白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翻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促进蛋白质的合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膜蛋白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改变膜对水及离子的通透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微管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构象及功能改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细胞分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原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易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心肌收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心肌肌浆网膜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速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摄入肌浆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强肌纤维舒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肾上腺素能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受体蛋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影响受体功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脱敏化及下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394" name="Rectangle 352"/>
          <p:cNvSpPr/>
          <p:nvPr/>
        </p:nvSpPr>
        <p:spPr>
          <a:xfrm>
            <a:off x="3453480" y="2701080"/>
            <a:ext cx="2225880" cy="368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K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底物蛋白的磷酸化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3"/>
          <p:cNvSpPr/>
          <p:nvPr/>
        </p:nvSpPr>
        <p:spPr>
          <a:xfrm>
            <a:off x="1526760" y="1338840"/>
            <a:ext cx="171540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1540440" y="18784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3572640" y="2335680"/>
            <a:ext cx="34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部位：小肠上段（十二支肠和空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2903040" y="2869200"/>
            <a:ext cx="14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响因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206880" y="1878480"/>
            <a:ext cx="23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吸收与年龄成反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4502520" y="286920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t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9"/>
          <p:cNvSpPr/>
          <p:nvPr/>
        </p:nvSpPr>
        <p:spPr>
          <a:xfrm>
            <a:off x="7085520" y="285156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重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10"/>
          <p:cNvGrpSpPr/>
          <p:nvPr/>
        </p:nvGrpSpPr>
        <p:grpSpPr>
          <a:xfrm>
            <a:off x="5394240" y="2869200"/>
            <a:ext cx="1371600" cy="459720"/>
            <a:chOff x="5394240" y="2869200"/>
            <a:chExt cx="1371600" cy="459720"/>
          </a:xfrm>
        </p:grpSpPr>
        <p:sp>
          <p:nvSpPr>
            <p:cNvPr id="403" name="Line 11"/>
            <p:cNvSpPr/>
            <p:nvPr/>
          </p:nvSpPr>
          <p:spPr>
            <a:xfrm>
              <a:off x="5394240" y="309888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6111360" y="2869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3"/>
            <p:cNvSpPr/>
            <p:nvPr/>
          </p:nvSpPr>
          <p:spPr>
            <a:xfrm flipV="1">
              <a:off x="6765840" y="2869920"/>
              <a:ext cx="0" cy="381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14"/>
          <p:cNvSpPr/>
          <p:nvPr/>
        </p:nvSpPr>
        <p:spPr>
          <a:xfrm>
            <a:off x="4789080" y="332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酸性食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15"/>
          <p:cNvGrpSpPr/>
          <p:nvPr/>
        </p:nvGrpSpPr>
        <p:grpSpPr>
          <a:xfrm>
            <a:off x="6012000" y="3428640"/>
            <a:ext cx="380880" cy="228960"/>
            <a:chOff x="6012000" y="3428640"/>
            <a:chExt cx="380880" cy="228960"/>
          </a:xfrm>
        </p:grpSpPr>
        <p:sp>
          <p:nvSpPr>
            <p:cNvPr id="408" name="Line 16"/>
            <p:cNvSpPr/>
            <p:nvPr/>
          </p:nvSpPr>
          <p:spPr>
            <a:xfrm>
              <a:off x="6012000" y="3657600"/>
              <a:ext cx="380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7"/>
            <p:cNvSpPr/>
            <p:nvPr/>
          </p:nvSpPr>
          <p:spPr>
            <a:xfrm flipV="1">
              <a:off x="6392880" y="342864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18"/>
          <p:cNvSpPr/>
          <p:nvPr/>
        </p:nvSpPr>
        <p:spPr>
          <a:xfrm>
            <a:off x="4850640" y="37378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植物酸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浓度钾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9"/>
          <p:cNvGrpSpPr/>
          <p:nvPr/>
        </p:nvGrpSpPr>
        <p:grpSpPr>
          <a:xfrm>
            <a:off x="6400800" y="4088160"/>
            <a:ext cx="1371600" cy="459720"/>
            <a:chOff x="6400800" y="4088160"/>
            <a:chExt cx="1371600" cy="459720"/>
          </a:xfrm>
        </p:grpSpPr>
        <p:grpSp>
          <p:nvGrpSpPr>
            <p:cNvPr id="412" name="Group 20"/>
            <p:cNvGrpSpPr/>
            <p:nvPr/>
          </p:nvGrpSpPr>
          <p:grpSpPr>
            <a:xfrm>
              <a:off x="6400800" y="4089240"/>
              <a:ext cx="609480" cy="457200"/>
              <a:chOff x="6400800" y="4089240"/>
              <a:chExt cx="609480" cy="457200"/>
            </a:xfrm>
          </p:grpSpPr>
          <p:sp>
            <p:nvSpPr>
              <p:cNvPr id="413" name="AutoShape 21"/>
              <p:cNvSpPr/>
              <p:nvPr/>
            </p:nvSpPr>
            <p:spPr>
              <a:xfrm>
                <a:off x="6400800" y="4089240"/>
                <a:ext cx="76320" cy="45720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2"/>
              <p:cNvSpPr/>
              <p:nvPr/>
            </p:nvSpPr>
            <p:spPr>
              <a:xfrm>
                <a:off x="6477120" y="431784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23"/>
            <p:cNvSpPr/>
            <p:nvPr/>
          </p:nvSpPr>
          <p:spPr>
            <a:xfrm>
              <a:off x="7102080" y="408816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24"/>
            <p:cNvSpPr/>
            <p:nvPr/>
          </p:nvSpPr>
          <p:spPr>
            <a:xfrm>
              <a:off x="7772400" y="416556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 Box 25"/>
          <p:cNvSpPr/>
          <p:nvPr/>
        </p:nvSpPr>
        <p:spPr>
          <a:xfrm>
            <a:off x="1540440" y="479628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6"/>
          <p:cNvSpPr/>
          <p:nvPr/>
        </p:nvSpPr>
        <p:spPr>
          <a:xfrm>
            <a:off x="2981160" y="4796280"/>
            <a:ext cx="30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消化道随粪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7"/>
          <p:cNvSpPr/>
          <p:nvPr/>
        </p:nvSpPr>
        <p:spPr>
          <a:xfrm>
            <a:off x="1425240" y="5299560"/>
            <a:ext cx="191808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二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吸收与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8"/>
          <p:cNvSpPr/>
          <p:nvPr/>
        </p:nvSpPr>
        <p:spPr>
          <a:xfrm>
            <a:off x="1542240" y="573300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吸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9"/>
          <p:cNvSpPr/>
          <p:nvPr/>
        </p:nvSpPr>
        <p:spPr>
          <a:xfrm>
            <a:off x="3186720" y="5753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与钙相似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0"/>
          <p:cNvSpPr/>
          <p:nvPr/>
        </p:nvSpPr>
        <p:spPr>
          <a:xfrm>
            <a:off x="1540440" y="6210720"/>
            <a:ext cx="54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3092760" y="621072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要由泌尿道小便排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标题 1"/>
          <p:cNvSpPr/>
          <p:nvPr/>
        </p:nvSpPr>
        <p:spPr>
          <a:xfrm>
            <a:off x="755640" y="260280"/>
            <a:ext cx="77724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 marL="1015920" indent="-101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钙磷的吸收与排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2" descr="钙代谢"/>
          <p:cNvPicPr/>
          <p:nvPr/>
        </p:nvPicPr>
        <p:blipFill>
          <a:blip r:embed="rId1"/>
          <a:stretch/>
        </p:blipFill>
        <p:spPr>
          <a:xfrm>
            <a:off x="1258920" y="981000"/>
            <a:ext cx="6337440" cy="529272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2411280" y="54936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611280" y="2948040"/>
            <a:ext cx="4392360" cy="330660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"/>
          <p:cNvSpPr/>
          <p:nvPr/>
        </p:nvSpPr>
        <p:spPr>
          <a:xfrm>
            <a:off x="539640" y="765000"/>
            <a:ext cx="739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、钙的吸收与排泄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需要量：成人每天需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600mg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部位：十二指肠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肠上端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吸收途径 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）主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被动吸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5364000" y="3724200"/>
            <a:ext cx="2737080" cy="236484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离子通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②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③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N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交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④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钾钠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⑤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器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X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结合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钙吸收1"/>
          <p:cNvPicPr/>
          <p:nvPr/>
        </p:nvPicPr>
        <p:blipFill>
          <a:blip r:embed="rId1"/>
          <a:stretch/>
        </p:blipFill>
        <p:spPr>
          <a:xfrm>
            <a:off x="826920" y="1027080"/>
            <a:ext cx="7490160" cy="528156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3"/>
          <p:cNvSpPr/>
          <p:nvPr/>
        </p:nvSpPr>
        <p:spPr>
          <a:xfrm>
            <a:off x="2484360" y="112680"/>
            <a:ext cx="4248360" cy="5814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钙的代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684360" y="476280"/>
            <a:ext cx="7416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磷的吸收与排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需要量：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2mg/kg/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部位：小肠、空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收形式：酸性磷酸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687240" y="3213000"/>
            <a:ext cx="777240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磷的排泄：肾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70%</a:t>
            </a:r>
            <a:r>
              <a:rPr b="1" lang="en-US" sz="2800" spc="-1" strike="noStrike">
                <a:solidFill>
                  <a:srgbClr val="696464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调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-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4" descr="演示文稿1"/>
          <p:cNvPicPr/>
          <p:nvPr/>
        </p:nvPicPr>
        <p:blipFill>
          <a:blip r:embed="rId1"/>
          <a:srcRect l="0" t="0" r="0" b="15265"/>
          <a:stretch/>
        </p:blipFill>
        <p:spPr>
          <a:xfrm>
            <a:off x="216000" y="44280"/>
            <a:ext cx="8820000" cy="56214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5"/>
          <p:cNvSpPr/>
          <p:nvPr/>
        </p:nvSpPr>
        <p:spPr>
          <a:xfrm>
            <a:off x="3825360" y="5615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钙与血磷代谢与调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marL="1015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三节  血液中钙磷含量与存在形式</a:t>
            </a:r>
            <a:endParaRPr b="0" lang="en-US" sz="3600" spc="-1" strike="noStrike">
              <a:solidFill>
                <a:srgbClr val="696464"/>
              </a:solidFill>
              <a:latin typeface="Arial"/>
            </a:endParaRPr>
          </a:p>
        </p:txBody>
      </p:sp>
      <p:grpSp>
        <p:nvGrpSpPr>
          <p:cNvPr id="437" name="Group 11"/>
          <p:cNvGrpSpPr/>
          <p:nvPr/>
        </p:nvGrpSpPr>
        <p:grpSpPr>
          <a:xfrm>
            <a:off x="539640" y="1844640"/>
            <a:ext cx="8208720" cy="2231640"/>
            <a:chOff x="539640" y="1844640"/>
            <a:chExt cx="8208720" cy="2231640"/>
          </a:xfrm>
        </p:grpSpPr>
        <p:grpSp>
          <p:nvGrpSpPr>
            <p:cNvPr id="438" name="Group 12"/>
            <p:cNvGrpSpPr/>
            <p:nvPr/>
          </p:nvGrpSpPr>
          <p:grpSpPr>
            <a:xfrm>
              <a:off x="539640" y="1844640"/>
              <a:ext cx="8208720" cy="2231640"/>
              <a:chOff x="539640" y="1844640"/>
              <a:chExt cx="8208720" cy="2231640"/>
            </a:xfrm>
          </p:grpSpPr>
          <p:sp>
            <p:nvSpPr>
              <p:cNvPr id="439" name="Text Box 13"/>
              <p:cNvSpPr/>
              <p:nvPr/>
            </p:nvSpPr>
            <p:spPr>
              <a:xfrm>
                <a:off x="2934000" y="1844640"/>
                <a:ext cx="171000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离子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5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Text Box 14"/>
              <p:cNvSpPr/>
              <p:nvPr/>
            </p:nvSpPr>
            <p:spPr>
              <a:xfrm>
                <a:off x="7209360" y="2136960"/>
                <a:ext cx="1197000" cy="40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可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15"/>
              <p:cNvSpPr/>
              <p:nvPr/>
            </p:nvSpPr>
            <p:spPr>
              <a:xfrm>
                <a:off x="539640" y="2136960"/>
                <a:ext cx="2394360" cy="796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              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血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2.25-2.75mmol/L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4815000" y="2429640"/>
                <a:ext cx="2223360" cy="157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柠檬酸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0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蛋白结合钙（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45%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Text Box 17"/>
              <p:cNvSpPr/>
              <p:nvPr/>
            </p:nvSpPr>
            <p:spPr>
              <a:xfrm>
                <a:off x="7038360" y="3599280"/>
                <a:ext cx="171000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——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Times New Roman"/>
                  </a:rPr>
                  <a:t>非扩散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8"/>
            <p:cNvGrpSpPr/>
            <p:nvPr/>
          </p:nvGrpSpPr>
          <p:grpSpPr>
            <a:xfrm>
              <a:off x="2763000" y="1844640"/>
              <a:ext cx="4104360" cy="1963440"/>
              <a:chOff x="2763000" y="1844640"/>
              <a:chExt cx="4104360" cy="1963440"/>
            </a:xfrm>
          </p:grpSpPr>
          <p:sp>
            <p:nvSpPr>
              <p:cNvPr id="445" name="AutoShape 19"/>
              <p:cNvSpPr/>
              <p:nvPr/>
            </p:nvSpPr>
            <p:spPr>
              <a:xfrm>
                <a:off x="4644000" y="2575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AutoShape 20"/>
              <p:cNvSpPr/>
              <p:nvPr/>
            </p:nvSpPr>
            <p:spPr>
              <a:xfrm>
                <a:off x="6696360" y="1844640"/>
                <a:ext cx="171000" cy="819720"/>
              </a:xfrm>
              <a:custGeom>
                <a:avLst/>
                <a:gdLst>
                  <a:gd name="textAreaLeft" fmla="*/ 0 w 171000"/>
                  <a:gd name="textAreaRight" fmla="*/ 61560 w 171000"/>
                  <a:gd name="textAreaTop" fmla="*/ 21240 h 819720"/>
                  <a:gd name="textAreaBottom" fmla="*/ 798480 h 819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AutoShape 21"/>
              <p:cNvSpPr/>
              <p:nvPr/>
            </p:nvSpPr>
            <p:spPr>
              <a:xfrm>
                <a:off x="2763000" y="1990800"/>
                <a:ext cx="222120" cy="1232280"/>
              </a:xfrm>
              <a:custGeom>
                <a:avLst/>
                <a:gdLst>
                  <a:gd name="textAreaLeft" fmla="*/ 141840 w 222120"/>
                  <a:gd name="textAreaRight" fmla="*/ 222480 w 222120"/>
                  <a:gd name="textAreaTop" fmla="*/ 32040 h 1232280"/>
                  <a:gd name="textAreaBottom" fmla="*/ 1200240 h 1232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Text Box 23"/>
          <p:cNvSpPr/>
          <p:nvPr/>
        </p:nvSpPr>
        <p:spPr>
          <a:xfrm>
            <a:off x="1258920" y="4581360"/>
            <a:ext cx="727380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蛋白结合钙                                             蛋白质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C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5"/>
          <p:cNvSpPr/>
          <p:nvPr/>
        </p:nvSpPr>
        <p:spPr>
          <a:xfrm>
            <a:off x="3924360" y="4365720"/>
            <a:ext cx="14922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26"/>
          <p:cNvSpPr/>
          <p:nvPr/>
        </p:nvSpPr>
        <p:spPr>
          <a:xfrm>
            <a:off x="3780000" y="4869000"/>
            <a:ext cx="1679400" cy="76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[  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27"/>
          <p:cNvGrpSpPr/>
          <p:nvPr/>
        </p:nvGrpSpPr>
        <p:grpSpPr>
          <a:xfrm>
            <a:off x="3348000" y="4797360"/>
            <a:ext cx="2425680" cy="71640"/>
            <a:chOff x="3348000" y="4797360"/>
            <a:chExt cx="2425680" cy="71640"/>
          </a:xfrm>
        </p:grpSpPr>
        <p:sp>
          <p:nvSpPr>
            <p:cNvPr id="452" name="Line 28"/>
            <p:cNvSpPr/>
            <p:nvPr/>
          </p:nvSpPr>
          <p:spPr>
            <a:xfrm>
              <a:off x="3348000" y="479736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9"/>
            <p:cNvSpPr/>
            <p:nvPr/>
          </p:nvSpPr>
          <p:spPr>
            <a:xfrm flipH="1">
              <a:off x="3348000" y="4869000"/>
              <a:ext cx="242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Text Box 30"/>
          <p:cNvSpPr/>
          <p:nvPr/>
        </p:nvSpPr>
        <p:spPr>
          <a:xfrm>
            <a:off x="900000" y="587628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2"/>
          <p:cNvSpPr/>
          <p:nvPr/>
        </p:nvSpPr>
        <p:spPr>
          <a:xfrm>
            <a:off x="2340000" y="522936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代谢转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3"/>
          <p:cNvGrpSpPr/>
          <p:nvPr/>
        </p:nvGrpSpPr>
        <p:grpSpPr>
          <a:xfrm>
            <a:off x="755640" y="1625760"/>
            <a:ext cx="7775640" cy="4326480"/>
            <a:chOff x="755640" y="1625760"/>
            <a:chExt cx="7775640" cy="4326480"/>
          </a:xfrm>
        </p:grpSpPr>
        <p:sp>
          <p:nvSpPr>
            <p:cNvPr id="457" name="Text Box 4"/>
            <p:cNvSpPr/>
            <p:nvPr/>
          </p:nvSpPr>
          <p:spPr>
            <a:xfrm>
              <a:off x="2987640" y="3068640"/>
              <a:ext cx="2519280" cy="5814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血钙与血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Text Box 5"/>
            <p:cNvSpPr/>
            <p:nvPr/>
          </p:nvSpPr>
          <p:spPr>
            <a:xfrm>
              <a:off x="665964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组织细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6"/>
            <p:cNvSpPr/>
            <p:nvPr/>
          </p:nvSpPr>
          <p:spPr>
            <a:xfrm>
              <a:off x="6659640" y="4073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7"/>
            <p:cNvSpPr/>
            <p:nvPr/>
          </p:nvSpPr>
          <p:spPr>
            <a:xfrm>
              <a:off x="755640" y="306576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8"/>
            <p:cNvSpPr/>
            <p:nvPr/>
          </p:nvSpPr>
          <p:spPr>
            <a:xfrm>
              <a:off x="826920" y="1625760"/>
              <a:ext cx="187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食物钙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 Box 9"/>
            <p:cNvSpPr/>
            <p:nvPr/>
          </p:nvSpPr>
          <p:spPr>
            <a:xfrm>
              <a:off x="3564000" y="162900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骨钙骨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10"/>
            <p:cNvSpPr/>
            <p:nvPr/>
          </p:nvSpPr>
          <p:spPr>
            <a:xfrm>
              <a:off x="4643280" y="2205360"/>
              <a:ext cx="0" cy="863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11"/>
            <p:cNvSpPr/>
            <p:nvPr/>
          </p:nvSpPr>
          <p:spPr>
            <a:xfrm flipV="1">
              <a:off x="4211640" y="2131920"/>
              <a:ext cx="0" cy="863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12"/>
            <p:cNvSpPr/>
            <p:nvPr/>
          </p:nvSpPr>
          <p:spPr>
            <a:xfrm flipV="1">
              <a:off x="5506920" y="2133720"/>
              <a:ext cx="1729080" cy="79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3"/>
            <p:cNvSpPr/>
            <p:nvPr/>
          </p:nvSpPr>
          <p:spPr>
            <a:xfrm>
              <a:off x="5580000" y="3502080"/>
              <a:ext cx="1800360" cy="7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14"/>
            <p:cNvSpPr/>
            <p:nvPr/>
          </p:nvSpPr>
          <p:spPr>
            <a:xfrm flipH="1" flipV="1">
              <a:off x="5436720" y="3645000"/>
              <a:ext cx="187164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15"/>
            <p:cNvSpPr/>
            <p:nvPr/>
          </p:nvSpPr>
          <p:spPr>
            <a:xfrm flipH="1">
              <a:off x="5580000" y="2349720"/>
              <a:ext cx="172728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16"/>
            <p:cNvSpPr/>
            <p:nvPr/>
          </p:nvSpPr>
          <p:spPr>
            <a:xfrm>
              <a:off x="1690560" y="2133720"/>
              <a:ext cx="0" cy="1008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17"/>
            <p:cNvSpPr/>
            <p:nvPr/>
          </p:nvSpPr>
          <p:spPr>
            <a:xfrm>
              <a:off x="1979640" y="3284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18"/>
            <p:cNvSpPr/>
            <p:nvPr/>
          </p:nvSpPr>
          <p:spPr>
            <a:xfrm flipH="1">
              <a:off x="1906200" y="3500640"/>
              <a:ext cx="93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>
              <a:off x="1690560" y="3645000"/>
              <a:ext cx="0" cy="1079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20"/>
            <p:cNvSpPr/>
            <p:nvPr/>
          </p:nvSpPr>
          <p:spPr>
            <a:xfrm>
              <a:off x="898560" y="465300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粪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 Box 21"/>
            <p:cNvSpPr/>
            <p:nvPr/>
          </p:nvSpPr>
          <p:spPr>
            <a:xfrm>
              <a:off x="6804000" y="53708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ahoma"/>
                </a:rPr>
                <a:t>尿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2"/>
            <p:cNvSpPr/>
            <p:nvPr/>
          </p:nvSpPr>
          <p:spPr>
            <a:xfrm>
              <a:off x="7596360" y="4651560"/>
              <a:ext cx="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23"/>
            <p:cNvSpPr/>
            <p:nvPr/>
          </p:nvSpPr>
          <p:spPr>
            <a:xfrm>
              <a:off x="4236480" y="220536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溶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24"/>
            <p:cNvSpPr/>
            <p:nvPr/>
          </p:nvSpPr>
          <p:spPr>
            <a:xfrm>
              <a:off x="3371040" y="2276640"/>
              <a:ext cx="911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沉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25"/>
            <p:cNvSpPr/>
            <p:nvPr/>
          </p:nvSpPr>
          <p:spPr>
            <a:xfrm rot="20154600">
              <a:off x="6085080" y="263664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Text Box 26"/>
            <p:cNvSpPr/>
            <p:nvPr/>
          </p:nvSpPr>
          <p:spPr>
            <a:xfrm rot="20154600">
              <a:off x="5723280" y="2060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 Box 27"/>
            <p:cNvSpPr/>
            <p:nvPr/>
          </p:nvSpPr>
          <p:spPr>
            <a:xfrm rot="1416000">
              <a:off x="6156000" y="347652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 Box 28"/>
            <p:cNvSpPr/>
            <p:nvPr/>
          </p:nvSpPr>
          <p:spPr>
            <a:xfrm rot="1416000">
              <a:off x="5849280" y="4052880"/>
              <a:ext cx="123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重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Text Box 29"/>
            <p:cNvSpPr/>
            <p:nvPr/>
          </p:nvSpPr>
          <p:spPr>
            <a:xfrm>
              <a:off x="1906560" y="28530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吸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 Box 30"/>
            <p:cNvSpPr/>
            <p:nvPr/>
          </p:nvSpPr>
          <p:spPr>
            <a:xfrm>
              <a:off x="1906560" y="34768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排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3240" y="475920"/>
            <a:ext cx="659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第四节  钙、磷代谢转变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  <a:ea typeface="幼圆"/>
              </a:rPr>
              <a:t>本章内容</a:t>
            </a:r>
            <a:endParaRPr b="0" lang="en-US" sz="4000" spc="-1" strike="noStrike">
              <a:solidFill>
                <a:srgbClr val="696464"/>
              </a:solidFill>
              <a:latin typeface="Arial"/>
            </a:endParaRPr>
          </a:p>
        </p:txBody>
      </p:sp>
      <p:sp>
        <p:nvSpPr>
          <p:cNvPr id="318" name="Text Box 6">
            <a:hlinkClick r:id="rId1" action="ppaction://hlinksldjump"/>
          </p:cNvPr>
          <p:cNvSpPr/>
          <p:nvPr/>
        </p:nvSpPr>
        <p:spPr>
          <a:xfrm>
            <a:off x="1712880" y="2205720"/>
            <a:ext cx="63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、体内钙磷含量、分布和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>
            <a:hlinkClick r:id="rId2" action="ppaction://hlinksldjump"/>
          </p:cNvPr>
          <p:cNvSpPr/>
          <p:nvPr/>
        </p:nvSpPr>
        <p:spPr>
          <a:xfrm>
            <a:off x="1692360" y="30124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钙磷的吸收与排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>
            <a:hlinkClick r:id="rId3" action="ppaction://hlinksldjump"/>
          </p:cNvPr>
          <p:cNvSpPr/>
          <p:nvPr/>
        </p:nvSpPr>
        <p:spPr>
          <a:xfrm>
            <a:off x="1692360" y="379008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血液中钙磷含量与存在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>
            <a:hlinkClick r:id="rId4" action="ppaction://hlinksldjump"/>
          </p:cNvPr>
          <p:cNvSpPr/>
          <p:nvPr/>
        </p:nvSpPr>
        <p:spPr>
          <a:xfrm>
            <a:off x="1733400" y="4507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四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钙磷代谢与骨代谢关系密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>
            <a:hlinkClick r:id="rId5" action="ppaction://hlinksldjump"/>
          </p:cNvPr>
          <p:cNvSpPr/>
          <p:nvPr/>
        </p:nvSpPr>
        <p:spPr>
          <a:xfrm>
            <a:off x="1717560" y="5299920"/>
            <a:ext cx="44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五、钙磷代谢的调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3"/>
          <p:cNvSpPr/>
          <p:nvPr/>
        </p:nvSpPr>
        <p:spPr>
          <a:xfrm>
            <a:off x="849240" y="2492280"/>
            <a:ext cx="152424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3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2373480" y="2492280"/>
            <a:ext cx="5943600" cy="2590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以骨盐形式沉积在骨组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钙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再溶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佝偻病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软骨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822240" y="1268280"/>
            <a:ext cx="71344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血清中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[Ca]×[P]=35-40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相对恒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1371600" y="33336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第五节    钙磷代谢的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755640" y="1557360"/>
            <a:ext cx="7848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物质：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状旁腺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钙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作用组织：小肠；肾；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"/>
          <p:cNvSpPr/>
          <p:nvPr/>
        </p:nvSpPr>
        <p:spPr>
          <a:xfrm>
            <a:off x="826920" y="2708280"/>
            <a:ext cx="75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一、 维生素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D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的作用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来源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食物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/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机体自身合成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需要量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: 200~400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国际单位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0ug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．活化过程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684360" y="4724280"/>
            <a:ext cx="7561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部位：肝；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）关键酶：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1α-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羟化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未标题-2"/>
          <p:cNvPicPr/>
          <p:nvPr/>
        </p:nvPicPr>
        <p:blipFill>
          <a:blip r:embed="rId1"/>
          <a:stretch/>
        </p:blipFill>
        <p:spPr>
          <a:xfrm>
            <a:off x="287280" y="0"/>
            <a:ext cx="8101080" cy="667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5" name="Object 3"/>
          <p:cNvGraphicFramePr/>
          <p:nvPr/>
        </p:nvGraphicFramePr>
        <p:xfrm>
          <a:off x="179280" y="1268280"/>
          <a:ext cx="8697960" cy="48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697960" cy="48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Rectangle 4"/>
          <p:cNvSpPr/>
          <p:nvPr/>
        </p:nvSpPr>
        <p:spPr>
          <a:xfrm>
            <a:off x="1619280" y="333360"/>
            <a:ext cx="568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1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钙代谢调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1042920" y="765000"/>
            <a:ext cx="7201080" cy="3527280"/>
            <a:chOff x="1042920" y="765000"/>
            <a:chExt cx="7201080" cy="3527280"/>
          </a:xfrm>
        </p:grpSpPr>
        <p:sp>
          <p:nvSpPr>
            <p:cNvPr id="499" name="Rectangle 3"/>
            <p:cNvSpPr/>
            <p:nvPr/>
          </p:nvSpPr>
          <p:spPr>
            <a:xfrm>
              <a:off x="1081080" y="765000"/>
              <a:ext cx="335268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1,25(OH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D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本身负反馈调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血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4"/>
            <p:cNvSpPr/>
            <p:nvPr/>
          </p:nvSpPr>
          <p:spPr>
            <a:xfrm>
              <a:off x="4433760" y="765000"/>
              <a:ext cx="3810240" cy="35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r>
                <a:rPr b="1" lang="zh-CN" sz="2400" spc="-1" strike="noStrike">
                  <a:solidFill>
                    <a:srgbClr val="000000"/>
                  </a:solidFill>
                  <a:latin typeface="Perpetua"/>
                  <a:ea typeface="楷体_GB2312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(+)</a:t>
              </a:r>
              <a:r>
                <a:rPr b="1" lang="en-US" sz="2400" spc="-1" strike="noStrike">
                  <a:solidFill>
                    <a:srgbClr val="d34817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</a:t>
              </a:r>
              <a:r>
                <a:rPr b="1" lang="en-US" sz="2400" spc="-1" strike="noStrike">
                  <a:solidFill>
                    <a:srgbClr val="96a9a9"/>
                  </a:solidFill>
                  <a:latin typeface="楷体_GB2312"/>
                  <a:ea typeface="楷体_GB2312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4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楷体_GB2312"/>
                  <a:ea typeface="楷体_GB2312"/>
                </a:rPr>
                <a:t>(+) P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cc3300"/>
                </a:buClr>
                <a:buSzPct val="8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-) </a:t>
              </a:r>
              <a:r>
                <a:rPr b="1" lang="en-US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1α-</a:t>
              </a:r>
              <a:r>
                <a:rPr b="1" lang="zh-CN" sz="2400" spc="-1" strike="noStrike">
                  <a:solidFill>
                    <a:srgbClr val="cc3300"/>
                  </a:solidFill>
                  <a:latin typeface="楷体_GB2312"/>
                  <a:ea typeface="楷体_GB2312"/>
                </a:rPr>
                <a:t>羟化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5"/>
            <p:cNvSpPr/>
            <p:nvPr/>
          </p:nvSpPr>
          <p:spPr>
            <a:xfrm>
              <a:off x="1042920" y="1884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1042920" y="30747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1042920" y="3630960"/>
              <a:ext cx="72010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8"/>
          <p:cNvSpPr/>
          <p:nvPr/>
        </p:nvSpPr>
        <p:spPr>
          <a:xfrm>
            <a:off x="2332080" y="4194000"/>
            <a:ext cx="54086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5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系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肝性佝偻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：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α-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羟化酶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-)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肾性佝偻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未标题-2"/>
          <p:cNvPicPr/>
          <p:nvPr/>
        </p:nvPicPr>
        <p:blipFill>
          <a:blip r:embed="rId1"/>
          <a:stretch/>
        </p:blipFill>
        <p:spPr>
          <a:xfrm>
            <a:off x="1258920" y="0"/>
            <a:ext cx="6038640" cy="674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图片2"/>
          <p:cNvPicPr/>
          <p:nvPr/>
        </p:nvPicPr>
        <p:blipFill>
          <a:blip r:embed="rId1"/>
          <a:stretch/>
        </p:blipFill>
        <p:spPr>
          <a:xfrm>
            <a:off x="0" y="50760"/>
            <a:ext cx="5076720" cy="3882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图片1"/>
          <p:cNvPicPr/>
          <p:nvPr/>
        </p:nvPicPr>
        <p:blipFill>
          <a:blip r:embed="rId2"/>
          <a:stretch/>
        </p:blipFill>
        <p:spPr>
          <a:xfrm>
            <a:off x="3780000" y="3357720"/>
            <a:ext cx="5317920" cy="3449520"/>
          </a:xfrm>
          <a:prstGeom prst="rect">
            <a:avLst/>
          </a:prstGeom>
          <a:ln w="0">
            <a:noFill/>
          </a:ln>
        </p:spPr>
      </p:pic>
      <p:sp>
        <p:nvSpPr>
          <p:cNvPr id="508" name="Rectangle 4"/>
          <p:cNvSpPr/>
          <p:nvPr/>
        </p:nvSpPr>
        <p:spPr>
          <a:xfrm>
            <a:off x="1042920" y="260280"/>
            <a:ext cx="108108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5"/>
          <p:cNvSpPr/>
          <p:nvPr/>
        </p:nvSpPr>
        <p:spPr>
          <a:xfrm>
            <a:off x="826920" y="1176480"/>
            <a:ext cx="609840" cy="380880"/>
          </a:xfrm>
          <a:prstGeom prst="ellipse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1403280" y="1916280"/>
            <a:ext cx="1067040" cy="30456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51748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00ff"/>
                </a:solidFill>
                <a:latin typeface="Times New Roman"/>
              </a:rPr>
              <a:t>转录因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3276720" y="1989000"/>
            <a:ext cx="718920" cy="376200"/>
          </a:xfrm>
          <a:prstGeom prst="rect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9"/>
          <p:cNvSpPr/>
          <p:nvPr/>
        </p:nvSpPr>
        <p:spPr>
          <a:xfrm>
            <a:off x="1701720" y="25653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cc3300"/>
                </a:solidFill>
                <a:latin typeface="Times New Roman"/>
              </a:rPr>
              <a:t>顺式作用元件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8294760" y="3500280"/>
            <a:ext cx="3808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4067280" y="3500280"/>
            <a:ext cx="380880" cy="228600"/>
          </a:xfrm>
          <a:prstGeom prst="rect">
            <a:avLst/>
          </a:prstGeom>
          <a:noFill/>
          <a:ln w="28440">
            <a:solidFill>
              <a:srgbClr val="e9e5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2"/>
          <p:cNvSpPr/>
          <p:nvPr/>
        </p:nvSpPr>
        <p:spPr>
          <a:xfrm>
            <a:off x="4822560" y="458136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3"/>
          <p:cNvSpPr/>
          <p:nvPr/>
        </p:nvSpPr>
        <p:spPr>
          <a:xfrm>
            <a:off x="547092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4"/>
          <p:cNvSpPr/>
          <p:nvPr/>
        </p:nvSpPr>
        <p:spPr>
          <a:xfrm>
            <a:off x="698400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8207640" y="458136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3300"/>
                </a:solidFill>
                <a:latin typeface="Times New Roman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64000" y="1268280"/>
            <a:ext cx="2087640" cy="100620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性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促进小肠对钙的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"/>
          <p:cNvSpPr/>
          <p:nvPr/>
        </p:nvSpPr>
        <p:spPr>
          <a:xfrm>
            <a:off x="539640" y="1905120"/>
            <a:ext cx="274320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206880" y="1905120"/>
            <a:ext cx="5421240" cy="3611520"/>
          </a:xfrm>
          <a:prstGeom prst="rect">
            <a:avLst/>
          </a:prstGeom>
          <a:noFill/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小肠对钙、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脂溶性激素的作用机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的更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溶骨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，溶骨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&gt;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成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及集合管合成钙结合蛋白，促进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钙与血磷</a:t>
            </a:r>
            <a:br>
              <a:rPr sz="2200"/>
            </a:br>
            <a:r>
              <a:rPr b="1" lang="zh-CN" sz="2200" spc="-1" strike="noStrike">
                <a:solidFill>
                  <a:srgbClr val="cc3300"/>
                </a:solidFill>
                <a:latin typeface="楷体_GB2312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332000" y="189000"/>
            <a:ext cx="6406920" cy="874800"/>
          </a:xfrm>
          <a:prstGeom prst="rect">
            <a:avLst/>
          </a:prstGeom>
          <a:gradFill rotWithShape="0">
            <a:gsLst>
              <a:gs pos="0">
                <a:srgbClr val="ff9999"/>
              </a:gs>
              <a:gs pos="100000">
                <a:srgbClr val="7647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-D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talk005__s026_f"/>
          <p:cNvPicPr/>
          <p:nvPr/>
        </p:nvPicPr>
        <p:blipFill>
          <a:blip r:embed="rId1"/>
          <a:stretch/>
        </p:blipFill>
        <p:spPr>
          <a:xfrm>
            <a:off x="1258920" y="1214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3"/>
          <p:cNvSpPr/>
          <p:nvPr/>
        </p:nvSpPr>
        <p:spPr>
          <a:xfrm>
            <a:off x="685800" y="547560"/>
            <a:ext cx="6046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二、甲状旁腺素的调节作用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．合成场所：甲状旁腺主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2"/>
          <p:cNvGrpSpPr/>
          <p:nvPr/>
        </p:nvGrpSpPr>
        <p:grpSpPr>
          <a:xfrm>
            <a:off x="2289960" y="1268280"/>
            <a:ext cx="4871160" cy="3202920"/>
            <a:chOff x="2289960" y="1268280"/>
            <a:chExt cx="4871160" cy="3202920"/>
          </a:xfrm>
        </p:grpSpPr>
        <p:sp>
          <p:nvSpPr>
            <p:cNvPr id="527" name="Text Box 3"/>
            <p:cNvSpPr/>
            <p:nvPr/>
          </p:nvSpPr>
          <p:spPr>
            <a:xfrm>
              <a:off x="2628000" y="1268280"/>
              <a:ext cx="279576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前甲状旁腺素原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5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4"/>
            <p:cNvSpPr/>
            <p:nvPr/>
          </p:nvSpPr>
          <p:spPr>
            <a:xfrm>
              <a:off x="2512800" y="2639880"/>
              <a:ext cx="2643480" cy="459720"/>
            </a:xfrm>
            <a:prstGeom prst="rect">
              <a:avLst/>
            </a:prstGeom>
            <a:noFill/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原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5"/>
            <p:cNvSpPr/>
            <p:nvPr/>
          </p:nvSpPr>
          <p:spPr>
            <a:xfrm>
              <a:off x="2603520" y="4011480"/>
              <a:ext cx="2460600" cy="459720"/>
            </a:xfrm>
            <a:prstGeom prst="rect">
              <a:avLst/>
            </a:prstGeom>
            <a:noFill/>
            <a:ln w="9360">
              <a:solidFill>
                <a:srgbClr val="96a9a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甲状旁腺素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8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AutoShape 6"/>
            <p:cNvSpPr/>
            <p:nvPr/>
          </p:nvSpPr>
          <p:spPr>
            <a:xfrm>
              <a:off x="3808440" y="187776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7"/>
            <p:cNvSpPr/>
            <p:nvPr/>
          </p:nvSpPr>
          <p:spPr>
            <a:xfrm>
              <a:off x="2289960" y="195408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粗面内质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8"/>
            <p:cNvSpPr/>
            <p:nvPr/>
          </p:nvSpPr>
          <p:spPr>
            <a:xfrm>
              <a:off x="3808440" y="3249360"/>
              <a:ext cx="304920" cy="663840"/>
            </a:xfrm>
            <a:prstGeom prst="downArrow">
              <a:avLst>
                <a:gd name="adj1" fmla="val 50000"/>
                <a:gd name="adj2" fmla="val 54427"/>
              </a:avLst>
            </a:prstGeom>
            <a:solidFill>
              <a:srgbClr val="d34817"/>
            </a:solidFill>
            <a:ln w="9360">
              <a:solidFill>
                <a:srgbClr val="d348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9"/>
            <p:cNvSpPr/>
            <p:nvPr/>
          </p:nvSpPr>
          <p:spPr>
            <a:xfrm>
              <a:off x="2532960" y="332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高尔基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0"/>
            <p:cNvSpPr/>
            <p:nvPr/>
          </p:nvSpPr>
          <p:spPr>
            <a:xfrm rot="17403000">
              <a:off x="4185000" y="1881720"/>
              <a:ext cx="314640" cy="763560"/>
            </a:xfrm>
            <a:custGeom>
              <a:avLst/>
              <a:gdLst>
                <a:gd name="textAreaLeft" fmla="*/ 42120 w 314640"/>
                <a:gd name="textAreaRight" fmla="*/ 272520 w 314640"/>
                <a:gd name="textAreaTop" fmla="*/ 133560 h 763560"/>
                <a:gd name="textAreaBottom" fmla="*/ 553680 h 76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11"/>
            <p:cNvSpPr/>
            <p:nvPr/>
          </p:nvSpPr>
          <p:spPr>
            <a:xfrm>
              <a:off x="4932360" y="1877760"/>
              <a:ext cx="222876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-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末端信号肽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Rectangle 12"/>
          <p:cNvSpPr/>
          <p:nvPr/>
        </p:nvSpPr>
        <p:spPr>
          <a:xfrm>
            <a:off x="971640" y="547560"/>
            <a:ext cx="4105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．合成过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903240" y="4557600"/>
            <a:ext cx="741384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.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分泌的调节：   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血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PTH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成反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,25-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Franklin Gothic Book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(-)PTH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（通过血钙）    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降钙素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(+)P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884160" y="549360"/>
            <a:ext cx="779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第一节  钙磷的含量、分布及生理功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2175120" y="3356640"/>
            <a:ext cx="44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钙磷的含量及分布和在血浆在存在的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0" y="3938760"/>
          <a:ext cx="8893080" cy="2514600"/>
        </p:xfrm>
        <a:graphic>
          <a:graphicData uri="http://schemas.openxmlformats.org/drawingml/2006/table">
            <a:tbl>
              <a:tblPr/>
              <a:tblGrid>
                <a:gridCol w="851040"/>
                <a:gridCol w="946080"/>
                <a:gridCol w="879480"/>
                <a:gridCol w="927000"/>
                <a:gridCol w="1122480"/>
                <a:gridCol w="923760"/>
                <a:gridCol w="1047960"/>
                <a:gridCol w="925200"/>
                <a:gridCol w="1270080"/>
              </a:tblGrid>
              <a:tr h="457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无机元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血浆中的存在形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骨和齿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软组织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细胞外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游离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结合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复合物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总浓度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~2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1~1.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26" name="Text Box 223"/>
          <p:cNvSpPr/>
          <p:nvPr/>
        </p:nvSpPr>
        <p:spPr>
          <a:xfrm>
            <a:off x="1455120" y="167544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一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内分布与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24"/>
          <p:cNvSpPr/>
          <p:nvPr/>
        </p:nvSpPr>
        <p:spPr>
          <a:xfrm>
            <a:off x="2579400" y="2178720"/>
            <a:ext cx="30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和磷是体内含量最高的无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25"/>
          <p:cNvSpPr/>
          <p:nvPr/>
        </p:nvSpPr>
        <p:spPr>
          <a:xfrm>
            <a:off x="2885040" y="2635920"/>
            <a:ext cx="39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磷主要以骨盐的形式分布于骨胳、牙齿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PTH1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67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900000" y="476280"/>
            <a:ext cx="539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的生理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685800" y="1484280"/>
            <a:ext cx="297180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4"/>
          <p:cNvSpPr/>
          <p:nvPr/>
        </p:nvSpPr>
        <p:spPr>
          <a:xfrm>
            <a:off x="3657600" y="1484280"/>
            <a:ext cx="4730760" cy="4465800"/>
          </a:xfrm>
          <a:prstGeom prst="rect">
            <a:avLst/>
          </a:prstGeom>
          <a:noFill/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远曲小管对钙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的重吸收，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1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溶解（溶骨作用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25-(OH)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D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钙磷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5000"/>
              </a:lnSpc>
              <a:spcBef>
                <a:spcPts val="82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升高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；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3"/>
          <p:cNvGraphicFramePr/>
          <p:nvPr/>
        </p:nvGraphicFramePr>
        <p:xfrm>
          <a:off x="755640" y="692280"/>
          <a:ext cx="7453440" cy="52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692280"/>
                    <a:ext cx="7453440" cy="52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755640" y="40464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三、降钙素（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lcitomin,CT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）的作用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细胞：甲状腺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细胞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化学本质：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肽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分泌的调节：血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T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成正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611280" y="3386160"/>
            <a:ext cx="297180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骨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肾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小肠的作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效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3583080" y="3386160"/>
            <a:ext cx="4952880" cy="2563920"/>
          </a:xfrm>
          <a:prstGeom prst="rect">
            <a:avLst/>
          </a:prstGeom>
          <a:noFill/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+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沉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近曲小管对磷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远曲小管对钙的重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-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钙的吸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降低血</a:t>
            </a:r>
            <a:r>
              <a:rPr b="1" lang="en-US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cc3300"/>
                </a:solidFill>
                <a:latin typeface="楷体_GB2312"/>
                <a:ea typeface="楷体_GB2312"/>
              </a:rPr>
              <a:t>2+ </a:t>
            </a:r>
            <a:r>
              <a:rPr b="1" lang="zh-CN" sz="2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、血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71640" y="2708280"/>
            <a:ext cx="64069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、生理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b19-2"/>
          <p:cNvPicPr/>
          <p:nvPr/>
        </p:nvPicPr>
        <p:blipFill>
          <a:blip r:embed="rId1"/>
          <a:stretch/>
        </p:blipFill>
        <p:spPr>
          <a:xfrm>
            <a:off x="684360" y="2060640"/>
            <a:ext cx="7557840" cy="2273400"/>
          </a:xfrm>
          <a:prstGeom prst="rect">
            <a:avLst/>
          </a:prstGeom>
          <a:ln w="0">
            <a:noFill/>
          </a:ln>
        </p:spPr>
      </p:pic>
      <p:sp>
        <p:nvSpPr>
          <p:cNvPr id="550" name="Oval 3"/>
          <p:cNvSpPr/>
          <p:nvPr/>
        </p:nvSpPr>
        <p:spPr>
          <a:xfrm>
            <a:off x="2131920" y="3048120"/>
            <a:ext cx="457200" cy="30456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val 4"/>
          <p:cNvSpPr/>
          <p:nvPr/>
        </p:nvSpPr>
        <p:spPr>
          <a:xfrm>
            <a:off x="3503520" y="3657600"/>
            <a:ext cx="228600" cy="22860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5"/>
          <p:cNvSpPr/>
          <p:nvPr/>
        </p:nvSpPr>
        <p:spPr>
          <a:xfrm>
            <a:off x="4799160" y="3352680"/>
            <a:ext cx="1447560" cy="30492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6"/>
          <p:cNvSpPr/>
          <p:nvPr/>
        </p:nvSpPr>
        <p:spPr>
          <a:xfrm>
            <a:off x="6323040" y="3048120"/>
            <a:ext cx="1066680" cy="914400"/>
          </a:xfrm>
          <a:prstGeom prst="ellipse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3"/>
          <p:cNvGraphicFramePr/>
          <p:nvPr/>
        </p:nvGraphicFramePr>
        <p:xfrm>
          <a:off x="801720" y="2082960"/>
          <a:ext cx="7657920" cy="30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2082960"/>
                    <a:ext cx="7657920" cy="30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7" name="Rectangle 4"/>
          <p:cNvGrpSpPr/>
          <p:nvPr/>
        </p:nvGrpSpPr>
        <p:grpSpPr>
          <a:xfrm>
            <a:off x="1695600" y="401760"/>
            <a:ext cx="5685840" cy="652320"/>
            <a:chOff x="1695600" y="401760"/>
            <a:chExt cx="5685840" cy="652320"/>
          </a:xfrm>
        </p:grpSpPr>
        <p:pic>
          <p:nvPicPr>
            <p:cNvPr id="558" name="Rectangle 4" descr=""/>
            <p:cNvPicPr/>
            <p:nvPr/>
          </p:nvPicPr>
          <p:blipFill>
            <a:blip r:embed="rId3"/>
            <a:stretch/>
          </p:blipFill>
          <p:spPr>
            <a:xfrm>
              <a:off x="1698480" y="401760"/>
              <a:ext cx="56829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"/>
            <p:cNvSpPr/>
            <p:nvPr/>
          </p:nvSpPr>
          <p:spPr>
            <a:xfrm>
              <a:off x="1695600" y="404640"/>
              <a:ext cx="56847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钙代谢调节激素的协同作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5" descr="Pi_1331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851280" y="5950080"/>
            <a:ext cx="133344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2556000" y="404640"/>
            <a:ext cx="424800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代谢紊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755640" y="1530360"/>
            <a:ext cx="763272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生理需要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钙需要量：成人每天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青春期儿童每天需钙约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孕妇及乳母需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00mg/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的需要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mg/kg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cc00"/>
              </a:buClr>
              <a:buFont typeface="Times New Roman"/>
              <a:buChar char="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膳食中钙∶磷比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最宜于钙、磷的吸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684360" y="333360"/>
            <a:ext cx="64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二、低血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84360" y="1341360"/>
            <a:ext cx="79200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蛋白质含量减少，可使蛋白结合钙减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状旁腺功能减退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下降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11280" y="371628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除精神症状外，常发生手足搐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684360" y="26028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三、佝偻病与软骨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55640" y="1413000"/>
            <a:ext cx="82090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11280" y="202392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佝偻病发生于生长发育中的儿童；软骨病则多发生于成年人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11280" y="318600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高血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684360" y="3724200"/>
            <a:ext cx="8208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甲状旁腺功能亢进及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468360" y="4265640"/>
            <a:ext cx="8064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神经肌肉兴奋性减弱，嗜睡，肌张力减弱等，严重时有精神障碍，出现幻觉，甚至昏迷。高血钙还可引起钙盐的异位沉着，如形成尿路结石等。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826920" y="404640"/>
            <a:ext cx="71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五、泌尿系统结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71640" y="1339920"/>
            <a:ext cx="74167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高血钙、高尿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826920" y="1844640"/>
            <a:ext cx="74170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草酸钙和磷酸钙沉积，形成肾结石和膀胱结石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820800" y="2995560"/>
            <a:ext cx="731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六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磷酸盐血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604800" y="3540240"/>
            <a:ext cx="784872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产生原因：使用过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1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磷酸形成不溶性沉淀，从而降低血磷。代谢性酸中毒可导致磷从尿中丢失过多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677880" y="4989600"/>
            <a:ext cx="7781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临床症状：最初症状是肌肉无力，最终可发展为佝偻病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684360" y="1943640"/>
            <a:ext cx="143964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755640" y="331200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体液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可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971640" y="4795200"/>
            <a:ext cx="4248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钙：线粒体、内质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2411280" y="1625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2340000" y="2287080"/>
            <a:ext cx="6804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2266920" y="162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2340000" y="3050280"/>
            <a:ext cx="3456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扩散钙：与蛋白质结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2340000" y="3763080"/>
            <a:ext cx="15476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扩散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0"/>
          <p:cNvSpPr/>
          <p:nvPr/>
        </p:nvSpPr>
        <p:spPr>
          <a:xfrm>
            <a:off x="2266920" y="3068640"/>
            <a:ext cx="73080" cy="107964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3995640" y="3547080"/>
            <a:ext cx="158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游离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3995640" y="4047120"/>
            <a:ext cx="4969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难解离化合物：乳酸钙、柠檬酸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3"/>
          <p:cNvSpPr/>
          <p:nvPr/>
        </p:nvSpPr>
        <p:spPr>
          <a:xfrm>
            <a:off x="3778200" y="3573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4"/>
          <p:cNvSpPr/>
          <p:nvPr/>
        </p:nvSpPr>
        <p:spPr>
          <a:xfrm>
            <a:off x="754200" y="1844640"/>
            <a:ext cx="72720" cy="3240000"/>
          </a:xfrm>
          <a:custGeom>
            <a:avLst/>
            <a:gdLst>
              <a:gd name="textAreaLeft" fmla="*/ 46440 w 72720"/>
              <a:gd name="textAreaRight" fmla="*/ 73080 w 7272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5"/>
          <p:cNvSpPr/>
          <p:nvPr/>
        </p:nvSpPr>
        <p:spPr>
          <a:xfrm>
            <a:off x="2556000" y="333360"/>
            <a:ext cx="410364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钙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684360" y="67788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降钙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574560" y="126828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泌细胞：甲状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574560" y="2565360"/>
            <a:ext cx="76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功能：降低血钙、降低血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39640" y="1917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靶细胞：骨、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611280" y="364500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四、钙磷代谢紊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7" descr="Pi_1508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816360"/>
            <a:ext cx="260280" cy="2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1258920" y="2205000"/>
            <a:ext cx="6767640" cy="15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钙、磷的主要存在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钙与血磷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9933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激素对钙磷代谢的调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398400" y="3715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章重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972720" y="1690560"/>
            <a:ext cx="7125120" cy="1663200"/>
            <a:chOff x="972720" y="1690560"/>
            <a:chExt cx="7125120" cy="1663200"/>
          </a:xfrm>
        </p:grpSpPr>
        <p:sp>
          <p:nvSpPr>
            <p:cNvPr id="344" name="Line 4"/>
            <p:cNvSpPr/>
            <p:nvPr/>
          </p:nvSpPr>
          <p:spPr>
            <a:xfrm>
              <a:off x="973080" y="1690560"/>
              <a:ext cx="7124760" cy="15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5"/>
            <p:cNvSpPr/>
            <p:nvPr/>
          </p:nvSpPr>
          <p:spPr>
            <a:xfrm flipH="1">
              <a:off x="972720" y="3334680"/>
              <a:ext cx="6800760" cy="1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6"/>
          <p:cNvGrpSpPr/>
          <p:nvPr/>
        </p:nvGrpSpPr>
        <p:grpSpPr>
          <a:xfrm>
            <a:off x="911160" y="4195800"/>
            <a:ext cx="6775560" cy="1110960"/>
            <a:chOff x="911160" y="4195800"/>
            <a:chExt cx="6775560" cy="1110960"/>
          </a:xfrm>
        </p:grpSpPr>
        <p:sp>
          <p:nvSpPr>
            <p:cNvPr id="347" name="AutoShape 9"/>
            <p:cNvSpPr/>
            <p:nvPr/>
          </p:nvSpPr>
          <p:spPr>
            <a:xfrm>
              <a:off x="6718680" y="419580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0"/>
            <p:cNvSpPr/>
            <p:nvPr/>
          </p:nvSpPr>
          <p:spPr>
            <a:xfrm>
              <a:off x="911160" y="428040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1"/>
            <p:cNvSpPr/>
            <p:nvPr/>
          </p:nvSpPr>
          <p:spPr>
            <a:xfrm>
              <a:off x="7041960" y="4864680"/>
              <a:ext cx="644760" cy="35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2"/>
            <p:cNvSpPr/>
            <p:nvPr/>
          </p:nvSpPr>
          <p:spPr>
            <a:xfrm>
              <a:off x="1234080" y="4864680"/>
              <a:ext cx="644760" cy="4420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d3481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13"/>
          <p:cNvSpPr/>
          <p:nvPr/>
        </p:nvSpPr>
        <p:spPr>
          <a:xfrm>
            <a:off x="755640" y="3414600"/>
            <a:ext cx="77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6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4.3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 7.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0"/>
          <p:cNvSpPr/>
          <p:nvPr/>
        </p:nvSpPr>
        <p:spPr>
          <a:xfrm>
            <a:off x="1760040" y="981000"/>
            <a:ext cx="500796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96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离子钙</a:t>
            </a: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血钙中直接发挥生理功能的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1108080" y="4262400"/>
            <a:ext cx="2097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酸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碱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184560" y="4253040"/>
            <a:ext cx="4680000" cy="11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</a:rPr>
              <a:t>pH           [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Ca</a:t>
            </a:r>
            <a:r>
              <a:rPr b="1" lang="en-US" sz="2200" spc="-1" strike="noStrike" baseline="30000">
                <a:solidFill>
                  <a:srgbClr val="000000"/>
                </a:solidFill>
                <a:latin typeface="Perpetua"/>
                <a:ea typeface="楷体_GB2312"/>
              </a:rPr>
              <a:t>2+</a:t>
            </a:r>
            <a:r>
              <a:rPr b="1" lang="en-US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]        </a:t>
            </a:r>
            <a:r>
              <a:rPr b="1" lang="zh-CN" sz="2200" spc="-1" strike="noStrike">
                <a:solidFill>
                  <a:srgbClr val="000000"/>
                </a:solidFill>
                <a:latin typeface="Perpetua"/>
                <a:ea typeface="楷体_GB2312"/>
              </a:rPr>
              <a:t>抽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1143000" y="1643040"/>
            <a:ext cx="6429240" cy="16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离子钙与结合钙</a:t>
            </a:r>
            <a:r>
              <a:rPr b="1" lang="zh-CN" sz="2400" spc="-1" strike="noStrike" baseline="30000">
                <a:solidFill>
                  <a:srgbClr val="cc3300"/>
                </a:solidFill>
                <a:latin typeface="Franklin Gothic Book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cc3300"/>
                </a:solidFill>
                <a:latin typeface="Franklin Gothic Book"/>
                <a:ea typeface="楷体_GB2312"/>
              </a:rPr>
              <a:t>的动态平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C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C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血浆蛋白质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结合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 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[H</a:t>
            </a:r>
            <a:r>
              <a:rPr b="1" lang="en-US" sz="2400" spc="-1" strike="noStrike" baseline="30000">
                <a:solidFill>
                  <a:srgbClr val="000000"/>
                </a:solidFill>
                <a:latin typeface="Franklin Gothic Book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  <a:ea typeface="楷体_GB2312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539640" y="1727640"/>
            <a:ext cx="14400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 anchorCtr="1">
            <a:spAutoFit/>
          </a:bodyPr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骨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不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826920" y="3571200"/>
            <a:ext cx="568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胞内磷：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2266920" y="1409040"/>
            <a:ext cx="49690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羟磷灰石结晶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(OH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2195640" y="1823400"/>
            <a:ext cx="6480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定形磷酸钙沉淀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H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6"/>
          <p:cNvSpPr/>
          <p:nvPr/>
        </p:nvSpPr>
        <p:spPr>
          <a:xfrm>
            <a:off x="2122560" y="1484280"/>
            <a:ext cx="73080" cy="719280"/>
          </a:xfrm>
          <a:custGeom>
            <a:avLst/>
            <a:gdLst>
              <a:gd name="textAreaLeft" fmla="*/ 46800 w 73080"/>
              <a:gd name="textAreaRight" fmla="*/ 73440 w 7308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826920" y="2490120"/>
            <a:ext cx="4753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液磷：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磷酸盐、有机磷酸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8"/>
          <p:cNvSpPr/>
          <p:nvPr/>
        </p:nvSpPr>
        <p:spPr>
          <a:xfrm>
            <a:off x="609480" y="1628640"/>
            <a:ext cx="73080" cy="2305080"/>
          </a:xfrm>
          <a:custGeom>
            <a:avLst/>
            <a:gdLst>
              <a:gd name="textAreaLeft" fmla="*/ 46800 w 73080"/>
              <a:gd name="textAreaRight" fmla="*/ 73440 w 7308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2340000" y="333360"/>
            <a:ext cx="3959280" cy="581400"/>
          </a:xfrm>
          <a:prstGeom prst="rect">
            <a:avLst/>
          </a:prstGeom>
          <a:solidFill>
            <a:srgbClr val="ff9999"/>
          </a:solidFill>
          <a:ln w="9360">
            <a:solidFill>
              <a:srgbClr val="d348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体内磷的存在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2124000" y="2923560"/>
            <a:ext cx="6408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磷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血浆中的无机磷；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3.4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4.0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2268360" y="422100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0c1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与磷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11280" y="5803200"/>
            <a:ext cx="7921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钙与血磷的关系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611280" y="5155560"/>
            <a:ext cx="6264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磷酸钙盐类：磷酸钙、羟磷灰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756000" y="1556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钙磷共同的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8"/>
          <p:cNvSpPr/>
          <p:nvPr/>
        </p:nvSpPr>
        <p:spPr>
          <a:xfrm>
            <a:off x="3393720" y="1987920"/>
            <a:ext cx="33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成骨胳，起机体支架的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9"/>
          <p:cNvSpPr/>
          <p:nvPr/>
        </p:nvSpPr>
        <p:spPr>
          <a:xfrm>
            <a:off x="780480" y="252144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钙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"/>
          <p:cNvSpPr/>
          <p:nvPr/>
        </p:nvSpPr>
        <p:spPr>
          <a:xfrm>
            <a:off x="3328920" y="2521440"/>
            <a:ext cx="27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凝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凝血因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"/>
          <p:cNvSpPr/>
          <p:nvPr/>
        </p:nvSpPr>
        <p:spPr>
          <a:xfrm>
            <a:off x="4206240" y="2980080"/>
            <a:ext cx="6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持神经、肌肉的兴奋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"/>
          <p:cNvSpPr/>
          <p:nvPr/>
        </p:nvSpPr>
        <p:spPr>
          <a:xfrm>
            <a:off x="3443760" y="3450240"/>
            <a:ext cx="36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（酶的调节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二信使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780480" y="3980520"/>
            <a:ext cx="912240" cy="4597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磷的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3523680" y="3980520"/>
            <a:ext cx="32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磷酸基形式参与物质和能量代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3276720" y="44377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参与核酸及细胞膜的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3276720" y="4894920"/>
            <a:ext cx="25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调节代谢、维持酸碱平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磷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2627280" y="260280"/>
            <a:ext cx="4248360" cy="642600"/>
          </a:xfrm>
          <a:prstGeom prst="rect">
            <a:avLst/>
          </a:prstGeom>
          <a:gradFill rotWithShape="0">
            <a:gsLst>
              <a:gs pos="0">
                <a:srgbClr val="d34817"/>
              </a:gs>
              <a:gs pos="100000">
                <a:srgbClr val="f3ce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</a:rPr>
              <a:t>钙的生理功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331640" y="1989000"/>
            <a:ext cx="2230200" cy="2764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   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基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  <a:ea typeface="宋体"/>
              </a:rPr>
              <a:t>骨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3564000" y="1989000"/>
            <a:ext cx="4248000" cy="2787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骨细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破骨细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胶原蛋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蛋白多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脂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柠檬酸钙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SzPct val="91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量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化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形成骨盐参与骨架组成</a:t>
            </a:r>
            <a:endParaRPr b="0" lang="en-US" sz="2400" spc="-1" strike="noStrike">
              <a:solidFill>
                <a:srgbClr val="69646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/>
          <p:cNvSpPr/>
          <p:nvPr/>
        </p:nvSpPr>
        <p:spPr>
          <a:xfrm>
            <a:off x="755640" y="692280"/>
            <a:ext cx="3200400" cy="4465440"/>
          </a:xfrm>
          <a:prstGeom prst="rect">
            <a:avLst/>
          </a:prstGeom>
          <a:solidFill>
            <a:srgbClr val="ff99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基质胶原纤维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牙齿中的骨盐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3995640" y="692280"/>
            <a:ext cx="4419720" cy="4465440"/>
          </a:xfrm>
          <a:prstGeom prst="rect">
            <a:avLst/>
          </a:prstGeom>
          <a:solidFill>
            <a:srgbClr val="cc99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磷酸钙盐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无定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aH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柱状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/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针状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H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羟磷灰石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结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钙、磷的储存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维持钙、磷的浓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C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O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硬度增加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解度降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9b2d1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斑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2:22:06Z</dcterms:created>
  <dc:creator>Yuanlijie</dc:creator>
  <dc:description/>
  <dc:language>en-US</dc:language>
  <cp:lastModifiedBy>ZhangLL</cp:lastModifiedBy>
  <dcterms:modified xsi:type="dcterms:W3CDTF">2014-12-04T03:14:39Z</dcterms:modified>
  <cp:revision>19</cp:revision>
  <dc:subject/>
  <dc:title>幻灯片 1</dc:title>
</cp:coreProperties>
</file>