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1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1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5BB-8C0E-4DE8-9984-D38F9E9DD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439D-469B-4AFE-B639-88B879E5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E94-27F4-4426-BA37-451789D6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3171-DB05-4209-9B81-986A34E6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49B-0091-42DD-A44A-93CC6CDB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16F-EA05-4B5A-A842-2474BB22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D1C2-7BBD-448E-8915-D2949C12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885F-3AEE-4ED5-B8A7-2E666DF3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C2C-151B-49DC-BC98-872199F3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26B-BDC4-470C-AAE2-6766FC9E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FA9-E8AC-452D-BF0F-F716D043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6D6-2E12-4963-8895-AF79338B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D71-CDB2-4A94-8113-6DD039B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3EB5-F356-4E6B-B7C6-7B583616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5C0D-9B3F-402D-86BB-7F3837B1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357200" y="1557360"/>
            <a:ext cx="64771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第十四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华文细黑"/>
                <a:ea typeface="华文细黑"/>
              </a:rPr>
              <a:t>肝的生物化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00000" y="3672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iochemistry of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769760" y="755640"/>
            <a:ext cx="55756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799"/>
              </a:spcBef>
              <a:buClr>
                <a:srgbClr val="0000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肝胆疾患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伴有维生素的吸收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严重肝病时，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磷酸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用受到影响，从而引起有关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吸收，贮存及代谢障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出血倾向及夜盲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五、肝是多种激素灭活的场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685800" y="1197000"/>
            <a:ext cx="8001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是激素灭活与排泄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素的灭活：激素在体内经分解、转化， 生物学活性降低或丧失。是体内调节控制激素作用时间长短及强度的重要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功能损害时，体内多种激素因灭活作用减弱而堆积，使机体产生不同程度的功能紊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43000" y="990720"/>
            <a:ext cx="685800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第二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肝的生物转化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584000" y="274320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Biotransformation in the l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5"/>
          <p:cNvSpPr/>
          <p:nvPr/>
        </p:nvSpPr>
        <p:spPr>
          <a:xfrm>
            <a:off x="533520" y="981000"/>
            <a:ext cx="79992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非营养物质通过肝的生物转化作用增加极性，利于机体对其排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1835280" y="306720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非营养物质概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1258920" y="3645000"/>
            <a:ext cx="7416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体内存在的，既不能构成组织细胞的成分，又不能氧化供能或作为酶的辅助因子的物质，称为非营养物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80880" y="476280"/>
            <a:ext cx="838224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非营养物质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内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毒的代谢产物：氨、胺及胆红素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活性物质：激素、神经递质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）外源性物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、毒物、食品添加剂、环境污染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道细菌腐败产物如胺、酚、吲哚、硫化氢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2921400" y="5176800"/>
            <a:ext cx="3807720" cy="52056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营养物质在排出之前需进行生物转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3520" y="1425600"/>
            <a:ext cx="807084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非营养物质在体内进行的各种代谢转变，使其极性（水溶性）增加，毒性降低，易于随胆汁或尿液排出体外的过程称为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生物转化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(biotransform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部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、肺、肠、肾，主要在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1186920" y="907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生物转化的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517680" y="422280"/>
            <a:ext cx="8626320" cy="59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生物转化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多样性和连续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种物质可进行多种生物转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且各种反应可按一定顺序进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解毒与致毒的双重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毒性减弱或消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数物质毒性反而出现或增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如黄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经肝生物转化生成环氧化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曲霉毒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可与核酸中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结合而致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0" y="836640"/>
            <a:ext cx="928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肝的生物转化可以归纳为两相反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09480" y="2179800"/>
            <a:ext cx="830592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一相反应包括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氧化、还原、水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第二相反应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结合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2209680"/>
            <a:ext cx="8278920" cy="23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般使非极性基团转化为极性基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或使原有基团分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氧化反应由加单氧酶系、单胺氧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脱氢酶催化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90440" y="1197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第一相反应包括氧化、还原和水解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285840" y="477720"/>
            <a:ext cx="903924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加单氧酶系是生物转化最重要的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组成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H-cytP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原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tb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激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掺入底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成羟化物或环氧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另一个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ADPH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还原成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4313160" y="439092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33400" y="4253040"/>
            <a:ext cx="346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H + NADP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79080" y="4210200"/>
            <a:ext cx="3899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H + 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 NADPH + H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65480" y="3933720"/>
            <a:ext cx="16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加单氧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317760" y="4772160"/>
            <a:ext cx="34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（混合功能氧化酶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79280" y="3933720"/>
            <a:ext cx="8785440" cy="144000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3206880" y="545940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烷烃、芳烃、氨基氮、类固醇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069280" y="476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肝的组织结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511280" y="1214280"/>
            <a:ext cx="6120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0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体重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最大的腺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动脉和门静脉双重血液供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静脉和胆管系统两条输出通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丰富的血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547640" y="3357720"/>
            <a:ext cx="63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丰富的细胞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*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种酶系（体内的“化工厂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50920" y="4724280"/>
            <a:ext cx="8642160" cy="94716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肝在糖、脂、蛋白质、维生素和激素等代谢中发挥重要作用，还具有分泌、排泄和生物转化等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76360" y="1360440"/>
            <a:ext cx="52340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线粒体外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物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醛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4191120" y="4427640"/>
            <a:ext cx="761760" cy="228600"/>
          </a:xfrm>
          <a:prstGeom prst="rightArrow">
            <a:avLst>
              <a:gd name="adj1" fmla="val 50000"/>
              <a:gd name="adj2" fmla="val 8330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445360" y="4319640"/>
            <a:ext cx="336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N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76840" y="4275000"/>
            <a:ext cx="351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611280" y="62064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单胺氧化酶氧化胺类生成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806640" y="5313240"/>
            <a:ext cx="21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胺、酪胺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羟色胺、尸胺、腐胺、儿茶酚胺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755880" y="36720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单胺氧化酶（</a:t>
            </a:r>
            <a:r>
              <a:rPr b="1" lang="en-US" sz="2400" spc="-1" strike="noStrike">
                <a:solidFill>
                  <a:srgbClr val="9900cc"/>
                </a:solidFill>
                <a:latin typeface="Times New Roman"/>
              </a:rPr>
              <a:t>MAO</a:t>
            </a:r>
            <a:r>
              <a:rPr b="1" lang="zh-CN" sz="2400" spc="-1" strike="noStrike">
                <a:solidFill>
                  <a:srgbClr val="9900cc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0"/>
          <p:cNvSpPr/>
          <p:nvPr/>
        </p:nvSpPr>
        <p:spPr>
          <a:xfrm>
            <a:off x="4195800" y="455616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250920" y="3500280"/>
            <a:ext cx="8642160" cy="1800360"/>
          </a:xfrm>
          <a:prstGeom prst="rect">
            <a:avLst/>
          </a:prstGeom>
          <a:noFill/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74800" y="1341360"/>
            <a:ext cx="56055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胞液、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种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醛脱氢酶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D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 醛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636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醇脱氢酶及醛脱氢酶氧化醇和醛生成醛或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7"/>
          <p:cNvGraphicFramePr/>
          <p:nvPr/>
        </p:nvGraphicFramePr>
        <p:xfrm>
          <a:off x="250920" y="4076640"/>
          <a:ext cx="864072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076640"/>
                    <a:ext cx="8640720" cy="1440000"/>
                  </a:xfrm>
                  <a:prstGeom prst="rect">
                    <a:avLst/>
                  </a:prstGeom>
                  <a:ln w="9360">
                    <a:solidFill>
                      <a:srgbClr val="cc00cc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630360"/>
            <a:ext cx="91440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硝基还原酶和偶氮还原酶是主要的还原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分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硝基化合物、偶氮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产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胺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1032"/>
          <p:cNvGraphicFramePr/>
          <p:nvPr/>
        </p:nvGraphicFramePr>
        <p:xfrm>
          <a:off x="611280" y="3718080"/>
          <a:ext cx="78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718080"/>
                    <a:ext cx="7848360" cy="10792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4" name="Object 1031"/>
          <p:cNvGraphicFramePr/>
          <p:nvPr/>
        </p:nvGraphicFramePr>
        <p:xfrm>
          <a:off x="611280" y="4797360"/>
          <a:ext cx="784836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4797360"/>
                    <a:ext cx="7848360" cy="108108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6" name="Rectangle 1033"/>
          <p:cNvSpPr/>
          <p:nvPr/>
        </p:nvSpPr>
        <p:spPr>
          <a:xfrm>
            <a:off x="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034"/>
          <p:cNvSpPr/>
          <p:nvPr/>
        </p:nvSpPr>
        <p:spPr>
          <a:xfrm>
            <a:off x="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407880"/>
            <a:ext cx="9144000" cy="29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酯酶、酰胺酶及糖苷酶是主要的水解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微粒体和胞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酶、酰胺酶及糖苷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酯类、酰胺类、糖苷类化合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032" descr="水杨酸"/>
          <p:cNvPicPr/>
          <p:nvPr/>
        </p:nvPicPr>
        <p:blipFill>
          <a:blip r:embed="rId1"/>
          <a:stretch/>
        </p:blipFill>
        <p:spPr>
          <a:xfrm>
            <a:off x="449280" y="3860640"/>
            <a:ext cx="8244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250920" y="40464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（二）第二相反应是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111480" y="11970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与极性很强的基团结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57200" y="1773360"/>
            <a:ext cx="829152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葡萄糖醛酸结合是最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、酚、酸、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6337440" cy="28958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124" name="Rectangle 9"/>
          <p:cNvSpPr/>
          <p:nvPr/>
        </p:nvSpPr>
        <p:spPr>
          <a:xfrm>
            <a:off x="179280" y="47628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的供体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尿苷二磷酸葡萄糖醛酸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UDPGA)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来自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DP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769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3"/>
          <p:cNvSpPr/>
          <p:nvPr/>
        </p:nvSpPr>
        <p:spPr>
          <a:xfrm>
            <a:off x="755640" y="1332000"/>
            <a:ext cx="8077320" cy="25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活性硫酸的供体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AP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酸腺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磷酰硫酸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硫酸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，酚，芳香胺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089240" y="620640"/>
            <a:ext cx="9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硫酸结合也是常见的结合反应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341280" y="4149720"/>
          <a:ext cx="8460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4149720"/>
                    <a:ext cx="8460000" cy="167148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547640" y="1341360"/>
            <a:ext cx="639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酰基转移酶（肝胞液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乙酰基的供体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乙酰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各种芳香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0" y="530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溶性降低，生物活性或毒性降低或丧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10"/>
          <p:cNvGraphicFramePr/>
          <p:nvPr/>
        </p:nvGraphicFramePr>
        <p:xfrm>
          <a:off x="125280" y="4076640"/>
          <a:ext cx="889344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4076640"/>
                    <a:ext cx="8893440" cy="8413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6" name="Rectangle 12"/>
          <p:cNvSpPr/>
          <p:nvPr/>
        </p:nvSpPr>
        <p:spPr>
          <a:xfrm>
            <a:off x="4186080" y="7650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乙酰基结合是胺类化合物重要的结合反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403280" y="1430280"/>
            <a:ext cx="6300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环氧化物、卤代化合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S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S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排出，保护肝细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693720" y="4076640"/>
          <a:ext cx="75502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4076640"/>
                    <a:ext cx="7550280" cy="2052720"/>
                  </a:xfrm>
                  <a:prstGeom prst="rect">
                    <a:avLst/>
                  </a:prstGeom>
                  <a:ln w="9360">
                    <a:solidFill>
                      <a:srgbClr val="d6009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1" name="Rectangle 6"/>
          <p:cNvSpPr/>
          <p:nvPr/>
        </p:nvSpPr>
        <p:spPr>
          <a:xfrm>
            <a:off x="4208040" y="6922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谷胱甘肽结合反应对肝细胞起保护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692360" y="2138400"/>
            <a:ext cx="6251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节  肝在物质代谢中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二节  肝的生物转化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节  胆汁酸的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节  胆色素代谢与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836880" y="1052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本章主要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1006560" y="1581120"/>
            <a:ext cx="712944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些药物、毒物的酰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线粒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酰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68360" y="692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甘氨酸可与含羧基的化合物结合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0" y="3873600"/>
            <a:ext cx="7956720" cy="1989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548680" y="5373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马尿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610760" y="443700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CoA-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330200" y="1268280"/>
            <a:ext cx="655488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甲基供体：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-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腺苷蛋氨酸（</a:t>
            </a:r>
            <a:r>
              <a:rPr b="1" lang="en-US" sz="3200" spc="-1" strike="noStrike">
                <a:solidFill>
                  <a:srgbClr val="d60093"/>
                </a:solidFill>
                <a:latin typeface="Times New Roman"/>
              </a:rPr>
              <a:t>SAM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底物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胺类或某些药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酶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甲基转移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及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7"/>
          <p:cNvGraphicFramePr/>
          <p:nvPr/>
        </p:nvGraphicFramePr>
        <p:xfrm>
          <a:off x="1042920" y="4102200"/>
          <a:ext cx="6985080" cy="184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4102200"/>
                    <a:ext cx="6985080" cy="1847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4237920" y="62064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甲基化是生物活性物质和药物代谢的重要反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1167840"/>
            <a:ext cx="9144000" cy="43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肝的生物转化作用受多种因素的影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参与生物转化的酶有一个发育的过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二）某些生物转化作用有性别差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三）肝病可影响肝的生物转化能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四）毒物或药物可诱导相关的生物转化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84360" y="333360"/>
            <a:ext cx="77850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三节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汁酸的代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292572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宋体"/>
              </a:rPr>
              <a:t>Metabolism of Bile Ac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79320" y="620640"/>
            <a:ext cx="79250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胆汁酸是胆汁的主要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由肝细胞分泌，通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道系统排入十二指肠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肝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初分泌的胆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囊胆汁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胆囊浓缩的胆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正常人胆汁的化学组成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胆汁酸主要以钾盐或钠盐的形式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2124000" y="3284640"/>
            <a:ext cx="142920" cy="93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468360" y="692280"/>
            <a:ext cx="82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种胆汁的百分组成和部分性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0560" y="1413000"/>
          <a:ext cx="5545440" cy="4754520"/>
        </p:xfrm>
        <a:graphic>
          <a:graphicData uri="http://schemas.openxmlformats.org/drawingml/2006/table">
            <a:tbl>
              <a:tblPr/>
              <a:tblGrid>
                <a:gridCol w="1366920"/>
                <a:gridCol w="2089080"/>
                <a:gridCol w="2089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肝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胆囊胆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重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水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固体成分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无机盐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粘蛋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色素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脂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胆固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磷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24000" y="3938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胆汁酸的主要功能是促进脂类的消化、吸收和胆固醇的排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3851280" y="2773440"/>
            <a:ext cx="5292720" cy="39686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0" y="3068640"/>
            <a:ext cx="381636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亲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羟基、羧基、磺酸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疏水侧面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烃核和甲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3178800" y="1844640"/>
            <a:ext cx="28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是一大类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24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碳胆烷酸的总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065400" y="2290680"/>
            <a:ext cx="292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胆汁酸有界面活性，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降低油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水两相表面张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1996920" y="4221000"/>
            <a:ext cx="516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使脂类乳化成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~10</a:t>
            </a:r>
            <a:r>
              <a:rPr b="1" lang="el-GR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μm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混合微团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有利于消化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54000" y="620640"/>
            <a:ext cx="79390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一）胆汁酸主要的功能是促进脂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消化和吸收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4356000" y="3357720"/>
            <a:ext cx="432000" cy="8632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952640" y="907920"/>
            <a:ext cx="523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胆汁酸可抑制胆汁中胆固醇的析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466560" y="1900080"/>
            <a:ext cx="8209080" cy="28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卵磷脂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胆固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溶性的微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→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胆固醇析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胆汁酸或卵磷脂：胆固醇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≤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胆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醇过饱和析出，形成结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026"/>
          <p:cNvSpPr/>
          <p:nvPr/>
        </p:nvSpPr>
        <p:spPr>
          <a:xfrm>
            <a:off x="287280" y="1197000"/>
            <a:ext cx="85694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三）胆汁酸的其他生理功能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负反馈调控胆固醇和胆汁酸的合成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限速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28"/>
          <p:cNvSpPr/>
          <p:nvPr/>
        </p:nvSpPr>
        <p:spPr>
          <a:xfrm>
            <a:off x="2290680" y="3357720"/>
            <a:ext cx="4562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MG-Co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1143000"/>
            <a:ext cx="7977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第一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</a:rPr>
              <a:t>肝在物质代谢中的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914400" y="29718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The liver role in metaboli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274680" y="836640"/>
            <a:ext cx="8594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胆汁酸按形成部位的不同分为初级胆汁酸和次级胆汁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277160" y="2565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初级胆汁酸由肝细胞以胆固醇为原料合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2772360" y="364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分为游离型和结合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4" descr="2"/>
          <p:cNvPicPr/>
          <p:nvPr/>
        </p:nvPicPr>
        <p:blipFill>
          <a:blip r:embed="rId1"/>
          <a:stretch/>
        </p:blipFill>
        <p:spPr>
          <a:xfrm>
            <a:off x="6175440" y="1346040"/>
            <a:ext cx="2933640" cy="2443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1"/>
          <p:cNvPicPr/>
          <p:nvPr/>
        </p:nvPicPr>
        <p:blipFill>
          <a:blip r:embed="rId2"/>
          <a:stretch/>
        </p:blipFill>
        <p:spPr>
          <a:xfrm>
            <a:off x="6084720" y="3898800"/>
            <a:ext cx="2843280" cy="2843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179280" y="1700280"/>
            <a:ext cx="597708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部  位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限速酶：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d6009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d60093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d60093"/>
                </a:solidFill>
                <a:latin typeface="宋体"/>
              </a:rPr>
              <a:t>羟化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反  应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羟化、氧化、羟化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原、侧链氧化及断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产  物：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胆酸、鹅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417920" y="692280"/>
            <a:ext cx="87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游离型初级胆汁酸包括胆酸和鹅脱氧胆酸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60360" y="1177920"/>
            <a:ext cx="878364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型初级胆汁酸是游离型初级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与甘氨酸和牛磺酸结合的产物</a:t>
            </a:r>
            <a:r>
              <a:rPr b="0" lang="zh-CN" sz="3200" spc="-1" strike="noStrike">
                <a:solidFill>
                  <a:srgbClr val="d6009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微粒体和胞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反应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初级胆汁酸与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甘氨酸、牛磺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甘氨胆酸、甘氨鹅脱氧胆酸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牛磺胆酸、牛磺鹅脱氧胆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意义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极性增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于发挥作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止过早吸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0" y="85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1079640" y="112680"/>
          <a:ext cx="694836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112680"/>
                    <a:ext cx="694836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4920" y="44280"/>
            <a:ext cx="910908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二）次级胆汁酸是肠菌作用的产物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初级胆汁酸在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肠菌作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形成的胆汁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羟基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产物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胆  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</a:rPr>
              <a:t>7-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脱氧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鹅脱氧胆酸 </a:t>
            </a:r>
            <a:r>
              <a:rPr b="1" lang="zh-CN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石胆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24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（三）胆汁酸的肠肝循环有重要的生理意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"/>
          <p:cNvPicPr/>
          <p:nvPr/>
        </p:nvPicPr>
        <p:blipFill>
          <a:blip r:embed="rId1"/>
          <a:stretch/>
        </p:blipFill>
        <p:spPr>
          <a:xfrm>
            <a:off x="3348000" y="1052640"/>
            <a:ext cx="5502240" cy="5168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8"/>
          <p:cNvSpPr/>
          <p:nvPr/>
        </p:nvSpPr>
        <p:spPr>
          <a:xfrm>
            <a:off x="5805360" y="1773360"/>
            <a:ext cx="21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需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12—32g /day (3</a:t>
            </a:r>
            <a:r>
              <a:rPr b="1" lang="zh-CN" sz="1600" spc="-1" strike="noStrike">
                <a:solidFill>
                  <a:srgbClr val="3333cc"/>
                </a:solidFill>
                <a:latin typeface="Times New Roman"/>
              </a:rPr>
              <a:t>～</a:t>
            </a: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5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5198400" y="623736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/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709200" y="2117880"/>
            <a:ext cx="2289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生理意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使有限量的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汁酸得到反复利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5"/>
          <p:cNvSpPr/>
          <p:nvPr/>
        </p:nvSpPr>
        <p:spPr>
          <a:xfrm>
            <a:off x="990720" y="1447920"/>
            <a:ext cx="70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第四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宋体"/>
              </a:rPr>
              <a:t>胆色素代谢与黄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12560" y="3276720"/>
            <a:ext cx="831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Metabolism of Bile Pigment and Jaund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1295280" y="184464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血红蛋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8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052640" y="232416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肌红蛋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物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过氧化氢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细胞色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24320" y="2133720"/>
            <a:ext cx="304560" cy="152712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6"/>
          <p:cNvSpPr/>
          <p:nvPr/>
        </p:nvSpPr>
        <p:spPr>
          <a:xfrm>
            <a:off x="4869000" y="53881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3860640" y="2940120"/>
            <a:ext cx="4267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4078440" y="20462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、骨髓、脾等单核吞噬细胞系统识别并吞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2446200" y="445284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984400" y="5027760"/>
            <a:ext cx="21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色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6356160" y="5079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随胆汁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981000" y="4452840"/>
            <a:ext cx="216000" cy="935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1108080" y="50277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血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13694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珠蛋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561840" y="4092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氨基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2446200" y="5388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1773360" y="6002280"/>
            <a:ext cx="51321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胆绿素、胆红素、胆素原、胆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9"/>
          <p:cNvSpPr/>
          <p:nvPr/>
        </p:nvSpPr>
        <p:spPr>
          <a:xfrm>
            <a:off x="4005360" y="56037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3970080" y="333360"/>
            <a:ext cx="7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胆红素是血红素分解代谢的产物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25"/>
          <p:cNvSpPr/>
          <p:nvPr/>
        </p:nvSpPr>
        <p:spPr>
          <a:xfrm>
            <a:off x="0" y="112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一）胆红素主要来源于红细胞中血红蛋白的分解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028"/>
          <p:cNvSpPr/>
          <p:nvPr/>
        </p:nvSpPr>
        <p:spPr>
          <a:xfrm>
            <a:off x="755640" y="1341360"/>
            <a:ext cx="8010360" cy="32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（二）胆红素在肝、脾和骨髓的单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吞噬细胞系统生成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粒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物：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"/>
          <p:cNvSpPr/>
          <p:nvPr/>
        </p:nvSpPr>
        <p:spPr>
          <a:xfrm>
            <a:off x="0" y="13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95280" y="260280"/>
          <a:ext cx="8282160" cy="626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60280"/>
                    <a:ext cx="828216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Line 7"/>
          <p:cNvSpPr/>
          <p:nvPr/>
        </p:nvSpPr>
        <p:spPr>
          <a:xfrm flipH="1">
            <a:off x="4643280" y="476280"/>
            <a:ext cx="144720" cy="14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8"/>
          <p:cNvSpPr/>
          <p:nvPr/>
        </p:nvSpPr>
        <p:spPr>
          <a:xfrm flipH="1">
            <a:off x="7380000" y="549360"/>
            <a:ext cx="144360" cy="21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76080" y="198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血红素加氧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Times New Roman"/>
              </a:rPr>
              <a:t>（限速酶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09480" y="1295280"/>
            <a:ext cx="77724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糖代谢中的最主要作用是维持血糖浓度的相对恒定，以确保全身各种组织特别是大脑和红细胞的能量供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9840" y="457200"/>
            <a:ext cx="915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一、肝是维持血糖浓度相对恒定的重要器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95680" y="3200400"/>
            <a:ext cx="36226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原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糖异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磷酸戊糖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3987720" y="3505320"/>
            <a:ext cx="355680" cy="2057400"/>
          </a:xfrm>
          <a:custGeom>
            <a:avLst/>
            <a:gdLst>
              <a:gd name="textAreaLeft" fmla="*/ 227160 w 355680"/>
              <a:gd name="textAreaRight" fmla="*/ 356040 w 3556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1600200" y="4267080"/>
            <a:ext cx="29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aramond"/>
              </a:rPr>
              <a:t>主要代谢途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0" y="907920"/>
            <a:ext cx="914400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（三）胆红素具有重要的生理作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 胆红素、胆绿素是抗氧化剂。清除超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物和过氧化自由基的能力优于维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胆红素生成过程产生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重要的信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子，激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增加胞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GM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含量，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起血管舒张和血压降低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5"/>
          <p:cNvSpPr/>
          <p:nvPr/>
        </p:nvSpPr>
        <p:spPr>
          <a:xfrm>
            <a:off x="-684360" y="112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4140360" y="1628640"/>
          <a:ext cx="471636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628640"/>
                    <a:ext cx="471636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6"/>
          <p:cNvSpPr/>
          <p:nvPr/>
        </p:nvSpPr>
        <p:spPr>
          <a:xfrm>
            <a:off x="179280" y="1197000"/>
            <a:ext cx="424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游离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子内氢键使胆红素呈脊瓦状刚性折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极性基团埋于内部，疏水基团暴露在表面，易通过生物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与重氮试剂呈间接反应，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间接（反应）胆红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，又称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血胆红素、未结合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4355280" y="549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血液中游离胆红素与清蛋白结合后运输入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2560" y="1000080"/>
            <a:ext cx="7993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转运形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胆红素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清蛋白复合物（仍是未结合胆红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未结合胆红素不会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意    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胆红素的水溶性，便于运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*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胆红素通透生物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有机阴离子如磺胺药、抗生素、某些利尿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胆管造影剂等可竞争性地与清蛋白结合，新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和高胆红素血症的患者要慎用此类药物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108000" y="115920"/>
            <a:ext cx="8856720" cy="52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、游离胆红素在肝内转变为结合胆红素，并随胆汁排泄进入肠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一）游离胆红素进入肝细胞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蛋白结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过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血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与清蛋白分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肝窦侧细胞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胆红素被摄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肝细胞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--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胆红素与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Z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蛋白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蛋白称配体蛋白是主要的结合蛋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定位于内质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1893960" y="549360"/>
            <a:ext cx="5057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胆红素在肝细胞内质网结合葡萄糖醛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成结合胆红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55640" y="2027160"/>
            <a:ext cx="766908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部位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滑面内质网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酶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DP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葡萄糖醛酸转移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产物：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胆红素葡糖醛酸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称结合胆红素、直接胆红素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胆红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去路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胆汁排泄，不出现在正常人血尿中，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胆疾病时可返流入血，并出现在尿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8"/>
          <p:cNvGrpSpPr/>
          <p:nvPr/>
        </p:nvGrpSpPr>
        <p:grpSpPr>
          <a:xfrm>
            <a:off x="1025640" y="382680"/>
            <a:ext cx="7092720" cy="5949360"/>
            <a:chOff x="1025640" y="382680"/>
            <a:chExt cx="7092720" cy="5949360"/>
          </a:xfrm>
        </p:grpSpPr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1275480" y="438480"/>
              <a:ext cx="6591240" cy="58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3"/>
            <p:cNvSpPr/>
            <p:nvPr/>
          </p:nvSpPr>
          <p:spPr>
            <a:xfrm>
              <a:off x="2058840" y="2627280"/>
              <a:ext cx="4858920" cy="2820240"/>
            </a:xfrm>
            <a:prstGeom prst="rect">
              <a:avLst/>
            </a:prstGeom>
            <a:noFill/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Rectangle 5"/>
            <p:cNvSpPr/>
            <p:nvPr/>
          </p:nvSpPr>
          <p:spPr>
            <a:xfrm>
              <a:off x="1025640" y="382680"/>
              <a:ext cx="7092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6"/>
            <p:cNvSpPr/>
            <p:nvPr/>
          </p:nvSpPr>
          <p:spPr>
            <a:xfrm>
              <a:off x="1443960" y="382680"/>
              <a:ext cx="6255360" cy="207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2" name="Object 4"/>
            <p:cNvGraphicFramePr/>
            <p:nvPr/>
          </p:nvGraphicFramePr>
          <p:xfrm>
            <a:off x="1283040" y="1190520"/>
            <a:ext cx="6576480" cy="94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33" name="Object 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283040" y="1190520"/>
                      <a:ext cx="6576480" cy="94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Rectangle 7"/>
            <p:cNvSpPr/>
            <p:nvPr/>
          </p:nvSpPr>
          <p:spPr>
            <a:xfrm>
              <a:off x="2784960" y="5634000"/>
              <a:ext cx="3797640" cy="60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765000"/>
            <a:ext cx="8610480" cy="57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性   质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游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结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胆红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胆红素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常见其他名称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血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肝胆红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葡萄糖醛酸结合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未结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结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重氮试剂反应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慢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间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迅速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直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解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脂溶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水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肾随尿排出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能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脑组织产生毒性作用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无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2189160" y="189000"/>
            <a:ext cx="47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胆红素性质的比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"/>
          <p:cNvSpPr/>
          <p:nvPr/>
        </p:nvSpPr>
        <p:spPr>
          <a:xfrm>
            <a:off x="325440" y="4869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5"/>
          <p:cNvSpPr/>
          <p:nvPr/>
        </p:nvSpPr>
        <p:spPr>
          <a:xfrm>
            <a:off x="324000" y="59500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6"/>
          <p:cNvSpPr/>
          <p:nvPr/>
        </p:nvSpPr>
        <p:spPr>
          <a:xfrm>
            <a:off x="325440" y="836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7"/>
          <p:cNvSpPr/>
          <p:nvPr/>
        </p:nvSpPr>
        <p:spPr>
          <a:xfrm>
            <a:off x="325440" y="191628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24000" y="537372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25440" y="306864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325440" y="3645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325440" y="4221000"/>
            <a:ext cx="84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2"/>
          <p:cNvSpPr/>
          <p:nvPr/>
        </p:nvSpPr>
        <p:spPr>
          <a:xfrm flipV="1">
            <a:off x="32400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 flipV="1">
            <a:off x="4427640" y="83664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 flipV="1">
            <a:off x="637236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 flipV="1">
            <a:off x="8783640" y="836640"/>
            <a:ext cx="3636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4920" y="185760"/>
            <a:ext cx="892980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胆红素在肠菌作用下转变为胆素原和胆素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一）胆素原和胆素在肠道内由肠菌作用生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结合胆红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胆汁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4400" spc="-1" strike="noStrike">
                <a:solidFill>
                  <a:srgbClr val="ff9900"/>
                </a:solidFill>
                <a:latin typeface="Times New Roman"/>
              </a:rPr>
              <a:t>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203640" y="2203560"/>
            <a:ext cx="144360" cy="1942920"/>
          </a:xfrm>
          <a:prstGeom prst="downArrow">
            <a:avLst>
              <a:gd name="adj1" fmla="val 20000"/>
              <a:gd name="adj2" fmla="val 336471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3238560" y="4940280"/>
            <a:ext cx="69840" cy="685800"/>
          </a:xfrm>
          <a:prstGeom prst="downArrow">
            <a:avLst>
              <a:gd name="adj1" fmla="val 50000"/>
              <a:gd name="adj2" fmla="val 245490"/>
            </a:avLst>
          </a:prstGeom>
          <a:solidFill>
            <a:srgbClr val="0033cc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6"/>
          <p:cNvSpPr/>
          <p:nvPr/>
        </p:nvSpPr>
        <p:spPr>
          <a:xfrm flipH="1">
            <a:off x="2268000" y="2274840"/>
            <a:ext cx="10083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625040" y="24192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3894120" y="24192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肠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肠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0"/>
          <p:cNvSpPr/>
          <p:nvPr/>
        </p:nvSpPr>
        <p:spPr>
          <a:xfrm>
            <a:off x="2286000" y="3498840"/>
            <a:ext cx="917640" cy="30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1841040" y="30672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1992240" y="4248000"/>
            <a:ext cx="31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组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无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化合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3720240" y="5057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触空气氧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3442320" y="5586480"/>
            <a:ext cx="21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胆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粪便的颜色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6"/>
          <p:cNvSpPr/>
          <p:nvPr/>
        </p:nvSpPr>
        <p:spPr>
          <a:xfrm>
            <a:off x="6707520" y="385128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中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粪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尿胆素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7"/>
          <p:cNvSpPr/>
          <p:nvPr/>
        </p:nvSpPr>
        <p:spPr>
          <a:xfrm>
            <a:off x="6189840" y="4157640"/>
            <a:ext cx="152280" cy="838080"/>
          </a:xfrm>
          <a:custGeom>
            <a:avLst/>
            <a:gdLst>
              <a:gd name="textAreaLeft" fmla="*/ 97200 w 152280"/>
              <a:gd name="textAreaRight" fmla="*/ 15264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2310840" y="5057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部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6"/>
          <p:cNvGrpSpPr/>
          <p:nvPr/>
        </p:nvGrpSpPr>
        <p:grpSpPr>
          <a:xfrm>
            <a:off x="108000" y="428760"/>
            <a:ext cx="9005760" cy="6218280"/>
            <a:chOff x="108000" y="428760"/>
            <a:chExt cx="9005760" cy="6218280"/>
          </a:xfrm>
        </p:grpSpPr>
        <p:sp>
          <p:nvSpPr>
            <p:cNvPr id="264" name="Text Box 2"/>
            <p:cNvSpPr/>
            <p:nvPr/>
          </p:nvSpPr>
          <p:spPr>
            <a:xfrm>
              <a:off x="108000" y="428760"/>
              <a:ext cx="8229600" cy="12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二）少量胆素原被重吸收进入肠肝循环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少量</a:t>
              </a:r>
              <a:r>
                <a:rPr b="1" lang="zh-CN" sz="3200" spc="-1" strike="noStrike">
                  <a:solidFill>
                    <a:srgbClr val="cc3300"/>
                  </a:solidFill>
                  <a:latin typeface="Times New Roman"/>
                </a:rPr>
                <a:t>胆素原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%~20%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Text Box 3"/>
            <p:cNvSpPr/>
            <p:nvPr/>
          </p:nvSpPr>
          <p:spPr>
            <a:xfrm>
              <a:off x="3978360" y="16844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回肠下段和结肠中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Text Box 4"/>
            <p:cNvSpPr/>
            <p:nvPr/>
          </p:nvSpPr>
          <p:spPr>
            <a:xfrm>
              <a:off x="3669840" y="28954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经门静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6"/>
            <p:cNvSpPr/>
            <p:nvPr/>
          </p:nvSpPr>
          <p:spPr>
            <a:xfrm>
              <a:off x="2675880" y="2286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重吸收入血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7"/>
            <p:cNvSpPr/>
            <p:nvPr/>
          </p:nvSpPr>
          <p:spPr>
            <a:xfrm>
              <a:off x="3276720" y="1647720"/>
              <a:ext cx="69840" cy="609840"/>
            </a:xfrm>
            <a:prstGeom prst="downArrow">
              <a:avLst>
                <a:gd name="adj1" fmla="val 50000"/>
                <a:gd name="adj2" fmla="val 218299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8"/>
            <p:cNvSpPr/>
            <p:nvPr/>
          </p:nvSpPr>
          <p:spPr>
            <a:xfrm>
              <a:off x="3281400" y="2790720"/>
              <a:ext cx="84240" cy="609840"/>
            </a:xfrm>
            <a:prstGeom prst="downArrow">
              <a:avLst>
                <a:gd name="adj1" fmla="val 50000"/>
                <a:gd name="adj2" fmla="val 180983"/>
              </a:avLst>
            </a:prstGeom>
            <a:solidFill>
              <a:srgbClr val="0066ff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9"/>
            <p:cNvSpPr/>
            <p:nvPr/>
          </p:nvSpPr>
          <p:spPr>
            <a:xfrm>
              <a:off x="2913480" y="337644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肝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11"/>
            <p:cNvSpPr/>
            <p:nvPr/>
          </p:nvSpPr>
          <p:spPr>
            <a:xfrm flipH="1">
              <a:off x="1909800" y="4010040"/>
              <a:ext cx="914400" cy="68580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12"/>
            <p:cNvSpPr/>
            <p:nvPr/>
          </p:nvSpPr>
          <p:spPr>
            <a:xfrm rot="19626600">
              <a:off x="1764000" y="3884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大部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>
              <a:off x="3780000" y="3916440"/>
              <a:ext cx="1008000" cy="5047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15"/>
            <p:cNvSpPr/>
            <p:nvPr/>
          </p:nvSpPr>
          <p:spPr>
            <a:xfrm rot="1530000">
              <a:off x="4015080" y="36759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极少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7"/>
            <p:cNvSpPr/>
            <p:nvPr/>
          </p:nvSpPr>
          <p:spPr>
            <a:xfrm>
              <a:off x="1387440" y="4637160"/>
              <a:ext cx="282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胆汁         肠腔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2230560" y="492444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>
              <a:off x="755640" y="5429160"/>
              <a:ext cx="3673440" cy="609840"/>
            </a:xfrm>
            <a:prstGeom prst="wedgeRoundRectCallout">
              <a:avLst>
                <a:gd name="adj1" fmla="val 1384"/>
                <a:gd name="adj2" fmla="val -117449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66"/>
                  </a:solidFill>
                  <a:latin typeface="Times New Roman"/>
                </a:rPr>
                <a:t>胆素原的肠肝循环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22"/>
            <p:cNvSpPr/>
            <p:nvPr/>
          </p:nvSpPr>
          <p:spPr>
            <a:xfrm>
              <a:off x="4645080" y="4349880"/>
              <a:ext cx="4468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大循环      肾脏      尿中排出，在空气中氧化为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尿胆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，成为尿液的颜色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23"/>
            <p:cNvSpPr/>
            <p:nvPr/>
          </p:nvSpPr>
          <p:spPr>
            <a:xfrm>
              <a:off x="5867280" y="4637160"/>
              <a:ext cx="505080" cy="9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24"/>
            <p:cNvSpPr/>
            <p:nvPr/>
          </p:nvSpPr>
          <p:spPr>
            <a:xfrm>
              <a:off x="7093080" y="4637160"/>
              <a:ext cx="431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7956720" y="612792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0" y="156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41440" y="115920"/>
          <a:ext cx="8062920" cy="642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115920"/>
                    <a:ext cx="8062920" cy="64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二、肝是脂类代谢的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609480" y="1143000"/>
            <a:ext cx="7925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肝在脂类的消化、吸收、合成、分解及运输中均起到重要的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09480" y="27432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肝内进行的脂类代谢主要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3520" y="3352680"/>
            <a:ext cx="815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氧化、酮体的合成、脂肪酸的合成及酯化、磷脂的合成、胆固醇的合成与转变、脂蛋白与载脂蛋白的合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、脂蛋白的降解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6"/>
          <p:cNvSpPr/>
          <p:nvPr/>
        </p:nvSpPr>
        <p:spPr>
          <a:xfrm>
            <a:off x="108000" y="1438200"/>
            <a:ext cx="88581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清胆红素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7.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l/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游离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离胆红素易通过细胞膜，产生毒性作用。神经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胞富含脂类，尤其敏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胆红素生成过多，或肝摄取、结合、排泄障碍，可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血胆红素浓度升高，称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高胆红素血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cc009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胆红素为金黄色，大量的胆红素扩散进入组织，造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皮肤、黏膜和巩膜黄染称为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黄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12680" y="333360"/>
            <a:ext cx="90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五、胆红素代谢或排泄异常可引起高胆红素血症和黄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0" y="476280"/>
            <a:ext cx="914400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疸发病机制复杂，按照胆红素的来源，可分成三类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一）溶血性黄疸 （肝前性黄疸）</a:t>
            </a:r>
            <a:br>
              <a:rPr sz="28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红细胞破坏过多，生成的胆红素超过肝的处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能力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游离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br>
              <a:rPr sz="2400"/>
            </a:b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二）阻塞性黄疸 （肝后性黄疸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胆道系统梗阻，胆小管和毛细胆管内压力升高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破裂，胆红素逆流入血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结合胆红素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三）肝细胞性黄疸 （肝原性黄疸）</a:t>
            </a:r>
            <a:br>
              <a:rPr sz="32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肝细胞本身病变，其摄取、转化和排泄胆红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能力降低，血液中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两种胆红素都升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4" descr="黄疸"/>
          <p:cNvPicPr/>
          <p:nvPr/>
        </p:nvPicPr>
        <p:blipFill>
          <a:blip r:embed="rId1"/>
          <a:stretch/>
        </p:blipFill>
        <p:spPr>
          <a:xfrm>
            <a:off x="179280" y="1052640"/>
            <a:ext cx="8820360" cy="524988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3255840" y="47628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各型黄疸的比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85800" y="914400"/>
            <a:ext cx="77724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消化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泌胆汁，其中胆汁酸为脂类消化吸收必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合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、甘油三酯、酮体、胆固醇、磷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脂肪酸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氧化、胆固醇的降解与排泄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降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运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合成与分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L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D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oC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、肝是蛋白质代谢的枢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合成自身及多种不同功能的蛋白质：如清蛋白，凝血酶原、纤维蛋白原、载脂蛋白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体内氨基酸分解和转变的重要器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是处理氨基酸代谢产物的重要器官，如通过鸟氨酸循环将有毒的氨转变为无毒的尿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肝还能利用氨基酸合成多种非蛋白含氮物质如： 嘌呤类及嘧啶类衍生物、肌酸、乙醇胺、胆碱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108000" y="325440"/>
            <a:ext cx="8893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、肝参与维生素的吸收、贮存、运输与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066680" y="1676520"/>
            <a:ext cx="7162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脂溶性维生素的吸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需要胆汁酸盐参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肝是多种维生素的储存场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参与维生素的代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位的羟化，维生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-4856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D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泛酸合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7T09:36:44Z</dcterms:created>
  <dc:creator>sh</dc:creator>
  <dc:description/>
  <dc:language>en-US</dc:language>
  <cp:lastModifiedBy>ZhangLL</cp:lastModifiedBy>
  <dcterms:modified xsi:type="dcterms:W3CDTF">2014-12-04T02:34:47Z</dcterms:modified>
  <cp:revision>105</cp:revision>
  <dc:subject/>
  <dc:title>PowerPoint 演示文稿</dc:title>
</cp:coreProperties>
</file>