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wmf" ContentType="image/x-wmf"/>
  <Override PartName="/ppt/media/image56.wmf" ContentType="image/x-wmf"/>
  <Override PartName="/ppt/media/image55.wmf" ContentType="image/x-wmf"/>
  <Override PartName="/ppt/media/image49.wmf" ContentType="image/x-wmf"/>
  <Override PartName="/ppt/media/image46.jpeg" ContentType="image/jpeg"/>
  <Override PartName="/ppt/media/image80.wmf" ContentType="image/x-wmf"/>
  <Override PartName="/ppt/media/image45.png" ContentType="image/png"/>
  <Override PartName="/ppt/media/image44.jpeg" ContentType="image/jpeg"/>
  <Override PartName="/ppt/media/image60.wmf" ContentType="image/x-wmf"/>
  <Override PartName="/ppt/media/image41.jpeg" ContentType="image/jpeg"/>
  <Override PartName="/ppt/media/image40.png" ContentType="image/png"/>
  <Override PartName="/ppt/media/image43.jpeg" ContentType="image/jpeg"/>
  <Override PartName="/ppt/media/image50.wmf" ContentType="image/x-wmf"/>
  <Override PartName="/ppt/media/image35.png" ContentType="image/png"/>
  <Override PartName="/ppt/media/image33.jpeg" ContentType="image/jpeg"/>
  <Override PartName="/ppt/media/image48.wmf" ContentType="image/x-wmf"/>
  <Override PartName="/ppt/media/image57.wmf" ContentType="image/x-wmf"/>
  <Override PartName="/ppt/media/image32.jpeg" ContentType="image/jpeg"/>
  <Override PartName="/ppt/media/image47.wmf" ContentType="image/x-wmf"/>
  <Override PartName="/ppt/media/image31.jpeg" ContentType="image/jpeg"/>
  <Override PartName="/ppt/media/image37.jpeg" ContentType="image/jpeg"/>
  <Override PartName="/ppt/media/image30.png" ContentType="image/png"/>
  <Override PartName="/ppt/media/image54.wmf" ContentType="image/x-wmf"/>
  <Override PartName="/ppt/media/image22.jpeg" ContentType="image/jpeg"/>
  <Override PartName="/ppt/media/image52.wmf" ContentType="image/x-wmf"/>
  <Override PartName="/ppt/media/image12.png" ContentType="image/png"/>
  <Override PartName="/ppt/media/image23.jpeg" ContentType="image/jpeg"/>
  <Override PartName="/ppt/media/image61.wmf" ContentType="image/x-wmf"/>
  <Override PartName="/ppt/media/image1.jpeg" ContentType="image/jpeg"/>
  <Override PartName="/ppt/media/image21.png" ContentType="image/png"/>
  <Override PartName="/ppt/media/image62.wmf" ContentType="image/x-wmf"/>
  <Override PartName="/ppt/media/image24.png" ContentType="image/png"/>
  <Override PartName="/ppt/media/image64.wmf" ContentType="image/x-wmf"/>
  <Override PartName="/ppt/media/image81.wmf" ContentType="image/x-wmf"/>
  <Override PartName="/ppt/media/image76.wmf" ContentType="image/x-wmf"/>
  <Override PartName="/ppt/media/image6.png" ContentType="image/png"/>
  <Override PartName="/ppt/media/image75.wmf" ContentType="image/x-wmf"/>
  <Override PartName="/ppt/media/image67.wmf" ContentType="image/x-wmf"/>
  <Override PartName="/ppt/media/image15.jpeg" ContentType="image/jpeg"/>
  <Override PartName="/ppt/media/image63.wmf" ContentType="image/x-wmf"/>
  <Override PartName="/ppt/media/image74.wmf" ContentType="image/x-wmf"/>
  <Override PartName="/ppt/media/image34.png" ContentType="image/png"/>
  <Override PartName="/ppt/media/image77.wmf" ContentType="image/x-wmf"/>
  <Override PartName="/ppt/media/image16.jpeg" ContentType="image/jpeg"/>
  <Override PartName="/ppt/media/image73.wmf" ContentType="image/x-wmf"/>
  <Override PartName="/ppt/media/image3.png" ContentType="image/png"/>
  <Override PartName="/ppt/media/image71.wmf" ContentType="image/x-wmf"/>
  <Override PartName="/ppt/media/image69.wmf" ContentType="image/x-wmf"/>
  <Override PartName="/ppt/media/image70.wmf" ContentType="image/x-wmf"/>
  <Override PartName="/ppt/media/image68.wmf" ContentType="image/x-wmf"/>
  <Override PartName="/ppt/media/image4.png" ContentType="image/png"/>
  <Override PartName="/ppt/media/image7.jpeg" ContentType="image/jpeg"/>
  <Override PartName="/ppt/media/image38.jpeg" ContentType="image/jpeg"/>
  <Override PartName="/ppt/media/image66.wmf" ContentType="image/x-wmf"/>
  <Override PartName="/ppt/media/image10.jpeg" ContentType="image/jpeg"/>
  <Override PartName="/ppt/media/image27.jpeg" ContentType="image/jpeg"/>
  <Override PartName="/ppt/media/image65.wmf" ContentType="image/x-wmf"/>
  <Override PartName="/ppt/media/image25.png" ContentType="image/png"/>
  <Override PartName="/ppt/media/image19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79.wmf" ContentType="image/x-wmf"/>
  <Override PartName="/ppt/media/image11.png" ContentType="image/png"/>
  <Override PartName="/ppt/media/image51.wmf" ContentType="image/x-wmf"/>
  <Override PartName="/ppt/media/image17.jpeg" ContentType="image/jpeg"/>
  <Override PartName="/ppt/media/image72.wmf" ContentType="image/x-wmf"/>
  <Override PartName="/ppt/media/image26.jpeg" ContentType="image/jpeg"/>
  <Override PartName="/ppt/media/image42.png" ContentType="image/png"/>
  <Override PartName="/ppt/media/image18.wmf" ContentType="image/x-wmf"/>
  <Override PartName="/ppt/media/image36.jpeg" ContentType="image/jpeg"/>
  <Override PartName="/ppt/media/image78.wmf" ContentType="image/x-wmf"/>
  <Override PartName="/ppt/media/image8.jpeg" ContentType="image/jpeg"/>
  <Override PartName="/ppt/media/image39.jpeg" ContentType="image/jpeg"/>
  <Override PartName="/ppt/media/image5.jpeg" ContentType="image/jpeg"/>
  <Override PartName="/ppt/media/image29.jpeg" ContentType="image/jpeg"/>
  <Override PartName="/ppt/media/image28.jpeg" ContentType="image/jpeg"/>
  <Override PartName="/ppt/media/image20.jpeg" ContentType="image/jpeg"/>
  <Override PartName="/ppt/media/image59.wmf" ContentType="image/x-wmf"/>
  <Override PartName="/ppt/media/image13.png" ContentType="image/png"/>
  <Override PartName="/ppt/media/image5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cccff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CB89-E4B0-47A5-A62A-46EC1CCAA19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BF95-BDF2-46B9-8D4A-2C542C4102DD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6A1F-CA8D-4DF8-A605-086012A4D9F3}" type="slidenum"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页脚占位符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医学生物化学（第</a:t>
            </a:r>
            <a:r>
              <a:rPr b="1" lang="en-US" sz="1200" spc="-1" strike="noStrike">
                <a:solidFill>
                  <a:srgbClr val="ccccff"/>
                </a:solidFill>
                <a:latin typeface="Arial"/>
                <a:ea typeface="黑体"/>
              </a:rPr>
              <a:t>4</a:t>
            </a:r>
            <a:r>
              <a:rPr b="1" lang="zh-CN" sz="1200" spc="-1" strike="noStrike">
                <a:solidFill>
                  <a:srgbClr val="ccccff"/>
                </a:solidFill>
                <a:latin typeface="Arial"/>
                <a:ea typeface="黑体"/>
              </a:rPr>
              <a:t>版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BD68-7949-4644-B4A1-0F6C51C5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1D3-209A-4487-825A-7F703727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E5D0-7579-4734-9252-B08F19BC4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364-3709-4DA6-80D1-D9476980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234B-B6A4-40A7-9720-0532CCBE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B8A-843A-46D0-BBF2-BD801095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623-BDEA-46A7-B47C-8D9230C4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75A-2704-49E2-BCEE-B1D2E81D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A729-4D19-4BE3-86E2-98758ABD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65B-223F-4C61-91DD-F3D7DEED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CBC2-5530-4ADE-B160-CD811479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4C46-B75E-49D5-B1EA-AF9B67C4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医学生物化学（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版）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CB23-3945-4BA8-98DA-D013842744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0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22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30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png"/><Relationship Id="rId4" Type="http://schemas.openxmlformats.org/officeDocument/2006/relationships/image" Target="../media/image42.png"/><Relationship Id="rId5" Type="http://schemas.openxmlformats.org/officeDocument/2006/relationships/hyperlink" Target="E:\&#25945;&#23398;\&#35838;&#20214;\&#26412;&#31185;&#26032;\TranslationMovieSmall.mov" TargetMode="External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2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7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78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79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73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80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81.wmf"/><Relationship Id="rId4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619280" y="2637000"/>
            <a:ext cx="678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华文楷体"/>
              </a:rPr>
              <a:t>Protein Biosynthesis (Translation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949320" y="162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Arial"/>
                <a:ea typeface="黑体"/>
              </a:rPr>
              <a:t>第十二章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003366"/>
                </a:solidFill>
                <a:latin typeface="华文细黑"/>
                <a:ea typeface="华文细黑"/>
              </a:rPr>
              <a:t>蛋白质的生物合成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灯片编号占位符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9B1A-78E2-4CD0-AD12-E70ABCD715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Pr-1"/>
          <p:cNvPicPr/>
          <p:nvPr/>
        </p:nvPicPr>
        <p:blipFill>
          <a:blip r:embed="rId1"/>
          <a:stretch/>
        </p:blipFill>
        <p:spPr>
          <a:xfrm>
            <a:off x="4494240" y="3357720"/>
            <a:ext cx="391320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250920" y="4724280"/>
            <a:ext cx="849636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1890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886680" y="1052640"/>
            <a:ext cx="26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密码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d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68360" y="1484280"/>
            <a:ext cx="813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上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方向，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每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核苷酸为一组，决定肽链上某一个氨基酸或蛋白质合成的起始、终止信号，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三联体密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iplet codo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1476720" y="3860640"/>
            <a:ext cx="281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密码子和终止密码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971640" y="4437000"/>
            <a:ext cx="7315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initiation cod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华文楷体"/>
              </a:rPr>
              <a:t>AU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971640" y="5229360"/>
            <a:ext cx="6912000" cy="1372320"/>
            <a:chOff x="971640" y="5229360"/>
            <a:chExt cx="6912000" cy="1372320"/>
          </a:xfrm>
        </p:grpSpPr>
        <p:sp>
          <p:nvSpPr>
            <p:cNvPr id="152" name="Rectangle 9"/>
            <p:cNvSpPr/>
            <p:nvPr/>
          </p:nvSpPr>
          <p:spPr>
            <a:xfrm>
              <a:off x="971640" y="5517000"/>
              <a:ext cx="69120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终止密码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(termination coden)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5821560" y="5229360"/>
              <a:ext cx="1511280" cy="13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AG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50f1f"/>
                  </a:solidFill>
                  <a:latin typeface="Times New Roman"/>
                </a:rPr>
                <a:t>UGA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1"/>
            <p:cNvSpPr/>
            <p:nvPr/>
          </p:nvSpPr>
          <p:spPr>
            <a:xfrm>
              <a:off x="5726160" y="538164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96AC-26A1-44A6-BB54-1EEA9DB505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692280"/>
          <a:ext cx="8229600" cy="6038640"/>
        </p:xfrm>
        <a:graphic>
          <a:graphicData uri="http://schemas.openxmlformats.org/drawingml/2006/table">
            <a:tbl>
              <a:tblPr/>
              <a:tblGrid>
                <a:gridCol w="1373040"/>
                <a:gridCol w="1370160"/>
                <a:gridCol w="1373040"/>
                <a:gridCol w="1370160"/>
                <a:gridCol w="1373040"/>
                <a:gridCol w="1370160"/>
              </a:tblGrid>
              <a:tr h="397440"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一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二个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第三个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核苷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苯丙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酪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半胱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终止密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色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亮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脯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组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氨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异亮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甲硫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苏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酰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赖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丝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精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1220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缬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丙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天冬氨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谷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甘 氨 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48"/>
          <p:cNvSpPr/>
          <p:nvPr/>
        </p:nvSpPr>
        <p:spPr>
          <a:xfrm>
            <a:off x="2987640" y="11592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Garamond"/>
                <a:ea typeface="黑体"/>
              </a:rPr>
              <a:t>遗传密码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灯片编号占位符 10"/>
          <p:cNvSpPr/>
          <p:nvPr/>
        </p:nvSpPr>
        <p:spPr>
          <a:xfrm>
            <a:off x="70930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DA26-0C85-4A9D-A6CB-AC8A204166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826920" y="1052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方向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irection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71640" y="1700280"/>
            <a:ext cx="7559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翻译时遗传密码的阅读方向是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即读码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起始密码子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开始，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方向逐一阅读，直至终止密码子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24000" y="4003560"/>
            <a:ext cx="8353080" cy="2306520"/>
            <a:chOff x="324000" y="4003560"/>
            <a:chExt cx="8353080" cy="2306520"/>
          </a:xfrm>
        </p:grpSpPr>
        <p:sp>
          <p:nvSpPr>
            <p:cNvPr id="162" name="Text Box 5"/>
            <p:cNvSpPr/>
            <p:nvPr/>
          </p:nvSpPr>
          <p:spPr>
            <a:xfrm>
              <a:off x="192312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6"/>
            <p:cNvSpPr/>
            <p:nvPr/>
          </p:nvSpPr>
          <p:spPr>
            <a:xfrm>
              <a:off x="6816960" y="5726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7"/>
            <p:cNvSpPr/>
            <p:nvPr/>
          </p:nvSpPr>
          <p:spPr>
            <a:xfrm>
              <a:off x="2392200" y="591984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5" name="Object 8"/>
            <p:cNvGraphicFramePr/>
            <p:nvPr/>
          </p:nvGraphicFramePr>
          <p:xfrm>
            <a:off x="324000" y="4484520"/>
            <a:ext cx="8353080" cy="1324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4484520"/>
                      <a:ext cx="8353080" cy="13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Text Box 9"/>
            <p:cNvSpPr/>
            <p:nvPr/>
          </p:nvSpPr>
          <p:spPr>
            <a:xfrm>
              <a:off x="3796560" y="5941800"/>
              <a:ext cx="15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肽链延伸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209052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6984360" y="42130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66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660066"/>
                  </a:solidFill>
                  <a:latin typeface="Arial"/>
                </a:rPr>
                <a:t>′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2"/>
            <p:cNvSpPr/>
            <p:nvPr/>
          </p:nvSpPr>
          <p:spPr>
            <a:xfrm>
              <a:off x="2466720" y="4406760"/>
              <a:ext cx="4377960" cy="0"/>
            </a:xfrm>
            <a:prstGeom prst="line">
              <a:avLst/>
            </a:prstGeom>
            <a:ln w="1908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3871440" y="400356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Arial"/>
                  <a:ea typeface="华文楷体"/>
                </a:rPr>
                <a:t>读码方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4"/>
          <p:cNvSpPr/>
          <p:nvPr/>
        </p:nvSpPr>
        <p:spPr>
          <a:xfrm>
            <a:off x="324000" y="260280"/>
            <a:ext cx="511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c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遗传密码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784A-C47B-404C-81BF-349BF08ECE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826920" y="105264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连续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non-punctuat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116000" y="1901880"/>
            <a:ext cx="6985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编码蛋白质氨基酸序列的各个三联体密码连续阅读，密码子及密码子的各碱基之间既无间隔也无交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900000" y="4437000"/>
            <a:ext cx="7417080" cy="918000"/>
            <a:chOff x="900000" y="4437000"/>
            <a:chExt cx="7417080" cy="918000"/>
          </a:xfrm>
        </p:grpSpPr>
        <p:sp>
          <p:nvSpPr>
            <p:cNvPr id="177" name="Text Box 5"/>
            <p:cNvSpPr/>
            <p:nvPr/>
          </p:nvSpPr>
          <p:spPr>
            <a:xfrm>
              <a:off x="900000" y="4437000"/>
              <a:ext cx="7417080" cy="45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’…….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U G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C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G U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 A 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……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U  A  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3’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6"/>
            <p:cNvSpPr/>
            <p:nvPr/>
          </p:nvSpPr>
          <p:spPr>
            <a:xfrm>
              <a:off x="2801880" y="4951440"/>
              <a:ext cx="1067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3809880" y="4954680"/>
              <a:ext cx="9144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al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4530960" y="4954680"/>
              <a:ext cx="12189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i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9"/>
            <p:cNvSpPr/>
            <p:nvPr/>
          </p:nvSpPr>
          <p:spPr>
            <a:xfrm>
              <a:off x="1908360" y="4956120"/>
              <a:ext cx="1066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5800680" y="4927680"/>
              <a:ext cx="20624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终止密码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4B76-F321-4F48-A064-66BF10DA166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900000" y="907920"/>
            <a:ext cx="73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基因损伤引起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阅读框架内的碱基发生插入或缺失，可能导致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框移突变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frameshift mutation)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3"/>
          <p:cNvGrpSpPr/>
          <p:nvPr/>
        </p:nvGrpSpPr>
        <p:grpSpPr>
          <a:xfrm>
            <a:off x="755640" y="3357720"/>
            <a:ext cx="7848000" cy="2712600"/>
            <a:chOff x="755640" y="3357720"/>
            <a:chExt cx="7848000" cy="2712600"/>
          </a:xfrm>
        </p:grpSpPr>
        <p:grpSp>
          <p:nvGrpSpPr>
            <p:cNvPr id="186" name="Group 4"/>
            <p:cNvGrpSpPr/>
            <p:nvPr/>
          </p:nvGrpSpPr>
          <p:grpSpPr>
            <a:xfrm>
              <a:off x="755640" y="3357720"/>
              <a:ext cx="7848000" cy="2712600"/>
              <a:chOff x="755640" y="3357720"/>
              <a:chExt cx="7848000" cy="2712600"/>
            </a:xfrm>
          </p:grpSpPr>
          <p:pic>
            <p:nvPicPr>
              <p:cNvPr id="187" name="Picture 5" descr="连续性"/>
              <p:cNvPicPr/>
              <p:nvPr/>
            </p:nvPicPr>
            <p:blipFill>
              <a:blip r:embed="rId1"/>
              <a:stretch/>
            </p:blipFill>
            <p:spPr>
              <a:xfrm>
                <a:off x="755640" y="3357720"/>
                <a:ext cx="7848000" cy="258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Text Box 6"/>
              <p:cNvSpPr/>
              <p:nvPr/>
            </p:nvSpPr>
            <p:spPr>
              <a:xfrm>
                <a:off x="3117600" y="573444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脯               苏             天冬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Text Box 7"/>
              <p:cNvSpPr/>
              <p:nvPr/>
            </p:nvSpPr>
            <p:spPr>
              <a:xfrm>
                <a:off x="3117600" y="377172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酪               甘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Text Box 8"/>
              <p:cNvSpPr/>
              <p:nvPr/>
            </p:nvSpPr>
            <p:spPr>
              <a:xfrm>
                <a:off x="3117600" y="4777560"/>
                <a:ext cx="49780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Times New Roman"/>
                  </a:rPr>
                  <a:t>缬              丙               丝               精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Rectangle 9"/>
            <p:cNvSpPr/>
            <p:nvPr/>
          </p:nvSpPr>
          <p:spPr>
            <a:xfrm>
              <a:off x="5445360" y="4497120"/>
              <a:ext cx="253080" cy="2952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10"/>
            <p:cNvSpPr/>
            <p:nvPr/>
          </p:nvSpPr>
          <p:spPr>
            <a:xfrm>
              <a:off x="3808080" y="5473800"/>
              <a:ext cx="152640" cy="294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灯片编号占位符 10"/>
          <p:cNvSpPr/>
          <p:nvPr/>
        </p:nvSpPr>
        <p:spPr>
          <a:xfrm>
            <a:off x="687708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5598-8203-4791-99AC-8EC6AFA408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468360" y="981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简并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degenerat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11280" y="1628640"/>
            <a:ext cx="80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一种氨基酸可具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以上的密码子为其编码。这一特性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遗传密码的简并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除色氨酸和甲硫氨酸仅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密码子外，其余氨基酸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或多至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个三联体为其编码。为同一种氨基酸编码的各密码子称为简并性密码子，也称同义密码子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D490-4B0B-4114-BDB2-62DD52ED7F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简并性"/>
          <p:cNvPicPr/>
          <p:nvPr/>
        </p:nvPicPr>
        <p:blipFill>
          <a:blip r:embed="rId1"/>
          <a:stretch/>
        </p:blipFill>
        <p:spPr>
          <a:xfrm>
            <a:off x="971640" y="1197000"/>
            <a:ext cx="7346880" cy="4925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2556000" y="404640"/>
            <a:ext cx="43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各种氨基酸的密码子数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6F57-FCE9-420E-802D-447F8A1287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07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密码子简并性的生物学意义：减少有害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遗传密码的特异性主要取决于前两位碱基。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U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C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　　　　　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13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4"/>
          <p:cNvSpPr/>
          <p:nvPr/>
        </p:nvSpPr>
        <p:spPr>
          <a:xfrm>
            <a:off x="2916360" y="3859200"/>
            <a:ext cx="215640" cy="1730520"/>
          </a:xfrm>
          <a:custGeom>
            <a:avLst/>
            <a:gdLst>
              <a:gd name="textAreaLeft" fmla="*/ 0 w 215640"/>
              <a:gd name="textAreaRight" fmla="*/ 77760 w 215640"/>
              <a:gd name="textAreaTop" fmla="*/ 45000 h 1730520"/>
              <a:gd name="textAreaBottom" fmla="*/ 1685520 h 17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3277440" y="43689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Al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6804000" y="3860640"/>
            <a:ext cx="216000" cy="172908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165800" y="4368960"/>
            <a:ext cx="85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Th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BC9A-1437-4D2F-8687-D14FABDCA9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53964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通用性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universal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生物合成的整套密码，从原核生物到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人类都通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少数例外，如动物细胞的线粒体、植物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胞的叶绿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723960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密码的通用性进一步证明各种生物进化自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一祖先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ADB3-2488-4149-B309-BB99C434EA8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已发现</a:t>
            </a:r>
            <a:r>
              <a:rPr b="1" lang="zh-CN" sz="3200" spc="-1" strike="noStrike">
                <a:solidFill>
                  <a:srgbClr val="f50f1f"/>
                </a:solidFill>
                <a:latin typeface="华文楷体"/>
              </a:rPr>
              <a:t>少数例外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，如动物细胞的线粒体、植物细胞的叶绿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1187280" y="2492280"/>
            <a:ext cx="7127640" cy="3291120"/>
            <a:chOff x="1187280" y="2492280"/>
            <a:chExt cx="7127640" cy="3291120"/>
          </a:xfrm>
        </p:grpSpPr>
        <p:sp>
          <p:nvSpPr>
            <p:cNvPr id="212" name="Text Box 4"/>
            <p:cNvSpPr/>
            <p:nvPr/>
          </p:nvSpPr>
          <p:spPr>
            <a:xfrm>
              <a:off x="1187280" y="2492280"/>
              <a:ext cx="7127640" cy="329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Arial"/>
                  <a:ea typeface="黑体"/>
                </a:rPr>
                <a:t>                   </a:t>
              </a:r>
              <a:r>
                <a:rPr b="1" lang="zh-CN" sz="2800" spc="-1" strike="noStrike">
                  <a:solidFill>
                    <a:srgbClr val="3333cc"/>
                  </a:solidFill>
                  <a:latin typeface="Times New Roman"/>
                  <a:ea typeface="黑体"/>
                </a:rPr>
                <a:t>通用密码          线粒体密码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U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异亮               甲硫、起始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A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GG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精                     终止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UGA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终止                   色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1187280" y="314460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>
              <a:off x="1187280" y="263988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1187280" y="5305320"/>
              <a:ext cx="63824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灯片编号占位符 10"/>
          <p:cNvSpPr/>
          <p:nvPr/>
        </p:nvSpPr>
        <p:spPr>
          <a:xfrm>
            <a:off x="6804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57E8-D375-4D12-A987-AD7FACEEA9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0"/>
          <p:cNvSpPr/>
          <p:nvPr/>
        </p:nvSpPr>
        <p:spPr>
          <a:xfrm>
            <a:off x="2268360" y="1773360"/>
            <a:ext cx="59040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生物合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翻译后加工和靶向输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与医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132000" y="549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9C5C-A6BA-41FD-8004-4F93EC92263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46245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摆动性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bbl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826920" y="1996920"/>
            <a:ext cx="7632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反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与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密码子的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第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碱基配对时，可以在一定范围内变动，即并不严格遵循碱基配对规律，这一现象称为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摆动性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3BBC-FEA5-4E1C-B304-AA97694DBA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968400" y="4167360"/>
          <a:ext cx="7340400" cy="1833480"/>
        </p:xfrm>
        <a:graphic>
          <a:graphicData uri="http://schemas.openxmlformats.org/drawingml/2006/table">
            <a:tbl>
              <a:tblPr/>
              <a:tblGrid>
                <a:gridCol w="2584440"/>
                <a:gridCol w="1557360"/>
                <a:gridCol w="939600"/>
                <a:gridCol w="941400"/>
                <a:gridCol w="565200"/>
                <a:gridCol w="752400"/>
              </a:tblGrid>
              <a:tr h="10094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反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密码子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位碱基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, 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, 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, 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U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2124000" y="189000"/>
            <a:ext cx="719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摆动配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3" descr="Lod4-32"/>
          <p:cNvPicPr/>
          <p:nvPr/>
        </p:nvPicPr>
        <p:blipFill>
          <a:blip r:embed="rId1"/>
          <a:srcRect l="3380" t="2083" r="2541" b="51363"/>
          <a:stretch/>
        </p:blipFill>
        <p:spPr>
          <a:xfrm>
            <a:off x="395280" y="2349360"/>
            <a:ext cx="7345440" cy="44341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RNA"/>
          <p:cNvPicPr/>
          <p:nvPr/>
        </p:nvPicPr>
        <p:blipFill>
          <a:blip r:embed="rId2"/>
          <a:stretch/>
        </p:blipFill>
        <p:spPr>
          <a:xfrm>
            <a:off x="5292720" y="260280"/>
            <a:ext cx="3565440" cy="3324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5"/>
          <p:cNvSpPr/>
          <p:nvPr/>
        </p:nvSpPr>
        <p:spPr>
          <a:xfrm>
            <a:off x="7794720" y="3184560"/>
            <a:ext cx="264960" cy="2001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6804000" y="2708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  2 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6802200" y="3429000"/>
            <a:ext cx="75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  2 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7308720" y="2781360"/>
            <a:ext cx="265320" cy="105408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819E-603E-4655-B83F-08393886DF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277040" cy="649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二、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tRNA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是氨基酸的特异“搬运工具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125360"/>
            <a:ext cx="410364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539640" y="1989000"/>
            <a:ext cx="8064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运载氨基酸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酸各由其特异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携带，一种氨基酸可有几种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氨基酸结合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 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CC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位置，结合需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供能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8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充当“适配器”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每种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反密码子决定了所携带的氨基酸能准确地在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上对号入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灯片编号占位符 10"/>
          <p:cNvSpPr/>
          <p:nvPr/>
        </p:nvSpPr>
        <p:spPr>
          <a:xfrm>
            <a:off x="6877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7894-A8F3-4F95-B987-FBB7672539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6156360" y="1341360"/>
            <a:ext cx="2220840" cy="244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Object 3"/>
          <p:cNvGraphicFramePr/>
          <p:nvPr/>
        </p:nvGraphicFramePr>
        <p:xfrm>
          <a:off x="6172200" y="3886200"/>
          <a:ext cx="2287440" cy="23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3886200"/>
                    <a:ext cx="228744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4"/>
          <p:cNvSpPr/>
          <p:nvPr/>
        </p:nvSpPr>
        <p:spPr>
          <a:xfrm>
            <a:off x="2151360" y="62769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二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950160" y="6354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三级结构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6"/>
          <p:cNvGraphicFramePr/>
          <p:nvPr/>
        </p:nvGraphicFramePr>
        <p:xfrm>
          <a:off x="574560" y="1268280"/>
          <a:ext cx="4573800" cy="468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560" y="1268280"/>
                    <a:ext cx="45738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7"/>
          <p:cNvSpPr/>
          <p:nvPr/>
        </p:nvSpPr>
        <p:spPr>
          <a:xfrm>
            <a:off x="4924440" y="5300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反密码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3170160" y="5487840"/>
            <a:ext cx="13860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3578400" y="2203560"/>
            <a:ext cx="10285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4996080" y="1989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氨基酸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324000" y="260280"/>
            <a:ext cx="51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的构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7179-9466-4376-8C0C-76700ABC69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tRNA的作用"/>
          <p:cNvPicPr/>
          <p:nvPr/>
        </p:nvPicPr>
        <p:blipFill>
          <a:blip r:embed="rId1"/>
          <a:stretch/>
        </p:blipFill>
        <p:spPr>
          <a:xfrm>
            <a:off x="684360" y="836640"/>
            <a:ext cx="7848360" cy="5256360"/>
          </a:xfrm>
          <a:prstGeom prst="rect">
            <a:avLst/>
          </a:prstGeom>
          <a:ln w="0">
            <a:noFill/>
          </a:ln>
        </p:spPr>
      </p:pic>
      <p:sp>
        <p:nvSpPr>
          <p:cNvPr id="247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922D-0A14-4B1C-850B-921B15DA3A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26920" y="1916280"/>
            <a:ext cx="7632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核糖体又称核蛋白体，是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多种蛋白质结合而成的一种大的核糖核蛋白颗粒，是蛋白质生物合成的场所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3" descr="07"/>
          <p:cNvPicPr/>
          <p:nvPr/>
        </p:nvPicPr>
        <p:blipFill>
          <a:blip r:embed="rId1"/>
          <a:stretch/>
        </p:blipFill>
        <p:spPr>
          <a:xfrm>
            <a:off x="1979640" y="4005360"/>
            <a:ext cx="5329080" cy="24462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2"/>
          <p:cNvSpPr/>
          <p:nvPr/>
        </p:nvSpPr>
        <p:spPr>
          <a:xfrm>
            <a:off x="395280" y="189000"/>
            <a:ext cx="6769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三、核糖体是肽链合成的“装配机”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75564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特定蛋白质组成核糖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CD1A-8D93-4E5E-BADE-F366792F95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核糖体的组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8291520" cy="4551120"/>
        </p:xfrm>
        <a:graphic>
          <a:graphicData uri="http://schemas.openxmlformats.org/drawingml/2006/table">
            <a:tbl>
              <a:tblPr/>
              <a:tblGrid>
                <a:gridCol w="1521000"/>
                <a:gridCol w="1298520"/>
                <a:gridCol w="911160"/>
                <a:gridCol w="1143000"/>
                <a:gridCol w="1258920"/>
                <a:gridCol w="1008000"/>
                <a:gridCol w="1150920"/>
              </a:tblGrid>
              <a:tr h="83016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真核生物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蛋白质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S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值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小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1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16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33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1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大亚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34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23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49</a:t>
                      </a:r>
                      <a:r>
                        <a:rPr b="1" lang="zh-CN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种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6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2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.8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5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81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核糖体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黑体"/>
                        </a:rPr>
                        <a:t>7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50f1f"/>
                          </a:solidFill>
                          <a:latin typeface="Times New Roman"/>
                          <a:ea typeface="黑体"/>
                        </a:rPr>
                        <a:t>80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F35A-6ED5-4E79-9E5E-9B3ECE1E85D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原核生物翻译结构图"/>
          <p:cNvPicPr/>
          <p:nvPr/>
        </p:nvPicPr>
        <p:blipFill>
          <a:blip r:embed="rId1"/>
          <a:stretch/>
        </p:blipFill>
        <p:spPr>
          <a:xfrm>
            <a:off x="3276720" y="1600200"/>
            <a:ext cx="5562360" cy="4210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324000" y="3284640"/>
            <a:ext cx="2842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 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   位，又称受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50920" y="18446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肽酰位，              又称给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324000" y="4869000"/>
            <a:ext cx="30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 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位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排出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619280" y="333360"/>
            <a:ext cx="5904000" cy="5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原核生物核糖体结构模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F8DF-24E8-4044-8D31-1B85299EEC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539640" y="2060640"/>
            <a:ext cx="806472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合成酶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T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存在下合成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具有绝对特异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肽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上的肽酰基转移至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氨基上，使酰基与氨基缩合形成肽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转位酶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催化核糖体向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端移动定位于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位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395280" y="189000"/>
            <a:ext cx="7632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四、多种酶与因子参与蛋白质生物合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84360" y="98100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要的酶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灯片编号占位符 10"/>
          <p:cNvSpPr/>
          <p:nvPr/>
        </p:nvSpPr>
        <p:spPr>
          <a:xfrm>
            <a:off x="694836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EC6F-BA64-4781-BE99-DCCE2DE864A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620720" y="1700280"/>
            <a:ext cx="6696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起始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niti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I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延长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longation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释放因子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elease factor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755640" y="692280"/>
            <a:ext cx="64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55680">
              <a:lnSpc>
                <a:spcPct val="15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蛋白质因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灯片编号占位符 10"/>
          <p:cNvSpPr/>
          <p:nvPr/>
        </p:nvSpPr>
        <p:spPr>
          <a:xfrm>
            <a:off x="6877080" y="609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CD07-E282-4BAC-AB36-231223CCD7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8400" y="811080"/>
            <a:ext cx="7340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蛋白质生物合成的概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的生物合成，即翻译，是指生物细胞以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为模板，按照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中核苷酸的排列顺序所组成的密码信息合成蛋白质的过程。就是将核酸中由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核苷酸序列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编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码的遗传信息，通过遗传密码破译的方式解读为蛋白质一级结构中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种</a:t>
            </a:r>
            <a:r>
              <a:rPr b="1" lang="zh-CN" sz="2800" spc="-1" strike="noStrike" u="sng">
                <a:solidFill>
                  <a:srgbClr val="f50f1f"/>
                </a:solidFill>
                <a:uFillTx/>
                <a:latin typeface="Arial"/>
              </a:rPr>
              <a:t>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B7EC-C156-41AF-959F-14B5088B5B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过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The Process of  Protein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0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SzPct val="1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的活化   （胞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起始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延长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肽链合成的终止（核糖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蛋白质合成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　　　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模板的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5′→ 3′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　　蛋白质的合成方向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 →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39640" y="260280"/>
            <a:ext cx="61912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蛋白质生物合成的反应步骤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8002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氨基酸与特异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结合形成氨基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的过程称为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酸的活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参与氨基酸的活化的酶：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氨基酰</a:t>
            </a:r>
            <a:r>
              <a:rPr b="1" lang="en-US" sz="2800" spc="-1" strike="noStrike">
                <a:solidFill>
                  <a:srgbClr val="f50f1f"/>
                </a:solidFill>
                <a:latin typeface="黑体"/>
              </a:rPr>
              <a:t>-tRNA</a:t>
            </a:r>
            <a:r>
              <a:rPr b="1" lang="zh-CN" sz="2800" spc="-1" strike="noStrike">
                <a:solidFill>
                  <a:srgbClr val="f50f1f"/>
                </a:solidFill>
                <a:latin typeface="黑体"/>
              </a:rPr>
              <a:t>合成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化的反应过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95280" y="260280"/>
            <a:ext cx="475308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氨基酸活化与搬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684360" y="4149720"/>
            <a:ext cx="7848000" cy="1561680"/>
            <a:chOff x="684360" y="4149720"/>
            <a:chExt cx="7848000" cy="1561680"/>
          </a:xfrm>
        </p:grpSpPr>
        <p:sp>
          <p:nvSpPr>
            <p:cNvPr id="277" name="Rectangle 5"/>
            <p:cNvSpPr/>
            <p:nvPr/>
          </p:nvSpPr>
          <p:spPr>
            <a:xfrm>
              <a:off x="684360" y="4579200"/>
              <a:ext cx="242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酸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+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>
              <a:off x="3109680" y="4821480"/>
              <a:ext cx="31399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7"/>
            <p:cNvSpPr/>
            <p:nvPr/>
          </p:nvSpPr>
          <p:spPr>
            <a:xfrm>
              <a:off x="6179040" y="4611960"/>
              <a:ext cx="23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- 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8"/>
            <p:cNvSpPr/>
            <p:nvPr/>
          </p:nvSpPr>
          <p:spPr>
            <a:xfrm>
              <a:off x="5235120" y="4841640"/>
              <a:ext cx="443160" cy="45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 flipV="1">
              <a:off x="3751920" y="4841280"/>
              <a:ext cx="35064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10"/>
            <p:cNvSpPr/>
            <p:nvPr/>
          </p:nvSpPr>
          <p:spPr>
            <a:xfrm>
              <a:off x="2966760" y="5251680"/>
              <a:ext cx="11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1"/>
            <p:cNvSpPr/>
            <p:nvPr/>
          </p:nvSpPr>
          <p:spPr>
            <a:xfrm>
              <a:off x="4466160" y="5189040"/>
              <a:ext cx="21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AMP</a:t>
              </a:r>
              <a:r>
                <a:rPr b="1" lang="zh-CN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＋</a:t>
              </a:r>
              <a:r>
                <a:rPr b="1" lang="en-US" sz="2400" spc="-1" strike="noStrike">
                  <a:solidFill>
                    <a:srgbClr val="000099"/>
                  </a:solidFill>
                  <a:latin typeface="Times New Roman"/>
                  <a:ea typeface="华文楷体"/>
                </a:rPr>
                <a:t>PP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2"/>
            <p:cNvSpPr/>
            <p:nvPr/>
          </p:nvSpPr>
          <p:spPr>
            <a:xfrm>
              <a:off x="3037680" y="4149720"/>
              <a:ext cx="314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95280" y="2133720"/>
            <a:ext cx="27352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合成酶对底物氨基酸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都有高度特异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395280" y="33336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合成酶特性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3264120" y="1557360"/>
            <a:ext cx="5803560" cy="4492080"/>
            <a:chOff x="3264120" y="1557360"/>
            <a:chExt cx="5803560" cy="4492080"/>
          </a:xfrm>
        </p:grpSpPr>
        <p:pic>
          <p:nvPicPr>
            <p:cNvPr id="288" name="Picture 5" descr="enzyme"/>
            <p:cNvPicPr/>
            <p:nvPr/>
          </p:nvPicPr>
          <p:blipFill>
            <a:blip r:embed="rId1"/>
            <a:stretch/>
          </p:blipFill>
          <p:spPr>
            <a:xfrm>
              <a:off x="4602240" y="1557360"/>
              <a:ext cx="380052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Line 6"/>
            <p:cNvSpPr/>
            <p:nvPr/>
          </p:nvSpPr>
          <p:spPr>
            <a:xfrm flipV="1">
              <a:off x="4159080" y="3068280"/>
              <a:ext cx="711360" cy="730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7"/>
            <p:cNvSpPr/>
            <p:nvPr/>
          </p:nvSpPr>
          <p:spPr>
            <a:xfrm>
              <a:off x="3264120" y="30099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t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 flipH="1" flipV="1">
              <a:off x="6327720" y="4292280"/>
              <a:ext cx="703440" cy="115236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9"/>
            <p:cNvSpPr/>
            <p:nvPr/>
          </p:nvSpPr>
          <p:spPr>
            <a:xfrm>
              <a:off x="5651640" y="5589720"/>
              <a:ext cx="31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氨基酰</a:t>
              </a:r>
              <a:r>
                <a:rPr b="1" lang="en-US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-tRNA</a:t>
              </a:r>
              <a:r>
                <a:rPr b="1" lang="zh-CN" sz="2400" spc="-1" strike="noStrike">
                  <a:solidFill>
                    <a:srgbClr val="f50f1f"/>
                  </a:solidFill>
                  <a:latin typeface="Times New Roman"/>
                  <a:ea typeface="黑体"/>
                </a:rPr>
                <a:t>合成酶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 flipV="1">
              <a:off x="6605640" y="2997000"/>
              <a:ext cx="1719360" cy="284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8097840" y="2852640"/>
              <a:ext cx="96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A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468360" y="260280"/>
            <a:ext cx="621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表示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340000" y="3860640"/>
            <a:ext cx="5400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丙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l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精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A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甲硫氨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黑体"/>
              </a:rPr>
              <a:t>M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826920" y="130320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各种氨基酸和对应的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结合后形成的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表示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1422360" y="2492280"/>
            <a:ext cx="682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tRNA</a:t>
            </a:r>
            <a:r>
              <a:rPr b="1" lang="zh-CN" sz="2800" spc="-1" strike="noStrike" baseline="30000">
                <a:solidFill>
                  <a:srgbClr val="f50f1f"/>
                </a:solidFill>
                <a:latin typeface="Times New Roman"/>
                <a:ea typeface="黑体"/>
              </a:rPr>
              <a:t>氨基酸的三字母缩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1476360" y="3284640"/>
            <a:ext cx="180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例如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3419640" y="1483920"/>
            <a:ext cx="4968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真核生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0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原核生物：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50f1f"/>
                </a:solidFill>
                <a:latin typeface="Times New Roman"/>
              </a:rPr>
              <a:t>fM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tRNA</a:t>
            </a:r>
            <a:r>
              <a:rPr b="1" lang="en-US" sz="2800" spc="-1" strike="noStrike" baseline="-25000">
                <a:solidFill>
                  <a:srgbClr val="f50f1f"/>
                </a:solidFill>
                <a:latin typeface="Times New Roman"/>
              </a:rPr>
              <a:t>i</a:t>
            </a:r>
            <a:r>
              <a:rPr b="1" lang="en-US" sz="2800" spc="-1" strike="noStrike" baseline="30000">
                <a:solidFill>
                  <a:srgbClr val="f50f1f"/>
                </a:solidFill>
                <a:latin typeface="Times New Roman"/>
              </a:rPr>
              <a:t>f</a:t>
            </a:r>
            <a:r>
              <a:rPr b="1" lang="en-US" sz="2800" spc="-1" strike="noStrike" baseline="40000">
                <a:solidFill>
                  <a:srgbClr val="f50f1f"/>
                </a:solidFill>
                <a:latin typeface="Times New Roman"/>
              </a:rPr>
              <a:t>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84360" y="620640"/>
            <a:ext cx="777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肽链合成的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-tRN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2771640" y="3645000"/>
          <a:ext cx="3024360" cy="273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绿色大理石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645000"/>
                    <a:ext cx="302436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AutoShape 5"/>
          <p:cNvSpPr/>
          <p:nvPr/>
        </p:nvSpPr>
        <p:spPr>
          <a:xfrm>
            <a:off x="611280" y="1989000"/>
            <a:ext cx="2340000" cy="1729080"/>
          </a:xfrm>
          <a:prstGeom prst="cloudCallout">
            <a:avLst>
              <a:gd name="adj1" fmla="val 27000"/>
              <a:gd name="adj2" fmla="val 5918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注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50f1f"/>
                </a:solidFill>
                <a:latin typeface="Arial"/>
                <a:ea typeface="黑体"/>
              </a:rPr>
              <a:t>区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1219320" y="2590920"/>
            <a:ext cx="6553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763280" y="3573360"/>
            <a:ext cx="632484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ccffff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小亚基分离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2. 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在小亚基定位结合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3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起始氨基酰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的结合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4.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核糖体大亚基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395280" y="2060640"/>
            <a:ext cx="8305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指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和起始氨基酰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别与核糖体结合而形成</a:t>
            </a:r>
            <a:r>
              <a:rPr b="1" lang="zh-CN" sz="2800" spc="-1" strike="noStrike">
                <a:solidFill>
                  <a:srgbClr val="f50f1f"/>
                </a:solidFill>
                <a:latin typeface="Times New Roman"/>
                <a:ea typeface="黑体"/>
              </a:rPr>
              <a:t>翻译起始复合物 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395280" y="404640"/>
            <a:ext cx="446580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肽链合成的起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348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（原核生物翻译过程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890720"/>
            <a:ext cx="4033800" cy="33228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小亚基"/>
          <p:cNvPicPr/>
          <p:nvPr/>
        </p:nvPicPr>
        <p:blipFill>
          <a:blip r:embed="rId2"/>
          <a:stretch/>
        </p:blipFill>
        <p:spPr>
          <a:xfrm>
            <a:off x="2230560" y="3753000"/>
            <a:ext cx="3743280" cy="13874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733400"/>
            <a:ext cx="4032360" cy="2279880"/>
          </a:xfrm>
          <a:prstGeom prst="rect">
            <a:avLst/>
          </a:prstGeom>
          <a:ln w="0">
            <a:noFill/>
          </a:ln>
        </p:spPr>
      </p:pic>
      <p:sp>
        <p:nvSpPr>
          <p:cNvPr id="313" name="Oval 5"/>
          <p:cNvSpPr/>
          <p:nvPr/>
        </p:nvSpPr>
        <p:spPr>
          <a:xfrm>
            <a:off x="2340000" y="41497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4716360" y="4076640"/>
            <a:ext cx="576360" cy="35892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55640" y="692280"/>
            <a:ext cx="583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小亚基分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7.22543E-006 C 0.00208 -0.00879 0.00694 -0.01596 0.01267 -0.02128 C 0.01458 -0.02868 0.01805 -0.03122 0.02066 -0.03816 C 0.02309 -0.04486 0.0243 -0.04972 0.02864 -0.05503 C 0.03003 -0.05897 0.03177 -0.06521 0.03489 -0.06775 C 0.03889 -0.07099 0.04427 -0.07168 0.04757 -0.07608 C 0.04861 -0.07746 0.04948 -0.07954 0.05087 -0.08047 C 0.05382 -0.08255 0.06041 -0.08463 0.06041 -0.08463 C 0.06684 -0.09018 0.07187 -0.09295 0.07934 -0.09527 C 0.08906 -0.10359 0.09965 -0.10914 0.11111 -0.11214 C 0.16406 -0.11006 0.18281 -0.10821 0.23819 -0.11006 C 0.24531 -0.1133 0.25173 -0.11746 0.25868 -0.12047 C 0.26007 -0.12232 0.26562 -0.12764 0.26666 -0.12902 C 0.26996 -0.13342 0.27274 -0.1392 0.27621 -0.14382 E">
                                      <p:cBhvr>
                                        <p:cTn id="140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44444E-006 L -8.33333E-007 0.25601 E">
                                      <p:cBhvr>
                                        <p:cTn id="142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148E-006 L -2.22222E-006 0.25717 E">
                                      <p:cBhvr>
                                        <p:cTn id="144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5.55556E-007 0.24676 E">
                                      <p:cBhvr>
                                        <p:cTn id="14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小亚基"/>
          <p:cNvPicPr/>
          <p:nvPr/>
        </p:nvPicPr>
        <p:blipFill>
          <a:blip r:embed="rId1"/>
          <a:stretch/>
        </p:blipFill>
        <p:spPr>
          <a:xfrm>
            <a:off x="2484360" y="3824280"/>
            <a:ext cx="3888000" cy="145908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2125440" y="3789360"/>
            <a:ext cx="5402160" cy="368280"/>
            <a:chOff x="2125440" y="3789360"/>
            <a:chExt cx="5402160" cy="368280"/>
          </a:xfrm>
        </p:grpSpPr>
        <p:sp>
          <p:nvSpPr>
            <p:cNvPr id="318" name="Rectangle 4"/>
            <p:cNvSpPr/>
            <p:nvPr/>
          </p:nvSpPr>
          <p:spPr>
            <a:xfrm>
              <a:off x="2411280" y="386244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284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0036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7"/>
            <p:cNvSpPr/>
            <p:nvPr/>
          </p:nvSpPr>
          <p:spPr>
            <a:xfrm>
              <a:off x="4716360" y="386244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8"/>
            <p:cNvSpPr/>
            <p:nvPr/>
          </p:nvSpPr>
          <p:spPr>
            <a:xfrm>
              <a:off x="4932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9"/>
            <p:cNvSpPr/>
            <p:nvPr/>
          </p:nvSpPr>
          <p:spPr>
            <a:xfrm>
              <a:off x="5148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10"/>
            <p:cNvSpPr/>
            <p:nvPr/>
          </p:nvSpPr>
          <p:spPr>
            <a:xfrm>
              <a:off x="5364000" y="386244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11"/>
            <p:cNvSpPr/>
            <p:nvPr/>
          </p:nvSpPr>
          <p:spPr>
            <a:xfrm>
              <a:off x="212544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12"/>
            <p:cNvSpPr/>
            <p:nvPr/>
          </p:nvSpPr>
          <p:spPr>
            <a:xfrm>
              <a:off x="7165800" y="378936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Oval 13"/>
          <p:cNvSpPr/>
          <p:nvPr/>
        </p:nvSpPr>
        <p:spPr>
          <a:xfrm>
            <a:off x="2629080" y="436392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5005440" y="414828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755640" y="981000"/>
            <a:ext cx="669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 m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在小亚基定位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小亚基"/>
          <p:cNvPicPr/>
          <p:nvPr/>
        </p:nvPicPr>
        <p:blipFill>
          <a:blip r:embed="rId1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31" name="Oval 3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起始tRNA"/>
          <p:cNvPicPr/>
          <p:nvPr/>
        </p:nvPicPr>
        <p:blipFill>
          <a:blip r:embed="rId2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34" name="Group 6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35" name="Line 7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9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0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11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2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3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14"/>
          <p:cNvGrpSpPr/>
          <p:nvPr/>
        </p:nvGrpSpPr>
        <p:grpSpPr>
          <a:xfrm>
            <a:off x="4572000" y="2852640"/>
            <a:ext cx="1091160" cy="504720"/>
            <a:chOff x="4572000" y="2852640"/>
            <a:chExt cx="1091160" cy="504720"/>
          </a:xfrm>
        </p:grpSpPr>
        <p:sp>
          <p:nvSpPr>
            <p:cNvPr id="343" name="Oval 15"/>
            <p:cNvSpPr/>
            <p:nvPr/>
          </p:nvSpPr>
          <p:spPr>
            <a:xfrm>
              <a:off x="4572000" y="2852640"/>
              <a:ext cx="49212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6"/>
            <p:cNvSpPr/>
            <p:nvPr/>
          </p:nvSpPr>
          <p:spPr>
            <a:xfrm>
              <a:off x="506412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17"/>
            <p:cNvSpPr/>
            <p:nvPr/>
          </p:nvSpPr>
          <p:spPr>
            <a:xfrm>
              <a:off x="506628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8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47" name="Rectangle 19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20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21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22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23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24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Rectangle 25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26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Text Box 27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28"/>
          <p:cNvSpPr/>
          <p:nvPr/>
        </p:nvSpPr>
        <p:spPr>
          <a:xfrm>
            <a:off x="684360" y="98100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t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与小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ig 7"/>
          <p:cNvPicPr/>
          <p:nvPr/>
        </p:nvPicPr>
        <p:blipFill>
          <a:blip r:embed="rId1"/>
          <a:stretch/>
        </p:blipFill>
        <p:spPr>
          <a:xfrm>
            <a:off x="395280" y="1341360"/>
            <a:ext cx="8424720" cy="397044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41C4-C5F1-4699-8832-9930208D82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大小亚基分开"/>
          <p:cNvPicPr/>
          <p:nvPr/>
        </p:nvPicPr>
        <p:blipFill>
          <a:blip r:embed="rId1"/>
          <a:stretch/>
        </p:blipFill>
        <p:spPr>
          <a:xfrm rot="21453600">
            <a:off x="2340000" y="1770120"/>
            <a:ext cx="3887640" cy="22384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小亚基"/>
          <p:cNvPicPr/>
          <p:nvPr/>
        </p:nvPicPr>
        <p:blipFill>
          <a:blip r:embed="rId2"/>
          <a:stretch/>
        </p:blipFill>
        <p:spPr>
          <a:xfrm>
            <a:off x="2340000" y="3789360"/>
            <a:ext cx="3887640" cy="1459080"/>
          </a:xfrm>
          <a:prstGeom prst="rect">
            <a:avLst/>
          </a:prstGeom>
          <a:ln w="0">
            <a:noFill/>
          </a:ln>
        </p:spPr>
      </p:pic>
      <p:sp>
        <p:nvSpPr>
          <p:cNvPr id="359" name="Oval 4"/>
          <p:cNvSpPr/>
          <p:nvPr/>
        </p:nvSpPr>
        <p:spPr>
          <a:xfrm>
            <a:off x="2484360" y="4329000"/>
            <a:ext cx="647640" cy="647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4861080" y="4113360"/>
            <a:ext cx="431640" cy="36036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6" descr="起始tRNA"/>
          <p:cNvPicPr/>
          <p:nvPr/>
        </p:nvPicPr>
        <p:blipFill>
          <a:blip r:embed="rId3"/>
          <a:stretch/>
        </p:blipFill>
        <p:spPr>
          <a:xfrm>
            <a:off x="414036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7"/>
          <p:cNvGrpSpPr/>
          <p:nvPr/>
        </p:nvGrpSpPr>
        <p:grpSpPr>
          <a:xfrm>
            <a:off x="4175280" y="3706920"/>
            <a:ext cx="578880" cy="82440"/>
            <a:chOff x="4175280" y="3706920"/>
            <a:chExt cx="578880" cy="82440"/>
          </a:xfrm>
        </p:grpSpPr>
        <p:sp>
          <p:nvSpPr>
            <p:cNvPr id="363" name="Line 8"/>
            <p:cNvSpPr/>
            <p:nvPr/>
          </p:nvSpPr>
          <p:spPr>
            <a:xfrm>
              <a:off x="41752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>
              <a:off x="41752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394160" y="37177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>
              <a:off x="4394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4610160" y="37069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13"/>
            <p:cNvSpPr/>
            <p:nvPr/>
          </p:nvSpPr>
          <p:spPr>
            <a:xfrm>
              <a:off x="4610160" y="37494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14"/>
            <p:cNvSpPr/>
            <p:nvPr/>
          </p:nvSpPr>
          <p:spPr>
            <a:xfrm>
              <a:off x="4610160" y="37893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Oval 15"/>
          <p:cNvSpPr/>
          <p:nvPr/>
        </p:nvSpPr>
        <p:spPr>
          <a:xfrm>
            <a:off x="457200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16"/>
          <p:cNvSpPr/>
          <p:nvPr/>
        </p:nvSpPr>
        <p:spPr>
          <a:xfrm>
            <a:off x="5064120" y="3068640"/>
            <a:ext cx="7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7"/>
          <p:cNvSpPr/>
          <p:nvPr/>
        </p:nvSpPr>
        <p:spPr>
          <a:xfrm>
            <a:off x="5066280" y="29242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8"/>
          <p:cNvSpPr/>
          <p:nvPr/>
        </p:nvSpPr>
        <p:spPr>
          <a:xfrm>
            <a:off x="5005800" y="2997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9"/>
          <p:cNvSpPr/>
          <p:nvPr/>
        </p:nvSpPr>
        <p:spPr>
          <a:xfrm>
            <a:off x="5437440" y="292428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20"/>
          <p:cNvGrpSpPr/>
          <p:nvPr/>
        </p:nvGrpSpPr>
        <p:grpSpPr>
          <a:xfrm>
            <a:off x="1981080" y="3753000"/>
            <a:ext cx="5402160" cy="368280"/>
            <a:chOff x="1981080" y="3753000"/>
            <a:chExt cx="5402160" cy="368280"/>
          </a:xfrm>
        </p:grpSpPr>
        <p:sp>
          <p:nvSpPr>
            <p:cNvPr id="376" name="Rectangle 21"/>
            <p:cNvSpPr/>
            <p:nvPr/>
          </p:nvSpPr>
          <p:spPr>
            <a:xfrm>
              <a:off x="2266920" y="3825720"/>
              <a:ext cx="475308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4140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23"/>
            <p:cNvSpPr/>
            <p:nvPr/>
          </p:nvSpPr>
          <p:spPr>
            <a:xfrm>
              <a:off x="435600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24"/>
            <p:cNvSpPr/>
            <p:nvPr/>
          </p:nvSpPr>
          <p:spPr>
            <a:xfrm>
              <a:off x="4572000" y="382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25"/>
            <p:cNvSpPr/>
            <p:nvPr/>
          </p:nvSpPr>
          <p:spPr>
            <a:xfrm>
              <a:off x="4787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26"/>
            <p:cNvSpPr/>
            <p:nvPr/>
          </p:nvSpPr>
          <p:spPr>
            <a:xfrm>
              <a:off x="5003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27"/>
            <p:cNvSpPr/>
            <p:nvPr/>
          </p:nvSpPr>
          <p:spPr>
            <a:xfrm>
              <a:off x="5219640" y="382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Text Box 28"/>
            <p:cNvSpPr/>
            <p:nvPr/>
          </p:nvSpPr>
          <p:spPr>
            <a:xfrm>
              <a:off x="198108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Text Box 29"/>
            <p:cNvSpPr/>
            <p:nvPr/>
          </p:nvSpPr>
          <p:spPr>
            <a:xfrm>
              <a:off x="7021440" y="37530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Rectangle 30"/>
          <p:cNvSpPr/>
          <p:nvPr/>
        </p:nvSpPr>
        <p:spPr>
          <a:xfrm>
            <a:off x="684360" y="76500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核糖体大亚基结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9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大小亚基2"/>
          <p:cNvPicPr/>
          <p:nvPr/>
        </p:nvPicPr>
        <p:blipFill>
          <a:blip r:embed="rId1"/>
          <a:stretch/>
        </p:blipFill>
        <p:spPr>
          <a:xfrm>
            <a:off x="2050920" y="1771560"/>
            <a:ext cx="4465800" cy="36784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小亚基"/>
          <p:cNvPicPr/>
          <p:nvPr/>
        </p:nvPicPr>
        <p:blipFill>
          <a:blip r:embed="rId2"/>
          <a:stretch/>
        </p:blipFill>
        <p:spPr>
          <a:xfrm>
            <a:off x="2195640" y="3789360"/>
            <a:ext cx="4141800" cy="1535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大小亚基分开"/>
          <p:cNvPicPr/>
          <p:nvPr/>
        </p:nvPicPr>
        <p:blipFill>
          <a:blip r:embed="rId3"/>
          <a:stretch/>
        </p:blipFill>
        <p:spPr>
          <a:xfrm>
            <a:off x="2124000" y="1557360"/>
            <a:ext cx="4462560" cy="2522520"/>
          </a:xfrm>
          <a:prstGeom prst="rect">
            <a:avLst/>
          </a:prstGeom>
          <a:ln w="0">
            <a:noFill/>
          </a:ln>
        </p:spPr>
      </p:pic>
      <p:sp>
        <p:nvSpPr>
          <p:cNvPr id="389" name="Oval 5"/>
          <p:cNvSpPr/>
          <p:nvPr/>
        </p:nvSpPr>
        <p:spPr>
          <a:xfrm>
            <a:off x="2340000" y="4137120"/>
            <a:ext cx="714240" cy="706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4859280" y="4149720"/>
            <a:ext cx="635040" cy="390600"/>
          </a:xfrm>
          <a:prstGeom prst="rect">
            <a:avLst/>
          </a:prstGeom>
          <a:solidFill>
            <a:srgbClr val="66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2052360" y="3716280"/>
            <a:ext cx="5337360" cy="368280"/>
            <a:chOff x="2052360" y="3716280"/>
            <a:chExt cx="5337360" cy="368280"/>
          </a:xfrm>
        </p:grpSpPr>
        <p:sp>
          <p:nvSpPr>
            <p:cNvPr id="392" name="Rectangle 8"/>
            <p:cNvSpPr/>
            <p:nvPr/>
          </p:nvSpPr>
          <p:spPr>
            <a:xfrm>
              <a:off x="2334240" y="3803760"/>
              <a:ext cx="4691880" cy="2584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9"/>
            <p:cNvSpPr/>
            <p:nvPr/>
          </p:nvSpPr>
          <p:spPr>
            <a:xfrm>
              <a:off x="418320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Rectangle 10"/>
            <p:cNvSpPr/>
            <p:nvPr/>
          </p:nvSpPr>
          <p:spPr>
            <a:xfrm>
              <a:off x="439668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Rectangle 11"/>
            <p:cNvSpPr/>
            <p:nvPr/>
          </p:nvSpPr>
          <p:spPr>
            <a:xfrm>
              <a:off x="4609800" y="3803760"/>
              <a:ext cx="21276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12"/>
            <p:cNvSpPr/>
            <p:nvPr/>
          </p:nvSpPr>
          <p:spPr>
            <a:xfrm>
              <a:off x="48225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13"/>
            <p:cNvSpPr/>
            <p:nvPr/>
          </p:nvSpPr>
          <p:spPr>
            <a:xfrm>
              <a:off x="503604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14"/>
            <p:cNvSpPr/>
            <p:nvPr/>
          </p:nvSpPr>
          <p:spPr>
            <a:xfrm>
              <a:off x="5249160" y="3803760"/>
              <a:ext cx="213120" cy="2584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15"/>
            <p:cNvSpPr/>
            <p:nvPr/>
          </p:nvSpPr>
          <p:spPr>
            <a:xfrm>
              <a:off x="205236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16"/>
            <p:cNvSpPr/>
            <p:nvPr/>
          </p:nvSpPr>
          <p:spPr>
            <a:xfrm>
              <a:off x="7027920" y="371628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1" name="Picture 17" descr="起始tRNA"/>
          <p:cNvPicPr/>
          <p:nvPr/>
        </p:nvPicPr>
        <p:blipFill>
          <a:blip r:embed="rId4"/>
          <a:stretch/>
        </p:blipFill>
        <p:spPr>
          <a:xfrm>
            <a:off x="4184640" y="2386080"/>
            <a:ext cx="900000" cy="1298520"/>
          </a:xfrm>
          <a:prstGeom prst="rect">
            <a:avLst/>
          </a:prstGeom>
          <a:ln w="0">
            <a:noFill/>
          </a:ln>
        </p:spPr>
      </p:pic>
      <p:grpSp>
        <p:nvGrpSpPr>
          <p:cNvPr id="402" name="Group 18"/>
          <p:cNvGrpSpPr/>
          <p:nvPr/>
        </p:nvGrpSpPr>
        <p:grpSpPr>
          <a:xfrm>
            <a:off x="4211640" y="3706920"/>
            <a:ext cx="579600" cy="82440"/>
            <a:chOff x="4211640" y="3706920"/>
            <a:chExt cx="579600" cy="82440"/>
          </a:xfrm>
        </p:grpSpPr>
        <p:sp>
          <p:nvSpPr>
            <p:cNvPr id="403" name="Line 19"/>
            <p:cNvSpPr/>
            <p:nvPr/>
          </p:nvSpPr>
          <p:spPr>
            <a:xfrm>
              <a:off x="4211640" y="371772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0"/>
            <p:cNvSpPr/>
            <p:nvPr/>
          </p:nvSpPr>
          <p:spPr>
            <a:xfrm>
              <a:off x="4211640" y="37893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21"/>
            <p:cNvSpPr/>
            <p:nvPr/>
          </p:nvSpPr>
          <p:spPr>
            <a:xfrm>
              <a:off x="4430880" y="37177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22"/>
            <p:cNvSpPr/>
            <p:nvPr/>
          </p:nvSpPr>
          <p:spPr>
            <a:xfrm>
              <a:off x="4430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23"/>
            <p:cNvSpPr/>
            <p:nvPr/>
          </p:nvSpPr>
          <p:spPr>
            <a:xfrm>
              <a:off x="4646880" y="370692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>
              <a:off x="4646880" y="37494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>
              <a:off x="4646880" y="37893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26"/>
          <p:cNvGrpSpPr/>
          <p:nvPr/>
        </p:nvGrpSpPr>
        <p:grpSpPr>
          <a:xfrm>
            <a:off x="4643280" y="2852640"/>
            <a:ext cx="1091520" cy="504720"/>
            <a:chOff x="4643280" y="2852640"/>
            <a:chExt cx="1091520" cy="504720"/>
          </a:xfrm>
        </p:grpSpPr>
        <p:sp>
          <p:nvSpPr>
            <p:cNvPr id="411" name="Oval 27"/>
            <p:cNvSpPr/>
            <p:nvPr/>
          </p:nvSpPr>
          <p:spPr>
            <a:xfrm>
              <a:off x="4643280" y="2852640"/>
              <a:ext cx="492480" cy="50472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F-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28"/>
            <p:cNvSpPr/>
            <p:nvPr/>
          </p:nvSpPr>
          <p:spPr>
            <a:xfrm>
              <a:off x="5135760" y="3069360"/>
              <a:ext cx="712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29"/>
            <p:cNvSpPr/>
            <p:nvPr/>
          </p:nvSpPr>
          <p:spPr>
            <a:xfrm>
              <a:off x="5137920" y="2924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TP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Oval 30"/>
          <p:cNvSpPr/>
          <p:nvPr/>
        </p:nvSpPr>
        <p:spPr>
          <a:xfrm>
            <a:off x="4643280" y="2852640"/>
            <a:ext cx="492120" cy="5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-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31"/>
          <p:cNvSpPr/>
          <p:nvPr/>
        </p:nvSpPr>
        <p:spPr>
          <a:xfrm>
            <a:off x="5030640" y="288936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GT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32"/>
          <p:cNvSpPr/>
          <p:nvPr/>
        </p:nvSpPr>
        <p:spPr>
          <a:xfrm>
            <a:off x="5005800" y="30686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3"/>
          <p:cNvSpPr/>
          <p:nvPr/>
        </p:nvSpPr>
        <p:spPr>
          <a:xfrm>
            <a:off x="5365800" y="2852640"/>
            <a:ext cx="3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34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起始过程消耗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个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GTP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4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2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20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200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258920" y="1773360"/>
            <a:ext cx="69134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小亚基分离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起始氨基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合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核糖体小亚基就位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2880" indent="-5428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糖体大亚基结合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468360" y="404640"/>
            <a:ext cx="590544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翻译起始复合物形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2"/>
          <p:cNvSpPr/>
          <p:nvPr/>
        </p:nvSpPr>
        <p:spPr>
          <a:xfrm>
            <a:off x="5148360" y="260280"/>
            <a:ext cx="503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3" descr="Fig%2027-24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6410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3564000" y="333360"/>
            <a:ext cx="1294920" cy="1550160"/>
            <a:chOff x="3564000" y="333360"/>
            <a:chExt cx="1294920" cy="1550160"/>
          </a:xfrm>
        </p:grpSpPr>
        <p:grpSp>
          <p:nvGrpSpPr>
            <p:cNvPr id="424" name="Group 3"/>
            <p:cNvGrpSpPr/>
            <p:nvPr/>
          </p:nvGrpSpPr>
          <p:grpSpPr>
            <a:xfrm>
              <a:off x="3564000" y="333360"/>
              <a:ext cx="1294920" cy="761760"/>
              <a:chOff x="3564000" y="333360"/>
              <a:chExt cx="1294920" cy="761760"/>
            </a:xfrm>
          </p:grpSpPr>
          <p:sp>
            <p:nvSpPr>
              <p:cNvPr id="425" name="Arc 4"/>
              <p:cNvSpPr/>
              <p:nvPr/>
            </p:nvSpPr>
            <p:spPr>
              <a:xfrm>
                <a:off x="3570120" y="33336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5"/>
              <p:cNvSpPr/>
              <p:nvPr/>
            </p:nvSpPr>
            <p:spPr>
              <a:xfrm>
                <a:off x="3564000" y="1070280"/>
                <a:ext cx="1294920" cy="0"/>
              </a:xfrm>
              <a:prstGeom prst="line">
                <a:avLst/>
              </a:prstGeom>
              <a:ln w="19080">
                <a:solidFill>
                  <a:srgbClr val="33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6"/>
            <p:cNvGrpSpPr/>
            <p:nvPr/>
          </p:nvGrpSpPr>
          <p:grpSpPr>
            <a:xfrm>
              <a:off x="3565080" y="907920"/>
              <a:ext cx="706680" cy="975600"/>
              <a:chOff x="3565080" y="907920"/>
              <a:chExt cx="706680" cy="975600"/>
            </a:xfrm>
          </p:grpSpPr>
          <p:grpSp>
            <p:nvGrpSpPr>
              <p:cNvPr id="428" name="Group 7"/>
              <p:cNvGrpSpPr/>
              <p:nvPr/>
            </p:nvGrpSpPr>
            <p:grpSpPr>
              <a:xfrm>
                <a:off x="3732120" y="907920"/>
                <a:ext cx="224280" cy="688320"/>
                <a:chOff x="3732120" y="907920"/>
                <a:chExt cx="224280" cy="688320"/>
              </a:xfrm>
            </p:grpSpPr>
            <p:sp>
              <p:nvSpPr>
                <p:cNvPr id="429" name="Arc 8"/>
                <p:cNvSpPr/>
                <p:nvPr/>
              </p:nvSpPr>
              <p:spPr>
                <a:xfrm flipH="1">
                  <a:off x="3731760" y="907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>
                  <a:off x="3821760" y="1166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" name="Rectangle 10"/>
              <p:cNvSpPr/>
              <p:nvPr/>
            </p:nvSpPr>
            <p:spPr>
              <a:xfrm>
                <a:off x="3565080" y="1423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2" name="Group 11"/>
          <p:cNvGrpSpPr/>
          <p:nvPr/>
        </p:nvGrpSpPr>
        <p:grpSpPr>
          <a:xfrm>
            <a:off x="684360" y="333360"/>
            <a:ext cx="1294920" cy="702720"/>
            <a:chOff x="684360" y="333360"/>
            <a:chExt cx="1294920" cy="702720"/>
          </a:xfrm>
        </p:grpSpPr>
        <p:grpSp>
          <p:nvGrpSpPr>
            <p:cNvPr id="433" name="Group 12"/>
            <p:cNvGrpSpPr/>
            <p:nvPr/>
          </p:nvGrpSpPr>
          <p:grpSpPr>
            <a:xfrm>
              <a:off x="684360" y="333360"/>
              <a:ext cx="1294920" cy="702720"/>
              <a:chOff x="684360" y="333360"/>
              <a:chExt cx="1294920" cy="702720"/>
            </a:xfrm>
          </p:grpSpPr>
          <p:sp>
            <p:nvSpPr>
              <p:cNvPr id="434" name="Arc 13"/>
              <p:cNvSpPr/>
              <p:nvPr/>
            </p:nvSpPr>
            <p:spPr>
              <a:xfrm>
                <a:off x="690480" y="333360"/>
                <a:ext cx="1285200" cy="70272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02720"/>
                  <a:gd name="textAreaBottom" fmla="*/ 703080 h 70272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14"/>
              <p:cNvSpPr/>
              <p:nvPr/>
            </p:nvSpPr>
            <p:spPr>
              <a:xfrm>
                <a:off x="684360" y="1013400"/>
                <a:ext cx="1294920" cy="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Text Box 15"/>
            <p:cNvSpPr/>
            <p:nvPr/>
          </p:nvSpPr>
          <p:spPr>
            <a:xfrm>
              <a:off x="991440" y="484200"/>
              <a:ext cx="72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16"/>
          <p:cNvGrpSpPr/>
          <p:nvPr/>
        </p:nvGrpSpPr>
        <p:grpSpPr>
          <a:xfrm>
            <a:off x="4211640" y="2349360"/>
            <a:ext cx="3886200" cy="1667880"/>
            <a:chOff x="4211640" y="2349360"/>
            <a:chExt cx="3886200" cy="1667880"/>
          </a:xfrm>
        </p:grpSpPr>
        <p:grpSp>
          <p:nvGrpSpPr>
            <p:cNvPr id="438" name="Group 17"/>
            <p:cNvGrpSpPr/>
            <p:nvPr/>
          </p:nvGrpSpPr>
          <p:grpSpPr>
            <a:xfrm>
              <a:off x="4500720" y="2349360"/>
              <a:ext cx="1379520" cy="838440"/>
              <a:chOff x="4500720" y="2349360"/>
              <a:chExt cx="1379520" cy="838440"/>
            </a:xfrm>
          </p:grpSpPr>
          <p:sp>
            <p:nvSpPr>
              <p:cNvPr id="439" name="Arc 18"/>
              <p:cNvSpPr/>
              <p:nvPr/>
            </p:nvSpPr>
            <p:spPr>
              <a:xfrm>
                <a:off x="4507200" y="2349360"/>
                <a:ext cx="1368360" cy="83844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838440"/>
                  <a:gd name="textAreaBottom" fmla="*/ 838800 h 83844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19"/>
              <p:cNvSpPr/>
              <p:nvPr/>
            </p:nvSpPr>
            <p:spPr>
              <a:xfrm>
                <a:off x="4500720" y="3160800"/>
                <a:ext cx="13795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0"/>
            <p:cNvGrpSpPr/>
            <p:nvPr/>
          </p:nvGrpSpPr>
          <p:grpSpPr>
            <a:xfrm>
              <a:off x="4501800" y="2997360"/>
              <a:ext cx="706680" cy="1019880"/>
              <a:chOff x="4501800" y="2997360"/>
              <a:chExt cx="706680" cy="1019880"/>
            </a:xfrm>
          </p:grpSpPr>
          <p:grpSp>
            <p:nvGrpSpPr>
              <p:cNvPr id="442" name="Group 21"/>
              <p:cNvGrpSpPr/>
              <p:nvPr/>
            </p:nvGrpSpPr>
            <p:grpSpPr>
              <a:xfrm>
                <a:off x="4681800" y="2997360"/>
                <a:ext cx="243360" cy="745920"/>
                <a:chOff x="4681800" y="2997360"/>
                <a:chExt cx="243360" cy="745920"/>
              </a:xfrm>
            </p:grpSpPr>
            <p:sp>
              <p:nvSpPr>
                <p:cNvPr id="443" name="Arc 22"/>
                <p:cNvSpPr/>
                <p:nvPr/>
              </p:nvSpPr>
              <p:spPr>
                <a:xfrm flipH="1">
                  <a:off x="4681800" y="2997360"/>
                  <a:ext cx="243360" cy="276840"/>
                </a:xfrm>
                <a:custGeom>
                  <a:avLst/>
                  <a:gdLst>
                    <a:gd name="textAreaLeft" fmla="*/ 360 w 243360"/>
                    <a:gd name="textAreaRight" fmla="*/ 244080 w 243360"/>
                    <a:gd name="textAreaTop" fmla="*/ 0 h 276840"/>
                    <a:gd name="textAreaBottom" fmla="*/ 277200 h 27684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Line 23"/>
                <p:cNvSpPr/>
                <p:nvPr/>
              </p:nvSpPr>
              <p:spPr>
                <a:xfrm>
                  <a:off x="4778640" y="3277080"/>
                  <a:ext cx="0" cy="466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5" name="Rectangle 24"/>
              <p:cNvSpPr/>
              <p:nvPr/>
            </p:nvSpPr>
            <p:spPr>
              <a:xfrm>
                <a:off x="4501800" y="355752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5"/>
            <p:cNvGrpSpPr/>
            <p:nvPr/>
          </p:nvGrpSpPr>
          <p:grpSpPr>
            <a:xfrm>
              <a:off x="4211640" y="2781000"/>
              <a:ext cx="3886200" cy="152280"/>
              <a:chOff x="4211640" y="2781000"/>
              <a:chExt cx="3886200" cy="152280"/>
            </a:xfrm>
          </p:grpSpPr>
          <p:sp>
            <p:nvSpPr>
              <p:cNvPr id="447" name="Line 26"/>
              <p:cNvSpPr/>
              <p:nvPr/>
            </p:nvSpPr>
            <p:spPr>
              <a:xfrm>
                <a:off x="4211640" y="278100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" name="Group 27"/>
              <p:cNvGrpSpPr/>
              <p:nvPr/>
            </p:nvGrpSpPr>
            <p:grpSpPr>
              <a:xfrm>
                <a:off x="4665600" y="2781000"/>
                <a:ext cx="736560" cy="152280"/>
                <a:chOff x="4665600" y="2781000"/>
                <a:chExt cx="736560" cy="152280"/>
              </a:xfrm>
            </p:grpSpPr>
            <p:grpSp>
              <p:nvGrpSpPr>
                <p:cNvPr id="449" name="Group 28"/>
                <p:cNvGrpSpPr/>
                <p:nvPr/>
              </p:nvGrpSpPr>
              <p:grpSpPr>
                <a:xfrm>
                  <a:off x="4665600" y="2781000"/>
                  <a:ext cx="258840" cy="152280"/>
                  <a:chOff x="4665600" y="2781000"/>
                  <a:chExt cx="258840" cy="152280"/>
                </a:xfrm>
              </p:grpSpPr>
              <p:sp>
                <p:nvSpPr>
                  <p:cNvPr id="450" name="Line 29"/>
                  <p:cNvSpPr/>
                  <p:nvPr/>
                </p:nvSpPr>
                <p:spPr>
                  <a:xfrm flipV="1">
                    <a:off x="466560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Line 30"/>
                  <p:cNvSpPr/>
                  <p:nvPr/>
                </p:nvSpPr>
                <p:spPr>
                  <a:xfrm flipV="1">
                    <a:off x="47948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31"/>
                  <p:cNvSpPr/>
                  <p:nvPr/>
                </p:nvSpPr>
                <p:spPr>
                  <a:xfrm flipV="1">
                    <a:off x="4924440" y="278100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3" name="Line 32"/>
                <p:cNvSpPr/>
                <p:nvPr/>
              </p:nvSpPr>
              <p:spPr>
                <a:xfrm flipV="1">
                  <a:off x="514332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Line 33"/>
                <p:cNvSpPr/>
                <p:nvPr/>
              </p:nvSpPr>
              <p:spPr>
                <a:xfrm flipV="1">
                  <a:off x="527220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Line 34"/>
                <p:cNvSpPr/>
                <p:nvPr/>
              </p:nvSpPr>
              <p:spPr>
                <a:xfrm flipV="1">
                  <a:off x="5402160" y="278100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Group 35"/>
              <p:cNvGrpSpPr/>
              <p:nvPr/>
            </p:nvGrpSpPr>
            <p:grpSpPr>
              <a:xfrm>
                <a:off x="5676840" y="2782800"/>
                <a:ext cx="736560" cy="150480"/>
                <a:chOff x="5676840" y="2782800"/>
                <a:chExt cx="736560" cy="1504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676840" y="2782800"/>
                  <a:ext cx="258840" cy="150480"/>
                  <a:chOff x="5676840" y="2782800"/>
                  <a:chExt cx="258840" cy="150480"/>
                </a:xfrm>
              </p:grpSpPr>
              <p:sp>
                <p:nvSpPr>
                  <p:cNvPr id="458" name="Line 37"/>
                  <p:cNvSpPr/>
                  <p:nvPr/>
                </p:nvSpPr>
                <p:spPr>
                  <a:xfrm flipV="1">
                    <a:off x="567684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Line 38"/>
                  <p:cNvSpPr/>
                  <p:nvPr/>
                </p:nvSpPr>
                <p:spPr>
                  <a:xfrm flipV="1">
                    <a:off x="58060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Line 39"/>
                  <p:cNvSpPr/>
                  <p:nvPr/>
                </p:nvSpPr>
                <p:spPr>
                  <a:xfrm flipV="1">
                    <a:off x="593568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Line 40"/>
                <p:cNvSpPr/>
                <p:nvPr/>
              </p:nvSpPr>
              <p:spPr>
                <a:xfrm flipV="1">
                  <a:off x="61545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Line 41"/>
                <p:cNvSpPr/>
                <p:nvPr/>
              </p:nvSpPr>
              <p:spPr>
                <a:xfrm flipV="1">
                  <a:off x="628344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Line 42"/>
                <p:cNvSpPr/>
                <p:nvPr/>
              </p:nvSpPr>
              <p:spPr>
                <a:xfrm flipV="1">
                  <a:off x="641340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Group 43"/>
              <p:cNvGrpSpPr/>
              <p:nvPr/>
            </p:nvGrpSpPr>
            <p:grpSpPr>
              <a:xfrm>
                <a:off x="6667560" y="2782800"/>
                <a:ext cx="736560" cy="150480"/>
                <a:chOff x="6667560" y="2782800"/>
                <a:chExt cx="736560" cy="150480"/>
              </a:xfrm>
            </p:grpSpPr>
            <p:grpSp>
              <p:nvGrpSpPr>
                <p:cNvPr id="465" name="Group 44"/>
                <p:cNvGrpSpPr/>
                <p:nvPr/>
              </p:nvGrpSpPr>
              <p:grpSpPr>
                <a:xfrm>
                  <a:off x="6667560" y="2782800"/>
                  <a:ext cx="258840" cy="150480"/>
                  <a:chOff x="6667560" y="2782800"/>
                  <a:chExt cx="258840" cy="150480"/>
                </a:xfrm>
              </p:grpSpPr>
              <p:sp>
                <p:nvSpPr>
                  <p:cNvPr id="466" name="Line 45"/>
                  <p:cNvSpPr/>
                  <p:nvPr/>
                </p:nvSpPr>
                <p:spPr>
                  <a:xfrm flipV="1">
                    <a:off x="666756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Line 46"/>
                  <p:cNvSpPr/>
                  <p:nvPr/>
                </p:nvSpPr>
                <p:spPr>
                  <a:xfrm flipV="1">
                    <a:off x="67968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Line 47"/>
                  <p:cNvSpPr/>
                  <p:nvPr/>
                </p:nvSpPr>
                <p:spPr>
                  <a:xfrm flipV="1">
                    <a:off x="6926400" y="278280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" name="Line 48"/>
                <p:cNvSpPr/>
                <p:nvPr/>
              </p:nvSpPr>
              <p:spPr>
                <a:xfrm flipV="1">
                  <a:off x="714528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Line 49"/>
                <p:cNvSpPr/>
                <p:nvPr/>
              </p:nvSpPr>
              <p:spPr>
                <a:xfrm flipV="1">
                  <a:off x="727416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50"/>
                <p:cNvSpPr/>
                <p:nvPr/>
              </p:nvSpPr>
              <p:spPr>
                <a:xfrm flipV="1">
                  <a:off x="7404120" y="278280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72" name="Group 51"/>
          <p:cNvGrpSpPr/>
          <p:nvPr/>
        </p:nvGrpSpPr>
        <p:grpSpPr>
          <a:xfrm>
            <a:off x="3854520" y="4653000"/>
            <a:ext cx="3886200" cy="1963440"/>
            <a:chOff x="3854520" y="4653000"/>
            <a:chExt cx="3886200" cy="1963440"/>
          </a:xfrm>
        </p:grpSpPr>
        <p:grpSp>
          <p:nvGrpSpPr>
            <p:cNvPr id="473" name="Group 52"/>
            <p:cNvGrpSpPr/>
            <p:nvPr/>
          </p:nvGrpSpPr>
          <p:grpSpPr>
            <a:xfrm>
              <a:off x="3914640" y="5389200"/>
              <a:ext cx="1636560" cy="1227240"/>
              <a:chOff x="3914640" y="5389200"/>
              <a:chExt cx="1636560" cy="1227240"/>
            </a:xfrm>
          </p:grpSpPr>
          <p:sp>
            <p:nvSpPr>
              <p:cNvPr id="474" name="Arc 53"/>
              <p:cNvSpPr/>
              <p:nvPr/>
            </p:nvSpPr>
            <p:spPr>
              <a:xfrm flipV="1">
                <a:off x="3914640" y="5388840"/>
                <a:ext cx="1636560" cy="1227240"/>
              </a:xfrm>
              <a:custGeom>
                <a:avLst/>
                <a:gdLst>
                  <a:gd name="textAreaLeft" fmla="*/ 0 w 1636560"/>
                  <a:gd name="textAreaRight" fmla="*/ 1636920 w 1636560"/>
                  <a:gd name="textAreaTop" fmla="*/ -360 h 1227240"/>
                  <a:gd name="textAreaBottom" fmla="*/ 1227240 h 1227240"/>
                </a:gdLst>
                <a:ahLst/>
                <a:rect l="textAreaLeft" t="textAreaTop" r="textAreaRight" b="textAreaBottom"/>
                <a:pathLst>
                  <a:path fill="none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</a:path>
                  <a:path stroke="0" w="43200" h="36380">
                    <a:moveTo>
                      <a:pt x="5090" y="-30009"/>
                    </a:moveTo>
                    <a:cubicBezTo>
                      <a:pt x="1803" y="31631"/>
                      <a:pt x="0" y="26697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600"/>
                    </a:cubicBezTo>
                    <a:cubicBezTo>
                      <a:pt x="-22336" y="27090"/>
                      <a:pt x="-24428" y="32375"/>
                      <a:pt x="-28185" y="-29157"/>
                    </a:cubicBezTo>
                    <a:lnTo>
                      <a:pt x="21600" y="21600"/>
                    </a:lnTo>
                    <a:lnTo>
                      <a:pt x="5090" y="-30009"/>
                    </a:lnTo>
                    <a:close/>
                  </a:path>
                </a:pathLst>
              </a:custGeom>
              <a:solidFill>
                <a:srgbClr val="f38f94"/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AutoShape 54"/>
              <p:cNvSpPr/>
              <p:nvPr/>
            </p:nvSpPr>
            <p:spPr>
              <a:xfrm rot="10800000">
                <a:off x="4070520" y="5400720"/>
                <a:ext cx="1324800" cy="533520"/>
              </a:xfrm>
              <a:prstGeom prst="triangle">
                <a:avLst>
                  <a:gd name="adj" fmla="val 53468"/>
                </a:avLst>
              </a:prstGeom>
              <a:solidFill>
                <a:srgbClr val="f38f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55"/>
              <p:cNvSpPr/>
              <p:nvPr/>
            </p:nvSpPr>
            <p:spPr>
              <a:xfrm>
                <a:off x="4070520" y="5400720"/>
                <a:ext cx="132480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6"/>
            <p:cNvGrpSpPr/>
            <p:nvPr/>
          </p:nvGrpSpPr>
          <p:grpSpPr>
            <a:xfrm>
              <a:off x="4083120" y="4653000"/>
              <a:ext cx="1294920" cy="761760"/>
              <a:chOff x="4083120" y="4653000"/>
              <a:chExt cx="1294920" cy="761760"/>
            </a:xfrm>
          </p:grpSpPr>
          <p:sp>
            <p:nvSpPr>
              <p:cNvPr id="478" name="Arc 57"/>
              <p:cNvSpPr/>
              <p:nvPr/>
            </p:nvSpPr>
            <p:spPr>
              <a:xfrm>
                <a:off x="4089240" y="4653000"/>
                <a:ext cx="1285200" cy="761760"/>
              </a:xfrm>
              <a:custGeom>
                <a:avLst/>
                <a:gdLst>
                  <a:gd name="textAreaLeft" fmla="*/ 0 w 1285200"/>
                  <a:gd name="textAreaRight" fmla="*/ 1285560 w 1285200"/>
                  <a:gd name="textAreaTop" fmla="*/ 0 h 761760"/>
                  <a:gd name="textAreaBottom" fmla="*/ 762120 h 761760"/>
                </a:gdLst>
                <a:ahLst/>
                <a:rect l="textAreaLeft" t="textAreaTop" r="textAreaRight" b="textAreaBottom"/>
                <a:pathLst>
                  <a:path fill="none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</a:path>
                  <a:path stroke="0" w="43177" h="21600">
                    <a:moveTo>
                      <a:pt x="-1" y="20744"/>
                    </a:moveTo>
                    <a:cubicBezTo>
                      <a:pt x="458" y="9157"/>
                      <a:pt x="9986" y="-1"/>
                      <a:pt x="21583" y="0"/>
                    </a:cubicBezTo>
                    <a:cubicBezTo>
                      <a:pt x="33306" y="0"/>
                      <a:pt x="42889" y="9351"/>
                      <a:pt x="43176" y="21072"/>
                    </a:cubicBezTo>
                    <a:lnTo>
                      <a:pt x="21583" y="21600"/>
                    </a:lnTo>
                    <a:lnTo>
                      <a:pt x="-1" y="20744"/>
                    </a:lnTo>
                    <a:close/>
                  </a:path>
                </a:pathLst>
              </a:custGeom>
              <a:solidFill>
                <a:srgbClr val="66ccff">
                  <a:alpha val="50000"/>
                </a:srgbClr>
              </a:solidFill>
              <a:ln w="1908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58"/>
              <p:cNvSpPr/>
              <p:nvPr/>
            </p:nvSpPr>
            <p:spPr>
              <a:xfrm>
                <a:off x="4083120" y="5389920"/>
                <a:ext cx="12949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59"/>
            <p:cNvGrpSpPr/>
            <p:nvPr/>
          </p:nvGrpSpPr>
          <p:grpSpPr>
            <a:xfrm>
              <a:off x="4215960" y="5275440"/>
              <a:ext cx="706680" cy="978840"/>
              <a:chOff x="4215960" y="5275440"/>
              <a:chExt cx="706680" cy="978840"/>
            </a:xfrm>
          </p:grpSpPr>
          <p:grpSp>
            <p:nvGrpSpPr>
              <p:cNvPr id="481" name="Group 60"/>
              <p:cNvGrpSpPr/>
              <p:nvPr/>
            </p:nvGrpSpPr>
            <p:grpSpPr>
              <a:xfrm>
                <a:off x="4323600" y="5275440"/>
                <a:ext cx="216720" cy="691200"/>
                <a:chOff x="4323600" y="5275440"/>
                <a:chExt cx="216720" cy="691200"/>
              </a:xfrm>
            </p:grpSpPr>
            <p:sp>
              <p:nvSpPr>
                <p:cNvPr id="482" name="Arc 61"/>
                <p:cNvSpPr/>
                <p:nvPr/>
              </p:nvSpPr>
              <p:spPr>
                <a:xfrm flipH="1">
                  <a:off x="4323600" y="5275440"/>
                  <a:ext cx="216720" cy="256320"/>
                </a:xfrm>
                <a:custGeom>
                  <a:avLst/>
                  <a:gdLst>
                    <a:gd name="textAreaLeft" fmla="*/ 360 w 216720"/>
                    <a:gd name="textAreaRight" fmla="*/ 217440 w 216720"/>
                    <a:gd name="textAreaTop" fmla="*/ 0 h 256320"/>
                    <a:gd name="textAreaBottom" fmla="*/ 256680 h 25632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62"/>
                <p:cNvSpPr/>
                <p:nvPr/>
              </p:nvSpPr>
              <p:spPr>
                <a:xfrm>
                  <a:off x="4409640" y="5534640"/>
                  <a:ext cx="0" cy="4320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Rectangle 63"/>
              <p:cNvSpPr/>
              <p:nvPr/>
            </p:nvSpPr>
            <p:spPr>
              <a:xfrm>
                <a:off x="4215960" y="579456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64"/>
            <p:cNvGrpSpPr/>
            <p:nvPr/>
          </p:nvGrpSpPr>
          <p:grpSpPr>
            <a:xfrm>
              <a:off x="3854520" y="5059080"/>
              <a:ext cx="3886200" cy="152280"/>
              <a:chOff x="3854520" y="5059080"/>
              <a:chExt cx="3886200" cy="152280"/>
            </a:xfrm>
          </p:grpSpPr>
          <p:sp>
            <p:nvSpPr>
              <p:cNvPr id="486" name="Line 65"/>
              <p:cNvSpPr/>
              <p:nvPr/>
            </p:nvSpPr>
            <p:spPr>
              <a:xfrm>
                <a:off x="3854520" y="5059080"/>
                <a:ext cx="3886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7" name="Group 66"/>
              <p:cNvGrpSpPr/>
              <p:nvPr/>
            </p:nvGrpSpPr>
            <p:grpSpPr>
              <a:xfrm>
                <a:off x="4308480" y="5059080"/>
                <a:ext cx="736560" cy="152280"/>
                <a:chOff x="4308480" y="5059080"/>
                <a:chExt cx="736560" cy="152280"/>
              </a:xfrm>
            </p:grpSpPr>
            <p:grpSp>
              <p:nvGrpSpPr>
                <p:cNvPr id="488" name="Group 67"/>
                <p:cNvGrpSpPr/>
                <p:nvPr/>
              </p:nvGrpSpPr>
              <p:grpSpPr>
                <a:xfrm>
                  <a:off x="4308480" y="5059080"/>
                  <a:ext cx="258840" cy="152280"/>
                  <a:chOff x="4308480" y="5059080"/>
                  <a:chExt cx="258840" cy="152280"/>
                </a:xfrm>
              </p:grpSpPr>
              <p:sp>
                <p:nvSpPr>
                  <p:cNvPr id="489" name="Line 68"/>
                  <p:cNvSpPr/>
                  <p:nvPr/>
                </p:nvSpPr>
                <p:spPr>
                  <a:xfrm flipV="1">
                    <a:off x="430848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Line 69"/>
                  <p:cNvSpPr/>
                  <p:nvPr/>
                </p:nvSpPr>
                <p:spPr>
                  <a:xfrm flipV="1">
                    <a:off x="44377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Line 70"/>
                  <p:cNvSpPr/>
                  <p:nvPr/>
                </p:nvSpPr>
                <p:spPr>
                  <a:xfrm flipV="1">
                    <a:off x="4567320" y="505908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Line 71"/>
                <p:cNvSpPr/>
                <p:nvPr/>
              </p:nvSpPr>
              <p:spPr>
                <a:xfrm flipV="1">
                  <a:off x="478620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72"/>
                <p:cNvSpPr/>
                <p:nvPr/>
              </p:nvSpPr>
              <p:spPr>
                <a:xfrm flipV="1">
                  <a:off x="491508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73"/>
                <p:cNvSpPr/>
                <p:nvPr/>
              </p:nvSpPr>
              <p:spPr>
                <a:xfrm flipV="1">
                  <a:off x="5045040" y="5059080"/>
                  <a:ext cx="0" cy="1522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Group 74"/>
              <p:cNvGrpSpPr/>
              <p:nvPr/>
            </p:nvGrpSpPr>
            <p:grpSpPr>
              <a:xfrm>
                <a:off x="5319720" y="5060880"/>
                <a:ext cx="736560" cy="150480"/>
                <a:chOff x="5319720" y="5060880"/>
                <a:chExt cx="736560" cy="150480"/>
              </a:xfrm>
            </p:grpSpPr>
            <p:grpSp>
              <p:nvGrpSpPr>
                <p:cNvPr id="496" name="Group 75"/>
                <p:cNvGrpSpPr/>
                <p:nvPr/>
              </p:nvGrpSpPr>
              <p:grpSpPr>
                <a:xfrm>
                  <a:off x="5319720" y="5060880"/>
                  <a:ext cx="258840" cy="150480"/>
                  <a:chOff x="5319720" y="5060880"/>
                  <a:chExt cx="258840" cy="150480"/>
                </a:xfrm>
              </p:grpSpPr>
              <p:sp>
                <p:nvSpPr>
                  <p:cNvPr id="497" name="Line 76"/>
                  <p:cNvSpPr/>
                  <p:nvPr/>
                </p:nvSpPr>
                <p:spPr>
                  <a:xfrm flipV="1">
                    <a:off x="531972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Line 77"/>
                  <p:cNvSpPr/>
                  <p:nvPr/>
                </p:nvSpPr>
                <p:spPr>
                  <a:xfrm flipV="1">
                    <a:off x="54489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78"/>
                  <p:cNvSpPr/>
                  <p:nvPr/>
                </p:nvSpPr>
                <p:spPr>
                  <a:xfrm flipV="1">
                    <a:off x="557856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" name="Line 79"/>
                <p:cNvSpPr/>
                <p:nvPr/>
              </p:nvSpPr>
              <p:spPr>
                <a:xfrm flipV="1">
                  <a:off x="57974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80"/>
                <p:cNvSpPr/>
                <p:nvPr/>
              </p:nvSpPr>
              <p:spPr>
                <a:xfrm flipV="1">
                  <a:off x="592632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81"/>
                <p:cNvSpPr/>
                <p:nvPr/>
              </p:nvSpPr>
              <p:spPr>
                <a:xfrm flipV="1">
                  <a:off x="605628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Group 82"/>
              <p:cNvGrpSpPr/>
              <p:nvPr/>
            </p:nvGrpSpPr>
            <p:grpSpPr>
              <a:xfrm>
                <a:off x="6310440" y="5060880"/>
                <a:ext cx="736560" cy="150480"/>
                <a:chOff x="6310440" y="5060880"/>
                <a:chExt cx="736560" cy="150480"/>
              </a:xfrm>
            </p:grpSpPr>
            <p:grpSp>
              <p:nvGrpSpPr>
                <p:cNvPr id="504" name="Group 83"/>
                <p:cNvGrpSpPr/>
                <p:nvPr/>
              </p:nvGrpSpPr>
              <p:grpSpPr>
                <a:xfrm>
                  <a:off x="6310440" y="5060880"/>
                  <a:ext cx="258840" cy="150480"/>
                  <a:chOff x="6310440" y="5060880"/>
                  <a:chExt cx="258840" cy="150480"/>
                </a:xfrm>
              </p:grpSpPr>
              <p:sp>
                <p:nvSpPr>
                  <p:cNvPr id="505" name="Line 84"/>
                  <p:cNvSpPr/>
                  <p:nvPr/>
                </p:nvSpPr>
                <p:spPr>
                  <a:xfrm flipV="1">
                    <a:off x="631044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Line 85"/>
                  <p:cNvSpPr/>
                  <p:nvPr/>
                </p:nvSpPr>
                <p:spPr>
                  <a:xfrm flipV="1">
                    <a:off x="64396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Line 86"/>
                  <p:cNvSpPr/>
                  <p:nvPr/>
                </p:nvSpPr>
                <p:spPr>
                  <a:xfrm flipV="1">
                    <a:off x="6569280" y="5060880"/>
                    <a:ext cx="0" cy="15048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8" name="Line 87"/>
                <p:cNvSpPr/>
                <p:nvPr/>
              </p:nvSpPr>
              <p:spPr>
                <a:xfrm flipV="1">
                  <a:off x="678816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Line 88"/>
                <p:cNvSpPr/>
                <p:nvPr/>
              </p:nvSpPr>
              <p:spPr>
                <a:xfrm flipV="1">
                  <a:off x="691704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89"/>
                <p:cNvSpPr/>
                <p:nvPr/>
              </p:nvSpPr>
              <p:spPr>
                <a:xfrm flipV="1">
                  <a:off x="7047000" y="5060880"/>
                  <a:ext cx="0" cy="15048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11" name="Group 90"/>
          <p:cNvGrpSpPr/>
          <p:nvPr/>
        </p:nvGrpSpPr>
        <p:grpSpPr>
          <a:xfrm>
            <a:off x="539640" y="4654440"/>
            <a:ext cx="1600200" cy="1876320"/>
            <a:chOff x="539640" y="4654440"/>
            <a:chExt cx="1600200" cy="1876320"/>
          </a:xfrm>
        </p:grpSpPr>
        <p:grpSp>
          <p:nvGrpSpPr>
            <p:cNvPr id="512" name="Group 91"/>
            <p:cNvGrpSpPr/>
            <p:nvPr/>
          </p:nvGrpSpPr>
          <p:grpSpPr>
            <a:xfrm>
              <a:off x="691920" y="4654440"/>
              <a:ext cx="1294920" cy="702720"/>
              <a:chOff x="691920" y="4654440"/>
              <a:chExt cx="1294920" cy="702720"/>
            </a:xfrm>
          </p:grpSpPr>
          <p:grpSp>
            <p:nvGrpSpPr>
              <p:cNvPr id="513" name="Group 92"/>
              <p:cNvGrpSpPr/>
              <p:nvPr/>
            </p:nvGrpSpPr>
            <p:grpSpPr>
              <a:xfrm>
                <a:off x="691920" y="4654440"/>
                <a:ext cx="1294920" cy="702720"/>
                <a:chOff x="691920" y="4654440"/>
                <a:chExt cx="1294920" cy="702720"/>
              </a:xfrm>
            </p:grpSpPr>
            <p:sp>
              <p:nvSpPr>
                <p:cNvPr id="514" name="Arc 93"/>
                <p:cNvSpPr/>
                <p:nvPr/>
              </p:nvSpPr>
              <p:spPr>
                <a:xfrm>
                  <a:off x="698040" y="4654440"/>
                  <a:ext cx="1285200" cy="702720"/>
                </a:xfrm>
                <a:custGeom>
                  <a:avLst/>
                  <a:gdLst>
                    <a:gd name="textAreaLeft" fmla="*/ 0 w 1285200"/>
                    <a:gd name="textAreaRight" fmla="*/ 1285560 w 1285200"/>
                    <a:gd name="textAreaTop" fmla="*/ 0 h 702720"/>
                    <a:gd name="textAreaBottom" fmla="*/ 703080 h 702720"/>
                  </a:gdLst>
                  <a:ahLst/>
                  <a:rect l="textAreaLeft" t="textAreaTop" r="textAreaRight" b="textAreaBottom"/>
                  <a:pathLst>
                    <a:path fill="none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</a:path>
                    <a:path stroke="0" w="43177" h="21600">
                      <a:moveTo>
                        <a:pt x="-1" y="20744"/>
                      </a:moveTo>
                      <a:cubicBezTo>
                        <a:pt x="458" y="9157"/>
                        <a:pt x="9986" y="-1"/>
                        <a:pt x="21583" y="0"/>
                      </a:cubicBezTo>
                      <a:cubicBezTo>
                        <a:pt x="33306" y="0"/>
                        <a:pt x="42889" y="9351"/>
                        <a:pt x="43176" y="21072"/>
                      </a:cubicBezTo>
                      <a:lnTo>
                        <a:pt x="21583" y="21600"/>
                      </a:lnTo>
                      <a:lnTo>
                        <a:pt x="-1" y="20744"/>
                      </a:lnTo>
                      <a:close/>
                    </a:path>
                  </a:pathLst>
                </a:custGeom>
                <a:solidFill>
                  <a:srgbClr val="66ccff">
                    <a:alpha val="50000"/>
                  </a:srgbClr>
                </a:solidFill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94"/>
                <p:cNvSpPr/>
                <p:nvPr/>
              </p:nvSpPr>
              <p:spPr>
                <a:xfrm>
                  <a:off x="691920" y="5334480"/>
                  <a:ext cx="1294920" cy="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Text Box 95"/>
              <p:cNvSpPr/>
              <p:nvPr/>
            </p:nvSpPr>
            <p:spPr>
              <a:xfrm>
                <a:off x="999000" y="480528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4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Group 96"/>
            <p:cNvGrpSpPr/>
            <p:nvPr/>
          </p:nvGrpSpPr>
          <p:grpSpPr>
            <a:xfrm>
              <a:off x="539640" y="5303520"/>
              <a:ext cx="1600200" cy="1227240"/>
              <a:chOff x="539640" y="5303520"/>
              <a:chExt cx="1600200" cy="1227240"/>
            </a:xfrm>
          </p:grpSpPr>
          <p:grpSp>
            <p:nvGrpSpPr>
              <p:cNvPr id="518" name="Group 97"/>
              <p:cNvGrpSpPr/>
              <p:nvPr/>
            </p:nvGrpSpPr>
            <p:grpSpPr>
              <a:xfrm>
                <a:off x="539640" y="5303520"/>
                <a:ext cx="1600200" cy="1227240"/>
                <a:chOff x="539640" y="5303520"/>
                <a:chExt cx="1600200" cy="1227240"/>
              </a:xfrm>
            </p:grpSpPr>
            <p:sp>
              <p:nvSpPr>
                <p:cNvPr id="519" name="Arc 98"/>
                <p:cNvSpPr/>
                <p:nvPr/>
              </p:nvSpPr>
              <p:spPr>
                <a:xfrm flipV="1">
                  <a:off x="539640" y="5303160"/>
                  <a:ext cx="1600200" cy="1227240"/>
                </a:xfrm>
                <a:custGeom>
                  <a:avLst/>
                  <a:gdLst>
                    <a:gd name="textAreaLeft" fmla="*/ 0 w 1600200"/>
                    <a:gd name="textAreaRight" fmla="*/ 1600560 w 1600200"/>
                    <a:gd name="textAreaTop" fmla="*/ -360 h 1227240"/>
                    <a:gd name="textAreaBottom" fmla="*/ 1227240 h 1227240"/>
                  </a:gdLst>
                  <a:ahLst/>
                  <a:rect l="textAreaLeft" t="textAreaTop" r="textAreaRight" b="textAreaBottom"/>
                  <a:pathLst>
                    <a:path fill="none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</a:path>
                    <a:path stroke="0" w="43200" h="36380">
                      <a:moveTo>
                        <a:pt x="5090" y="-30009"/>
                      </a:moveTo>
                      <a:cubicBezTo>
                        <a:pt x="1803" y="31631"/>
                        <a:pt x="0" y="26697"/>
                        <a:pt x="0" y="21600"/>
                      </a:cubicBez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600"/>
                      </a:cubicBezTo>
                      <a:cubicBezTo>
                        <a:pt x="-22336" y="27090"/>
                        <a:pt x="-24428" y="32375"/>
                        <a:pt x="-28185" y="-29157"/>
                      </a:cubicBezTo>
                      <a:lnTo>
                        <a:pt x="21600" y="21600"/>
                      </a:lnTo>
                      <a:lnTo>
                        <a:pt x="5090" y="-30009"/>
                      </a:lnTo>
                      <a:close/>
                    </a:path>
                  </a:pathLst>
                </a:custGeom>
                <a:solidFill>
                  <a:srgbClr val="f38f94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AutoShape 99"/>
                <p:cNvSpPr/>
                <p:nvPr/>
              </p:nvSpPr>
              <p:spPr>
                <a:xfrm rot="10800000">
                  <a:off x="692280" y="5315040"/>
                  <a:ext cx="1295280" cy="533520"/>
                </a:xfrm>
                <a:prstGeom prst="triangle">
                  <a:avLst>
                    <a:gd name="adj" fmla="val 53468"/>
                  </a:avLst>
                </a:prstGeom>
                <a:solidFill>
                  <a:srgbClr val="f38f9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100"/>
                <p:cNvSpPr/>
                <p:nvPr/>
              </p:nvSpPr>
              <p:spPr>
                <a:xfrm>
                  <a:off x="692280" y="531504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2" name="Text Box 101"/>
              <p:cNvSpPr/>
              <p:nvPr/>
            </p:nvSpPr>
            <p:spPr>
              <a:xfrm>
                <a:off x="999360" y="56833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60S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3" name="Group 102"/>
          <p:cNvGrpSpPr/>
          <p:nvPr/>
        </p:nvGrpSpPr>
        <p:grpSpPr>
          <a:xfrm>
            <a:off x="5003640" y="620280"/>
            <a:ext cx="3670200" cy="676080"/>
            <a:chOff x="5003640" y="620280"/>
            <a:chExt cx="3670200" cy="676080"/>
          </a:xfrm>
        </p:grpSpPr>
        <p:sp>
          <p:nvSpPr>
            <p:cNvPr id="524" name="Text Box 103"/>
            <p:cNvSpPr/>
            <p:nvPr/>
          </p:nvSpPr>
          <p:spPr>
            <a:xfrm>
              <a:off x="7092720" y="83664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RN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104"/>
            <p:cNvGrpSpPr/>
            <p:nvPr/>
          </p:nvGrpSpPr>
          <p:grpSpPr>
            <a:xfrm>
              <a:off x="5003640" y="620280"/>
              <a:ext cx="3670200" cy="144360"/>
              <a:chOff x="5003640" y="620280"/>
              <a:chExt cx="3670200" cy="144360"/>
            </a:xfrm>
          </p:grpSpPr>
          <p:sp>
            <p:nvSpPr>
              <p:cNvPr id="526" name="Line 105"/>
              <p:cNvSpPr/>
              <p:nvPr/>
            </p:nvSpPr>
            <p:spPr>
              <a:xfrm>
                <a:off x="5003640" y="620280"/>
                <a:ext cx="367020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7" name="Group 106"/>
              <p:cNvGrpSpPr/>
              <p:nvPr/>
            </p:nvGrpSpPr>
            <p:grpSpPr>
              <a:xfrm>
                <a:off x="5432040" y="620280"/>
                <a:ext cx="695520" cy="144360"/>
                <a:chOff x="5432040" y="620280"/>
                <a:chExt cx="695520" cy="144360"/>
              </a:xfrm>
            </p:grpSpPr>
            <p:grpSp>
              <p:nvGrpSpPr>
                <p:cNvPr id="528" name="Group 107"/>
                <p:cNvGrpSpPr/>
                <p:nvPr/>
              </p:nvGrpSpPr>
              <p:grpSpPr>
                <a:xfrm>
                  <a:off x="5432040" y="620280"/>
                  <a:ext cx="244080" cy="144360"/>
                  <a:chOff x="5432040" y="620280"/>
                  <a:chExt cx="244080" cy="144360"/>
                </a:xfrm>
              </p:grpSpPr>
              <p:sp>
                <p:nvSpPr>
                  <p:cNvPr id="529" name="Line 108"/>
                  <p:cNvSpPr/>
                  <p:nvPr/>
                </p:nvSpPr>
                <p:spPr>
                  <a:xfrm flipV="1">
                    <a:off x="543204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V="1">
                    <a:off x="55537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5676120" y="620280"/>
                    <a:ext cx="0" cy="1443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2" name="Line 111"/>
                <p:cNvSpPr/>
                <p:nvPr/>
              </p:nvSpPr>
              <p:spPr>
                <a:xfrm flipV="1">
                  <a:off x="588312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Line 112"/>
                <p:cNvSpPr/>
                <p:nvPr/>
              </p:nvSpPr>
              <p:spPr>
                <a:xfrm flipV="1">
                  <a:off x="600480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Line 113"/>
                <p:cNvSpPr/>
                <p:nvPr/>
              </p:nvSpPr>
              <p:spPr>
                <a:xfrm flipV="1">
                  <a:off x="6127560" y="620280"/>
                  <a:ext cx="0" cy="1443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114"/>
              <p:cNvGrpSpPr/>
              <p:nvPr/>
            </p:nvGrpSpPr>
            <p:grpSpPr>
              <a:xfrm>
                <a:off x="6387120" y="622080"/>
                <a:ext cx="695520" cy="142560"/>
                <a:chOff x="6387120" y="622080"/>
                <a:chExt cx="695520" cy="142560"/>
              </a:xfrm>
            </p:grpSpPr>
            <p:grpSp>
              <p:nvGrpSpPr>
                <p:cNvPr id="536" name="Group 115"/>
                <p:cNvGrpSpPr/>
                <p:nvPr/>
              </p:nvGrpSpPr>
              <p:grpSpPr>
                <a:xfrm>
                  <a:off x="6387120" y="622080"/>
                  <a:ext cx="244080" cy="142560"/>
                  <a:chOff x="6387120" y="622080"/>
                  <a:chExt cx="244080" cy="142560"/>
                </a:xfrm>
              </p:grpSpPr>
              <p:sp>
                <p:nvSpPr>
                  <p:cNvPr id="537" name="Line 116"/>
                  <p:cNvSpPr/>
                  <p:nvPr/>
                </p:nvSpPr>
                <p:spPr>
                  <a:xfrm flipV="1">
                    <a:off x="638712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Line 117"/>
                  <p:cNvSpPr/>
                  <p:nvPr/>
                </p:nvSpPr>
                <p:spPr>
                  <a:xfrm flipV="1">
                    <a:off x="65088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" name="Line 118"/>
                  <p:cNvSpPr/>
                  <p:nvPr/>
                </p:nvSpPr>
                <p:spPr>
                  <a:xfrm flipV="1">
                    <a:off x="663120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0" name="Line 119"/>
                <p:cNvSpPr/>
                <p:nvPr/>
              </p:nvSpPr>
              <p:spPr>
                <a:xfrm flipV="1">
                  <a:off x="683820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Line 120"/>
                <p:cNvSpPr/>
                <p:nvPr/>
              </p:nvSpPr>
              <p:spPr>
                <a:xfrm flipV="1">
                  <a:off x="69598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Line 121"/>
                <p:cNvSpPr/>
                <p:nvPr/>
              </p:nvSpPr>
              <p:spPr>
                <a:xfrm flipV="1">
                  <a:off x="70826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Group 122"/>
              <p:cNvGrpSpPr/>
              <p:nvPr/>
            </p:nvGrpSpPr>
            <p:grpSpPr>
              <a:xfrm>
                <a:off x="7322760" y="622080"/>
                <a:ext cx="695520" cy="142560"/>
                <a:chOff x="7322760" y="622080"/>
                <a:chExt cx="695520" cy="142560"/>
              </a:xfrm>
            </p:grpSpPr>
            <p:grpSp>
              <p:nvGrpSpPr>
                <p:cNvPr id="544" name="Group 123"/>
                <p:cNvGrpSpPr/>
                <p:nvPr/>
              </p:nvGrpSpPr>
              <p:grpSpPr>
                <a:xfrm>
                  <a:off x="7322760" y="622080"/>
                  <a:ext cx="244080" cy="142560"/>
                  <a:chOff x="7322760" y="622080"/>
                  <a:chExt cx="244080" cy="142560"/>
                </a:xfrm>
              </p:grpSpPr>
              <p:sp>
                <p:nvSpPr>
                  <p:cNvPr id="545" name="Line 124"/>
                  <p:cNvSpPr/>
                  <p:nvPr/>
                </p:nvSpPr>
                <p:spPr>
                  <a:xfrm flipV="1">
                    <a:off x="732276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Line 125"/>
                  <p:cNvSpPr/>
                  <p:nvPr/>
                </p:nvSpPr>
                <p:spPr>
                  <a:xfrm flipV="1">
                    <a:off x="74444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Line 126"/>
                  <p:cNvSpPr/>
                  <p:nvPr/>
                </p:nvSpPr>
                <p:spPr>
                  <a:xfrm flipV="1">
                    <a:off x="7566840" y="622080"/>
                    <a:ext cx="0" cy="142560"/>
                  </a:xfrm>
                  <a:prstGeom prst="line">
                    <a:avLst/>
                  </a:prstGeom>
                  <a:ln w="381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8" name="Line 127"/>
                <p:cNvSpPr/>
                <p:nvPr/>
              </p:nvSpPr>
              <p:spPr>
                <a:xfrm flipV="1">
                  <a:off x="777384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Line 128"/>
                <p:cNvSpPr/>
                <p:nvPr/>
              </p:nvSpPr>
              <p:spPr>
                <a:xfrm flipV="1">
                  <a:off x="789552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Line 129"/>
                <p:cNvSpPr/>
                <p:nvPr/>
              </p:nvSpPr>
              <p:spPr>
                <a:xfrm flipV="1">
                  <a:off x="8018280" y="622080"/>
                  <a:ext cx="0" cy="142560"/>
                </a:xfrm>
                <a:prstGeom prst="line">
                  <a:avLst/>
                </a:prstGeom>
                <a:ln w="381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51" name="Group 130"/>
          <p:cNvGrpSpPr/>
          <p:nvPr/>
        </p:nvGrpSpPr>
        <p:grpSpPr>
          <a:xfrm>
            <a:off x="612720" y="3862440"/>
            <a:ext cx="2806920" cy="775080"/>
            <a:chOff x="612720" y="3862440"/>
            <a:chExt cx="2806920" cy="775080"/>
          </a:xfrm>
        </p:grpSpPr>
        <p:sp>
          <p:nvSpPr>
            <p:cNvPr id="552" name="Rectangle 131"/>
            <p:cNvSpPr/>
            <p:nvPr/>
          </p:nvSpPr>
          <p:spPr>
            <a:xfrm>
              <a:off x="1332000" y="3933720"/>
              <a:ext cx="2087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2B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1" lang="zh-CN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IF-6</a:t>
              </a:r>
              <a:r>
                <a:rPr b="1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Line 132"/>
            <p:cNvSpPr/>
            <p:nvPr/>
          </p:nvSpPr>
          <p:spPr>
            <a:xfrm>
              <a:off x="1260360" y="3862440"/>
              <a:ext cx="0" cy="69840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33"/>
            <p:cNvSpPr/>
            <p:nvPr/>
          </p:nvSpPr>
          <p:spPr>
            <a:xfrm>
              <a:off x="612720" y="4006800"/>
              <a:ext cx="647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①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Group 134"/>
          <p:cNvGrpSpPr/>
          <p:nvPr/>
        </p:nvGrpSpPr>
        <p:grpSpPr>
          <a:xfrm>
            <a:off x="2124000" y="549360"/>
            <a:ext cx="1306440" cy="961560"/>
            <a:chOff x="2124000" y="549360"/>
            <a:chExt cx="1306440" cy="961560"/>
          </a:xfrm>
        </p:grpSpPr>
        <p:sp>
          <p:nvSpPr>
            <p:cNvPr id="556" name="Line 135"/>
            <p:cNvSpPr/>
            <p:nvPr/>
          </p:nvSpPr>
          <p:spPr>
            <a:xfrm>
              <a:off x="2124000" y="981000"/>
              <a:ext cx="130644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36"/>
            <p:cNvSpPr/>
            <p:nvPr/>
          </p:nvSpPr>
          <p:spPr>
            <a:xfrm>
              <a:off x="2268360" y="549360"/>
              <a:ext cx="10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37"/>
            <p:cNvSpPr/>
            <p:nvPr/>
          </p:nvSpPr>
          <p:spPr>
            <a:xfrm>
              <a:off x="2556000" y="1052640"/>
              <a:ext cx="720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38"/>
          <p:cNvGrpSpPr/>
          <p:nvPr/>
        </p:nvGrpSpPr>
        <p:grpSpPr>
          <a:xfrm>
            <a:off x="2842920" y="3429000"/>
            <a:ext cx="4969080" cy="1511280"/>
            <a:chOff x="2842920" y="3429000"/>
            <a:chExt cx="4969080" cy="1511280"/>
          </a:xfrm>
        </p:grpSpPr>
        <p:sp>
          <p:nvSpPr>
            <p:cNvPr id="560" name="Line 139"/>
            <p:cNvSpPr/>
            <p:nvPr/>
          </p:nvSpPr>
          <p:spPr>
            <a:xfrm>
              <a:off x="5794200" y="3571920"/>
              <a:ext cx="0" cy="136836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1" name="AutoShape 140"/>
            <p:cNvCxnSpPr/>
            <p:nvPr/>
          </p:nvCxnSpPr>
          <p:spPr>
            <a:xfrm>
              <a:off x="2842920" y="3429000"/>
              <a:ext cx="2873880" cy="720000"/>
            </a:xfrm>
            <a:prstGeom prst="curvedConnector5">
              <a:avLst>
                <a:gd name="adj1" fmla="val 50000"/>
                <a:gd name="adj2" fmla="val 49974"/>
                <a:gd name="adj3" fmla="val 50000"/>
              </a:avLst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</p:cxnSp>
        <p:sp>
          <p:nvSpPr>
            <p:cNvPr id="562" name="Line 141"/>
            <p:cNvSpPr/>
            <p:nvPr/>
          </p:nvSpPr>
          <p:spPr>
            <a:xfrm>
              <a:off x="5794200" y="4508640"/>
              <a:ext cx="387360" cy="712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2"/>
            <p:cNvSpPr/>
            <p:nvPr/>
          </p:nvSpPr>
          <p:spPr>
            <a:xfrm>
              <a:off x="6182280" y="4361040"/>
              <a:ext cx="112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3"/>
            <p:cNvSpPr/>
            <p:nvPr/>
          </p:nvSpPr>
          <p:spPr>
            <a:xfrm>
              <a:off x="6029280" y="3932280"/>
              <a:ext cx="178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各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释放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4"/>
            <p:cNvSpPr/>
            <p:nvPr/>
          </p:nvSpPr>
          <p:spPr>
            <a:xfrm>
              <a:off x="3851280" y="3862440"/>
              <a:ext cx="90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-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45"/>
            <p:cNvSpPr/>
            <p:nvPr/>
          </p:nvSpPr>
          <p:spPr>
            <a:xfrm>
              <a:off x="4940280" y="4148280"/>
              <a:ext cx="622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④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46"/>
          <p:cNvGrpSpPr/>
          <p:nvPr/>
        </p:nvGrpSpPr>
        <p:grpSpPr>
          <a:xfrm>
            <a:off x="5148360" y="1052640"/>
            <a:ext cx="3744720" cy="1479960"/>
            <a:chOff x="5148360" y="1052640"/>
            <a:chExt cx="3744720" cy="1479960"/>
          </a:xfrm>
        </p:grpSpPr>
        <p:sp>
          <p:nvSpPr>
            <p:cNvPr id="568" name="Line 147"/>
            <p:cNvSpPr/>
            <p:nvPr/>
          </p:nvSpPr>
          <p:spPr>
            <a:xfrm>
              <a:off x="5797440" y="1197000"/>
              <a:ext cx="0" cy="1297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Arc 148"/>
            <p:cNvSpPr/>
            <p:nvPr/>
          </p:nvSpPr>
          <p:spPr>
            <a:xfrm flipH="1">
              <a:off x="5809680" y="1268280"/>
              <a:ext cx="439560" cy="108108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fill="none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</a:path>
                <a:path stroke="0" w="21600" h="42820">
                  <a:moveTo>
                    <a:pt x="3022" y="-1"/>
                  </a:moveTo>
                  <a:cubicBezTo>
                    <a:pt x="13677" y="1505"/>
                    <a:pt x="21600" y="10625"/>
                    <a:pt x="21600" y="21387"/>
                  </a:cubicBezTo>
                  <a:cubicBezTo>
                    <a:pt x="21600" y="32278"/>
                    <a:pt x="13490" y="41466"/>
                    <a:pt x="2682" y="42819"/>
                  </a:cubicBezTo>
                  <a:lnTo>
                    <a:pt x="0" y="21387"/>
                  </a:lnTo>
                  <a:lnTo>
                    <a:pt x="3022" y="-1"/>
                  </a:lnTo>
                  <a:close/>
                </a:path>
              </a:pathLst>
            </a:custGeom>
            <a:noFill/>
            <a:ln w="38160">
              <a:solidFill>
                <a:srgbClr val="4d4d4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149"/>
            <p:cNvSpPr/>
            <p:nvPr/>
          </p:nvSpPr>
          <p:spPr>
            <a:xfrm>
              <a:off x="6156360" y="1052640"/>
              <a:ext cx="86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150"/>
            <p:cNvSpPr/>
            <p:nvPr/>
          </p:nvSpPr>
          <p:spPr>
            <a:xfrm>
              <a:off x="6156360" y="213372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Arial"/>
                </a:rPr>
                <a:t>ADP+Pi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51"/>
            <p:cNvSpPr/>
            <p:nvPr/>
          </p:nvSpPr>
          <p:spPr>
            <a:xfrm>
              <a:off x="6372360" y="1413000"/>
              <a:ext cx="252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lF4E, elF4G, elF4A, elF4B,PA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Text Box 152"/>
            <p:cNvSpPr/>
            <p:nvPr/>
          </p:nvSpPr>
          <p:spPr>
            <a:xfrm>
              <a:off x="5148360" y="1521000"/>
              <a:ext cx="576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华文中宋"/>
                </a:rPr>
                <a:t>③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 Box 153"/>
          <p:cNvSpPr/>
          <p:nvPr/>
        </p:nvSpPr>
        <p:spPr>
          <a:xfrm>
            <a:off x="5724360" y="5589720"/>
            <a:ext cx="3168720" cy="9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真核生物翻译起始复合物形成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Group 154"/>
          <p:cNvGrpSpPr/>
          <p:nvPr/>
        </p:nvGrpSpPr>
        <p:grpSpPr>
          <a:xfrm>
            <a:off x="1114560" y="1123920"/>
            <a:ext cx="3744720" cy="1446840"/>
            <a:chOff x="1114560" y="1123920"/>
            <a:chExt cx="3744720" cy="1446840"/>
          </a:xfrm>
        </p:grpSpPr>
        <p:sp>
          <p:nvSpPr>
            <p:cNvPr id="576" name="Text Box 155"/>
            <p:cNvSpPr/>
            <p:nvPr/>
          </p:nvSpPr>
          <p:spPr>
            <a:xfrm>
              <a:off x="1114560" y="2060640"/>
              <a:ext cx="3744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t-tRNA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Met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elF-2</a:t>
              </a:r>
              <a:r>
                <a:rPr b="1" lang="en-US" sz="2400" spc="-1" strike="noStrike">
                  <a:solidFill>
                    <a:srgbClr val="ccff99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GTP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156"/>
            <p:cNvGrpSpPr/>
            <p:nvPr/>
          </p:nvGrpSpPr>
          <p:grpSpPr>
            <a:xfrm>
              <a:off x="2123280" y="1123920"/>
              <a:ext cx="706680" cy="975600"/>
              <a:chOff x="2123280" y="1123920"/>
              <a:chExt cx="706680" cy="975600"/>
            </a:xfrm>
          </p:grpSpPr>
          <p:grpSp>
            <p:nvGrpSpPr>
              <p:cNvPr id="578" name="Group 157"/>
              <p:cNvGrpSpPr/>
              <p:nvPr/>
            </p:nvGrpSpPr>
            <p:grpSpPr>
              <a:xfrm>
                <a:off x="2290320" y="1123920"/>
                <a:ext cx="224280" cy="688320"/>
                <a:chOff x="2290320" y="1123920"/>
                <a:chExt cx="224280" cy="688320"/>
              </a:xfrm>
            </p:grpSpPr>
            <p:sp>
              <p:nvSpPr>
                <p:cNvPr id="579" name="Arc 158"/>
                <p:cNvSpPr/>
                <p:nvPr/>
              </p:nvSpPr>
              <p:spPr>
                <a:xfrm flipH="1">
                  <a:off x="2289960" y="1123920"/>
                  <a:ext cx="224280" cy="255600"/>
                </a:xfrm>
                <a:custGeom>
                  <a:avLst/>
                  <a:gdLst>
                    <a:gd name="textAreaLeft" fmla="*/ -360 w 224280"/>
                    <a:gd name="textAreaRight" fmla="*/ 224280 w 224280"/>
                    <a:gd name="textAreaTop" fmla="*/ 0 h 255600"/>
                    <a:gd name="textAreaBottom" fmla="*/ 255960 h 255600"/>
                  </a:gdLst>
                  <a:ahLst/>
                  <a:rect l="textAreaLeft" t="textAreaTop" r="textAreaRight" b="textAreaBottom"/>
                  <a:pathLst>
                    <a:path fill="none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</a:path>
                    <a:path stroke="0" w="42374" h="42981">
                      <a:moveTo>
                        <a:pt x="-1" y="15683"/>
                      </a:moveTo>
                      <a:cubicBezTo>
                        <a:pt x="2643" y="6402"/>
                        <a:pt x="11123" y="-1"/>
                        <a:pt x="20774" y="0"/>
                      </a:cubicBezTo>
                      <a:cubicBezTo>
                        <a:pt x="32703" y="0"/>
                        <a:pt x="42374" y="9670"/>
                        <a:pt x="42374" y="21600"/>
                      </a:cubicBezTo>
                      <a:cubicBezTo>
                        <a:pt x="42374" y="32344"/>
                        <a:pt x="34476" y="41455"/>
                        <a:pt x="23841" y="42981"/>
                      </a:cubicBezTo>
                      <a:lnTo>
                        <a:pt x="20774" y="21600"/>
                      </a:lnTo>
                      <a:lnTo>
                        <a:pt x="-1" y="15683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33cc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159"/>
                <p:cNvSpPr/>
                <p:nvPr/>
              </p:nvSpPr>
              <p:spPr>
                <a:xfrm>
                  <a:off x="2379960" y="1382040"/>
                  <a:ext cx="0" cy="430200"/>
                </a:xfrm>
                <a:prstGeom prst="line">
                  <a:avLst/>
                </a:prstGeom>
                <a:ln w="3816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Rectangle 160"/>
              <p:cNvSpPr/>
              <p:nvPr/>
            </p:nvSpPr>
            <p:spPr>
              <a:xfrm>
                <a:off x="2123280" y="1639800"/>
                <a:ext cx="706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e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Group 161"/>
          <p:cNvGrpSpPr/>
          <p:nvPr/>
        </p:nvGrpSpPr>
        <p:grpSpPr>
          <a:xfrm>
            <a:off x="539640" y="2565360"/>
            <a:ext cx="1600200" cy="1226880"/>
            <a:chOff x="539640" y="2565360"/>
            <a:chExt cx="1600200" cy="1226880"/>
          </a:xfrm>
        </p:grpSpPr>
        <p:sp>
          <p:nvSpPr>
            <p:cNvPr id="583" name="Arc 162"/>
            <p:cNvSpPr/>
            <p:nvPr/>
          </p:nvSpPr>
          <p:spPr>
            <a:xfrm flipV="1">
              <a:off x="539640" y="2565360"/>
              <a:ext cx="1600200" cy="122688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360 h 1226880"/>
                <a:gd name="textAreaBottom" fmla="*/ 1227600 h 1226880"/>
              </a:gdLst>
              <a:ahLst/>
              <a:rect l="textAreaLeft" t="textAreaTop" r="textAreaRight" b="textAreaBottom"/>
              <a:pathLst>
                <a:path fill="none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</a:path>
                <a:path stroke="0" w="43200" h="36380">
                  <a:moveTo>
                    <a:pt x="5090" y="-30009"/>
                  </a:moveTo>
                  <a:cubicBezTo>
                    <a:pt x="1803" y="31631"/>
                    <a:pt x="0" y="26697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27090"/>
                    <a:pt x="-24428" y="32375"/>
                    <a:pt x="-28185" y="-29157"/>
                  </a:cubicBezTo>
                  <a:lnTo>
                    <a:pt x="21600" y="21600"/>
                  </a:lnTo>
                  <a:lnTo>
                    <a:pt x="5090" y="-30009"/>
                  </a:lnTo>
                  <a:close/>
                </a:path>
              </a:pathLst>
            </a:custGeom>
            <a:solidFill>
              <a:srgbClr val="f38f94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163"/>
            <p:cNvSpPr/>
            <p:nvPr/>
          </p:nvSpPr>
          <p:spPr>
            <a:xfrm rot="10800000">
              <a:off x="691560" y="2585880"/>
              <a:ext cx="1258920" cy="533520"/>
            </a:xfrm>
            <a:prstGeom prst="triangle">
              <a:avLst>
                <a:gd name="adj" fmla="val 53468"/>
              </a:avLst>
            </a:prstGeom>
            <a:solidFill>
              <a:srgbClr val="f3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164"/>
            <p:cNvSpPr/>
            <p:nvPr/>
          </p:nvSpPr>
          <p:spPr>
            <a:xfrm>
              <a:off x="726840" y="258588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Text Box 165"/>
            <p:cNvSpPr/>
            <p:nvPr/>
          </p:nvSpPr>
          <p:spPr>
            <a:xfrm>
              <a:off x="964440" y="2984400"/>
              <a:ext cx="72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0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2"/>
          <p:cNvSpPr/>
          <p:nvPr/>
        </p:nvSpPr>
        <p:spPr>
          <a:xfrm>
            <a:off x="395280" y="1268280"/>
            <a:ext cx="8353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2228b"/>
                </a:solidFill>
                <a:latin typeface="Arial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肽链延长是在核糖体上连续发生的循环过程，每次循环增加一个氨基酸，分为以下三步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进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entrance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成肽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peptide bond form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7600" indent="-422280">
              <a:lnSpc>
                <a:spcPct val="120000"/>
              </a:lnSpc>
              <a:spcBef>
                <a:spcPts val="2001"/>
              </a:spcBef>
              <a:buClr>
                <a:srgbClr val="f50f1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  <a:ea typeface="黑体"/>
              </a:rPr>
              <a:t>转位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translocation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"/>
          <p:cNvSpPr/>
          <p:nvPr/>
        </p:nvSpPr>
        <p:spPr>
          <a:xfrm>
            <a:off x="468360" y="260280"/>
            <a:ext cx="446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肽链合成的延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116000" y="6206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324000" y="2476800"/>
            <a:ext cx="35272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指根据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下一组遗传密码指导，使相应氨基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进入核糖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位。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Picture 4" descr="进位"/>
          <p:cNvPicPr/>
          <p:nvPr/>
        </p:nvPicPr>
        <p:blipFill>
          <a:blip r:embed="rId1"/>
          <a:stretch/>
        </p:blipFill>
        <p:spPr>
          <a:xfrm>
            <a:off x="4140360" y="260280"/>
            <a:ext cx="4771800" cy="6381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延长因子"/>
          <p:cNvPicPr/>
          <p:nvPr/>
        </p:nvPicPr>
        <p:blipFill>
          <a:blip r:embed="rId1"/>
          <a:stretch/>
        </p:blipFill>
        <p:spPr>
          <a:xfrm>
            <a:off x="3419640" y="304920"/>
            <a:ext cx="5113080" cy="65530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3"/>
          <p:cNvSpPr/>
          <p:nvPr/>
        </p:nvSpPr>
        <p:spPr>
          <a:xfrm>
            <a:off x="250920" y="2223720"/>
            <a:ext cx="28083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延长因子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EF-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进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（原核生物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大亚基(有E位)"/>
          <p:cNvPicPr/>
          <p:nvPr/>
        </p:nvPicPr>
        <p:blipFill>
          <a:blip r:embed="rId1"/>
          <a:stretch/>
        </p:blipFill>
        <p:spPr>
          <a:xfrm>
            <a:off x="1187280" y="2205000"/>
            <a:ext cx="3600720" cy="2417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小亚基2"/>
          <p:cNvPicPr/>
          <p:nvPr/>
        </p:nvPicPr>
        <p:blipFill>
          <a:blip r:embed="rId2"/>
          <a:stretch/>
        </p:blipFill>
        <p:spPr>
          <a:xfrm>
            <a:off x="1312920" y="4365720"/>
            <a:ext cx="3672000" cy="1243080"/>
          </a:xfrm>
          <a:prstGeom prst="rect">
            <a:avLst/>
          </a:prstGeom>
          <a:ln w="0">
            <a:noFill/>
          </a:ln>
        </p:spPr>
      </p:pic>
      <p:sp>
        <p:nvSpPr>
          <p:cNvPr id="597" name="Oval 4"/>
          <p:cNvSpPr/>
          <p:nvPr/>
        </p:nvSpPr>
        <p:spPr>
          <a:xfrm>
            <a:off x="6154560" y="162864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5"/>
          <p:cNvSpPr/>
          <p:nvPr/>
        </p:nvSpPr>
        <p:spPr>
          <a:xfrm>
            <a:off x="6659640" y="1628640"/>
            <a:ext cx="503280" cy="47016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6"/>
          <p:cNvSpPr/>
          <p:nvPr/>
        </p:nvSpPr>
        <p:spPr>
          <a:xfrm>
            <a:off x="6696000" y="1593720"/>
            <a:ext cx="1656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7"/>
          <p:cNvSpPr/>
          <p:nvPr/>
        </p:nvSpPr>
        <p:spPr>
          <a:xfrm>
            <a:off x="6659640" y="184464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4641840" y="3500280"/>
            <a:ext cx="165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Times New Roman"/>
              </a:rPr>
              <a:t>GD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Picture 9" descr="起始tRNA"/>
          <p:cNvPicPr/>
          <p:nvPr/>
        </p:nvPicPr>
        <p:blipFill>
          <a:blip r:embed="rId3"/>
          <a:stretch/>
        </p:blipFill>
        <p:spPr>
          <a:xfrm>
            <a:off x="2949480" y="2914560"/>
            <a:ext cx="900360" cy="1298520"/>
          </a:xfrm>
          <a:prstGeom prst="rect">
            <a:avLst/>
          </a:prstGeom>
          <a:ln w="0">
            <a:noFill/>
          </a:ln>
        </p:spPr>
      </p:pic>
      <p:grpSp>
        <p:nvGrpSpPr>
          <p:cNvPr id="603" name="Group 10"/>
          <p:cNvGrpSpPr/>
          <p:nvPr/>
        </p:nvGrpSpPr>
        <p:grpSpPr>
          <a:xfrm>
            <a:off x="2987640" y="4221000"/>
            <a:ext cx="579600" cy="82800"/>
            <a:chOff x="2987640" y="4221000"/>
            <a:chExt cx="579600" cy="82800"/>
          </a:xfrm>
        </p:grpSpPr>
        <p:sp>
          <p:nvSpPr>
            <p:cNvPr id="604" name="Line 11"/>
            <p:cNvSpPr/>
            <p:nvPr/>
          </p:nvSpPr>
          <p:spPr>
            <a:xfrm>
              <a:off x="298764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Line 12"/>
            <p:cNvSpPr/>
            <p:nvPr/>
          </p:nvSpPr>
          <p:spPr>
            <a:xfrm>
              <a:off x="298764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Line 13"/>
            <p:cNvSpPr/>
            <p:nvPr/>
          </p:nvSpPr>
          <p:spPr>
            <a:xfrm>
              <a:off x="32068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206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342288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342288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17"/>
            <p:cNvSpPr/>
            <p:nvPr/>
          </p:nvSpPr>
          <p:spPr>
            <a:xfrm>
              <a:off x="34228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Line 18"/>
          <p:cNvSpPr/>
          <p:nvPr/>
        </p:nvSpPr>
        <p:spPr>
          <a:xfrm>
            <a:off x="3840120" y="3608280"/>
            <a:ext cx="7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19"/>
          <p:cNvGrpSpPr/>
          <p:nvPr/>
        </p:nvGrpSpPr>
        <p:grpSpPr>
          <a:xfrm>
            <a:off x="791640" y="4292640"/>
            <a:ext cx="5391720" cy="368280"/>
            <a:chOff x="791640" y="4292640"/>
            <a:chExt cx="5391720" cy="368280"/>
          </a:xfrm>
        </p:grpSpPr>
        <p:sp>
          <p:nvSpPr>
            <p:cNvPr id="613" name="Rectangle 20"/>
            <p:cNvSpPr/>
            <p:nvPr/>
          </p:nvSpPr>
          <p:spPr>
            <a:xfrm>
              <a:off x="1077840" y="4365720"/>
              <a:ext cx="4753080" cy="2160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21"/>
            <p:cNvSpPr/>
            <p:nvPr/>
          </p:nvSpPr>
          <p:spPr>
            <a:xfrm>
              <a:off x="2950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22"/>
            <p:cNvSpPr/>
            <p:nvPr/>
          </p:nvSpPr>
          <p:spPr>
            <a:xfrm>
              <a:off x="316692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23"/>
            <p:cNvSpPr/>
            <p:nvPr/>
          </p:nvSpPr>
          <p:spPr>
            <a:xfrm>
              <a:off x="3382920" y="4365720"/>
              <a:ext cx="21564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24"/>
            <p:cNvSpPr/>
            <p:nvPr/>
          </p:nvSpPr>
          <p:spPr>
            <a:xfrm>
              <a:off x="3598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25"/>
            <p:cNvSpPr/>
            <p:nvPr/>
          </p:nvSpPr>
          <p:spPr>
            <a:xfrm>
              <a:off x="3814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26"/>
            <p:cNvSpPr/>
            <p:nvPr/>
          </p:nvSpPr>
          <p:spPr>
            <a:xfrm>
              <a:off x="4030560" y="4365720"/>
              <a:ext cx="216000" cy="216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7"/>
            <p:cNvSpPr/>
            <p:nvPr/>
          </p:nvSpPr>
          <p:spPr>
            <a:xfrm>
              <a:off x="79164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Text Box 28"/>
            <p:cNvSpPr/>
            <p:nvPr/>
          </p:nvSpPr>
          <p:spPr>
            <a:xfrm>
              <a:off x="5832000" y="429264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8080"/>
                  </a:solidFill>
                  <a:latin typeface="Arial"/>
                </a:rPr>
                <a:t>3</a:t>
              </a:r>
              <a:r>
                <a:rPr b="0" lang="en-US" sz="1800" spc="-1" strike="noStrike">
                  <a:solidFill>
                    <a:srgbClr val="80808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22" name="Picture 29" descr="另一个tRNA"/>
          <p:cNvPicPr/>
          <p:nvPr/>
        </p:nvPicPr>
        <p:blipFill>
          <a:blip r:embed="rId4"/>
          <a:stretch/>
        </p:blipFill>
        <p:spPr>
          <a:xfrm>
            <a:off x="5651640" y="105264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30"/>
          <p:cNvGrpSpPr/>
          <p:nvPr/>
        </p:nvGrpSpPr>
        <p:grpSpPr>
          <a:xfrm>
            <a:off x="3635280" y="4221000"/>
            <a:ext cx="579600" cy="82800"/>
            <a:chOff x="3635280" y="4221000"/>
            <a:chExt cx="579600" cy="82800"/>
          </a:xfrm>
        </p:grpSpPr>
        <p:sp>
          <p:nvSpPr>
            <p:cNvPr id="624" name="Line 31"/>
            <p:cNvSpPr/>
            <p:nvPr/>
          </p:nvSpPr>
          <p:spPr>
            <a:xfrm>
              <a:off x="363528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Line 32"/>
            <p:cNvSpPr/>
            <p:nvPr/>
          </p:nvSpPr>
          <p:spPr>
            <a:xfrm>
              <a:off x="363528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33"/>
            <p:cNvSpPr/>
            <p:nvPr/>
          </p:nvSpPr>
          <p:spPr>
            <a:xfrm>
              <a:off x="38545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34"/>
            <p:cNvSpPr/>
            <p:nvPr/>
          </p:nvSpPr>
          <p:spPr>
            <a:xfrm>
              <a:off x="3854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35"/>
            <p:cNvSpPr/>
            <p:nvPr/>
          </p:nvSpPr>
          <p:spPr>
            <a:xfrm>
              <a:off x="407052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36"/>
            <p:cNvSpPr/>
            <p:nvPr/>
          </p:nvSpPr>
          <p:spPr>
            <a:xfrm>
              <a:off x="407052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37"/>
            <p:cNvSpPr/>
            <p:nvPr/>
          </p:nvSpPr>
          <p:spPr>
            <a:xfrm>
              <a:off x="40705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Oval 38"/>
          <p:cNvSpPr/>
          <p:nvPr/>
        </p:nvSpPr>
        <p:spPr>
          <a:xfrm>
            <a:off x="4102200" y="3500280"/>
            <a:ext cx="503280" cy="4701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9"/>
          <p:cNvSpPr/>
          <p:nvPr/>
        </p:nvSpPr>
        <p:spPr>
          <a:xfrm>
            <a:off x="4610160" y="3716280"/>
            <a:ext cx="14436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Oval 40"/>
          <p:cNvSpPr/>
          <p:nvPr/>
        </p:nvSpPr>
        <p:spPr>
          <a:xfrm>
            <a:off x="7993080" y="2889360"/>
            <a:ext cx="503280" cy="4698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451640" y="3573360"/>
            <a:ext cx="100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GT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1042920" y="62064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进位的反应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43"/>
          <p:cNvSpPr/>
          <p:nvPr/>
        </p:nvSpPr>
        <p:spPr>
          <a:xfrm>
            <a:off x="1692360" y="5734080"/>
            <a:ext cx="51116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此过程消耗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个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GTP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91329E-006 C 0.00365 0.00092 0.00781 0.00208 0.01163 0.003 C 0.01371 0.00369 0.01771 0.00439 0.01771 0.00416 C 0.03003 0.01132 0.04392 0.01572 0.05694 0.0215 C 0.06719 0.02612 0.075 0.0319 0.08455 0.03699 C 0.0875 0.043 0.09236 0.0467 0.09635 0.05225 C 0.10868 0.0689 0.11823 0.08693 0.13177 0.10312 C 0.13246 0.1045 0.13316 0.10635 0.13385 0.10774 C 0.13437 0.10982 0.1349 0.11167 0.13576 0.11375 C 0.1368 0.11676 0.13958 0.123 0.13958 0.12277 C 0.14028 0.13942 0.1408 0.15583 0.14167 0.17248 C 0.14271 0.18427 0.14028 0.18196 0.14583 0.18612 E">
                                      <p:cBhvr>
                                        <p:cTn id="418" dur="20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4.91329E-006 C -0.05625 0.00485 -0.06371 0.01572 -0.07292 0.01965 C -0.07448 0.02104 -0.07621 0.02173 -0.0776 0.02358 C -0.07864 0.0252 -0.07864 0.02843 -0.08003 0.02982 C -0.08212 0.0319 -0.08698 0.03375 -0.08698 0.03398 C -0.08802 0.03491 -0.08924 0.03653 -0.09045 0.03768 C -0.09149 0.03861 -0.09288 0.03861 -0.09392 0.03953 C -0.09826 0.04416 -0.10174 0.05063 -0.10677 0.05364 C -0.1118 0.06242 -0.10608 0.05364 -0.11267 0.05965 C -0.11875 0.06543 -0.12257 0.07398 -0.12899 0.07745 C -0.13108 0.08 -0.13264 0.08369 -0.13489 0.08554 C -0.13698 0.08763 -0.14184 0.08947 -0.14184 0.08971 C -0.14878 0.1008 -0.13906 0.08647 -0.14774 0.09549 C -0.14861 0.09664 -0.14913 0.09849 -0.15 0.09965 C -0.15469 0.10612 -0.16094 0.11028 -0.16528 0.11745 C -0.17552 0.13502 -0.18698 0.14959 -0.19687 0.16739 C -0.19965 0.18196 -0.19549 0.16393 -0.20156 0.17919 C -0.20625 0.19121 -0.19826 0.18034 -0.20625 0.18936 C -0.21233 0.20508 -0.21007 0.19676 -0.21319 0.21317 C -0.21354 0.21526 -0.21441 0.21919 -0.21441 0.21942 C -0.21458 0.22219 -0.21476 0.23722 -0.21667 0.24323 C -0.22187 0.25872 -0.22239 0.25317 -0.22239 0.27121 E">
                                      <p:cBhvr>
                                        <p:cTn id="437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5.20231E-007 C -0.05625 0.00486 -0.06371 0.01572 -0.07292 0.01965 C -0.07448 0.02104 -0.07621 0.02173 -0.0776 0.02358 C -0.07864 0.0252 -0.07864 0.02844 -0.08003 0.02983 C -0.08212 0.03191 -0.08698 0.03376 -0.08698 0.03399 C -0.08802 0.03491 -0.08923 0.03653 -0.09045 0.03769 C -0.09149 0.03861 -0.09288 0.03861 -0.09392 0.03954 C -0.09826 0.04416 -0.10173 0.05064 -0.10677 0.05364 C -0.1118 0.06243 -0.10608 0.05364 -0.11267 0.05965 C -0.11875 0.06543 -0.12257 0.07399 -0.12899 0.07746 C -0.13108 0.08 -0.13264 0.0837 -0.13489 0.08555 C -0.13698 0.08763 -0.14184 0.08948 -0.14184 0.08971 C -0.14878 0.10081 -0.13906 0.08647 -0.14774 0.09549 C -0.14861 0.09665 -0.14913 0.0985 -0.15 0.09965 C -0.15469 0.10613 -0.16094 0.11029 -0.16528 0.11746 C -0.17552 0.13503 -0.18698 0.1496 -0.19687 0.1674 C -0.19965 0.18197 -0.19548 0.16393 -0.20156 0.17919 C -0.20625 0.19121 -0.19826 0.18035 -0.20625 0.18936 C -0.21233 0.20509 -0.21007 0.19676 -0.21319 0.21318 C -0.21354 0.21526 -0.21441 0.21919 -0.21441 0.21942 C -0.21458 0.2222 -0.21476 0.23723 -0.21667 0.24324 C -0.22187 0.25873 -0.22239 0.25318 -0.22239 0.27121 E">
                                      <p:cBhvr>
                                        <p:cTn id="43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05 -3.52601E-006 C -0.05625 0.00486 -0.06371 0.01573 -0.07291 0.01966 C -0.07448 0.02104 -0.07621 0.02174 -0.0776 0.02359 C -0.07864 0.02521 -0.07864 0.02844 -0.08003 0.02983 C -0.08211 0.03191 -0.08698 0.03376 -0.08698 0.03399 C -0.08802 0.03492 -0.08923 0.03654 -0.09045 0.03769 C -0.09149 0.03862 -0.09288 0.03862 -0.09392 0.03954 C -0.09826 0.04417 -0.10173 0.05064 -0.10677 0.05365 C -0.1118 0.06243 -0.10607 0.05365 -0.11267 0.05966 C -0.11875 0.06544 -0.12257 0.07399 -0.12899 0.07746 C -0.13107 0.08 -0.13264 0.0837 -0.13489 0.08555 C -0.13698 0.08763 -0.14184 0.08948 -0.14184 0.08971 C -0.14878 0.10081 -0.13906 0.08648 -0.14774 0.09549 C -0.14861 0.09665 -0.14913 0.0985 -0.15 0.09966 C -0.15468 0.10613 -0.16093 0.11029 -0.16527 0.11746 C -0.17552 0.13503 -0.18698 0.1496 -0.19687 0.1674 C -0.19965 0.18197 -0.19548 0.16393 -0.20156 0.17919 C -0.20625 0.19122 -0.19826 0.18035 -0.20625 0.18937 C -0.21232 0.20509 -0.21007 0.19677 -0.21319 0.21318 C -0.21354 0.21526 -0.21441 0.21919 -0.21441 0.21943 C -0.21458 0.2222 -0.21475 0.23723 -0.21666 0.24324 C -0.22187 0.25873 -0.22239 0.25318 -0.22239 0.27122 E">
                                      <p:cBhvr>
                                        <p:cTn id="441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53 -0.00162 C -0.05573 0.00324 -0.0632 0.0141 -0.0724 0.01803 C -0.07396 0.01942 -0.0757 0.02011 -0.07709 0.02196 C -0.07813 0.02358 -0.07813 0.02682 -0.07952 0.02821 C -0.0816 0.03029 -0.08646 0.03214 -0.08646 0.03237 C -0.0875 0.03329 -0.08872 0.03491 -0.08993 0.03607 C -0.09098 0.03699 -0.09236 0.03699 -0.09341 0.03792 C -0.09775 0.04254 -0.10122 0.04902 -0.10625 0.05202 C -0.11129 0.06081 -0.10556 0.05202 -0.11216 0.05803 C -0.11823 0.06381 -0.12205 0.07237 -0.12848 0.07584 C -0.13056 0.07838 -0.13212 0.08208 -0.13438 0.08393 C -0.13646 0.08601 -0.14132 0.08786 -0.14132 0.08809 C -0.14827 0.09919 -0.13854 0.08485 -0.14723 0.09387 C -0.14809 0.09503 -0.14861 0.09688 -0.14948 0.09803 C -0.15417 0.10451 -0.16042 0.10867 -0.16476 0.11584 C -0.175 0.13341 -0.18646 0.14798 -0.19636 0.16578 C -0.19914 0.18035 -0.19497 0.16231 -0.20104 0.17757 C -0.20573 0.18959 -0.19775 0.17873 -0.20573 0.18774 C -0.21181 0.20347 -0.20955 0.19514 -0.21268 0.21156 C -0.21302 0.21364 -0.21389 0.21757 -0.21389 0.2178 C -0.21407 0.22058 -0.21424 0.23561 -0.21615 0.24162 C -0.22136 0.25711 -0.22188 0.25156 -0.22188 0.26959 E">
                                      <p:cBhvr>
                                        <p:cTn id="443" dur="2000" fill="hold"/>
                                        <p:tgtEl>
                                          <p:spTgt spid="6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1" dur="25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69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1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22 0.00416 0.00157 0.00879 0.0033 0.01248 C 0.00573 0.0178 0.01007 0.02243 0.01285 0.02728 C 0.01372 0.0289 0.02032 0.04254 0.02223 0.04647 C 0.02639 0.05526 0.03577 0.06821 0.04132 0.07607 C 0.04184 0.07815 0.04167 0.08069 0.04289 0.08231 C 0.04653 0.08717 0.06164 0.10104 0.06667 0.10358 C 0.07327 0.11191 0.08073 0.11422 0.08889 0.11838 C 0.0941 0.12509 0.09011 0.12139 0.09844 0.12462 C 0.10157 0.12578 0.10799 0.12879 0.10799 0.12879 C 0.11198 0.12855 0.14584 0.12855 0.15886 0.12462 C 0.17518 0.11977 0.18768 0.1059 0.2033 0.09919 C 0.2165 0.0874 0.19983 0.1015 0.21285 0.09295 C 0.21771 0.08971 0.22101 0.08416 0.22552 0.08023 C 0.23195 0.06728 0.2408 0.05665 0.24775 0.04439 C 0.25365 0.03399 0.25677 0.02196 0.26354 0.01248 C 0.26407 0.0104 0.26424 0.00809 0.26511 0.00624 C 0.26598 0.00462 0.26771 0.00393 0.26841 0.00208 C 0.26927 -0.00023 0.27535 -0.01965 0.27622 -0.02335 C 0.27778 -0.06913 0.27778 -0.05295 0.27778 -0.07191 E">
                                      <p:cBhvr>
                                        <p:cTn id="473" dur="2000" fill="hold"/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254 C -0.00347 0.00369 -0.00746 0.00393 -0.01041 0.00624 C -0.01215 0.00763 -0.01354 0.00924 -0.01545 0.01017 C -0.02951 0.01757 -0.0467 0.02312 -0.0618 0.02589 C -0.06944 0.0252 -0.07691 0.0252 -0.0842 0.02381 C -0.08784 0.02312 -0.09444 0.01988 -0.09444 0.02011 E">
                                      <p:cBhvr>
                                        <p:cTn id="485" dur="20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1.38728E-006 C -0.01285 -0.00277 -0.01997 -0.00878 -0.03247 -0.0111 C -0.04219 -0.01526 -0.04931 -0.02011 -0.05886 -0.02404 C -0.06111 -0.02821 -0.06233 -0.03329 -0.07066 -0.03329 E">
                                      <p:cBhvr>
                                        <p:cTn id="487" dur="20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8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成肽"/>
          <p:cNvPicPr/>
          <p:nvPr/>
        </p:nvPicPr>
        <p:blipFill>
          <a:blip r:embed="rId1"/>
          <a:srcRect l="0" t="1496" r="0" b="62508"/>
          <a:stretch/>
        </p:blipFill>
        <p:spPr>
          <a:xfrm>
            <a:off x="250920" y="1628640"/>
            <a:ext cx="8569080" cy="187164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2212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成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0" y="764280"/>
            <a:ext cx="741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是由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  <a:ea typeface="黑体"/>
              </a:rPr>
              <a:t>转肽酶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催化的肽键形成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5" descr="成肽"/>
          <p:cNvPicPr/>
          <p:nvPr/>
        </p:nvPicPr>
        <p:blipFill>
          <a:blip r:embed="rId2"/>
          <a:srcRect l="0" t="42216" r="0" b="3739"/>
          <a:stretch/>
        </p:blipFill>
        <p:spPr>
          <a:xfrm>
            <a:off x="250920" y="3429000"/>
            <a:ext cx="8569080" cy="3002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07280" cy="46083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蛋白质生物合成体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Protein Biosynthesis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29800" y="611280"/>
            <a:ext cx="285588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ccffff"/>
                </a:solidFill>
                <a:latin typeface="Times New Roman"/>
              </a:rPr>
              <a:t>转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80520" y="871200"/>
            <a:ext cx="845820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延长因子有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转位酶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活性，促进核糖体向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端移动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转位"/>
          <p:cNvPicPr/>
          <p:nvPr/>
        </p:nvPicPr>
        <p:blipFill>
          <a:blip r:embed="rId1"/>
          <a:stretch/>
        </p:blipFill>
        <p:spPr>
          <a:xfrm>
            <a:off x="684360" y="1957320"/>
            <a:ext cx="7775280" cy="465156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250920" y="189000"/>
            <a:ext cx="2212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大亚基(有E位)"/>
          <p:cNvPicPr/>
          <p:nvPr/>
        </p:nvPicPr>
        <p:blipFill>
          <a:blip r:embed="rId1"/>
          <a:stretch/>
        </p:blipFill>
        <p:spPr>
          <a:xfrm>
            <a:off x="1979640" y="220500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小亚基2"/>
          <p:cNvPicPr/>
          <p:nvPr/>
        </p:nvPicPr>
        <p:blipFill>
          <a:blip r:embed="rId2"/>
          <a:stretch/>
        </p:blipFill>
        <p:spPr>
          <a:xfrm>
            <a:off x="2070000" y="4365720"/>
            <a:ext cx="3672000" cy="12430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4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3706920" y="3159000"/>
            <a:ext cx="685800" cy="10414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5" descr="另一个tRNA"/>
          <p:cNvPicPr/>
          <p:nvPr/>
        </p:nvPicPr>
        <p:blipFill>
          <a:blip r:embed="rId4"/>
          <a:stretch/>
        </p:blipFill>
        <p:spPr>
          <a:xfrm>
            <a:off x="4354560" y="2889360"/>
            <a:ext cx="888840" cy="1317600"/>
          </a:xfrm>
          <a:prstGeom prst="rect">
            <a:avLst/>
          </a:prstGeom>
          <a:ln w="0">
            <a:noFill/>
          </a:ln>
        </p:spPr>
      </p:pic>
      <p:grpSp>
        <p:nvGrpSpPr>
          <p:cNvPr id="649" name="Group 6"/>
          <p:cNvGrpSpPr/>
          <p:nvPr/>
        </p:nvGrpSpPr>
        <p:grpSpPr>
          <a:xfrm>
            <a:off x="3745080" y="4221000"/>
            <a:ext cx="578880" cy="82800"/>
            <a:chOff x="3745080" y="4221000"/>
            <a:chExt cx="578880" cy="82800"/>
          </a:xfrm>
        </p:grpSpPr>
        <p:sp>
          <p:nvSpPr>
            <p:cNvPr id="650" name="Line 7"/>
            <p:cNvSpPr/>
            <p:nvPr/>
          </p:nvSpPr>
          <p:spPr>
            <a:xfrm>
              <a:off x="374508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>
              <a:off x="374508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9"/>
            <p:cNvSpPr/>
            <p:nvPr/>
          </p:nvSpPr>
          <p:spPr>
            <a:xfrm>
              <a:off x="396396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0"/>
            <p:cNvSpPr/>
            <p:nvPr/>
          </p:nvSpPr>
          <p:spPr>
            <a:xfrm>
              <a:off x="3963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1"/>
            <p:cNvSpPr/>
            <p:nvPr/>
          </p:nvSpPr>
          <p:spPr>
            <a:xfrm>
              <a:off x="417996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"/>
            <p:cNvSpPr/>
            <p:nvPr/>
          </p:nvSpPr>
          <p:spPr>
            <a:xfrm>
              <a:off x="417996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3"/>
            <p:cNvSpPr/>
            <p:nvPr/>
          </p:nvSpPr>
          <p:spPr>
            <a:xfrm>
              <a:off x="417996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Group 14"/>
          <p:cNvGrpSpPr/>
          <p:nvPr/>
        </p:nvGrpSpPr>
        <p:grpSpPr>
          <a:xfrm>
            <a:off x="4392720" y="4221000"/>
            <a:ext cx="578880" cy="82800"/>
            <a:chOff x="4392720" y="4221000"/>
            <a:chExt cx="578880" cy="82800"/>
          </a:xfrm>
        </p:grpSpPr>
        <p:sp>
          <p:nvSpPr>
            <p:cNvPr id="658" name="Line 15"/>
            <p:cNvSpPr/>
            <p:nvPr/>
          </p:nvSpPr>
          <p:spPr>
            <a:xfrm>
              <a:off x="439272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6"/>
            <p:cNvSpPr/>
            <p:nvPr/>
          </p:nvSpPr>
          <p:spPr>
            <a:xfrm>
              <a:off x="439272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7"/>
            <p:cNvSpPr/>
            <p:nvPr/>
          </p:nvSpPr>
          <p:spPr>
            <a:xfrm>
              <a:off x="4611600" y="423216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8"/>
            <p:cNvSpPr/>
            <p:nvPr/>
          </p:nvSpPr>
          <p:spPr>
            <a:xfrm>
              <a:off x="4611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9"/>
            <p:cNvSpPr/>
            <p:nvPr/>
          </p:nvSpPr>
          <p:spPr>
            <a:xfrm>
              <a:off x="4827600" y="42210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20"/>
            <p:cNvSpPr/>
            <p:nvPr/>
          </p:nvSpPr>
          <p:spPr>
            <a:xfrm>
              <a:off x="4827600" y="42638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21"/>
            <p:cNvSpPr/>
            <p:nvPr/>
          </p:nvSpPr>
          <p:spPr>
            <a:xfrm>
              <a:off x="4827600" y="430380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Oval 22"/>
          <p:cNvSpPr/>
          <p:nvPr/>
        </p:nvSpPr>
        <p:spPr>
          <a:xfrm>
            <a:off x="4105440" y="292428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3"/>
          <p:cNvGrpSpPr/>
          <p:nvPr/>
        </p:nvGrpSpPr>
        <p:grpSpPr>
          <a:xfrm>
            <a:off x="1477800" y="4292640"/>
            <a:ext cx="6121440" cy="368280"/>
            <a:chOff x="1477800" y="4292640"/>
            <a:chExt cx="6121440" cy="368280"/>
          </a:xfrm>
        </p:grpSpPr>
        <p:sp>
          <p:nvSpPr>
            <p:cNvPr id="667" name="Rectangle 24"/>
            <p:cNvSpPr/>
            <p:nvPr/>
          </p:nvSpPr>
          <p:spPr>
            <a:xfrm>
              <a:off x="1835280" y="436572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5"/>
            <p:cNvSpPr/>
            <p:nvPr/>
          </p:nvSpPr>
          <p:spPr>
            <a:xfrm>
              <a:off x="3708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26"/>
            <p:cNvSpPr/>
            <p:nvPr/>
          </p:nvSpPr>
          <p:spPr>
            <a:xfrm>
              <a:off x="392436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7"/>
            <p:cNvSpPr/>
            <p:nvPr/>
          </p:nvSpPr>
          <p:spPr>
            <a:xfrm>
              <a:off x="414036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8"/>
            <p:cNvSpPr/>
            <p:nvPr/>
          </p:nvSpPr>
          <p:spPr>
            <a:xfrm>
              <a:off x="4356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29"/>
            <p:cNvSpPr/>
            <p:nvPr/>
          </p:nvSpPr>
          <p:spPr>
            <a:xfrm>
              <a:off x="457200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30"/>
            <p:cNvSpPr/>
            <p:nvPr/>
          </p:nvSpPr>
          <p:spPr>
            <a:xfrm>
              <a:off x="4788000" y="436572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Text Box 31"/>
            <p:cNvSpPr/>
            <p:nvPr/>
          </p:nvSpPr>
          <p:spPr>
            <a:xfrm>
              <a:off x="147780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32"/>
            <p:cNvSpPr/>
            <p:nvPr/>
          </p:nvSpPr>
          <p:spPr>
            <a:xfrm>
              <a:off x="7237440" y="42926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33"/>
            <p:cNvSpPr/>
            <p:nvPr/>
          </p:nvSpPr>
          <p:spPr>
            <a:xfrm>
              <a:off x="5003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34"/>
            <p:cNvSpPr/>
            <p:nvPr/>
          </p:nvSpPr>
          <p:spPr>
            <a:xfrm>
              <a:off x="5219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35"/>
            <p:cNvSpPr/>
            <p:nvPr/>
          </p:nvSpPr>
          <p:spPr>
            <a:xfrm>
              <a:off x="5435640" y="436572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Oval 36"/>
          <p:cNvSpPr/>
          <p:nvPr/>
        </p:nvSpPr>
        <p:spPr>
          <a:xfrm>
            <a:off x="4713120" y="2529000"/>
            <a:ext cx="387360" cy="43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Me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37"/>
          <p:cNvGrpSpPr/>
          <p:nvPr/>
        </p:nvGrpSpPr>
        <p:grpSpPr>
          <a:xfrm>
            <a:off x="4356000" y="2924280"/>
            <a:ext cx="2590920" cy="1265040"/>
            <a:chOff x="4356000" y="2924280"/>
            <a:chExt cx="2590920" cy="1265040"/>
          </a:xfrm>
        </p:grpSpPr>
        <p:sp>
          <p:nvSpPr>
            <p:cNvPr id="681" name="Oval 38"/>
            <p:cNvSpPr/>
            <p:nvPr/>
          </p:nvSpPr>
          <p:spPr>
            <a:xfrm>
              <a:off x="4786200" y="3421080"/>
              <a:ext cx="433440" cy="4050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u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Text Box 39"/>
            <p:cNvSpPr/>
            <p:nvPr/>
          </p:nvSpPr>
          <p:spPr>
            <a:xfrm>
              <a:off x="5291280" y="3427560"/>
              <a:ext cx="1655640" cy="39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T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40"/>
            <p:cNvSpPr/>
            <p:nvPr/>
          </p:nvSpPr>
          <p:spPr>
            <a:xfrm>
              <a:off x="5219640" y="360864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4" name="Picture 41" descr="第3个tRNA"/>
            <p:cNvPicPr/>
            <p:nvPr/>
          </p:nvPicPr>
          <p:blipFill>
            <a:blip r:embed="rId5"/>
            <a:stretch/>
          </p:blipFill>
          <p:spPr>
            <a:xfrm>
              <a:off x="4356000" y="2924280"/>
              <a:ext cx="863640" cy="126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5" name="Group 42"/>
          <p:cNvGrpSpPr/>
          <p:nvPr/>
        </p:nvGrpSpPr>
        <p:grpSpPr>
          <a:xfrm>
            <a:off x="4356000" y="4221000"/>
            <a:ext cx="579600" cy="82800"/>
            <a:chOff x="4356000" y="4221000"/>
            <a:chExt cx="579600" cy="82800"/>
          </a:xfrm>
        </p:grpSpPr>
        <p:sp>
          <p:nvSpPr>
            <p:cNvPr id="686" name="Line 43"/>
            <p:cNvSpPr/>
            <p:nvPr/>
          </p:nvSpPr>
          <p:spPr>
            <a:xfrm>
              <a:off x="4356000" y="423216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Line 44"/>
            <p:cNvSpPr/>
            <p:nvPr/>
          </p:nvSpPr>
          <p:spPr>
            <a:xfrm>
              <a:off x="4356000" y="4303800"/>
              <a:ext cx="14472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Line 45"/>
            <p:cNvSpPr/>
            <p:nvPr/>
          </p:nvSpPr>
          <p:spPr>
            <a:xfrm>
              <a:off x="4575240" y="423216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46"/>
            <p:cNvSpPr/>
            <p:nvPr/>
          </p:nvSpPr>
          <p:spPr>
            <a:xfrm>
              <a:off x="4575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Line 47"/>
            <p:cNvSpPr/>
            <p:nvPr/>
          </p:nvSpPr>
          <p:spPr>
            <a:xfrm>
              <a:off x="4791240" y="42210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Line 48"/>
            <p:cNvSpPr/>
            <p:nvPr/>
          </p:nvSpPr>
          <p:spPr>
            <a:xfrm>
              <a:off x="4791240" y="42638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49"/>
            <p:cNvSpPr/>
            <p:nvPr/>
          </p:nvSpPr>
          <p:spPr>
            <a:xfrm>
              <a:off x="4791240" y="430380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71676E-006 C 0.00382 -0.02613 0.00937 -0.05434 0.03021 -0.06335 C 0.03871 -0.06266 0.04722 -0.06289 0.05555 -0.06127 C 0.05972 -0.06035 0.0618 -0.05503 0.06667 -0.05503 E">
                                      <p:cBhvr>
                                        <p:cTn id="503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94798E-006 L -0.11614 2.94798E-006 E">
                                      <p:cBhvr>
                                        <p:cTn id="50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0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5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7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19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101 0 E">
                                      <p:cBhvr>
                                        <p:cTn id="521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5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000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"/>
          <p:cNvGrpSpPr/>
          <p:nvPr/>
        </p:nvGrpSpPr>
        <p:grpSpPr>
          <a:xfrm>
            <a:off x="4427640" y="692280"/>
            <a:ext cx="647640" cy="1152360"/>
            <a:chOff x="4427640" y="692280"/>
            <a:chExt cx="647640" cy="1152360"/>
          </a:xfrm>
        </p:grpSpPr>
        <p:sp>
          <p:nvSpPr>
            <p:cNvPr id="694" name="Line 3"/>
            <p:cNvSpPr/>
            <p:nvPr/>
          </p:nvSpPr>
          <p:spPr>
            <a:xfrm>
              <a:off x="4427640" y="18446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4"/>
            <p:cNvSpPr/>
            <p:nvPr/>
          </p:nvSpPr>
          <p:spPr>
            <a:xfrm>
              <a:off x="4427640" y="692280"/>
              <a:ext cx="576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进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Group 5"/>
          <p:cNvGrpSpPr/>
          <p:nvPr/>
        </p:nvGrpSpPr>
        <p:grpSpPr>
          <a:xfrm>
            <a:off x="4284720" y="4076640"/>
            <a:ext cx="647640" cy="1152360"/>
            <a:chOff x="4284720" y="4076640"/>
            <a:chExt cx="647640" cy="1152360"/>
          </a:xfrm>
        </p:grpSpPr>
        <p:sp>
          <p:nvSpPr>
            <p:cNvPr id="697" name="Line 6"/>
            <p:cNvSpPr/>
            <p:nvPr/>
          </p:nvSpPr>
          <p:spPr>
            <a:xfrm>
              <a:off x="4284720" y="522900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7"/>
            <p:cNvSpPr/>
            <p:nvPr/>
          </p:nvSpPr>
          <p:spPr>
            <a:xfrm>
              <a:off x="4356000" y="4076640"/>
              <a:ext cx="576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转位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8"/>
          <p:cNvGrpSpPr/>
          <p:nvPr/>
        </p:nvGrpSpPr>
        <p:grpSpPr>
          <a:xfrm>
            <a:off x="6732720" y="2996640"/>
            <a:ext cx="1368360" cy="647640"/>
            <a:chOff x="6732720" y="2996640"/>
            <a:chExt cx="1368360" cy="647640"/>
          </a:xfrm>
        </p:grpSpPr>
        <p:sp>
          <p:nvSpPr>
            <p:cNvPr id="700" name="Line 9"/>
            <p:cNvSpPr/>
            <p:nvPr/>
          </p:nvSpPr>
          <p:spPr>
            <a:xfrm>
              <a:off x="6732720" y="299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Text Box 10"/>
            <p:cNvSpPr/>
            <p:nvPr/>
          </p:nvSpPr>
          <p:spPr>
            <a:xfrm>
              <a:off x="6948360" y="2997360"/>
              <a:ext cx="115272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  <a:ea typeface="黑体"/>
                </a:rPr>
                <a:t>成肽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2" name="Picture 11" descr="总1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3" name="Picture 12" descr="总2"/>
          <p:cNvPicPr/>
          <p:nvPr/>
        </p:nvPicPr>
        <p:blipFill>
          <a:blip r:embed="rId2"/>
          <a:stretch/>
        </p:blipFill>
        <p:spPr>
          <a:xfrm>
            <a:off x="5219640" y="333360"/>
            <a:ext cx="3456000" cy="259236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4" name="Picture 13" descr="总3"/>
          <p:cNvPicPr/>
          <p:nvPr/>
        </p:nvPicPr>
        <p:blipFill>
          <a:blip r:embed="rId3"/>
          <a:stretch/>
        </p:blipFill>
        <p:spPr>
          <a:xfrm>
            <a:off x="5219640" y="3645000"/>
            <a:ext cx="345600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  <p:pic>
        <p:nvPicPr>
          <p:cNvPr id="705" name="Picture 14" descr="总4"/>
          <p:cNvPicPr/>
          <p:nvPr/>
        </p:nvPicPr>
        <p:blipFill>
          <a:blip r:embed="rId4"/>
          <a:stretch/>
        </p:blipFill>
        <p:spPr>
          <a:xfrm>
            <a:off x="684360" y="3645000"/>
            <a:ext cx="3600360" cy="2663640"/>
          </a:xfrm>
          <a:prstGeom prst="rect">
            <a:avLst/>
          </a:prstGeom>
          <a:ln w="25560">
            <a:solidFill>
              <a:srgbClr val="ff99cc"/>
            </a:solidFill>
            <a:miter/>
          </a:ln>
        </p:spPr>
      </p:pic>
    </p:spTree>
  </p:cSld>
  <p:transition spd="med"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12-5（延长）"/>
          <p:cNvPicPr/>
          <p:nvPr/>
        </p:nvPicPr>
        <p:blipFill>
          <a:blip r:embed="rId1"/>
          <a:stretch/>
        </p:blipFill>
        <p:spPr>
          <a:xfrm>
            <a:off x="1187280" y="981000"/>
            <a:ext cx="7056720" cy="5688000"/>
          </a:xfrm>
          <a:prstGeom prst="rect">
            <a:avLst/>
          </a:prstGeom>
          <a:ln w="28440">
            <a:solidFill>
              <a:srgbClr val="ff99cc"/>
            </a:solidFill>
            <a:miter/>
          </a:ln>
        </p:spPr>
      </p:pic>
      <p:sp>
        <p:nvSpPr>
          <p:cNvPr id="707" name="Text Box 2"/>
          <p:cNvSpPr/>
          <p:nvPr/>
        </p:nvSpPr>
        <p:spPr>
          <a:xfrm>
            <a:off x="250920" y="189000"/>
            <a:ext cx="590544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真核生物肽链合成的延长阶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2"/>
          <p:cNvSpPr/>
          <p:nvPr/>
        </p:nvSpPr>
        <p:spPr>
          <a:xfrm>
            <a:off x="684360" y="2476800"/>
            <a:ext cx="77752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当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上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  <a:ea typeface="黑体"/>
              </a:rPr>
              <a:t>终止密码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出现后，多肽链合成停止，肽链从肽酰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-t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中释出，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、核糖体等分离，这些过程称为肽链合成终止。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2"/>
          <p:cNvSpPr/>
          <p:nvPr/>
        </p:nvSpPr>
        <p:spPr>
          <a:xfrm>
            <a:off x="395280" y="333360"/>
            <a:ext cx="44658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四、肽链合成的终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684360" y="54900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终止相关的蛋白因子称为释放因子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5892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release factor, RF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3"/>
          <p:cNvSpPr/>
          <p:nvPr/>
        </p:nvSpPr>
        <p:spPr>
          <a:xfrm>
            <a:off x="755640" y="4237920"/>
            <a:ext cx="7597800" cy="18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识别终止密码，如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特异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G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；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可识别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A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UGA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 algn="just">
              <a:lnSpc>
                <a:spcPct val="120000"/>
              </a:lnSpc>
              <a:spcBef>
                <a:spcPts val="174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诱导转肽酶改变为酯酶活性，使肽链从核蛋白体上释放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4"/>
          <p:cNvSpPr/>
          <p:nvPr/>
        </p:nvSpPr>
        <p:spPr>
          <a:xfrm>
            <a:off x="684360" y="3213000"/>
            <a:ext cx="446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释放因子的功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1332000" y="1773360"/>
            <a:ext cx="7129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1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RF-3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真核生物释放因子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eR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终止"/>
          <p:cNvPicPr/>
          <p:nvPr/>
        </p:nvPicPr>
        <p:blipFill>
          <a:blip r:embed="rId1"/>
          <a:srcRect l="0" t="72065" r="0" b="0"/>
          <a:stretch/>
        </p:blipFill>
        <p:spPr>
          <a:xfrm>
            <a:off x="2627280" y="4797360"/>
            <a:ext cx="4824360" cy="20606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826920" y="691560"/>
            <a:ext cx="64800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原核肽链合成终止过程</a:t>
            </a:r>
            <a:r>
              <a:rPr b="1" lang="zh-CN" sz="32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4" descr="终止"/>
          <p:cNvPicPr/>
          <p:nvPr/>
        </p:nvPicPr>
        <p:blipFill>
          <a:blip r:embed="rId2"/>
          <a:srcRect l="0" t="31700" r="0" b="33200"/>
          <a:stretch/>
        </p:blipFill>
        <p:spPr>
          <a:xfrm>
            <a:off x="2484360" y="2060640"/>
            <a:ext cx="4967280" cy="273672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5" descr="终止"/>
          <p:cNvPicPr/>
          <p:nvPr/>
        </p:nvPicPr>
        <p:blipFill>
          <a:blip r:embed="rId3"/>
          <a:srcRect l="0" t="0" r="0" b="72307"/>
          <a:stretch/>
        </p:blipFill>
        <p:spPr>
          <a:xfrm>
            <a:off x="2484360" y="0"/>
            <a:ext cx="4967280" cy="213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Picture 2" descr="大亚基(有E位)"/>
          <p:cNvPicPr/>
          <p:nvPr/>
        </p:nvPicPr>
        <p:blipFill>
          <a:blip r:embed="rId1"/>
          <a:stretch/>
        </p:blipFill>
        <p:spPr>
          <a:xfrm>
            <a:off x="3701880" y="2546280"/>
            <a:ext cx="3600720" cy="239868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3" descr="小亚基2"/>
          <p:cNvPicPr/>
          <p:nvPr/>
        </p:nvPicPr>
        <p:blipFill>
          <a:blip r:embed="rId2"/>
          <a:stretch/>
        </p:blipFill>
        <p:spPr>
          <a:xfrm>
            <a:off x="3792600" y="4707000"/>
            <a:ext cx="3672000" cy="124308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4"/>
          <p:cNvGrpSpPr/>
          <p:nvPr/>
        </p:nvGrpSpPr>
        <p:grpSpPr>
          <a:xfrm>
            <a:off x="1905120" y="4633920"/>
            <a:ext cx="6121080" cy="368280"/>
            <a:chOff x="1905120" y="4633920"/>
            <a:chExt cx="6121080" cy="368280"/>
          </a:xfrm>
        </p:grpSpPr>
        <p:sp>
          <p:nvSpPr>
            <p:cNvPr id="721" name="Rectangle 5"/>
            <p:cNvSpPr/>
            <p:nvPr/>
          </p:nvSpPr>
          <p:spPr>
            <a:xfrm>
              <a:off x="2262240" y="4707000"/>
              <a:ext cx="5400720" cy="2156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6078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629460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651024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478332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4998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5214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12"/>
            <p:cNvSpPr/>
            <p:nvPr/>
          </p:nvSpPr>
          <p:spPr>
            <a:xfrm>
              <a:off x="190512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Text Box 13"/>
            <p:cNvSpPr/>
            <p:nvPr/>
          </p:nvSpPr>
          <p:spPr>
            <a:xfrm>
              <a:off x="7664400" y="463392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'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14"/>
            <p:cNvSpPr/>
            <p:nvPr/>
          </p:nvSpPr>
          <p:spPr>
            <a:xfrm>
              <a:off x="543096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5"/>
            <p:cNvSpPr/>
            <p:nvPr/>
          </p:nvSpPr>
          <p:spPr>
            <a:xfrm>
              <a:off x="5646960" y="4707000"/>
              <a:ext cx="21564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6"/>
            <p:cNvSpPr/>
            <p:nvPr/>
          </p:nvSpPr>
          <p:spPr>
            <a:xfrm>
              <a:off x="5862600" y="4707000"/>
              <a:ext cx="216000" cy="215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3" name="Picture 17" descr="起始tRNA（空载）"/>
          <p:cNvPicPr/>
          <p:nvPr/>
        </p:nvPicPr>
        <p:blipFill>
          <a:blip r:embed="rId3">
            <a:lum contrast="-6000"/>
          </a:blip>
          <a:stretch/>
        </p:blipFill>
        <p:spPr>
          <a:xfrm>
            <a:off x="5430960" y="3517920"/>
            <a:ext cx="685800" cy="1041480"/>
          </a:xfrm>
          <a:prstGeom prst="rect">
            <a:avLst/>
          </a:prstGeom>
          <a:ln w="0">
            <a:noFill/>
          </a:ln>
        </p:spPr>
      </p:pic>
      <p:grpSp>
        <p:nvGrpSpPr>
          <p:cNvPr id="734" name="Group 18"/>
          <p:cNvGrpSpPr/>
          <p:nvPr/>
        </p:nvGrpSpPr>
        <p:grpSpPr>
          <a:xfrm>
            <a:off x="5430960" y="4562640"/>
            <a:ext cx="578880" cy="82440"/>
            <a:chOff x="5430960" y="4562640"/>
            <a:chExt cx="578880" cy="82440"/>
          </a:xfrm>
        </p:grpSpPr>
        <p:sp>
          <p:nvSpPr>
            <p:cNvPr id="735" name="Line 19"/>
            <p:cNvSpPr/>
            <p:nvPr/>
          </p:nvSpPr>
          <p:spPr>
            <a:xfrm>
              <a:off x="5430960" y="457344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20"/>
            <p:cNvSpPr/>
            <p:nvPr/>
          </p:nvSpPr>
          <p:spPr>
            <a:xfrm>
              <a:off x="5430960" y="4645080"/>
              <a:ext cx="14436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21"/>
            <p:cNvSpPr/>
            <p:nvPr/>
          </p:nvSpPr>
          <p:spPr>
            <a:xfrm>
              <a:off x="5649840" y="45734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22"/>
            <p:cNvSpPr/>
            <p:nvPr/>
          </p:nvSpPr>
          <p:spPr>
            <a:xfrm>
              <a:off x="5649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23"/>
            <p:cNvSpPr/>
            <p:nvPr/>
          </p:nvSpPr>
          <p:spPr>
            <a:xfrm>
              <a:off x="5865840" y="456264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24"/>
            <p:cNvSpPr/>
            <p:nvPr/>
          </p:nvSpPr>
          <p:spPr>
            <a:xfrm>
              <a:off x="5865840" y="460512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5"/>
            <p:cNvSpPr/>
            <p:nvPr/>
          </p:nvSpPr>
          <p:spPr>
            <a:xfrm>
              <a:off x="5865840" y="4645080"/>
              <a:ext cx="1440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2" name="Picture 26" descr="合成的多肽链"/>
          <p:cNvPicPr/>
          <p:nvPr/>
        </p:nvPicPr>
        <p:blipFill>
          <a:blip r:embed="rId4"/>
          <a:stretch/>
        </p:blipFill>
        <p:spPr>
          <a:xfrm>
            <a:off x="3846600" y="2762280"/>
            <a:ext cx="2448000" cy="904680"/>
          </a:xfrm>
          <a:prstGeom prst="rect">
            <a:avLst/>
          </a:prstGeom>
          <a:ln w="0">
            <a:noFill/>
          </a:ln>
        </p:spPr>
      </p:pic>
      <p:sp>
        <p:nvSpPr>
          <p:cNvPr id="743" name="AutoShape 27"/>
          <p:cNvSpPr/>
          <p:nvPr/>
        </p:nvSpPr>
        <p:spPr>
          <a:xfrm flipV="1">
            <a:off x="6078600" y="4274280"/>
            <a:ext cx="647640" cy="287640"/>
          </a:xfrm>
          <a:prstGeom prst="pie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28"/>
          <p:cNvGrpSpPr/>
          <p:nvPr/>
        </p:nvGrpSpPr>
        <p:grpSpPr>
          <a:xfrm>
            <a:off x="6149880" y="3554280"/>
            <a:ext cx="955800" cy="458280"/>
            <a:chOff x="6149880" y="3554280"/>
            <a:chExt cx="955800" cy="458280"/>
          </a:xfrm>
        </p:grpSpPr>
        <p:sp>
          <p:nvSpPr>
            <p:cNvPr id="745" name="Text Box 29"/>
            <p:cNvSpPr/>
            <p:nvPr/>
          </p:nvSpPr>
          <p:spPr>
            <a:xfrm>
              <a:off x="6149880" y="3554280"/>
              <a:ext cx="955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30"/>
            <p:cNvSpPr/>
            <p:nvPr/>
          </p:nvSpPr>
          <p:spPr>
            <a:xfrm>
              <a:off x="6149880" y="3625920"/>
              <a:ext cx="73080" cy="73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7360" bIns="273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AutoShape 31">
            <a:hlinkClick r:id="rId5"/>
          </p:cNvPr>
          <p:cNvSpPr/>
          <p:nvPr/>
        </p:nvSpPr>
        <p:spPr>
          <a:xfrm>
            <a:off x="1258920" y="2924280"/>
            <a:ext cx="936720" cy="576000"/>
          </a:xfrm>
          <a:custGeom>
            <a:avLst/>
            <a:gdLst>
              <a:gd name="textAreaLeft" fmla="*/ 37080 w 936720"/>
              <a:gd name="textAreaRight" fmla="*/ 899640 w 93672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5119" h="21600">
                <a:moveTo>
                  <a:pt x="0" y="0"/>
                </a:moveTo>
                <a:lnTo>
                  <a:pt x="35119" y="0"/>
                </a:lnTo>
                <a:lnTo>
                  <a:pt x="35119" y="21600"/>
                </a:lnTo>
                <a:lnTo>
                  <a:pt x="0" y="21600"/>
                </a:lnTo>
                <a:close/>
              </a:path>
              <a:path fill="lightenLess" w="35119" h="21600">
                <a:moveTo>
                  <a:pt x="0" y="0"/>
                </a:moveTo>
                <a:lnTo>
                  <a:pt x="35119" y="0"/>
                </a:lnTo>
                <a:lnTo>
                  <a:pt x="33719" y="1400"/>
                </a:lnTo>
                <a:lnTo>
                  <a:pt x="1400" y="1400"/>
                </a:lnTo>
                <a:close/>
              </a:path>
              <a:path fill="darken" w="35119" h="21600">
                <a:moveTo>
                  <a:pt x="35119" y="0"/>
                </a:moveTo>
                <a:lnTo>
                  <a:pt x="35119" y="21600"/>
                </a:lnTo>
                <a:lnTo>
                  <a:pt x="33719" y="20200"/>
                </a:lnTo>
                <a:lnTo>
                  <a:pt x="33719" y="1400"/>
                </a:lnTo>
                <a:close/>
              </a:path>
              <a:path fill="darkenLess" w="35119" h="21600">
                <a:moveTo>
                  <a:pt x="35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19" y="20200"/>
                </a:lnTo>
                <a:close/>
              </a:path>
              <a:path fill="lighten" w="35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19" h="21600">
                <a:moveTo>
                  <a:pt x="10553" y="7301"/>
                </a:moveTo>
                <a:lnTo>
                  <a:pt x="11467" y="7301"/>
                </a:lnTo>
                <a:lnTo>
                  <a:pt x="11850" y="7667"/>
                </a:lnTo>
                <a:lnTo>
                  <a:pt x="21058" y="7667"/>
                </a:lnTo>
                <a:lnTo>
                  <a:pt x="21615" y="8224"/>
                </a:lnTo>
                <a:lnTo>
                  <a:pt x="21615" y="8772"/>
                </a:lnTo>
                <a:lnTo>
                  <a:pt x="23460" y="8772"/>
                </a:lnTo>
                <a:lnTo>
                  <a:pt x="23826" y="8224"/>
                </a:lnTo>
                <a:lnTo>
                  <a:pt x="24566" y="8224"/>
                </a:lnTo>
                <a:lnTo>
                  <a:pt x="24566" y="13376"/>
                </a:lnTo>
                <a:lnTo>
                  <a:pt x="23826" y="13376"/>
                </a:lnTo>
                <a:lnTo>
                  <a:pt x="23460" y="12828"/>
                </a:lnTo>
                <a:lnTo>
                  <a:pt x="21615" y="12828"/>
                </a:lnTo>
                <a:lnTo>
                  <a:pt x="21615" y="14107"/>
                </a:lnTo>
                <a:lnTo>
                  <a:pt x="12032" y="14107"/>
                </a:lnTo>
                <a:lnTo>
                  <a:pt x="12032" y="9877"/>
                </a:lnTo>
                <a:lnTo>
                  <a:pt x="11850" y="9877"/>
                </a:lnTo>
                <a:lnTo>
                  <a:pt x="11467" y="10243"/>
                </a:lnTo>
                <a:lnTo>
                  <a:pt x="10553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2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4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85 -0.0037 0.00989 -0.01041 0.01284 -0.02104 C 0.01284 -0.0215 0.01284 -0.04671 0.00954 -0.0548 C 0.00763 -0.05919 0.00329 -0.06752 0.00329 -0.06752 C 0.00121 -0.07607 -0.00157 -0.08023 -0.00625 -0.08671 C -0.00938 -0.09942 -0.0191 -0.10775 -0.02848 -0.11191 C -0.04445 -0.13434 -0.08733 -0.13364 -0.10625 -0.13526 C -0.12101 -0.13642 -0.1507 -0.13942 -0.1507 -0.13942 C -0.15608 -0.14081 -0.16164 -0.14104 -0.16667 -0.14358 C -0.17535 -0.14775 -0.18282 -0.1533 -0.19202 -0.1563 C -0.19775 -0.16439 -0.20625 -0.16439 -0.21424 -0.16694 C -0.22223 -0.16948 -0.22761 -0.17387 -0.2349 -0.17757 C -0.23994 -0.18012 -0.24619 -0.17965 -0.2507 -0.18382 C -0.25695 -0.18936 -0.26303 -0.19468 -0.2698 -0.19861 C -0.27292 -0.20046 -0.27934 -0.20278 -0.27934 -0.20278 C -0.2849 -0.20809 -0.2823 -0.20601 -0.28716 -0.20925 E">
                                      <p:cBhvr>
                                        <p:cTn id="596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7.34104E-006 C 0.00416 -0.01735 0.01058 -0.03399 0.02221 -0.0444 C 0.02742 -0.0548 0.0335 -0.0555 0.04131 -0.06128 C 0.05225 -0.06937 0.06388 -0.0733 0.07621 -0.07607 C 0.08784 -0.07538 0.09947 -0.07561 0.1111 -0.07399 C 0.11544 -0.07353 0.12378 -0.06983 0.12378 -0.06983 C 0.12933 -0.06498 0.13333 -0.06336 0.13975 -0.06128 C 0.14513 -0.05642 0.1493 -0.05503 0.15555 -0.05295 C 0.17187 -0.05365 0.18836 -0.05318 0.20468 -0.05503 C 0.21093 -0.05573 0.21527 -0.06035 0.22065 -0.06336 C 0.22378 -0.06498 0.2302 -0.06775 0.2302 -0.06775 E">
                                      <p:cBhvr>
                                        <p:cTn id="600" dur="2000" fill="hold"/>
                                        <p:tgtEl>
                                          <p:spTgt spid="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6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212 -0.01434 0.05486 -0.00301 0.09687 -0.00208 C 0.11024 0 0.1217 0.00532 0.13489 0.00855 C 0.14792 0.01179 0.1592 0.01156 0.17309 0.01272 C 0.18785 0.01202 0.20278 0.01225 0.21753 0.01064 C 0.22083 0.01017 0.22691 0.00647 0.22691 0.00647 C 0.23055 0.00324 0.23351 0 0.23802 0 E">
                                      <p:cBhvr>
                                        <p:cTn id="605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54335E-006 L 0.07083 -0.25849 E">
                                      <p:cBhvr>
                                        <p:cTn id="607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77457E-006 L -4.16667E-006 0.14035 E">
                                      <p:cBhvr>
                                        <p:cTn id="609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50867E-006 L -0.15746 0.08393 E">
                                      <p:cBhvr>
                                        <p:cTn id="611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多聚核蛋白体"/>
          <p:cNvPicPr/>
          <p:nvPr/>
        </p:nvPicPr>
        <p:blipFill>
          <a:blip r:embed="rId1"/>
          <a:stretch/>
        </p:blipFill>
        <p:spPr>
          <a:xfrm>
            <a:off x="4670280" y="1125360"/>
            <a:ext cx="4321440" cy="5504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多聚核蛋白体之2"/>
          <p:cNvPicPr/>
          <p:nvPr/>
        </p:nvPicPr>
        <p:blipFill>
          <a:blip r:embed="rId2"/>
          <a:stretch/>
        </p:blipFill>
        <p:spPr>
          <a:xfrm>
            <a:off x="250920" y="3789360"/>
            <a:ext cx="4278240" cy="2768760"/>
          </a:xfrm>
          <a:prstGeom prst="rect">
            <a:avLst/>
          </a:prstGeom>
          <a:ln w="0">
            <a:noFill/>
          </a:ln>
        </p:spPr>
      </p:pic>
      <p:sp>
        <p:nvSpPr>
          <p:cNvPr id="750" name="Text Box 4"/>
          <p:cNvSpPr/>
          <p:nvPr/>
        </p:nvSpPr>
        <p:spPr>
          <a:xfrm>
            <a:off x="-304920" y="6248520"/>
            <a:ext cx="532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ff"/>
                </a:solidFill>
                <a:latin typeface="Times New Roman"/>
                <a:ea typeface="楷体_GB2312"/>
              </a:rPr>
              <a:t>电镜下的多聚核糖体现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324000" y="1341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指多个核糖体附在同一条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上合成蛋白质而形成的串珠状聚合物。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2"/>
          <p:cNvSpPr/>
          <p:nvPr/>
        </p:nvSpPr>
        <p:spPr>
          <a:xfrm>
            <a:off x="395280" y="333360"/>
            <a:ext cx="54720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五、多聚核糖体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黑体"/>
              </a:rPr>
              <a:t>(polysom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三 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后加工和靶向输送</a:t>
            </a:r>
            <a:r>
              <a:rPr b="1" lang="en-US" sz="3200" spc="-1" strike="noStrike">
                <a:solidFill>
                  <a:srgbClr val="f50f1f"/>
                </a:solidFill>
                <a:latin typeface="Arial"/>
                <a:ea typeface="楷体_GB2312"/>
              </a:rPr>
              <a:t>Posttranslational  Processing &amp; Protein Transpor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0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3706" t="0" r="5331" b="0"/>
          <a:stretch/>
        </p:blipFill>
        <p:spPr>
          <a:xfrm>
            <a:off x="179280" y="404640"/>
            <a:ext cx="8820360" cy="608652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3F92-AE41-49A6-AFEB-C98ECBE913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核糖体释放出的新生多肽链不具备蛋白质生物活性，必需经过不同的翻译后复杂加工过程才转变为天然构象的功能蛋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1115640" y="2421000"/>
            <a:ext cx="3530520" cy="78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Arial"/>
              </a:rPr>
              <a:t>加工修饰主要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684360" y="3357720"/>
            <a:ext cx="820872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新生多肽链需经多种形式加工才具有生物学活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多肽链折叠为天然的三维结构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亚基的聚合与辅基的连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蛋白质合成后靶向运输至细胞特定部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2"/>
          <p:cNvSpPr/>
          <p:nvPr/>
        </p:nvSpPr>
        <p:spPr>
          <a:xfrm>
            <a:off x="611280" y="1916280"/>
            <a:ext cx="7848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肽链末端的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部分氨基酸序列的水解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别氨基酸残基的侧链修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2"/>
          <p:cNvSpPr/>
          <p:nvPr/>
        </p:nvSpPr>
        <p:spPr>
          <a:xfrm>
            <a:off x="395280" y="333360"/>
            <a:ext cx="6408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新生多肽链多种形式的加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4"/>
          <p:cNvSpPr/>
          <p:nvPr/>
        </p:nvSpPr>
        <p:spPr>
          <a:xfrm>
            <a:off x="5651640" y="3141720"/>
            <a:ext cx="152280" cy="98748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87480"/>
              <a:gd name="textAreaBottom" fmla="*/ 961920 h 98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5"/>
          <p:cNvSpPr/>
          <p:nvPr/>
        </p:nvSpPr>
        <p:spPr>
          <a:xfrm>
            <a:off x="6012000" y="2781360"/>
            <a:ext cx="180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糖基化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羟基化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甲基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磷酸化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                                  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二硫键形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831600" y="739800"/>
            <a:ext cx="70722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鸦片促黑皮质素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POM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水解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3"/>
          <p:cNvSpPr/>
          <p:nvPr/>
        </p:nvSpPr>
        <p:spPr>
          <a:xfrm>
            <a:off x="708120" y="2606760"/>
            <a:ext cx="8001000" cy="0"/>
          </a:xfrm>
          <a:prstGeom prst="line">
            <a:avLst/>
          </a:prstGeom>
          <a:ln w="1522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56880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8390520" y="278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6"/>
          <p:cNvSpPr/>
          <p:nvPr/>
        </p:nvSpPr>
        <p:spPr>
          <a:xfrm>
            <a:off x="14698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7"/>
          <p:cNvSpPr/>
          <p:nvPr/>
        </p:nvSpPr>
        <p:spPr>
          <a:xfrm>
            <a:off x="451800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8"/>
          <p:cNvSpPr/>
          <p:nvPr/>
        </p:nvSpPr>
        <p:spPr>
          <a:xfrm>
            <a:off x="46702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9"/>
          <p:cNvSpPr/>
          <p:nvPr/>
        </p:nvSpPr>
        <p:spPr>
          <a:xfrm>
            <a:off x="627048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10"/>
          <p:cNvSpPr/>
          <p:nvPr/>
        </p:nvSpPr>
        <p:spPr>
          <a:xfrm>
            <a:off x="6423120" y="245412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11"/>
          <p:cNvSpPr/>
          <p:nvPr/>
        </p:nvSpPr>
        <p:spPr>
          <a:xfrm>
            <a:off x="663840" y="1978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信号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12"/>
          <p:cNvSpPr/>
          <p:nvPr/>
        </p:nvSpPr>
        <p:spPr>
          <a:xfrm>
            <a:off x="7668720" y="184464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M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13"/>
          <p:cNvSpPr/>
          <p:nvPr/>
        </p:nvSpPr>
        <p:spPr>
          <a:xfrm>
            <a:off x="429120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14"/>
          <p:cNvSpPr/>
          <p:nvPr/>
        </p:nvSpPr>
        <p:spPr>
          <a:xfrm>
            <a:off x="6019920" y="19209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15"/>
          <p:cNvGrpSpPr/>
          <p:nvPr/>
        </p:nvGrpSpPr>
        <p:grpSpPr>
          <a:xfrm>
            <a:off x="1627200" y="3573360"/>
            <a:ext cx="7238880" cy="1297800"/>
            <a:chOff x="1627200" y="3573360"/>
            <a:chExt cx="7238880" cy="1297800"/>
          </a:xfrm>
        </p:grpSpPr>
        <p:grpSp>
          <p:nvGrpSpPr>
            <p:cNvPr id="776" name="Group 16"/>
            <p:cNvGrpSpPr/>
            <p:nvPr/>
          </p:nvGrpSpPr>
          <p:grpSpPr>
            <a:xfrm>
              <a:off x="1627200" y="3573360"/>
              <a:ext cx="3047760" cy="1158120"/>
              <a:chOff x="1627200" y="3573360"/>
              <a:chExt cx="3047760" cy="1158120"/>
            </a:xfrm>
          </p:grpSpPr>
          <p:sp>
            <p:nvSpPr>
              <p:cNvPr id="777" name="Line 17"/>
              <p:cNvSpPr/>
              <p:nvPr/>
            </p:nvSpPr>
            <p:spPr>
              <a:xfrm>
                <a:off x="1627200" y="3573360"/>
                <a:ext cx="3047760" cy="0"/>
              </a:xfrm>
              <a:prstGeom prst="line">
                <a:avLst/>
              </a:prstGeom>
              <a:ln w="152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Text Box 18"/>
              <p:cNvSpPr/>
              <p:nvPr/>
            </p:nvSpPr>
            <p:spPr>
              <a:xfrm>
                <a:off x="2572200" y="3966840"/>
                <a:ext cx="808560" cy="76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3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  <a:ea typeface="华文楷体"/>
                  </a:rPr>
                  <a:t>肽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？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Group 19"/>
            <p:cNvGrpSpPr/>
            <p:nvPr/>
          </p:nvGrpSpPr>
          <p:grpSpPr>
            <a:xfrm>
              <a:off x="4827600" y="3954240"/>
              <a:ext cx="1600200" cy="840600"/>
              <a:chOff x="4827600" y="3954240"/>
              <a:chExt cx="1600200" cy="840600"/>
            </a:xfrm>
          </p:grpSpPr>
          <p:sp>
            <p:nvSpPr>
              <p:cNvPr id="780" name="Line 20"/>
              <p:cNvSpPr/>
              <p:nvPr/>
            </p:nvSpPr>
            <p:spPr>
              <a:xfrm>
                <a:off x="4827600" y="3954240"/>
                <a:ext cx="1600200" cy="0"/>
              </a:xfrm>
              <a:prstGeom prst="line">
                <a:avLst/>
              </a:prstGeom>
              <a:ln w="1522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Text Box 21"/>
              <p:cNvSpPr/>
              <p:nvPr/>
            </p:nvSpPr>
            <p:spPr>
              <a:xfrm>
                <a:off x="5058720" y="433512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ff"/>
                    </a:solidFill>
                    <a:latin typeface="Times New Roman"/>
                  </a:rPr>
                  <a:t>ACT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2" name="Group 22"/>
            <p:cNvGrpSpPr/>
            <p:nvPr/>
          </p:nvGrpSpPr>
          <p:grpSpPr>
            <a:xfrm>
              <a:off x="6580080" y="4182840"/>
              <a:ext cx="2286000" cy="688320"/>
              <a:chOff x="6580080" y="4182840"/>
              <a:chExt cx="2286000" cy="688320"/>
            </a:xfrm>
          </p:grpSpPr>
          <p:sp>
            <p:nvSpPr>
              <p:cNvPr id="783" name="Line 23"/>
              <p:cNvSpPr/>
              <p:nvPr/>
            </p:nvSpPr>
            <p:spPr>
              <a:xfrm>
                <a:off x="6580080" y="4182840"/>
                <a:ext cx="2286000" cy="0"/>
              </a:xfrm>
              <a:prstGeom prst="line">
                <a:avLst/>
              </a:prstGeom>
              <a:ln w="1522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Text Box 24"/>
              <p:cNvSpPr/>
              <p:nvPr/>
            </p:nvSpPr>
            <p:spPr>
              <a:xfrm>
                <a:off x="7344360" y="4411440"/>
                <a:ext cx="856080" cy="4597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Times New Roman"/>
                  </a:rPr>
                  <a:t>-LT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5" name="Group 25"/>
          <p:cNvGrpSpPr/>
          <p:nvPr/>
        </p:nvGrpSpPr>
        <p:grpSpPr>
          <a:xfrm>
            <a:off x="3990240" y="5097600"/>
            <a:ext cx="3540960" cy="662760"/>
            <a:chOff x="3990240" y="5097600"/>
            <a:chExt cx="3540960" cy="662760"/>
          </a:xfrm>
        </p:grpSpPr>
        <p:grpSp>
          <p:nvGrpSpPr>
            <p:cNvPr id="786" name="Group 26"/>
            <p:cNvGrpSpPr/>
            <p:nvPr/>
          </p:nvGrpSpPr>
          <p:grpSpPr>
            <a:xfrm>
              <a:off x="3990240" y="5097600"/>
              <a:ext cx="1169640" cy="612000"/>
              <a:chOff x="3990240" y="5097600"/>
              <a:chExt cx="1169640" cy="612000"/>
            </a:xfrm>
          </p:grpSpPr>
          <p:sp>
            <p:nvSpPr>
              <p:cNvPr id="787" name="Line 27"/>
              <p:cNvSpPr/>
              <p:nvPr/>
            </p:nvSpPr>
            <p:spPr>
              <a:xfrm>
                <a:off x="4141440" y="5097600"/>
                <a:ext cx="838080" cy="0"/>
              </a:xfrm>
              <a:prstGeom prst="line">
                <a:avLst/>
              </a:prstGeom>
              <a:ln w="15228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28"/>
              <p:cNvSpPr/>
              <p:nvPr/>
            </p:nvSpPr>
            <p:spPr>
              <a:xfrm>
                <a:off x="3990240" y="5249880"/>
                <a:ext cx="1169640" cy="459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ff66"/>
                    </a:solidFill>
                    <a:latin typeface="Symbol"/>
                    <a:ea typeface="Symbol"/>
                  </a:rPr>
                  <a:t></a:t>
                </a:r>
                <a:r>
                  <a:rPr b="1" lang="en-US" sz="2400" spc="-1" strike="noStrike">
                    <a:solidFill>
                      <a:srgbClr val="66ff66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29"/>
            <p:cNvGrpSpPr/>
            <p:nvPr/>
          </p:nvGrpSpPr>
          <p:grpSpPr>
            <a:xfrm>
              <a:off x="6385680" y="5097600"/>
              <a:ext cx="1145520" cy="662760"/>
              <a:chOff x="6385680" y="5097600"/>
              <a:chExt cx="1145520" cy="662760"/>
            </a:xfrm>
          </p:grpSpPr>
          <p:sp>
            <p:nvSpPr>
              <p:cNvPr id="790" name="Line 30"/>
              <p:cNvSpPr/>
              <p:nvPr/>
            </p:nvSpPr>
            <p:spPr>
              <a:xfrm>
                <a:off x="6443640" y="5097600"/>
                <a:ext cx="827280" cy="0"/>
              </a:xfrm>
              <a:prstGeom prst="line">
                <a:avLst/>
              </a:prstGeom>
              <a:ln w="1522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Text Box 31"/>
              <p:cNvSpPr/>
              <p:nvPr/>
            </p:nvSpPr>
            <p:spPr>
              <a:xfrm>
                <a:off x="6385680" y="5300640"/>
                <a:ext cx="1145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669900"/>
                    </a:solidFill>
                    <a:latin typeface="Symbol"/>
                    <a:ea typeface="Symbol"/>
                  </a:rPr>
                  <a:t></a:t>
                </a:r>
                <a:r>
                  <a:rPr b="1" lang="en-US" sz="2400" spc="-1" strike="noStrike">
                    <a:solidFill>
                      <a:srgbClr val="669900"/>
                    </a:solidFill>
                    <a:latin typeface="Times New Roman"/>
                  </a:rPr>
                  <a:t>-MS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Group 32"/>
          <p:cNvGrpSpPr/>
          <p:nvPr/>
        </p:nvGrpSpPr>
        <p:grpSpPr>
          <a:xfrm>
            <a:off x="4903920" y="5859360"/>
            <a:ext cx="1473120" cy="612000"/>
            <a:chOff x="4903920" y="5859360"/>
            <a:chExt cx="1473120" cy="612000"/>
          </a:xfrm>
        </p:grpSpPr>
        <p:sp>
          <p:nvSpPr>
            <p:cNvPr id="793" name="Line 33"/>
            <p:cNvSpPr/>
            <p:nvPr/>
          </p:nvSpPr>
          <p:spPr>
            <a:xfrm>
              <a:off x="4979880" y="5859360"/>
              <a:ext cx="1142640" cy="0"/>
            </a:xfrm>
            <a:prstGeom prst="line">
              <a:avLst/>
            </a:prstGeom>
            <a:ln w="152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34"/>
            <p:cNvSpPr/>
            <p:nvPr/>
          </p:nvSpPr>
          <p:spPr>
            <a:xfrm>
              <a:off x="4903920" y="6011640"/>
              <a:ext cx="1473120" cy="459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Endophin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生肽链的折叠在肽链合成中、合成后完成，新生肽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在核糖体上一出现，肽链的折叠即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般认为，多肽链自身氨基酸顺序储存着蛋白质折叠的信息，即一级结构是空间构象的基础。细胞中大多数天然蛋白质折叠都不是自动完成，而需要其他酶和蛋白质辅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"/>
          <p:cNvSpPr/>
          <p:nvPr/>
        </p:nvSpPr>
        <p:spPr>
          <a:xfrm>
            <a:off x="250920" y="260280"/>
            <a:ext cx="7272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多肽链折叠为天然构象的蛋白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5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0" dur="500"/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41672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种有促进蛋白质折叠功能的大分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436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分子伴侣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molecular chaper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2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蛋白质二硫键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rotein disulfide isomerase, P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肽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脯氨酰顺反异构酶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peptide prolyl-cis-trans isomerase, PP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1042920" y="3573360"/>
            <a:ext cx="7345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热休克蛋白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heat shock protein, HSP)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7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HSP4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eE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族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伴侣素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chaperonin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6253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L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GroES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家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3"/>
          <p:cNvSpPr/>
          <p:nvPr/>
        </p:nvSpPr>
        <p:spPr>
          <a:xfrm>
            <a:off x="611280" y="476280"/>
            <a:ext cx="2808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分子伴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755640" y="1807560"/>
            <a:ext cx="777708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分子伴侣是细胞中一类保守蛋白质，可识别肽链的非天然构象，促进各功能域和整体蛋白质的正确折叠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457200" y="21520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3"/>
          <p:cNvSpPr/>
          <p:nvPr/>
        </p:nvSpPr>
        <p:spPr>
          <a:xfrm>
            <a:off x="684360" y="1700280"/>
            <a:ext cx="77724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1. 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亚基的聚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血红蛋白通过非共价键将亚基聚合成寡聚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辅基的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如糖蛋白、脂蛋白、各种酶等，合成后需与辅基连接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．疏水脂链的共价连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等需嵌入疏水双层膜脂，才具有活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2"/>
          <p:cNvSpPr/>
          <p:nvPr/>
        </p:nvSpPr>
        <p:spPr>
          <a:xfrm>
            <a:off x="324000" y="333360"/>
            <a:ext cx="604836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三、亚基的聚合和辅基的连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755640" y="2997000"/>
            <a:ext cx="7416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蛋白质合成后需要经过复杂机制，定向输送到最终发挥生物功能的细胞靶部位，这一过程称为蛋白质的靶向输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3"/>
          <p:cNvSpPr/>
          <p:nvPr/>
        </p:nvSpPr>
        <p:spPr>
          <a:xfrm>
            <a:off x="539640" y="1773360"/>
            <a:ext cx="77058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蛋白质的靶向输送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protein targe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"/>
          <p:cNvSpPr/>
          <p:nvPr/>
        </p:nvSpPr>
        <p:spPr>
          <a:xfrm>
            <a:off x="468360" y="404640"/>
            <a:ext cx="576108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四、蛋白质合成后的靶向输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1104480" y="2268360"/>
            <a:ext cx="6870600" cy="311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所有靶向输送的蛋白质结构中存在分选信号，主要为</a:t>
            </a:r>
            <a:r>
              <a:rPr b="1" lang="en-US" sz="3200" spc="-1" strike="noStrike">
                <a:solidFill>
                  <a:srgbClr val="f50f1f"/>
                </a:solidFill>
                <a:latin typeface="黑体"/>
              </a:rPr>
              <a:t>N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末端特异氨基酸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，可引导蛋白质转移到细胞的适当靶部位，这一序列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信号序列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684360" y="836640"/>
            <a:ext cx="7416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信号序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signal sequence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07280" cy="475308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 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蛋白质生物合成的干扰和抑制</a:t>
            </a:r>
            <a:br>
              <a:rPr sz="4400"/>
            </a:br>
            <a:r>
              <a:rPr b="1" lang="en-US" sz="3200" spc="-1" strike="noStrike">
                <a:solidFill>
                  <a:srgbClr val="f50f1f"/>
                </a:solidFill>
                <a:latin typeface="Arial"/>
              </a:rPr>
              <a:t>Interference &amp; Inhibition of Protein  Bi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0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2050920" y="189000"/>
            <a:ext cx="5040360" cy="5814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蛋白质生物合成体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9640" y="981000"/>
          <a:ext cx="7993080" cy="5469120"/>
        </p:xfrm>
        <a:graphic>
          <a:graphicData uri="http://schemas.openxmlformats.org/drawingml/2006/table">
            <a:tbl>
              <a:tblPr/>
              <a:tblGrid>
                <a:gridCol w="3544920"/>
                <a:gridCol w="4448160"/>
              </a:tblGrid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m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RN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种氨基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氨基酰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tRNA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合成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转肽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蛋白质因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起始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I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I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延长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E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终止因子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RF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eRF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A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GTP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  <a:ea typeface="黑体"/>
                        </a:rPr>
                        <a:t>、无机离子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0066"/>
                      </a:solidFill>
                    </a:lnL>
                    <a:lnR w="13680">
                      <a:solidFill>
                        <a:srgbClr val="ff0066"/>
                      </a:solidFill>
                    </a:lnR>
                    <a:lnT w="13680">
                      <a:solidFill>
                        <a:srgbClr val="ff0066"/>
                      </a:solidFill>
                    </a:lnT>
                    <a:lnB w="13680">
                      <a:solidFill>
                        <a:srgbClr val="ff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灯片编号占位符 10"/>
          <p:cNvSpPr/>
          <p:nvPr/>
        </p:nvSpPr>
        <p:spPr>
          <a:xfrm>
            <a:off x="702000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C0F3-C2A0-4882-B81B-22982D79BC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99640" y="1700280"/>
            <a:ext cx="734076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由于</a:t>
            </a:r>
            <a:r>
              <a:rPr b="1" lang="en-US" sz="3200" spc="-1" strike="noStrike">
                <a:solidFill>
                  <a:srgbClr val="000099"/>
                </a:solidFill>
                <a:latin typeface="黑体"/>
              </a:rPr>
              <a:t>DNA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</a:rPr>
              <a:t>分子上基因的缺陷，使其表达生成的多肽链中的某些关键氨基酸发生改变，从而导致蛋白质的功能障碍，并出现相应的临床症状，这类遗传性疾病称为</a:t>
            </a: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分子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"/>
          <p:cNvSpPr/>
          <p:nvPr/>
        </p:nvSpPr>
        <p:spPr>
          <a:xfrm>
            <a:off x="324000" y="476280"/>
            <a:ext cx="5760720" cy="658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一、基因突变可能导致分子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755640" y="549360"/>
            <a:ext cx="770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蛋白质生物合成的阻断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蛋白质生物合成是很多天然抗生素和某些毒素的作用靶点。它们就是通过阻断真核、原核生物蛋白质翻译体系某组分功能，干扰和抑制蛋白质生物合成过程而起作用的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2"/>
          <p:cNvSpPr/>
          <p:nvPr/>
        </p:nvSpPr>
        <p:spPr>
          <a:xfrm>
            <a:off x="755640" y="1628640"/>
            <a:ext cx="77770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抗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(antibiotic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720720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是微生物产生的能够杀灭或抑制细菌的一类药物。通过阻断细菌蛋白质合成而抑制细菌的生长和繁殖，对宿主无毒性的抗生素可用于预防和治疗人、动物和植物的感染性疾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2"/>
          <p:cNvSpPr/>
          <p:nvPr/>
        </p:nvSpPr>
        <p:spPr>
          <a:xfrm>
            <a:off x="324000" y="404640"/>
            <a:ext cx="8064360" cy="659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  <a:ea typeface="黑体"/>
              </a:rPr>
              <a:t>二、某些抗生素影响翻译过程发挥药理作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7" name="Picture 2" descr="抗生素作用点"/>
          <p:cNvPicPr/>
          <p:nvPr/>
        </p:nvPicPr>
        <p:blipFill>
          <a:blip r:embed="rId1"/>
          <a:srcRect l="0" t="0" r="1183" b="0"/>
          <a:stretch/>
        </p:blipFill>
        <p:spPr>
          <a:xfrm>
            <a:off x="1260360" y="1195560"/>
            <a:ext cx="6120000" cy="3674880"/>
          </a:xfrm>
          <a:prstGeom prst="rect">
            <a:avLst/>
          </a:prstGeom>
          <a:ln w="0">
            <a:noFill/>
          </a:ln>
        </p:spPr>
      </p:pic>
      <p:sp>
        <p:nvSpPr>
          <p:cNvPr id="818" name="Line 3"/>
          <p:cNvSpPr/>
          <p:nvPr/>
        </p:nvSpPr>
        <p:spPr>
          <a:xfrm flipH="1" flipV="1">
            <a:off x="5724000" y="3716280"/>
            <a:ext cx="2016360" cy="1008000"/>
          </a:xfrm>
          <a:prstGeom prst="line">
            <a:avLst/>
          </a:prstGeom>
          <a:ln cap="sq" w="38160">
            <a:solidFill>
              <a:srgbClr val="cccc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7740720" y="4292640"/>
            <a:ext cx="718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四环素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Group 5"/>
          <p:cNvGrpSpPr/>
          <p:nvPr/>
        </p:nvGrpSpPr>
        <p:grpSpPr>
          <a:xfrm>
            <a:off x="4861080" y="547560"/>
            <a:ext cx="1436400" cy="1728720"/>
            <a:chOff x="4861080" y="547560"/>
            <a:chExt cx="1436400" cy="1728720"/>
          </a:xfrm>
        </p:grpSpPr>
        <p:sp>
          <p:nvSpPr>
            <p:cNvPr id="821" name="Line 6"/>
            <p:cNvSpPr/>
            <p:nvPr/>
          </p:nvSpPr>
          <p:spPr>
            <a:xfrm flipH="1">
              <a:off x="4861080" y="1143720"/>
              <a:ext cx="618480" cy="11325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Text Box 7"/>
            <p:cNvSpPr/>
            <p:nvPr/>
          </p:nvSpPr>
          <p:spPr>
            <a:xfrm>
              <a:off x="5476680" y="547560"/>
              <a:ext cx="820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氯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Group 8"/>
          <p:cNvGrpSpPr/>
          <p:nvPr/>
        </p:nvGrpSpPr>
        <p:grpSpPr>
          <a:xfrm>
            <a:off x="973800" y="4003200"/>
            <a:ext cx="1887480" cy="1962360"/>
            <a:chOff x="973800" y="4003200"/>
            <a:chExt cx="1887480" cy="1962360"/>
          </a:xfrm>
        </p:grpSpPr>
        <p:sp>
          <p:nvSpPr>
            <p:cNvPr id="824" name="Line 9"/>
            <p:cNvSpPr/>
            <p:nvPr/>
          </p:nvSpPr>
          <p:spPr>
            <a:xfrm flipV="1">
              <a:off x="2411280" y="4003200"/>
              <a:ext cx="362160" cy="1397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Text Box 10"/>
            <p:cNvSpPr/>
            <p:nvPr/>
          </p:nvSpPr>
          <p:spPr>
            <a:xfrm>
              <a:off x="973800" y="5445000"/>
              <a:ext cx="1887480" cy="520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0000"/>
                  </a:solidFill>
                  <a:latin typeface="Times New Roman"/>
                  <a:ea typeface="黑体"/>
                </a:rPr>
                <a:t>链霉素和卡那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Group 11"/>
          <p:cNvGrpSpPr/>
          <p:nvPr/>
        </p:nvGrpSpPr>
        <p:grpSpPr>
          <a:xfrm>
            <a:off x="5481720" y="1495440"/>
            <a:ext cx="2906280" cy="1552320"/>
            <a:chOff x="5481720" y="1495440"/>
            <a:chExt cx="2906280" cy="1552320"/>
          </a:xfrm>
        </p:grpSpPr>
        <p:sp>
          <p:nvSpPr>
            <p:cNvPr id="827" name="Line 12"/>
            <p:cNvSpPr/>
            <p:nvPr/>
          </p:nvSpPr>
          <p:spPr>
            <a:xfrm flipH="1">
              <a:off x="5481720" y="1843560"/>
              <a:ext cx="1069920" cy="120420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Text Box 13"/>
            <p:cNvSpPr/>
            <p:nvPr/>
          </p:nvSpPr>
          <p:spPr>
            <a:xfrm>
              <a:off x="6612480" y="1495440"/>
              <a:ext cx="1775520" cy="5205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嘌呤霉素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Group 14"/>
          <p:cNvGrpSpPr/>
          <p:nvPr/>
        </p:nvGrpSpPr>
        <p:grpSpPr>
          <a:xfrm>
            <a:off x="2269080" y="604800"/>
            <a:ext cx="1775520" cy="1841400"/>
            <a:chOff x="2269080" y="604800"/>
            <a:chExt cx="1775520" cy="1841400"/>
          </a:xfrm>
        </p:grpSpPr>
        <p:sp>
          <p:nvSpPr>
            <p:cNvPr id="830" name="Line 15"/>
            <p:cNvSpPr/>
            <p:nvPr/>
          </p:nvSpPr>
          <p:spPr>
            <a:xfrm>
              <a:off x="2874240" y="1031040"/>
              <a:ext cx="1170360" cy="1415160"/>
            </a:xfrm>
            <a:prstGeom prst="line">
              <a:avLst/>
            </a:prstGeom>
            <a:ln cap="sq" w="38160">
              <a:solidFill>
                <a:srgbClr val="cccc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Text Box 16"/>
            <p:cNvSpPr/>
            <p:nvPr/>
          </p:nvSpPr>
          <p:spPr>
            <a:xfrm>
              <a:off x="2269080" y="604800"/>
              <a:ext cx="10342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放线菌酮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2" name=""/>
          <p:cNvGraphicFramePr/>
          <p:nvPr/>
        </p:nvGraphicFramePr>
        <p:xfrm>
          <a:off x="324000" y="981000"/>
          <a:ext cx="8424720" cy="5112000"/>
        </p:xfrm>
        <a:graphic>
          <a:graphicData uri="http://schemas.openxmlformats.org/drawingml/2006/table">
            <a:tbl>
              <a:tblPr/>
              <a:tblGrid>
                <a:gridCol w="2376360"/>
                <a:gridCol w="1655640"/>
                <a:gridCol w="3024360"/>
                <a:gridCol w="1368360"/>
              </a:tblGrid>
              <a:tr h="426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抗生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用原理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应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四环素族（金霉素 新霉素、土霉素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链霉素、卡那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氯霉素、林可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红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梭链孢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放线菌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嘌呤霉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小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大亚基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真核、原核核蛋白体   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小亚基结合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改变构象引起读码错误、抑制起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妨碍转位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与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EFG-GTP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结合，抑制肽链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抑制转肽酶、阻断延长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氨基酰</a:t>
                      </a: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-tRNA</a:t>
                      </a: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类似物，进位后引起未成熟肽链脱落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菌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医学研究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99"/>
                          </a:solidFill>
                          <a:latin typeface="黑体"/>
                          <a:ea typeface="黑体"/>
                        </a:rPr>
                        <a:t>抗肿瘤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3" name="Rectangle 18"/>
          <p:cNvSpPr/>
          <p:nvPr/>
        </p:nvSpPr>
        <p:spPr>
          <a:xfrm>
            <a:off x="1692360" y="189000"/>
            <a:ext cx="612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抗生素抑制蛋白质生物合成的原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7667640" y="620640"/>
            <a:ext cx="71928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</a:rPr>
              <a:t>嘌呤霉素作用示意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3" descr="嘌呤霉素作用点"/>
          <p:cNvPicPr/>
          <p:nvPr/>
        </p:nvPicPr>
        <p:blipFill>
          <a:blip r:embed="rId1"/>
          <a:stretch/>
        </p:blipFill>
        <p:spPr>
          <a:xfrm>
            <a:off x="68436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1979640" y="2133360"/>
            <a:ext cx="5114880" cy="24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毒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ox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611280" y="620640"/>
            <a:ext cx="7416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二、其他干扰蛋白质生物合成的物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404640"/>
            <a:ext cx="8209080" cy="604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白喉毒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phtheria toxin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0" name="Object 4"/>
          <p:cNvGraphicFramePr/>
          <p:nvPr/>
        </p:nvGraphicFramePr>
        <p:xfrm>
          <a:off x="971640" y="1052640"/>
          <a:ext cx="380988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052640"/>
                    <a:ext cx="380988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5"/>
          <p:cNvGraphicFramePr/>
          <p:nvPr/>
        </p:nvGraphicFramePr>
        <p:xfrm>
          <a:off x="6477120" y="3809880"/>
          <a:ext cx="1447560" cy="4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809880"/>
                    <a:ext cx="14475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6"/>
          <p:cNvGraphicFramePr/>
          <p:nvPr/>
        </p:nvGraphicFramePr>
        <p:xfrm>
          <a:off x="7391520" y="3048120"/>
          <a:ext cx="6444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1520" y="3048120"/>
                    <a:ext cx="6444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7"/>
          <p:cNvGraphicFramePr/>
          <p:nvPr/>
        </p:nvGraphicFramePr>
        <p:xfrm>
          <a:off x="762120" y="4343400"/>
          <a:ext cx="2209680" cy="153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4343400"/>
                    <a:ext cx="22096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8"/>
          <p:cNvGraphicFramePr/>
          <p:nvPr/>
        </p:nvGraphicFramePr>
        <p:xfrm>
          <a:off x="2666880" y="4419720"/>
          <a:ext cx="4724640" cy="1847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4419720"/>
                    <a:ext cx="4724640" cy="18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0" name="Object 9"/>
          <p:cNvGraphicFramePr/>
          <p:nvPr/>
        </p:nvGraphicFramePr>
        <p:xfrm>
          <a:off x="5562720" y="2286000"/>
          <a:ext cx="1676160" cy="99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286000"/>
                    <a:ext cx="16761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Object 10"/>
          <p:cNvGraphicFramePr/>
          <p:nvPr/>
        </p:nvGraphicFramePr>
        <p:xfrm>
          <a:off x="4724280" y="2590920"/>
          <a:ext cx="292320" cy="291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53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724280" y="2590920"/>
                    <a:ext cx="292320" cy="2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71440" y="811080"/>
            <a:ext cx="294336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干扰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1600" y="2006640"/>
            <a:ext cx="7489800" cy="32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0f1f"/>
                </a:solidFill>
                <a:latin typeface="黑体"/>
              </a:rPr>
              <a:t>      </a:t>
            </a:r>
            <a:r>
              <a:rPr b="1" lang="zh-CN" sz="3200" spc="-1" strike="noStrike">
                <a:solidFill>
                  <a:srgbClr val="f50f1f"/>
                </a:solidFill>
                <a:latin typeface="Times New Roman"/>
              </a:rPr>
              <a:t>干扰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interferon, IFN)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真核细胞被病毒感染后分泌的一类具有抗病毒作用的蛋白质，可抑制病毒的繁殖。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对宿主细胞不起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10920" y="620640"/>
            <a:ext cx="7993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干扰素的作用机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Object 4"/>
          <p:cNvGraphicFramePr/>
          <p:nvPr/>
        </p:nvGraphicFramePr>
        <p:xfrm>
          <a:off x="1116000" y="2060640"/>
          <a:ext cx="12780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060640"/>
                    <a:ext cx="127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5"/>
          <p:cNvGraphicFramePr/>
          <p:nvPr/>
        </p:nvGraphicFramePr>
        <p:xfrm>
          <a:off x="2514600" y="1600200"/>
          <a:ext cx="152388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600200"/>
                    <a:ext cx="15238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6"/>
          <p:cNvGraphicFramePr/>
          <p:nvPr/>
        </p:nvGraphicFramePr>
        <p:xfrm>
          <a:off x="2514600" y="2133720"/>
          <a:ext cx="198108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133720"/>
                    <a:ext cx="198108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7"/>
          <p:cNvGraphicFramePr/>
          <p:nvPr/>
        </p:nvGraphicFramePr>
        <p:xfrm>
          <a:off x="2887560" y="2362320"/>
          <a:ext cx="892440" cy="4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87560" y="2362320"/>
                    <a:ext cx="8924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6" name="Object 8"/>
          <p:cNvGraphicFramePr/>
          <p:nvPr/>
        </p:nvGraphicFramePr>
        <p:xfrm>
          <a:off x="4495680" y="1905120"/>
          <a:ext cx="2210040" cy="842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1905120"/>
                    <a:ext cx="221004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8" name="Object 9"/>
          <p:cNvGraphicFramePr/>
          <p:nvPr/>
        </p:nvGraphicFramePr>
        <p:xfrm>
          <a:off x="5410080" y="2666880"/>
          <a:ext cx="368280" cy="1447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10080" y="2666880"/>
                    <a:ext cx="3682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10"/>
          <p:cNvGraphicFramePr/>
          <p:nvPr/>
        </p:nvGraphicFramePr>
        <p:xfrm>
          <a:off x="3886200" y="3352680"/>
          <a:ext cx="371952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86200" y="3352680"/>
                    <a:ext cx="37195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2" name="Object 11"/>
          <p:cNvGraphicFramePr/>
          <p:nvPr/>
        </p:nvGraphicFramePr>
        <p:xfrm>
          <a:off x="3425760" y="5410080"/>
          <a:ext cx="1577880" cy="493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7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25760" y="5410080"/>
                    <a:ext cx="157788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Object 12"/>
          <p:cNvGraphicFramePr/>
          <p:nvPr/>
        </p:nvGraphicFramePr>
        <p:xfrm>
          <a:off x="6240600" y="5410080"/>
          <a:ext cx="1571400" cy="492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7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0600" y="5410080"/>
                    <a:ext cx="157140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324000" y="333360"/>
            <a:ext cx="8208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、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分子含有蛋白质合成的遗传密码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灯片编号占位符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4D6F-C709-4A63-B9B5-8F2C893A72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981000"/>
            <a:ext cx="554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基本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527760" y="1916280"/>
            <a:ext cx="8075520" cy="2215080"/>
            <a:chOff x="527760" y="1916280"/>
            <a:chExt cx="8075520" cy="2215080"/>
          </a:xfrm>
        </p:grpSpPr>
        <p:grpSp>
          <p:nvGrpSpPr>
            <p:cNvPr id="71" name="Group 6"/>
            <p:cNvGrpSpPr/>
            <p:nvPr/>
          </p:nvGrpSpPr>
          <p:grpSpPr>
            <a:xfrm>
              <a:off x="541080" y="1916280"/>
              <a:ext cx="7910280" cy="1755000"/>
              <a:chOff x="541080" y="1916280"/>
              <a:chExt cx="7910280" cy="1755000"/>
            </a:xfrm>
          </p:grpSpPr>
          <p:pic>
            <p:nvPicPr>
              <p:cNvPr id="72" name="Picture 7" descr=""/>
              <p:cNvPicPr/>
              <p:nvPr/>
            </p:nvPicPr>
            <p:blipFill>
              <a:blip r:embed="rId1"/>
              <a:srcRect l="0" t="0" r="0" b="7033"/>
              <a:stretch/>
            </p:blipFill>
            <p:spPr>
              <a:xfrm>
                <a:off x="912600" y="2179440"/>
                <a:ext cx="7319880" cy="149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8"/>
              <p:cNvSpPr/>
              <p:nvPr/>
            </p:nvSpPr>
            <p:spPr>
              <a:xfrm>
                <a:off x="922320" y="1916280"/>
                <a:ext cx="25779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t of genetic message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 flipH="1" flipV="1">
                <a:off x="2283120" y="2196720"/>
                <a:ext cx="19440" cy="441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H="1" flipV="1">
                <a:off x="1060560" y="2529720"/>
                <a:ext cx="298800" cy="264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 flipV="1">
                <a:off x="6875280" y="2266560"/>
                <a:ext cx="223560" cy="262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 flipV="1">
                <a:off x="7938720" y="2355480"/>
                <a:ext cx="203760" cy="357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541080" y="223740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6511680" y="1916280"/>
                <a:ext cx="5634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End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7921800" y="1972440"/>
                <a:ext cx="5295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ail</a:t>
                </a:r>
                <a:endParaRPr b="1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Text Box 16"/>
            <p:cNvSpPr/>
            <p:nvPr/>
          </p:nvSpPr>
          <p:spPr>
            <a:xfrm>
              <a:off x="1022400" y="35686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17"/>
            <p:cNvSpPr/>
            <p:nvPr/>
          </p:nvSpPr>
          <p:spPr>
            <a:xfrm>
              <a:off x="527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18"/>
            <p:cNvSpPr/>
            <p:nvPr/>
          </p:nvSpPr>
          <p:spPr>
            <a:xfrm>
              <a:off x="8204760" y="259812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50021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9"/>
            <p:cNvSpPr/>
            <p:nvPr/>
          </p:nvSpPr>
          <p:spPr>
            <a:xfrm>
              <a:off x="6462000" y="3372480"/>
              <a:ext cx="175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400" spc="-1" strike="noStrike">
                  <a:solidFill>
                    <a:srgbClr val="660066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端非翻译区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0"/>
            <p:cNvSpPr/>
            <p:nvPr/>
          </p:nvSpPr>
          <p:spPr>
            <a:xfrm>
              <a:off x="3817080" y="367164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黑体"/>
                </a:rPr>
                <a:t>开放阅读框架</a:t>
              </a:r>
              <a:r>
                <a:rPr b="1" lang="zh-CN" sz="2400" spc="-1" strike="noStrike">
                  <a:solidFill>
                    <a:srgbClr val="660066"/>
                  </a:solidFill>
                  <a:latin typeface="Times New Roman"/>
                  <a:ea typeface="华文楷体"/>
                </a:rPr>
                <a:t>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AutoShape 21"/>
          <p:cNvSpPr/>
          <p:nvPr/>
        </p:nvSpPr>
        <p:spPr>
          <a:xfrm>
            <a:off x="1116000" y="5013360"/>
            <a:ext cx="6769080" cy="1366920"/>
          </a:xfrm>
          <a:prstGeom prst="wedgeRoundRectCallout">
            <a:avLst>
              <a:gd name="adj1" fmla="val 3472"/>
              <a:gd name="adj2" fmla="val -12038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从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mRNA 5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起始密码子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AUG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到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-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端终止密码子之间的核苷酸序列，称为</a:t>
            </a:r>
            <a:r>
              <a:rPr b="1" lang="zh-CN" sz="2400" spc="-1" strike="noStrike">
                <a:solidFill>
                  <a:srgbClr val="c00000"/>
                </a:solidFill>
                <a:latin typeface="Times New Roman"/>
                <a:ea typeface="黑体"/>
              </a:rPr>
              <a:t>开放阅读框架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(open  reading  frame, ORF)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8" name="Object 4"/>
          <p:cNvGraphicFramePr/>
          <p:nvPr/>
        </p:nvGraphicFramePr>
        <p:xfrm>
          <a:off x="2340000" y="695160"/>
          <a:ext cx="1341360" cy="5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695160"/>
                    <a:ext cx="134136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0" name="Object 5"/>
          <p:cNvGraphicFramePr/>
          <p:nvPr/>
        </p:nvGraphicFramePr>
        <p:xfrm>
          <a:off x="3200400" y="1371600"/>
          <a:ext cx="1219320" cy="56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371600"/>
                    <a:ext cx="12193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2" name="Object 6"/>
          <p:cNvGraphicFramePr/>
          <p:nvPr/>
        </p:nvGraphicFramePr>
        <p:xfrm>
          <a:off x="2209680" y="1447920"/>
          <a:ext cx="781200" cy="4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1447920"/>
                    <a:ext cx="78120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4" name="Object 7"/>
          <p:cNvGraphicFramePr/>
          <p:nvPr/>
        </p:nvGraphicFramePr>
        <p:xfrm>
          <a:off x="2971800" y="1143000"/>
          <a:ext cx="266760" cy="10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8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1143000"/>
                    <a:ext cx="26676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6" name="Object 8"/>
          <p:cNvGraphicFramePr/>
          <p:nvPr/>
        </p:nvGraphicFramePr>
        <p:xfrm>
          <a:off x="1905120" y="2133720"/>
          <a:ext cx="2327040" cy="67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7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05120" y="2133720"/>
                    <a:ext cx="232704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8" name="Object 9"/>
          <p:cNvGraphicFramePr/>
          <p:nvPr/>
        </p:nvGraphicFramePr>
        <p:xfrm>
          <a:off x="1828800" y="2666880"/>
          <a:ext cx="2581200" cy="30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89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2666880"/>
                    <a:ext cx="25812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0" name="Object 10"/>
          <p:cNvGraphicFramePr/>
          <p:nvPr/>
        </p:nvGraphicFramePr>
        <p:xfrm>
          <a:off x="838080" y="2133720"/>
          <a:ext cx="946440" cy="121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91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8080" y="2133720"/>
                    <a:ext cx="94644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2" name="Object 11"/>
          <p:cNvGraphicFramePr/>
          <p:nvPr/>
        </p:nvGraphicFramePr>
        <p:xfrm>
          <a:off x="1139760" y="3375000"/>
          <a:ext cx="768240" cy="341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93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39760" y="3375000"/>
                    <a:ext cx="7682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4" name="Object 12"/>
          <p:cNvGraphicFramePr/>
          <p:nvPr/>
        </p:nvGraphicFramePr>
        <p:xfrm>
          <a:off x="4419720" y="2133720"/>
          <a:ext cx="2101680" cy="1341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95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419720" y="2133720"/>
                    <a:ext cx="2101680" cy="13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13"/>
          <p:cNvGraphicFramePr/>
          <p:nvPr/>
        </p:nvGraphicFramePr>
        <p:xfrm>
          <a:off x="5178600" y="3513240"/>
          <a:ext cx="1122120" cy="4204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97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178600" y="3513240"/>
                    <a:ext cx="112212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8" name="Object 14"/>
          <p:cNvGraphicFramePr/>
          <p:nvPr/>
        </p:nvGraphicFramePr>
        <p:xfrm>
          <a:off x="5562720" y="3809880"/>
          <a:ext cx="195120" cy="762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99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62720" y="3809880"/>
                    <a:ext cx="1951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15"/>
          <p:cNvGraphicFramePr/>
          <p:nvPr/>
        </p:nvGraphicFramePr>
        <p:xfrm>
          <a:off x="5715000" y="4038480"/>
          <a:ext cx="53352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901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715000" y="4038480"/>
                    <a:ext cx="533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16"/>
          <p:cNvGraphicFramePr/>
          <p:nvPr/>
        </p:nvGraphicFramePr>
        <p:xfrm>
          <a:off x="3429000" y="4419720"/>
          <a:ext cx="1427040" cy="390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903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419720"/>
                    <a:ext cx="142704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17"/>
          <p:cNvGraphicFramePr/>
          <p:nvPr/>
        </p:nvGraphicFramePr>
        <p:xfrm>
          <a:off x="4724280" y="4343400"/>
          <a:ext cx="2057400" cy="4032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905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724280" y="4343400"/>
                    <a:ext cx="20574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6" name="Object 18"/>
          <p:cNvGraphicFramePr/>
          <p:nvPr/>
        </p:nvGraphicFramePr>
        <p:xfrm>
          <a:off x="6629400" y="4343400"/>
          <a:ext cx="1427040" cy="3906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07" name="Object 18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6629400" y="4343400"/>
                    <a:ext cx="142704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19"/>
          <p:cNvGraphicFramePr/>
          <p:nvPr/>
        </p:nvGraphicFramePr>
        <p:xfrm>
          <a:off x="3425760" y="4826160"/>
          <a:ext cx="1290600" cy="4032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909" name="Object 19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5760" y="4826160"/>
                    <a:ext cx="129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0" name="Object 20"/>
          <p:cNvGraphicFramePr/>
          <p:nvPr/>
        </p:nvGraphicFramePr>
        <p:xfrm>
          <a:off x="6629400" y="4724280"/>
          <a:ext cx="1371600" cy="4287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911" name="Object 20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629400" y="4724280"/>
                    <a:ext cx="13716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2" name="Object 21"/>
          <p:cNvGraphicFramePr/>
          <p:nvPr/>
        </p:nvGraphicFramePr>
        <p:xfrm>
          <a:off x="7162920" y="5105520"/>
          <a:ext cx="195120" cy="7617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913" name="Object 21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7162920" y="5105520"/>
                    <a:ext cx="1951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4" name="Object 22"/>
          <p:cNvGraphicFramePr/>
          <p:nvPr/>
        </p:nvGraphicFramePr>
        <p:xfrm>
          <a:off x="7315200" y="5257800"/>
          <a:ext cx="701640" cy="39852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915" name="Object 22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7315200" y="5257800"/>
                    <a:ext cx="70164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6" name="Object 23"/>
          <p:cNvGraphicFramePr/>
          <p:nvPr/>
        </p:nvGraphicFramePr>
        <p:xfrm>
          <a:off x="6705720" y="5791320"/>
          <a:ext cx="1160280" cy="3697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917" name="Object 23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6705720" y="5791320"/>
                    <a:ext cx="116028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0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395280" y="62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原核生物的多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95280" y="306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真核生物的单顺反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43120" y="520236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1763640" y="5516640"/>
            <a:ext cx="6337440" cy="978840"/>
            <a:chOff x="1763640" y="5516640"/>
            <a:chExt cx="6337440" cy="978840"/>
          </a:xfrm>
        </p:grpSpPr>
        <p:sp>
          <p:nvSpPr>
            <p:cNvPr id="91" name="Rectangle 6"/>
            <p:cNvSpPr/>
            <p:nvPr/>
          </p:nvSpPr>
          <p:spPr>
            <a:xfrm>
              <a:off x="1763640" y="5641920"/>
              <a:ext cx="576360" cy="21600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7"/>
            <p:cNvSpPr/>
            <p:nvPr/>
          </p:nvSpPr>
          <p:spPr>
            <a:xfrm>
              <a:off x="2693520" y="5516640"/>
              <a:ext cx="109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非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8"/>
            <p:cNvSpPr/>
            <p:nvPr/>
          </p:nvSpPr>
          <p:spPr>
            <a:xfrm>
              <a:off x="4572000" y="5641920"/>
              <a:ext cx="689040" cy="216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9"/>
            <p:cNvSpPr/>
            <p:nvPr/>
          </p:nvSpPr>
          <p:spPr>
            <a:xfrm>
              <a:off x="5718960" y="5516640"/>
              <a:ext cx="1465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核糖体结合位点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3881520" y="6116760"/>
              <a:ext cx="287280" cy="21564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1"/>
            <p:cNvSpPr/>
            <p:nvPr/>
          </p:nvSpPr>
          <p:spPr>
            <a:xfrm>
              <a:off x="4140360" y="6030720"/>
              <a:ext cx="2089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起始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5796000" y="6138720"/>
              <a:ext cx="287280" cy="216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13"/>
            <p:cNvSpPr/>
            <p:nvPr/>
          </p:nvSpPr>
          <p:spPr>
            <a:xfrm>
              <a:off x="6084720" y="6037200"/>
              <a:ext cx="2016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终止密码子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1763640" y="6095880"/>
              <a:ext cx="576360" cy="216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5"/>
            <p:cNvSpPr/>
            <p:nvPr/>
          </p:nvSpPr>
          <p:spPr>
            <a:xfrm>
              <a:off x="2340000" y="6016680"/>
              <a:ext cx="1440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编码序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1104120" y="1309680"/>
            <a:ext cx="7823880" cy="1533240"/>
            <a:chOff x="1104120" y="1309680"/>
            <a:chExt cx="7823880" cy="1533240"/>
          </a:xfrm>
        </p:grpSpPr>
        <p:sp>
          <p:nvSpPr>
            <p:cNvPr id="102" name="Rectangle 17"/>
            <p:cNvSpPr/>
            <p:nvPr/>
          </p:nvSpPr>
          <p:spPr>
            <a:xfrm>
              <a:off x="1979640" y="1460520"/>
              <a:ext cx="6013440" cy="18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18"/>
            <p:cNvSpPr/>
            <p:nvPr/>
          </p:nvSpPr>
          <p:spPr>
            <a:xfrm>
              <a:off x="1476360" y="1460520"/>
              <a:ext cx="503280" cy="214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PPP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9"/>
            <p:cNvSpPr/>
            <p:nvPr/>
          </p:nvSpPr>
          <p:spPr>
            <a:xfrm>
              <a:off x="2014560" y="1458720"/>
              <a:ext cx="719280" cy="20808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20"/>
            <p:cNvSpPr/>
            <p:nvPr/>
          </p:nvSpPr>
          <p:spPr>
            <a:xfrm>
              <a:off x="2700360" y="1458720"/>
              <a:ext cx="287280" cy="2080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>
              <a:off x="2987640" y="1458720"/>
              <a:ext cx="136836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>
              <a:off x="298764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3"/>
            <p:cNvSpPr/>
            <p:nvPr/>
          </p:nvSpPr>
          <p:spPr>
            <a:xfrm>
              <a:off x="4356000" y="1460520"/>
              <a:ext cx="7164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4"/>
            <p:cNvSpPr/>
            <p:nvPr/>
          </p:nvSpPr>
          <p:spPr>
            <a:xfrm>
              <a:off x="4427640" y="1458720"/>
              <a:ext cx="143964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4427640" y="1460520"/>
              <a:ext cx="7128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6"/>
            <p:cNvSpPr/>
            <p:nvPr/>
          </p:nvSpPr>
          <p:spPr>
            <a:xfrm>
              <a:off x="579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7"/>
            <p:cNvSpPr/>
            <p:nvPr/>
          </p:nvSpPr>
          <p:spPr>
            <a:xfrm>
              <a:off x="5867280" y="1458720"/>
              <a:ext cx="1440000" cy="2080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28"/>
            <p:cNvSpPr/>
            <p:nvPr/>
          </p:nvSpPr>
          <p:spPr>
            <a:xfrm>
              <a:off x="5867280" y="1460520"/>
              <a:ext cx="71640" cy="19836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9"/>
            <p:cNvSpPr/>
            <p:nvPr/>
          </p:nvSpPr>
          <p:spPr>
            <a:xfrm>
              <a:off x="7236000" y="1460520"/>
              <a:ext cx="71280" cy="198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30"/>
            <p:cNvSpPr/>
            <p:nvPr/>
          </p:nvSpPr>
          <p:spPr>
            <a:xfrm>
              <a:off x="7307280" y="1460520"/>
              <a:ext cx="719280" cy="207720"/>
            </a:xfrm>
            <a:prstGeom prst="rect">
              <a:avLst/>
            </a:prstGeom>
            <a:solidFill>
              <a:srgbClr val="8d8d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31"/>
            <p:cNvSpPr/>
            <p:nvPr/>
          </p:nvSpPr>
          <p:spPr>
            <a:xfrm>
              <a:off x="363528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32"/>
            <p:cNvSpPr/>
            <p:nvPr/>
          </p:nvSpPr>
          <p:spPr>
            <a:xfrm>
              <a:off x="514656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33"/>
            <p:cNvSpPr/>
            <p:nvPr/>
          </p:nvSpPr>
          <p:spPr>
            <a:xfrm>
              <a:off x="6588000" y="1820880"/>
              <a:ext cx="0" cy="433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3130560" y="2323800"/>
              <a:ext cx="1152360" cy="35892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358920"/>
                <a:gd name="textAreaBottom" fmla="*/ 358920 h 358920"/>
              </a:gdLst>
              <a:ahLst/>
              <a:rect l="textAreaLeft" t="textAreaTop" r="textAreaRight" b="textAreaBottom"/>
              <a:pathLst>
                <a:path w="1044" h="151">
                  <a:moveTo>
                    <a:pt x="0" y="98"/>
                  </a:moveTo>
                  <a:cubicBezTo>
                    <a:pt x="30" y="71"/>
                    <a:pt x="61" y="45"/>
                    <a:pt x="91" y="52"/>
                  </a:cubicBezTo>
                  <a:cubicBezTo>
                    <a:pt x="121" y="59"/>
                    <a:pt x="152" y="143"/>
                    <a:pt x="182" y="143"/>
                  </a:cubicBezTo>
                  <a:cubicBezTo>
                    <a:pt x="212" y="143"/>
                    <a:pt x="235" y="52"/>
                    <a:pt x="273" y="52"/>
                  </a:cubicBezTo>
                  <a:cubicBezTo>
                    <a:pt x="311" y="52"/>
                    <a:pt x="371" y="143"/>
                    <a:pt x="409" y="143"/>
                  </a:cubicBezTo>
                  <a:cubicBezTo>
                    <a:pt x="447" y="143"/>
                    <a:pt x="461" y="52"/>
                    <a:pt x="499" y="52"/>
                  </a:cubicBezTo>
                  <a:cubicBezTo>
                    <a:pt x="537" y="52"/>
                    <a:pt x="590" y="143"/>
                    <a:pt x="635" y="143"/>
                  </a:cubicBezTo>
                  <a:cubicBezTo>
                    <a:pt x="680" y="143"/>
                    <a:pt x="734" y="52"/>
                    <a:pt x="772" y="52"/>
                  </a:cubicBezTo>
                  <a:cubicBezTo>
                    <a:pt x="810" y="52"/>
                    <a:pt x="824" y="151"/>
                    <a:pt x="862" y="143"/>
                  </a:cubicBezTo>
                  <a:cubicBezTo>
                    <a:pt x="900" y="135"/>
                    <a:pt x="968" y="14"/>
                    <a:pt x="998" y="7"/>
                  </a:cubicBezTo>
                  <a:cubicBezTo>
                    <a:pt x="1028" y="0"/>
                    <a:pt x="1036" y="49"/>
                    <a:pt x="1044" y="98"/>
                  </a:cubicBezTo>
                </a:path>
              </a:pathLst>
            </a:custGeom>
            <a:noFill/>
            <a:ln w="7632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4498920" y="2468520"/>
              <a:ext cx="1225440" cy="155520"/>
            </a:xfrm>
            <a:custGeom>
              <a:avLst/>
              <a:gdLst>
                <a:gd name="textAreaLeft" fmla="*/ 0 w 1225440"/>
                <a:gd name="textAreaRight" fmla="*/ 1225800 w 12254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953" h="151">
                  <a:moveTo>
                    <a:pt x="0" y="7"/>
                  </a:moveTo>
                  <a:cubicBezTo>
                    <a:pt x="64" y="71"/>
                    <a:pt x="129" y="135"/>
                    <a:pt x="182" y="143"/>
                  </a:cubicBezTo>
                  <a:cubicBezTo>
                    <a:pt x="235" y="151"/>
                    <a:pt x="280" y="61"/>
                    <a:pt x="318" y="53"/>
                  </a:cubicBezTo>
                  <a:cubicBezTo>
                    <a:pt x="356" y="45"/>
                    <a:pt x="378" y="106"/>
                    <a:pt x="408" y="98"/>
                  </a:cubicBezTo>
                  <a:cubicBezTo>
                    <a:pt x="438" y="90"/>
                    <a:pt x="461" y="7"/>
                    <a:pt x="499" y="7"/>
                  </a:cubicBezTo>
                  <a:cubicBezTo>
                    <a:pt x="537" y="7"/>
                    <a:pt x="590" y="98"/>
                    <a:pt x="635" y="98"/>
                  </a:cubicBezTo>
                  <a:cubicBezTo>
                    <a:pt x="680" y="98"/>
                    <a:pt x="733" y="0"/>
                    <a:pt x="771" y="7"/>
                  </a:cubicBezTo>
                  <a:cubicBezTo>
                    <a:pt x="809" y="14"/>
                    <a:pt x="832" y="143"/>
                    <a:pt x="862" y="143"/>
                  </a:cubicBezTo>
                  <a:cubicBezTo>
                    <a:pt x="892" y="143"/>
                    <a:pt x="938" y="30"/>
                    <a:pt x="953" y="7"/>
                  </a:cubicBezTo>
                </a:path>
              </a:pathLst>
            </a:custGeom>
            <a:noFill/>
            <a:ln w="763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6083280" y="2396880"/>
              <a:ext cx="1224000" cy="216000"/>
            </a:xfrm>
            <a:custGeom>
              <a:avLst/>
              <a:gdLst>
                <a:gd name="textAreaLeft" fmla="*/ 0 w 1224000"/>
                <a:gd name="textAreaRight" fmla="*/ 1224360 w 12240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952" h="205">
                  <a:moveTo>
                    <a:pt x="0" y="152"/>
                  </a:moveTo>
                  <a:cubicBezTo>
                    <a:pt x="53" y="106"/>
                    <a:pt x="106" y="61"/>
                    <a:pt x="136" y="61"/>
                  </a:cubicBezTo>
                  <a:cubicBezTo>
                    <a:pt x="166" y="61"/>
                    <a:pt x="151" y="152"/>
                    <a:pt x="181" y="152"/>
                  </a:cubicBezTo>
                  <a:cubicBezTo>
                    <a:pt x="211" y="152"/>
                    <a:pt x="287" y="54"/>
                    <a:pt x="317" y="61"/>
                  </a:cubicBezTo>
                  <a:cubicBezTo>
                    <a:pt x="347" y="68"/>
                    <a:pt x="325" y="205"/>
                    <a:pt x="363" y="197"/>
                  </a:cubicBezTo>
                  <a:cubicBezTo>
                    <a:pt x="401" y="189"/>
                    <a:pt x="499" y="30"/>
                    <a:pt x="544" y="15"/>
                  </a:cubicBezTo>
                  <a:cubicBezTo>
                    <a:pt x="589" y="0"/>
                    <a:pt x="612" y="83"/>
                    <a:pt x="635" y="106"/>
                  </a:cubicBezTo>
                  <a:cubicBezTo>
                    <a:pt x="658" y="129"/>
                    <a:pt x="665" y="152"/>
                    <a:pt x="680" y="152"/>
                  </a:cubicBezTo>
                  <a:cubicBezTo>
                    <a:pt x="695" y="152"/>
                    <a:pt x="703" y="99"/>
                    <a:pt x="726" y="106"/>
                  </a:cubicBezTo>
                  <a:cubicBezTo>
                    <a:pt x="749" y="113"/>
                    <a:pt x="793" y="197"/>
                    <a:pt x="816" y="197"/>
                  </a:cubicBezTo>
                  <a:cubicBezTo>
                    <a:pt x="839" y="197"/>
                    <a:pt x="839" y="113"/>
                    <a:pt x="862" y="106"/>
                  </a:cubicBezTo>
                  <a:cubicBezTo>
                    <a:pt x="885" y="99"/>
                    <a:pt x="937" y="144"/>
                    <a:pt x="952" y="152"/>
                  </a:cubicBezTo>
                </a:path>
              </a:pathLst>
            </a:custGeom>
            <a:noFill/>
            <a:ln w="7632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37"/>
            <p:cNvSpPr/>
            <p:nvPr/>
          </p:nvSpPr>
          <p:spPr>
            <a:xfrm>
              <a:off x="1104120" y="134604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38"/>
            <p:cNvSpPr/>
            <p:nvPr/>
          </p:nvSpPr>
          <p:spPr>
            <a:xfrm>
              <a:off x="8016120" y="1309680"/>
              <a:ext cx="39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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39"/>
            <p:cNvSpPr/>
            <p:nvPr/>
          </p:nvSpPr>
          <p:spPr>
            <a:xfrm>
              <a:off x="7596360" y="2323800"/>
              <a:ext cx="1331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50f1f"/>
                  </a:solidFill>
                  <a:latin typeface="黑体"/>
                  <a:ea typeface="黑体"/>
                </a:rPr>
                <a:t>蛋白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858240" y="3716280"/>
            <a:ext cx="8069760" cy="1390320"/>
            <a:chOff x="858240" y="3716280"/>
            <a:chExt cx="8069760" cy="1390320"/>
          </a:xfrm>
        </p:grpSpPr>
        <p:grpSp>
          <p:nvGrpSpPr>
            <p:cNvPr id="126" name="Group 41"/>
            <p:cNvGrpSpPr/>
            <p:nvPr/>
          </p:nvGrpSpPr>
          <p:grpSpPr>
            <a:xfrm>
              <a:off x="858240" y="3716280"/>
              <a:ext cx="8069760" cy="1390320"/>
              <a:chOff x="858240" y="3716280"/>
              <a:chExt cx="8069760" cy="1390320"/>
            </a:xfrm>
          </p:grpSpPr>
          <p:sp>
            <p:nvSpPr>
              <p:cNvPr id="127" name="Line 42"/>
              <p:cNvSpPr/>
              <p:nvPr/>
            </p:nvSpPr>
            <p:spPr>
              <a:xfrm>
                <a:off x="5184720" y="4227120"/>
                <a:ext cx="0" cy="4320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43"/>
              <p:cNvSpPr/>
              <p:nvPr/>
            </p:nvSpPr>
            <p:spPr>
              <a:xfrm>
                <a:off x="3240000" y="4695480"/>
                <a:ext cx="4105440" cy="395280"/>
              </a:xfrm>
              <a:custGeom>
                <a:avLst/>
                <a:gdLst>
                  <a:gd name="textAreaLeft" fmla="*/ 0 w 4105440"/>
                  <a:gd name="textAreaRight" fmla="*/ 4105800 w 4105440"/>
                  <a:gd name="textAreaTop" fmla="*/ 0 h 395280"/>
                  <a:gd name="textAreaBottom" fmla="*/ 395640 h 395280"/>
                </a:gdLst>
                <a:ahLst/>
                <a:rect l="textAreaLeft" t="textAreaTop" r="textAreaRight" b="textAreaBottom"/>
                <a:pathLst>
                  <a:path w="2495" h="249">
                    <a:moveTo>
                      <a:pt x="0" y="105"/>
                    </a:moveTo>
                    <a:cubicBezTo>
                      <a:pt x="106" y="132"/>
                      <a:pt x="212" y="159"/>
                      <a:pt x="272" y="151"/>
                    </a:cubicBezTo>
                    <a:cubicBezTo>
                      <a:pt x="332" y="143"/>
                      <a:pt x="325" y="53"/>
                      <a:pt x="363" y="60"/>
                    </a:cubicBezTo>
                    <a:cubicBezTo>
                      <a:pt x="401" y="67"/>
                      <a:pt x="454" y="189"/>
                      <a:pt x="499" y="196"/>
                    </a:cubicBezTo>
                    <a:cubicBezTo>
                      <a:pt x="544" y="203"/>
                      <a:pt x="590" y="105"/>
                      <a:pt x="635" y="105"/>
                    </a:cubicBezTo>
                    <a:cubicBezTo>
                      <a:pt x="680" y="105"/>
                      <a:pt x="703" y="203"/>
                      <a:pt x="771" y="196"/>
                    </a:cubicBezTo>
                    <a:cubicBezTo>
                      <a:pt x="839" y="189"/>
                      <a:pt x="967" y="60"/>
                      <a:pt x="1043" y="60"/>
                    </a:cubicBezTo>
                    <a:cubicBezTo>
                      <a:pt x="1119" y="60"/>
                      <a:pt x="1149" y="196"/>
                      <a:pt x="1225" y="196"/>
                    </a:cubicBezTo>
                    <a:cubicBezTo>
                      <a:pt x="1301" y="196"/>
                      <a:pt x="1422" y="60"/>
                      <a:pt x="1497" y="60"/>
                    </a:cubicBezTo>
                    <a:cubicBezTo>
                      <a:pt x="1572" y="60"/>
                      <a:pt x="1602" y="196"/>
                      <a:pt x="1678" y="196"/>
                    </a:cubicBezTo>
                    <a:cubicBezTo>
                      <a:pt x="1754" y="196"/>
                      <a:pt x="1875" y="53"/>
                      <a:pt x="1951" y="60"/>
                    </a:cubicBezTo>
                    <a:cubicBezTo>
                      <a:pt x="2027" y="67"/>
                      <a:pt x="2072" y="249"/>
                      <a:pt x="2132" y="241"/>
                    </a:cubicBezTo>
                    <a:cubicBezTo>
                      <a:pt x="2192" y="233"/>
                      <a:pt x="2261" y="30"/>
                      <a:pt x="2314" y="15"/>
                    </a:cubicBezTo>
                    <a:cubicBezTo>
                      <a:pt x="2367" y="0"/>
                      <a:pt x="2420" y="136"/>
                      <a:pt x="2450" y="151"/>
                    </a:cubicBezTo>
                    <a:cubicBezTo>
                      <a:pt x="2480" y="166"/>
                      <a:pt x="2488" y="105"/>
                      <a:pt x="2495" y="105"/>
                    </a:cubicBezTo>
                  </a:path>
                </a:pathLst>
              </a:custGeom>
              <a:noFill/>
              <a:ln w="7632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44"/>
              <p:cNvGrpSpPr/>
              <p:nvPr/>
            </p:nvGrpSpPr>
            <p:grpSpPr>
              <a:xfrm>
                <a:off x="858240" y="3746160"/>
                <a:ext cx="7349040" cy="409680"/>
                <a:chOff x="858240" y="3746160"/>
                <a:chExt cx="7349040" cy="409680"/>
              </a:xfrm>
            </p:grpSpPr>
            <p:sp>
              <p:nvSpPr>
                <p:cNvPr id="130" name="Rectangle 45"/>
                <p:cNvSpPr/>
                <p:nvPr/>
              </p:nvSpPr>
              <p:spPr>
                <a:xfrm>
                  <a:off x="3168720" y="3914640"/>
                  <a:ext cx="71280" cy="215640"/>
                </a:xfrm>
                <a:prstGeom prst="rect">
                  <a:avLst/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46"/>
                <p:cNvSpPr/>
                <p:nvPr/>
              </p:nvSpPr>
              <p:spPr>
                <a:xfrm>
                  <a:off x="7416720" y="3914640"/>
                  <a:ext cx="71640" cy="2156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" name="Group 47"/>
                <p:cNvGrpSpPr/>
                <p:nvPr/>
              </p:nvGrpSpPr>
              <p:grpSpPr>
                <a:xfrm>
                  <a:off x="858240" y="3746160"/>
                  <a:ext cx="7349040" cy="409680"/>
                  <a:chOff x="858240" y="3746160"/>
                  <a:chExt cx="7349040" cy="409680"/>
                </a:xfrm>
              </p:grpSpPr>
              <p:sp>
                <p:nvSpPr>
                  <p:cNvPr id="133" name="Rectangle 48"/>
                  <p:cNvSpPr/>
                  <p:nvPr/>
                </p:nvSpPr>
                <p:spPr>
                  <a:xfrm>
                    <a:off x="2268360" y="3909600"/>
                    <a:ext cx="5905800" cy="185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Oval 49"/>
                  <p:cNvSpPr/>
                  <p:nvPr/>
                </p:nvSpPr>
                <p:spPr>
                  <a:xfrm>
                    <a:off x="1820880" y="3866760"/>
                    <a:ext cx="433440" cy="2890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PPP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Rectangle 50"/>
                  <p:cNvSpPr/>
                  <p:nvPr/>
                </p:nvSpPr>
                <p:spPr>
                  <a:xfrm>
                    <a:off x="2465280" y="3916080"/>
                    <a:ext cx="719280" cy="21600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Rectangle 51"/>
                  <p:cNvSpPr/>
                  <p:nvPr/>
                </p:nvSpPr>
                <p:spPr>
                  <a:xfrm>
                    <a:off x="2338560" y="3914640"/>
                    <a:ext cx="298440" cy="21564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Rectangle 52"/>
                  <p:cNvSpPr/>
                  <p:nvPr/>
                </p:nvSpPr>
                <p:spPr>
                  <a:xfrm>
                    <a:off x="3240000" y="3914640"/>
                    <a:ext cx="4176720" cy="21564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Rectangle 53"/>
                  <p:cNvSpPr/>
                  <p:nvPr/>
                </p:nvSpPr>
                <p:spPr>
                  <a:xfrm>
                    <a:off x="7488360" y="3914640"/>
                    <a:ext cx="718920" cy="215640"/>
                  </a:xfrm>
                  <a:prstGeom prst="rect">
                    <a:avLst/>
                  </a:prstGeom>
                  <a:solidFill>
                    <a:srgbClr val="8d8d8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Text Box 54"/>
                  <p:cNvSpPr/>
                  <p:nvPr/>
                </p:nvSpPr>
                <p:spPr>
                  <a:xfrm>
                    <a:off x="1173960" y="3757320"/>
                    <a:ext cx="6559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 baseline="30000">
                        <a:solidFill>
                          <a:srgbClr val="000099"/>
                        </a:solidFill>
                        <a:latin typeface="Times New Roman"/>
                      </a:rPr>
                      <a:t>m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G -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Text Box 55"/>
                  <p:cNvSpPr/>
                  <p:nvPr/>
                </p:nvSpPr>
                <p:spPr>
                  <a:xfrm>
                    <a:off x="858240" y="3746160"/>
                    <a:ext cx="39852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Times New Roman"/>
                      </a:rPr>
                      <a:t>5</a:t>
                    </a:r>
                    <a:r>
                      <a:rPr b="1" lang="en-US" sz="2000" spc="-1" strike="noStrike">
                        <a:solidFill>
                          <a:srgbClr val="000099"/>
                        </a:solidFill>
                        <a:latin typeface="Symbol"/>
                        <a:ea typeface="Symbol"/>
                      </a:rPr>
                      <a:t>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Text Box 56"/>
              <p:cNvSpPr/>
              <p:nvPr/>
            </p:nvSpPr>
            <p:spPr>
              <a:xfrm>
                <a:off x="8125560" y="3716280"/>
                <a:ext cx="3985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99"/>
                    </a:solidFill>
                    <a:latin typeface="Times New Roman"/>
                  </a:rPr>
                  <a:t>3</a:t>
                </a:r>
                <a:r>
                  <a:rPr b="1" lang="en-U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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Text Box 57"/>
              <p:cNvSpPr/>
              <p:nvPr/>
            </p:nvSpPr>
            <p:spPr>
              <a:xfrm>
                <a:off x="7524720" y="4587480"/>
                <a:ext cx="140328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50f1f"/>
                    </a:solidFill>
                    <a:latin typeface="黑体"/>
                    <a:ea typeface="黑体"/>
                  </a:rPr>
                  <a:t>蛋白质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58"/>
            <p:cNvSpPr/>
            <p:nvPr/>
          </p:nvSpPr>
          <p:spPr>
            <a:xfrm>
              <a:off x="7561080" y="388908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AAA </a:t>
              </a: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…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灯片编号占位符 10"/>
          <p:cNvSpPr/>
          <p:nvPr/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E0DD-2964-450E-B585-2A128EE28E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02:28:32Z</dcterms:created>
  <dc:creator>LiGang</dc:creator>
  <dc:description/>
  <dc:language>en-US</dc:language>
  <cp:lastModifiedBy>ZhangLL</cp:lastModifiedBy>
  <dcterms:modified xsi:type="dcterms:W3CDTF">2014-12-04T06:34:57Z</dcterms:modified>
  <cp:revision>783</cp:revision>
  <dc:subject/>
  <dc:title>PowerPoint 演示文稿</dc:title>
</cp:coreProperties>
</file>