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7F06-BBFC-47B4-936F-0C8C85F23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085F-7370-494D-92D8-FBAA2EF1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94BD-24F3-48E7-BB3C-56533B69A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F92E-116B-4DB3-863B-043D2571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F050-37B9-4176-BE7B-AE6C17C7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5E6B-D31B-41AC-AA4D-B33E2544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20A1-1EBB-4239-B616-73FA2708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074B-9E93-4227-B17E-2BC482BE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5EC1-F361-4C71-8854-EA87CE7F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DA12-CABB-48D3-AEF7-8BB79D20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58C4-DD4A-4F73-9133-69B4F13B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FC2C-8E82-4DAD-8412-2B2FC992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7B1A-F94A-44E5-854D-7D25A6E7C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八章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细胞增殖调控分子</a:t>
            </a:r>
            <a:br>
              <a:rPr sz="4800"/>
            </a:b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Regulators of Cellular Proliferation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00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二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肿瘤抑制基因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tumor suppressor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684360" y="1989000"/>
            <a:ext cx="77054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肿瘤抑制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tumor suppressor gene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7160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抑制细胞过度生长、增殖从而遏制肿瘤形成的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00000" y="404640"/>
            <a:ext cx="6337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肿瘤抑制基因的基本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187280" y="4762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杂交试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3429000" y="3429000"/>
            <a:ext cx="1752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1328760" y="1833480"/>
            <a:ext cx="6077520" cy="1106280"/>
            <a:chOff x="1328760" y="1833480"/>
            <a:chExt cx="6077520" cy="1106280"/>
          </a:xfrm>
        </p:grpSpPr>
        <p:sp>
          <p:nvSpPr>
            <p:cNvPr id="63" name="Text Box 5"/>
            <p:cNvSpPr/>
            <p:nvPr/>
          </p:nvSpPr>
          <p:spPr>
            <a:xfrm>
              <a:off x="1328760" y="18856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1328760" y="2419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"/>
            <p:cNvSpPr/>
            <p:nvPr/>
          </p:nvSpPr>
          <p:spPr>
            <a:xfrm>
              <a:off x="2995560" y="22903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8"/>
            <p:cNvSpPr/>
            <p:nvPr/>
          </p:nvSpPr>
          <p:spPr>
            <a:xfrm flipV="1">
              <a:off x="2995560" y="2595240"/>
              <a:ext cx="312480" cy="15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"/>
            <p:cNvSpPr/>
            <p:nvPr/>
          </p:nvSpPr>
          <p:spPr>
            <a:xfrm flipV="1">
              <a:off x="2995560" y="25189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>
              <a:off x="3308040" y="2518920"/>
              <a:ext cx="140580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5518800" y="22665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438360" y="1833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3"/>
          <p:cNvGrpSpPr/>
          <p:nvPr/>
        </p:nvGrpSpPr>
        <p:grpSpPr>
          <a:xfrm>
            <a:off x="1192320" y="3333600"/>
            <a:ext cx="6180480" cy="1054080"/>
            <a:chOff x="1192320" y="3333600"/>
            <a:chExt cx="6180480" cy="1054080"/>
          </a:xfrm>
        </p:grpSpPr>
        <p:sp>
          <p:nvSpPr>
            <p:cNvPr id="72" name="Text Box 14"/>
            <p:cNvSpPr/>
            <p:nvPr/>
          </p:nvSpPr>
          <p:spPr>
            <a:xfrm>
              <a:off x="1192320" y="333360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1192320" y="386712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6"/>
            <p:cNvSpPr/>
            <p:nvPr/>
          </p:nvSpPr>
          <p:spPr>
            <a:xfrm>
              <a:off x="3464280" y="3357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7"/>
            <p:cNvSpPr/>
            <p:nvPr/>
          </p:nvSpPr>
          <p:spPr>
            <a:xfrm>
              <a:off x="3098880" y="3510000"/>
              <a:ext cx="31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3019680" y="366228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V="1">
              <a:off x="3019680" y="389052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3335760" y="3890880"/>
              <a:ext cx="14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21"/>
            <p:cNvSpPr/>
            <p:nvPr/>
          </p:nvSpPr>
          <p:spPr>
            <a:xfrm>
              <a:off x="5485320" y="36385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2"/>
          <p:cNvGrpSpPr/>
          <p:nvPr/>
        </p:nvGrpSpPr>
        <p:grpSpPr>
          <a:xfrm>
            <a:off x="1328400" y="4653000"/>
            <a:ext cx="5362200" cy="725400"/>
            <a:chOff x="1328400" y="4653000"/>
            <a:chExt cx="5362200" cy="725400"/>
          </a:xfrm>
        </p:grpSpPr>
        <p:sp>
          <p:nvSpPr>
            <p:cNvPr id="81" name="Text Box 23"/>
            <p:cNvSpPr/>
            <p:nvPr/>
          </p:nvSpPr>
          <p:spPr>
            <a:xfrm>
              <a:off x="1328400" y="4857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4"/>
            <p:cNvSpPr/>
            <p:nvPr/>
          </p:nvSpPr>
          <p:spPr>
            <a:xfrm>
              <a:off x="3231360" y="46530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失去某些基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5"/>
            <p:cNvSpPr/>
            <p:nvPr/>
          </p:nvSpPr>
          <p:spPr>
            <a:xfrm>
              <a:off x="5656320" y="4857840"/>
              <a:ext cx="1034280" cy="520560"/>
            </a:xfrm>
            <a:prstGeom prst="rect">
              <a:avLst/>
            </a:prstGeom>
            <a:noFill/>
            <a:ln w="93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e377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6"/>
            <p:cNvSpPr/>
            <p:nvPr/>
          </p:nvSpPr>
          <p:spPr>
            <a:xfrm>
              <a:off x="2883960" y="5186160"/>
              <a:ext cx="23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9"/>
          <p:cNvPicPr/>
          <p:nvPr/>
        </p:nvPicPr>
        <p:blipFill>
          <a:blip r:embed="rId1"/>
          <a:stretch/>
        </p:blipFill>
        <p:spPr>
          <a:xfrm>
            <a:off x="468360" y="1700280"/>
            <a:ext cx="7956360" cy="36669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1042920" y="404640"/>
            <a:ext cx="55450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常见的肿瘤抑制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11280" y="83664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视网膜母细胞瘤基因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Rb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8" descr="图18-1"/>
          <p:cNvPicPr/>
          <p:nvPr/>
        </p:nvPicPr>
        <p:blipFill>
          <a:blip r:embed="rId1"/>
          <a:stretch/>
        </p:blipFill>
        <p:spPr>
          <a:xfrm>
            <a:off x="1116000" y="1844640"/>
            <a:ext cx="657864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042920" y="260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53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蛋白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卫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3" descr="图18-2"/>
          <p:cNvPicPr/>
          <p:nvPr/>
        </p:nvPicPr>
        <p:blipFill>
          <a:blip r:embed="rId1"/>
          <a:srcRect l="15981" t="8741" r="0" b="0"/>
          <a:stretch/>
        </p:blipFill>
        <p:spPr>
          <a:xfrm>
            <a:off x="1116000" y="981000"/>
            <a:ext cx="6402240" cy="573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肿瘤抑制基因具有多种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1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染色体的稳定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2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控细胞衰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3.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细胞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三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生长因子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growth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755640" y="1700280"/>
            <a:ext cx="748836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生长因子</a:t>
            </a:r>
            <a:r>
              <a:rPr b="1" lang="en-US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(growth factor)</a:t>
            </a:r>
            <a:r>
              <a:rPr b="1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质膜上特异的受体，将信息传递至细胞内部，调节细胞生长与增殖的多肽类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619280" y="404640"/>
            <a:ext cx="25192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、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974880" y="5904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258920" y="1052640"/>
            <a:ext cx="590400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华文楷体"/>
                <a:ea typeface="华文楷体"/>
              </a:rPr>
              <a:t>作用模式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内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end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旁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para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自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aut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11280" y="1915920"/>
            <a:ext cx="417672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一  节  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癌   基   因</a:t>
            </a:r>
            <a:br>
              <a:rPr sz="40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Oncogen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8"/>
          <p:cNvPicPr/>
          <p:nvPr/>
        </p:nvPicPr>
        <p:blipFill>
          <a:blip r:embed="rId1"/>
          <a:srcRect l="31991" t="0" r="0" b="0"/>
          <a:stretch/>
        </p:blipFill>
        <p:spPr>
          <a:xfrm>
            <a:off x="2843280" y="1557360"/>
            <a:ext cx="6048360" cy="4010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8"/>
          <p:cNvPicPr/>
          <p:nvPr/>
        </p:nvPicPr>
        <p:blipFill>
          <a:blip r:embed="rId2"/>
          <a:srcRect l="0" t="0" r="71272" b="0"/>
          <a:stretch/>
        </p:blipFill>
        <p:spPr>
          <a:xfrm>
            <a:off x="287280" y="1557360"/>
            <a:ext cx="2556000" cy="4010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492360" y="2565360"/>
            <a:ext cx="26593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产生相应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39640" y="3716280"/>
            <a:ext cx="2179800" cy="8254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胞内相关蛋白质被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919880" y="1484280"/>
            <a:ext cx="12780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膜受体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68360" y="2565360"/>
            <a:ext cx="23274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酪氨酸激酶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94800" y="4005360"/>
            <a:ext cx="13572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蛋白激酶活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39640" y="5373720"/>
            <a:ext cx="275436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427640" y="5373720"/>
            <a:ext cx="1515960" cy="4597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  <a:ea typeface="华文楷体"/>
              </a:rPr>
              <a:t>基因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805440" y="1484280"/>
            <a:ext cx="146088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104e0"/>
                </a:solidFill>
                <a:latin typeface="Times New Roman"/>
                <a:ea typeface="华文楷体"/>
              </a:rPr>
              <a:t>胞内受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1332000" y="1989000"/>
            <a:ext cx="38088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3348000" y="1989000"/>
            <a:ext cx="1371600" cy="4572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1332000" y="3121200"/>
            <a:ext cx="0" cy="6094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1332000" y="4653000"/>
            <a:ext cx="0" cy="60156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4859280" y="3213000"/>
            <a:ext cx="0" cy="68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 flipH="1">
            <a:off x="2843280" y="4221000"/>
            <a:ext cx="91440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3429000" y="5638680"/>
            <a:ext cx="76212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6588000" y="256536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生长因子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–</a:t>
            </a:r>
            <a:r>
              <a:rPr b="1" lang="en-US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受体复合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7667640" y="198900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7667640" y="4869000"/>
            <a:ext cx="0" cy="76176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 flipH="1" flipV="1">
            <a:off x="6156360" y="5587560"/>
            <a:ext cx="1495440" cy="190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1403280" y="404640"/>
            <a:ext cx="6121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、生长因子作用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6588000" y="414972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活化相关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3"/>
          <p:cNvSpPr/>
          <p:nvPr/>
        </p:nvSpPr>
        <p:spPr>
          <a:xfrm>
            <a:off x="7667640" y="350028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1979640" y="6453360"/>
            <a:ext cx="244800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图18-3"/>
          <p:cNvPicPr/>
          <p:nvPr/>
        </p:nvPicPr>
        <p:blipFill>
          <a:blip r:embed="rId1"/>
          <a:stretch/>
        </p:blipFill>
        <p:spPr>
          <a:xfrm>
            <a:off x="539640" y="399960"/>
            <a:ext cx="7707600" cy="578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6"/>
          <p:cNvPicPr/>
          <p:nvPr/>
        </p:nvPicPr>
        <p:blipFill>
          <a:blip r:embed="rId1"/>
          <a:stretch/>
        </p:blipFill>
        <p:spPr>
          <a:xfrm>
            <a:off x="1619280" y="692280"/>
            <a:ext cx="5832360" cy="5813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四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周期相关蛋白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、细胞周期蛋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yclin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周期蛋白是一类伴随细胞周期的不同阶段表达、累积和降解的蛋白质因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图18-4"/>
          <p:cNvPicPr/>
          <p:nvPr/>
        </p:nvPicPr>
        <p:blipFill>
          <a:blip r:embed="rId1"/>
          <a:srcRect l="0" t="0" r="11526" b="21512"/>
          <a:stretch/>
        </p:blipFill>
        <p:spPr>
          <a:xfrm>
            <a:off x="2700360" y="2852640"/>
            <a:ext cx="33019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周期蛋白依赖性蛋白激酶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yclin-dependent protein kinas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周期蛋白依赖性蛋白激酶是一类丝氨酸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/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苏氨酸蛋白激酶，在细胞周期的调节中起关键作用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258920" y="1125360"/>
          <a:ext cx="6626160" cy="4757760"/>
        </p:xfrm>
        <a:graphic>
          <a:graphicData uri="http://schemas.openxmlformats.org/drawingml/2006/table">
            <a:tbl>
              <a:tblPr/>
              <a:tblGrid>
                <a:gridCol w="901800"/>
                <a:gridCol w="907920"/>
                <a:gridCol w="2708280"/>
                <a:gridCol w="2108160"/>
              </a:tblGrid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种属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之结合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作用的细胞周期或功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裂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出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1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哺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动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1, 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5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uronal different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-activating kin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cription reg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抑制蛋白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ibotor of 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K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抑制蛋白是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负调节因子，与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竞争性结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，拮抗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作用，阻止细胞经过“检测点”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heckpoint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，调节细胞周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2776320" y="1135440"/>
            <a:ext cx="318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Cyclin-CDK-CKI</a:t>
            </a:r>
            <a:r>
              <a:rPr b="1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的相互作用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42920" y="2060640"/>
          <a:ext cx="6985080" cy="2952720"/>
        </p:xfrm>
        <a:graphic>
          <a:graphicData uri="http://schemas.openxmlformats.org/drawingml/2006/table">
            <a:tbl>
              <a:tblPr/>
              <a:tblGrid>
                <a:gridCol w="1111320"/>
                <a:gridCol w="1746360"/>
                <a:gridCol w="1406520"/>
                <a:gridCol w="272088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ylc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细胞周期作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B(B1,B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D(D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C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S,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15, p16, p21, p27, p18, p19, 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826920" y="1844640"/>
            <a:ext cx="74901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oncoge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华文楷体"/>
                <a:ea typeface="华文楷体"/>
              </a:rPr>
              <a:t>细胞内控制细胞生长和分化的基因，它的结构异常或表达异常，可以引起细胞癌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五 节</a:t>
            </a:r>
            <a:br>
              <a:rPr sz="4400"/>
            </a:b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增殖异常与疾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增殖异常是肿瘤发生的重要细胞学基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监控机制受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1/S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2/M 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驱动机制失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异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增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I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表达不足和突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某些心血管疾病也存在细胞增殖异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07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原发性高血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动脉粥样硬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心肌肥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71640" y="1916280"/>
            <a:ext cx="7416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4b22"/>
                </a:solidFill>
                <a:latin typeface="Times New Roman"/>
                <a:ea typeface="华文楷体"/>
              </a:rPr>
              <a:t>病毒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(virus oncogene,v-on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病毒基因组中的癌基因，它不编码病毒的结构成分，对病毒复制也没有作用，但可以使细胞持续增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116000" y="404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病毒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501804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细胞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70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癌基因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cellular-oncogene, c-onc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生物正常细胞基因组中的癌基因，或称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原癌基因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proto-oncogenes , pro-onc) 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088080" y="1550880"/>
            <a:ext cx="31834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5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广泛存在于生物界中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基因序列高度保守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通过其产物蛋白质来体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被激活后，形成癌性的细胞转化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116000" y="333360"/>
            <a:ext cx="597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3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分类及其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900000" y="1773360"/>
            <a:ext cx="763272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根据原癌基因的表达产物在细胞中的定位和功能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</a:t>
            </a:r>
            <a:r>
              <a:rPr b="1" lang="en-US" sz="2800" spc="-1" strike="noStrike">
                <a:solidFill>
                  <a:srgbClr val="9f29ab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酪氨酸蛋白激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C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8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类人血小板源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908000" y="1052640"/>
            <a:ext cx="669636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一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启动子插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点突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三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转座子跳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四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染色体易位与重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五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基因扩增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908000" y="4724280"/>
            <a:ext cx="59770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新的表达产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过量的正常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异常、截短的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971640" y="404640"/>
            <a:ext cx="5472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癌基因活化的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187280" y="40053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癌基因被激活的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26920" y="1413000"/>
            <a:ext cx="756144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细胞外生长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--P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跨膜的生长因子受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三）细胞内信号传导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K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c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四）核内转录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f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042920" y="404640"/>
            <a:ext cx="6553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、原癌基因的产物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04:13:42Z</dcterms:created>
  <dc:creator>thtfpc user</dc:creator>
  <dc:description/>
  <dc:language>en-US</dc:language>
  <cp:lastModifiedBy>ZhangLL</cp:lastModifiedBy>
  <dcterms:modified xsi:type="dcterms:W3CDTF">2014-12-04T03:24:07Z</dcterms:modified>
  <cp:revision>18</cp:revision>
  <dc:subject/>
  <dc:title>第十八章  细胞增殖调控分子 </dc:title>
</cp:coreProperties>
</file>