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2D70-4C0F-4498-863A-02BF2C822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BD57-9C60-4198-8C9E-17B1656F4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0BC3-9CBB-4190-BD21-6D20A1D77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C07C-B9A6-4BF4-91CA-E70735661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34C3-ED92-407B-B56B-606DD36E8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253D-C869-4BE8-9FB3-B4EC41A72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1B47-F974-46A9-99D9-6290ADFDC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EFDD-E25A-45D3-9376-22DD4275D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C1CB-A215-4F5A-A1F6-C4AC7B602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499D-87A4-4BE6-B4BF-42E3FF6B9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854A-FE02-4141-9D12-406C11C62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6C7F-C0B6-4637-A229-04EC7A73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6A2B-EF35-4A0F-BB8D-C20AFC1B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8626-429D-495F-9070-E6E8E613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C8E5-ABDE-4707-90B7-904588D9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4CD7-05B2-4DAE-B640-3087AD98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2675-4541-4931-BA65-4886D1BF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892C-DE95-4DFF-B112-45465F19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AC8C-C911-43B4-9FF4-89FEDF03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B269-90E5-4FE7-BC68-7725A4D4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8328-EC9C-4DDA-B1EB-81E9B5B8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2423-5A84-4C1A-922C-0B6BA806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8BEE-8B05-41AC-A57E-3F156BC3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9920-7BAC-4FFB-A917-CE9FE78BA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BB0D-3A9B-431E-AF5C-41D061BA3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26920" y="1700280"/>
            <a:ext cx="74170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一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  <a:ea typeface="黑体"/>
              </a:rPr>
              <a:t>RNA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  <a:ea typeface="黑体"/>
              </a:rPr>
              <a:t>的生物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RNA Bi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6243-C2C5-4C51-89CA-38BCCE3EC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B26A-7187-4C50-A25F-03B603B9B04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755640" y="2349360"/>
            <a:ext cx="7620120" cy="2856960"/>
            <a:chOff x="755640" y="2349360"/>
            <a:chExt cx="7620120" cy="2856960"/>
          </a:xfrm>
        </p:grpSpPr>
        <p:sp>
          <p:nvSpPr>
            <p:cNvPr id="140" name="Line 5"/>
            <p:cNvSpPr/>
            <p:nvPr/>
          </p:nvSpPr>
          <p:spPr>
            <a:xfrm>
              <a:off x="755640" y="308124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755640" y="338436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1136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29653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65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47064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13652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29653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5655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647064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13832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Gen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4344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Gen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57416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44580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cc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1212840" y="4537080"/>
              <a:ext cx="1143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720880" y="430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938320" y="4259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码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212840" y="490068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3"/>
            <p:cNvSpPr/>
            <p:nvPr/>
          </p:nvSpPr>
          <p:spPr>
            <a:xfrm>
              <a:off x="2720880" y="467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113652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>
              <a:off x="29653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5655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064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3722040" y="3598920"/>
              <a:ext cx="285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uble stand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990720" y="1066680"/>
            <a:ext cx="65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相对的概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AAE9-3D90-469B-A331-A0FE06227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049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转录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838080" y="3352680"/>
            <a:ext cx="7848720" cy="457200"/>
            <a:chOff x="838080" y="3352680"/>
            <a:chExt cx="7848720" cy="457200"/>
          </a:xfrm>
        </p:grpSpPr>
        <p:sp>
          <p:nvSpPr>
            <p:cNvPr id="168" name="Rectangle 4"/>
            <p:cNvSpPr/>
            <p:nvPr/>
          </p:nvSpPr>
          <p:spPr>
            <a:xfrm>
              <a:off x="6324480" y="3352680"/>
              <a:ext cx="60984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7162920" y="3352680"/>
              <a:ext cx="60948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876920" y="3352680"/>
              <a:ext cx="1447560" cy="457200"/>
            </a:xfrm>
            <a:prstGeom prst="rect">
              <a:avLst/>
            </a:prstGeom>
            <a:solidFill>
              <a:srgbClr val="acee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429000" y="3352680"/>
              <a:ext cx="1447920" cy="457200"/>
            </a:xfrm>
            <a:prstGeom prst="rect">
              <a:avLst/>
            </a:prstGeom>
            <a:solidFill>
              <a:srgbClr val="ee70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6520" y="3352680"/>
              <a:ext cx="175248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38080" y="3352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838080" y="38098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1"/>
          <p:cNvSpPr/>
          <p:nvPr/>
        </p:nvSpPr>
        <p:spPr>
          <a:xfrm>
            <a:off x="6553080" y="39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编码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8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启动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95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操纵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58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调节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1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promoter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72428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operato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24480" y="1981080"/>
            <a:ext cx="0" cy="3276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0968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调节组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71500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结构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6C62-79E5-4167-B228-EAAD59458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3948-0619-4CD0-A4D5-A5D08D6CEAC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" y="1371600"/>
            <a:ext cx="8001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启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omo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于转录起始点上游的一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苷酸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聚合酶识别并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定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F134-C587-4300-A3BE-324A25977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785C-2F88-4601-B585-25510E4553F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0"/>
          <p:cNvGrpSpPr/>
          <p:nvPr/>
        </p:nvGrpSpPr>
        <p:grpSpPr>
          <a:xfrm>
            <a:off x="684360" y="4203720"/>
            <a:ext cx="7848000" cy="1208520"/>
            <a:chOff x="684360" y="4203720"/>
            <a:chExt cx="7848000" cy="1208520"/>
          </a:xfrm>
        </p:grpSpPr>
        <p:sp>
          <p:nvSpPr>
            <p:cNvPr id="190" name="Line 21"/>
            <p:cNvSpPr/>
            <p:nvPr/>
          </p:nvSpPr>
          <p:spPr>
            <a:xfrm>
              <a:off x="1293480" y="493704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1293480" y="524196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646520" y="4937040"/>
              <a:ext cx="2939760" cy="30492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8436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807552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609560" y="4924440"/>
              <a:ext cx="3036600" cy="317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067000" y="4203720"/>
              <a:ext cx="20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结构基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1537920" y="4203720"/>
              <a:ext cx="203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调控序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9"/>
            <p:cNvSpPr/>
            <p:nvPr/>
          </p:nvSpPr>
          <p:spPr>
            <a:xfrm flipV="1">
              <a:off x="4633560" y="4779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633560" y="477972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4417920" y="434808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2"/>
          <p:cNvSpPr/>
          <p:nvPr/>
        </p:nvSpPr>
        <p:spPr>
          <a:xfrm>
            <a:off x="457200" y="2209680"/>
            <a:ext cx="7958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调控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启动子、增强子、静息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转录区（结构基因、终止子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3"/>
          <p:cNvGrpSpPr/>
          <p:nvPr/>
        </p:nvGrpSpPr>
        <p:grpSpPr>
          <a:xfrm>
            <a:off x="2743200" y="4572000"/>
            <a:ext cx="1752480" cy="914400"/>
            <a:chOff x="2743200" y="4572000"/>
            <a:chExt cx="1752480" cy="914400"/>
          </a:xfrm>
        </p:grpSpPr>
        <p:sp>
          <p:nvSpPr>
            <p:cNvPr id="203" name="Oval 34"/>
            <p:cNvSpPr/>
            <p:nvPr/>
          </p:nvSpPr>
          <p:spPr>
            <a:xfrm>
              <a:off x="2743200" y="4572000"/>
              <a:ext cx="1676520" cy="9144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2743200" y="4721400"/>
              <a:ext cx="1752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NA-po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7"/>
          <p:cNvSpPr/>
          <p:nvPr/>
        </p:nvSpPr>
        <p:spPr>
          <a:xfrm>
            <a:off x="533520" y="838080"/>
            <a:ext cx="8001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起始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star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一般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方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057400" y="5486400"/>
            <a:ext cx="274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0b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A168-D088-4AAB-B66F-A1FE861B7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BBC1-78E7-4D0E-BBF0-4F4EFF34690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2286000" y="380880"/>
            <a:ext cx="4753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核生物启动子保守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156360" y="3573360"/>
            <a:ext cx="1962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72360" y="357336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始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492360" y="3429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979640" y="4437000"/>
            <a:ext cx="1905120" cy="79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T G A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A C T 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3581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788000" y="573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合位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(Pribnow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003640" y="4797360"/>
            <a:ext cx="22971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A T A A T Pu A T A T T A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435640" y="3809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416560" y="3716280"/>
            <a:ext cx="0" cy="99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523800" y="2424240"/>
            <a:ext cx="8305920" cy="984240"/>
            <a:chOff x="523800" y="2424240"/>
            <a:chExt cx="8305920" cy="984240"/>
          </a:xfrm>
        </p:grpSpPr>
        <p:sp>
          <p:nvSpPr>
            <p:cNvPr id="220" name="Line 19"/>
            <p:cNvSpPr/>
            <p:nvPr/>
          </p:nvSpPr>
          <p:spPr>
            <a:xfrm>
              <a:off x="1209600" y="265284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1209600" y="318636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6162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2276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30384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>
              <a:off x="3876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6386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6848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010200" y="2729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36482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1971720" y="272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66200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517212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28098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4100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523800" y="2424240"/>
              <a:ext cx="9144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540072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8143920" y="2424240"/>
              <a:ext cx="6858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7"/>
          <p:cNvSpPr/>
          <p:nvPr/>
        </p:nvSpPr>
        <p:spPr>
          <a:xfrm>
            <a:off x="4643280" y="2276640"/>
            <a:ext cx="223380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H="1">
            <a:off x="1908000" y="2276640"/>
            <a:ext cx="115128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332000" y="5626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辨认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2716200" y="185112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2716200" y="215568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2411280" y="162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3173400" y="1546200"/>
            <a:ext cx="1295280" cy="914400"/>
          </a:xfrm>
          <a:prstGeom prst="ellipse">
            <a:avLst/>
          </a:prstGeom>
          <a:solidFill>
            <a:srgbClr val="bbe0e3">
              <a:alpha val="67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6450120" y="192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4643280" y="112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9"/>
          <p:cNvSpPr/>
          <p:nvPr/>
        </p:nvSpPr>
        <p:spPr>
          <a:xfrm rot="5380200">
            <a:off x="5181840" y="658080"/>
            <a:ext cx="217440" cy="2012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200 h 2012760"/>
              <a:gd name="textAreaBottom" fmla="*/ 1960560 h 20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2411280" y="191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6443640" y="15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514B-AB14-4937-B6AF-2C9309EEC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0AC2-570D-4602-9CAF-B41BBFABAD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952200"/>
            <a:ext cx="7345440" cy="74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二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</a:rPr>
              <a:t>RNA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聚合酶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是转录的主要酶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71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称：依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5"/>
          <p:cNvGrpSpPr/>
          <p:nvPr/>
        </p:nvGrpSpPr>
        <p:grpSpPr>
          <a:xfrm>
            <a:off x="2987640" y="3141720"/>
            <a:ext cx="5329440" cy="3097080"/>
            <a:chOff x="2987640" y="3141720"/>
            <a:chExt cx="5329440" cy="3097080"/>
          </a:xfrm>
        </p:grpSpPr>
        <p:pic>
          <p:nvPicPr>
            <p:cNvPr id="255" name="Picture 41" descr=""/>
            <p:cNvPicPr/>
            <p:nvPr/>
          </p:nvPicPr>
          <p:blipFill>
            <a:blip r:embed="rId1"/>
            <a:stretch/>
          </p:blipFill>
          <p:spPr>
            <a:xfrm>
              <a:off x="3708360" y="3141720"/>
              <a:ext cx="46087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2"/>
            <p:cNvSpPr/>
            <p:nvPr/>
          </p:nvSpPr>
          <p:spPr>
            <a:xfrm>
              <a:off x="2987640" y="4367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3"/>
            <p:cNvSpPr/>
            <p:nvPr/>
          </p:nvSpPr>
          <p:spPr>
            <a:xfrm>
              <a:off x="3059280" y="5734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4"/>
            <p:cNvSpPr/>
            <p:nvPr/>
          </p:nvSpPr>
          <p:spPr>
            <a:xfrm>
              <a:off x="5364000" y="55180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7"/>
          <p:cNvSpPr/>
          <p:nvPr/>
        </p:nvSpPr>
        <p:spPr>
          <a:xfrm>
            <a:off x="990720" y="292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称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 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7BDD-8DBC-4A6B-AF6E-1065C841C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87E7-3885-4F02-844F-5A135C07CBC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134040" y="492588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228600" y="7732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原核生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32220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7"/>
          <p:cNvSpPr/>
          <p:nvPr/>
        </p:nvSpPr>
        <p:spPr>
          <a:xfrm>
            <a:off x="5535720" y="551664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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7"/>
          <p:cNvGrpSpPr/>
          <p:nvPr/>
        </p:nvGrpSpPr>
        <p:grpSpPr>
          <a:xfrm>
            <a:off x="1332000" y="2414520"/>
            <a:ext cx="2782800" cy="3553560"/>
            <a:chOff x="1332000" y="2414520"/>
            <a:chExt cx="2782800" cy="3553560"/>
          </a:xfrm>
        </p:grpSpPr>
        <p:sp>
          <p:nvSpPr>
            <p:cNvPr id="267" name="Text Box 4"/>
            <p:cNvSpPr/>
            <p:nvPr/>
          </p:nvSpPr>
          <p:spPr>
            <a:xfrm>
              <a:off x="1890720" y="495144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心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6"/>
            <p:cNvSpPr/>
            <p:nvPr/>
          </p:nvSpPr>
          <p:spPr>
            <a:xfrm>
              <a:off x="1481040" y="5485680"/>
              <a:ext cx="1871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a50021"/>
                  </a:solidFill>
                  <a:latin typeface="Arial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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Oval 43"/>
            <p:cNvGrpSpPr/>
            <p:nvPr/>
          </p:nvGrpSpPr>
          <p:grpSpPr>
            <a:xfrm>
              <a:off x="2395440" y="2414520"/>
              <a:ext cx="1420920" cy="1801080"/>
              <a:chOff x="2395440" y="2414520"/>
              <a:chExt cx="1420920" cy="1801080"/>
            </a:xfrm>
          </p:grpSpPr>
          <p:pic>
            <p:nvPicPr>
              <p:cNvPr id="270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2414520"/>
                <a:ext cx="1420920" cy="180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602800" y="2679120"/>
                <a:ext cx="100296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44"/>
            <p:cNvSpPr/>
            <p:nvPr/>
          </p:nvSpPr>
          <p:spPr>
            <a:xfrm>
              <a:off x="2951280" y="3930840"/>
              <a:ext cx="684000" cy="673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1332000" y="2416320"/>
              <a:ext cx="1214280" cy="196452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2340000" y="3930840"/>
              <a:ext cx="712800" cy="729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7"/>
            <p:cNvSpPr/>
            <p:nvPr/>
          </p:nvSpPr>
          <p:spPr>
            <a:xfrm>
              <a:off x="1754280" y="3064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8"/>
            <p:cNvSpPr/>
            <p:nvPr/>
          </p:nvSpPr>
          <p:spPr>
            <a:xfrm>
              <a:off x="2482920" y="40741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9"/>
            <p:cNvSpPr/>
            <p:nvPr/>
          </p:nvSpPr>
          <p:spPr>
            <a:xfrm>
              <a:off x="3133800" y="40741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2891880" y="277524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2"/>
            <p:cNvSpPr/>
            <p:nvPr/>
          </p:nvSpPr>
          <p:spPr>
            <a:xfrm>
              <a:off x="3419640" y="3209040"/>
              <a:ext cx="431640" cy="91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5435640" y="2414520"/>
            <a:ext cx="2592360" cy="2247480"/>
            <a:chOff x="5435640" y="2414520"/>
            <a:chExt cx="2592360" cy="2247480"/>
          </a:xfrm>
        </p:grpSpPr>
        <p:grpSp>
          <p:nvGrpSpPr>
            <p:cNvPr id="281" name="Oval 59"/>
            <p:cNvGrpSpPr/>
            <p:nvPr/>
          </p:nvGrpSpPr>
          <p:grpSpPr>
            <a:xfrm>
              <a:off x="6497640" y="2414520"/>
              <a:ext cx="1420920" cy="1802520"/>
              <a:chOff x="6497640" y="2414520"/>
              <a:chExt cx="1420920" cy="1802520"/>
            </a:xfrm>
          </p:grpSpPr>
          <p:pic>
            <p:nvPicPr>
              <p:cNvPr id="282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2414520"/>
                <a:ext cx="1420920" cy="18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06080" y="2679480"/>
                <a:ext cx="1002960" cy="12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Oval 60"/>
            <p:cNvSpPr/>
            <p:nvPr/>
          </p:nvSpPr>
          <p:spPr>
            <a:xfrm>
              <a:off x="7054920" y="3931920"/>
              <a:ext cx="684000" cy="6742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1"/>
            <p:cNvSpPr/>
            <p:nvPr/>
          </p:nvSpPr>
          <p:spPr>
            <a:xfrm>
              <a:off x="5435640" y="2416320"/>
              <a:ext cx="1214280" cy="196596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2"/>
            <p:cNvSpPr/>
            <p:nvPr/>
          </p:nvSpPr>
          <p:spPr>
            <a:xfrm>
              <a:off x="6443640" y="3931920"/>
              <a:ext cx="712800" cy="730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5857920" y="3065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4"/>
            <p:cNvSpPr/>
            <p:nvPr/>
          </p:nvSpPr>
          <p:spPr>
            <a:xfrm>
              <a:off x="6586560" y="407520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7237440" y="40752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6995520" y="277560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78"/>
            <p:cNvGrpSpPr/>
            <p:nvPr/>
          </p:nvGrpSpPr>
          <p:grpSpPr>
            <a:xfrm>
              <a:off x="6588000" y="3209760"/>
              <a:ext cx="1011240" cy="923760"/>
              <a:chOff x="6588000" y="3209760"/>
              <a:chExt cx="1011240" cy="923760"/>
            </a:xfrm>
          </p:grpSpPr>
          <p:sp>
            <p:nvSpPr>
              <p:cNvPr id="292" name="Oval 69"/>
              <p:cNvSpPr/>
              <p:nvPr/>
            </p:nvSpPr>
            <p:spPr>
              <a:xfrm>
                <a:off x="6588000" y="3209760"/>
                <a:ext cx="1011240" cy="92376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70"/>
              <p:cNvSpPr/>
              <p:nvPr/>
            </p:nvSpPr>
            <p:spPr>
              <a:xfrm>
                <a:off x="6879960" y="34117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34"/>
            <p:cNvSpPr/>
            <p:nvPr/>
          </p:nvSpPr>
          <p:spPr>
            <a:xfrm>
              <a:off x="7596360" y="3209760"/>
              <a:ext cx="431640" cy="91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ED75-B4EF-4DF4-AB8F-A926B22B4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8A2F-3FA8-47C9-8410-DBC8151731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5"/>
          <p:cNvGrpSpPr/>
          <p:nvPr/>
        </p:nvGrpSpPr>
        <p:grpSpPr>
          <a:xfrm>
            <a:off x="539640" y="1052640"/>
            <a:ext cx="8291520" cy="5692320"/>
            <a:chOff x="539640" y="1052640"/>
            <a:chExt cx="8291520" cy="5692320"/>
          </a:xfrm>
        </p:grpSpPr>
        <p:sp>
          <p:nvSpPr>
            <p:cNvPr id="298" name="AutoShape 7"/>
            <p:cNvSpPr/>
            <p:nvPr/>
          </p:nvSpPr>
          <p:spPr>
            <a:xfrm>
              <a:off x="904680" y="2305080"/>
              <a:ext cx="7920000" cy="33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023560" y="2954160"/>
              <a:ext cx="204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6512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437080" y="2981160"/>
              <a:ext cx="14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参与核心酶的装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802440" y="3414600"/>
              <a:ext cx="518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90440" y="3557520"/>
              <a:ext cx="1227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0618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323320" y="355752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催化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链延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990440" y="4205160"/>
              <a:ext cx="115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5613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20920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5735160" y="4135320"/>
              <a:ext cx="65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"/>
            <p:cNvSpPr/>
            <p:nvPr/>
          </p:nvSpPr>
          <p:spPr>
            <a:xfrm>
              <a:off x="650628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2062080" y="4738680"/>
              <a:ext cx="1008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0263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5447160" y="473868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辨认起始点（转录起始后脱落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787320" y="1830240"/>
              <a:ext cx="7853400" cy="1440"/>
            </a:xfrm>
            <a:prstGeom prst="line">
              <a:avLst/>
            </a:prstGeom>
            <a:ln w="55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>
              <a:off x="622080" y="6078600"/>
              <a:ext cx="8209080" cy="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766800" y="2560680"/>
              <a:ext cx="7926120" cy="1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768240" y="1984320"/>
              <a:ext cx="887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8"/>
            <p:cNvSpPr/>
            <p:nvPr/>
          </p:nvSpPr>
          <p:spPr>
            <a:xfrm>
              <a:off x="1987560" y="1995480"/>
              <a:ext cx="150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5410440" y="2017440"/>
              <a:ext cx="681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   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693720" y="26938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5"/>
            <p:cNvSpPr/>
            <p:nvPr/>
          </p:nvSpPr>
          <p:spPr>
            <a:xfrm>
              <a:off x="846360" y="406116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6"/>
            <p:cNvSpPr/>
            <p:nvPr/>
          </p:nvSpPr>
          <p:spPr>
            <a:xfrm>
              <a:off x="776160" y="4594680"/>
              <a:ext cx="66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3642840" y="201744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5"/>
            <p:cNvSpPr/>
            <p:nvPr/>
          </p:nvSpPr>
          <p:spPr>
            <a:xfrm>
              <a:off x="3933720" y="2981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6"/>
            <p:cNvSpPr/>
            <p:nvPr/>
          </p:nvSpPr>
          <p:spPr>
            <a:xfrm>
              <a:off x="3933720" y="355752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7"/>
            <p:cNvSpPr/>
            <p:nvPr/>
          </p:nvSpPr>
          <p:spPr>
            <a:xfrm>
              <a:off x="3933720" y="4205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3933720" y="473868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539640" y="105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819360" y="514188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1"/>
            <p:cNvSpPr/>
            <p:nvPr/>
          </p:nvSpPr>
          <p:spPr>
            <a:xfrm>
              <a:off x="5014800" y="543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2"/>
            <p:cNvSpPr/>
            <p:nvPr/>
          </p:nvSpPr>
          <p:spPr>
            <a:xfrm>
              <a:off x="5581800" y="52084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能参与酶的组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3"/>
            <p:cNvSpPr/>
            <p:nvPr/>
          </p:nvSpPr>
          <p:spPr>
            <a:xfrm>
              <a:off x="1973160" y="52340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9"/>
            <p:cNvSpPr/>
            <p:nvPr/>
          </p:nvSpPr>
          <p:spPr>
            <a:xfrm>
              <a:off x="3933720" y="52815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C284-73B0-4810-8396-720931C84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A26C-1B49-4DE9-A090-BFC0D6EDD0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065760" y="2876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3570480" y="2133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489200" y="2665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684360" y="3789360"/>
            <a:ext cx="849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辨别转录起始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促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催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相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→3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转录终止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457200" y="882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活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1116000" y="1052640"/>
            <a:ext cx="7489800" cy="2829960"/>
            <a:chOff x="1116000" y="1052640"/>
            <a:chExt cx="7489800" cy="2829960"/>
          </a:xfrm>
        </p:grpSpPr>
        <p:grpSp>
          <p:nvGrpSpPr>
            <p:cNvPr id="338" name="Group 31"/>
            <p:cNvGrpSpPr/>
            <p:nvPr/>
          </p:nvGrpSpPr>
          <p:grpSpPr>
            <a:xfrm>
              <a:off x="1116000" y="1052640"/>
              <a:ext cx="7489800" cy="2829960"/>
              <a:chOff x="1116000" y="1052640"/>
              <a:chExt cx="7489800" cy="2829960"/>
            </a:xfrm>
          </p:grpSpPr>
          <p:grpSp>
            <p:nvGrpSpPr>
              <p:cNvPr id="339" name="Oval 6"/>
              <p:cNvGrpSpPr/>
              <p:nvPr/>
            </p:nvGrpSpPr>
            <p:grpSpPr>
              <a:xfrm>
                <a:off x="3932280" y="1052640"/>
                <a:ext cx="2017800" cy="2310840"/>
                <a:chOff x="3932280" y="1052640"/>
                <a:chExt cx="2017800" cy="2310840"/>
              </a:xfrm>
            </p:grpSpPr>
            <p:pic>
              <p:nvPicPr>
                <p:cNvPr id="340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32280" y="1052640"/>
                  <a:ext cx="2017800" cy="231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4224960" y="1389600"/>
                  <a:ext cx="1428120" cy="163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Oval 7"/>
              <p:cNvSpPr/>
              <p:nvPr/>
            </p:nvSpPr>
            <p:spPr>
              <a:xfrm>
                <a:off x="4786200" y="3085560"/>
                <a:ext cx="898560" cy="7304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8"/>
              <p:cNvSpPr/>
              <p:nvPr/>
            </p:nvSpPr>
            <p:spPr>
              <a:xfrm>
                <a:off x="2414520" y="1192320"/>
                <a:ext cx="1731960" cy="2353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>
                <a:off x="1116000" y="2256480"/>
                <a:ext cx="7069320" cy="920880"/>
              </a:xfrm>
              <a:custGeom>
                <a:avLst/>
                <a:gdLst>
                  <a:gd name="textAreaLeft" fmla="*/ 0 w 7069320"/>
                  <a:gd name="textAreaRight" fmla="*/ 7069680 w 7069320"/>
                  <a:gd name="textAreaTop" fmla="*/ 0 h 920880"/>
                  <a:gd name="textAreaBottom" fmla="*/ 921240 h 920880"/>
                </a:gdLst>
                <a:ahLst/>
                <a:rect l="textAreaLeft" t="textAreaTop" r="textAreaRight" b="textAreaBottom"/>
                <a:pathLst>
                  <a:path w="4704" h="656">
                    <a:moveTo>
                      <a:pt x="0" y="392"/>
                    </a:moveTo>
                    <a:cubicBezTo>
                      <a:pt x="68" y="228"/>
                      <a:pt x="136" y="64"/>
                      <a:pt x="192" y="56"/>
                    </a:cubicBezTo>
                    <a:cubicBezTo>
                      <a:pt x="248" y="48"/>
                      <a:pt x="288" y="296"/>
                      <a:pt x="336" y="344"/>
                    </a:cubicBezTo>
                    <a:cubicBezTo>
                      <a:pt x="384" y="392"/>
                      <a:pt x="408" y="392"/>
                      <a:pt x="480" y="344"/>
                    </a:cubicBezTo>
                    <a:cubicBezTo>
                      <a:pt x="552" y="296"/>
                      <a:pt x="680" y="56"/>
                      <a:pt x="768" y="56"/>
                    </a:cubicBezTo>
                    <a:cubicBezTo>
                      <a:pt x="856" y="56"/>
                      <a:pt x="912" y="344"/>
                      <a:pt x="1008" y="344"/>
                    </a:cubicBezTo>
                    <a:cubicBezTo>
                      <a:pt x="1104" y="344"/>
                      <a:pt x="1232" y="40"/>
                      <a:pt x="1344" y="56"/>
                    </a:cubicBezTo>
                    <a:cubicBezTo>
                      <a:pt x="1456" y="72"/>
                      <a:pt x="1568" y="344"/>
                      <a:pt x="1680" y="440"/>
                    </a:cubicBezTo>
                    <a:cubicBezTo>
                      <a:pt x="1792" y="536"/>
                      <a:pt x="1856" y="608"/>
                      <a:pt x="2016" y="632"/>
                    </a:cubicBezTo>
                    <a:cubicBezTo>
                      <a:pt x="2176" y="656"/>
                      <a:pt x="2488" y="608"/>
                      <a:pt x="2640" y="584"/>
                    </a:cubicBezTo>
                    <a:cubicBezTo>
                      <a:pt x="2792" y="560"/>
                      <a:pt x="2816" y="576"/>
                      <a:pt x="2928" y="488"/>
                    </a:cubicBezTo>
                    <a:cubicBezTo>
                      <a:pt x="3040" y="400"/>
                      <a:pt x="3192" y="64"/>
                      <a:pt x="3312" y="56"/>
                    </a:cubicBezTo>
                    <a:cubicBezTo>
                      <a:pt x="3432" y="48"/>
                      <a:pt x="3496" y="440"/>
                      <a:pt x="3648" y="440"/>
                    </a:cubicBezTo>
                    <a:cubicBezTo>
                      <a:pt x="3800" y="440"/>
                      <a:pt x="4048" y="112"/>
                      <a:pt x="4224" y="56"/>
                    </a:cubicBezTo>
                    <a:cubicBezTo>
                      <a:pt x="4400" y="0"/>
                      <a:pt x="4552" y="52"/>
                      <a:pt x="4704" y="104"/>
                    </a:cubicBezTo>
                  </a:path>
                </a:pathLst>
              </a:cu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>
                <a:off x="1258920" y="1764360"/>
                <a:ext cx="7058160" cy="1254240"/>
              </a:xfrm>
              <a:custGeom>
                <a:avLst/>
                <a:gdLst>
                  <a:gd name="textAreaLeft" fmla="*/ 0 w 7058160"/>
                  <a:gd name="textAreaRight" fmla="*/ 7058520 w 705816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4696" h="896">
                    <a:moveTo>
                      <a:pt x="0" y="792"/>
                    </a:moveTo>
                    <a:cubicBezTo>
                      <a:pt x="64" y="600"/>
                      <a:pt x="128" y="408"/>
                      <a:pt x="192" y="408"/>
                    </a:cubicBezTo>
                    <a:cubicBezTo>
                      <a:pt x="256" y="408"/>
                      <a:pt x="280" y="792"/>
                      <a:pt x="384" y="792"/>
                    </a:cubicBezTo>
                    <a:cubicBezTo>
                      <a:pt x="488" y="792"/>
                      <a:pt x="712" y="416"/>
                      <a:pt x="816" y="408"/>
                    </a:cubicBezTo>
                    <a:cubicBezTo>
                      <a:pt x="920" y="400"/>
                      <a:pt x="912" y="752"/>
                      <a:pt x="1008" y="744"/>
                    </a:cubicBezTo>
                    <a:cubicBezTo>
                      <a:pt x="1104" y="736"/>
                      <a:pt x="1256" y="464"/>
                      <a:pt x="1392" y="360"/>
                    </a:cubicBezTo>
                    <a:cubicBezTo>
                      <a:pt x="1528" y="256"/>
                      <a:pt x="1584" y="160"/>
                      <a:pt x="1824" y="120"/>
                    </a:cubicBezTo>
                    <a:cubicBezTo>
                      <a:pt x="2064" y="80"/>
                      <a:pt x="2560" y="0"/>
                      <a:pt x="2832" y="120"/>
                    </a:cubicBezTo>
                    <a:cubicBezTo>
                      <a:pt x="3104" y="240"/>
                      <a:pt x="3288" y="784"/>
                      <a:pt x="3456" y="840"/>
                    </a:cubicBezTo>
                    <a:cubicBezTo>
                      <a:pt x="3624" y="896"/>
                      <a:pt x="3656" y="504"/>
                      <a:pt x="3840" y="456"/>
                    </a:cubicBezTo>
                    <a:cubicBezTo>
                      <a:pt x="4024" y="408"/>
                      <a:pt x="4424" y="536"/>
                      <a:pt x="4560" y="552"/>
                    </a:cubicBezTo>
                    <a:cubicBezTo>
                      <a:pt x="4696" y="568"/>
                      <a:pt x="4676" y="560"/>
                      <a:pt x="4656" y="552"/>
                    </a:cubicBezTo>
                  </a:path>
                </a:pathLst>
              </a:cu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3962520" y="3085560"/>
                <a:ext cx="904680" cy="7970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"/>
              <p:cNvSpPr/>
              <p:nvPr/>
            </p:nvSpPr>
            <p:spPr>
              <a:xfrm rot="18900000">
                <a:off x="2563200" y="197784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ATA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4187880" y="3366720"/>
                <a:ext cx="3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5088240" y="32968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6"/>
              <p:cNvSpPr/>
              <p:nvPr/>
            </p:nvSpPr>
            <p:spPr>
              <a:xfrm>
                <a:off x="1334520" y="1997640"/>
                <a:ext cx="102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TGA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7"/>
              <p:cNvSpPr/>
              <p:nvPr/>
            </p:nvSpPr>
            <p:spPr>
              <a:xfrm>
                <a:off x="1551600" y="30060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-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6008760" y="1985040"/>
                <a:ext cx="52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+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"/>
              <p:cNvSpPr/>
              <p:nvPr/>
            </p:nvSpPr>
            <p:spPr>
              <a:xfrm>
                <a:off x="6729480" y="3346200"/>
                <a:ext cx="18763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s DN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1"/>
              <p:cNvSpPr/>
              <p:nvPr/>
            </p:nvSpPr>
            <p:spPr>
              <a:xfrm flipH="1" flipV="1">
                <a:off x="7091280" y="2940840"/>
                <a:ext cx="216000" cy="403200"/>
              </a:xfrm>
              <a:prstGeom prst="line">
                <a:avLst/>
              </a:prstGeom>
              <a:ln w="9360">
                <a:solidFill>
                  <a:srgbClr val="8fbaf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4037040" y="2243520"/>
                <a:ext cx="1314360" cy="131184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6"/>
              <p:cNvSpPr/>
              <p:nvPr/>
            </p:nvSpPr>
            <p:spPr>
              <a:xfrm>
                <a:off x="4781160" y="1741680"/>
                <a:ext cx="49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32"/>
            <p:cNvSpPr/>
            <p:nvPr/>
          </p:nvSpPr>
          <p:spPr>
            <a:xfrm>
              <a:off x="4343400" y="2498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34"/>
          <p:cNvSpPr/>
          <p:nvPr/>
        </p:nvSpPr>
        <p:spPr>
          <a:xfrm>
            <a:off x="2994480" y="1219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>
            <a:off x="5435640" y="2349360"/>
            <a:ext cx="43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7803-8EEB-4012-9AF4-129B6A305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95AA-A6F7-446D-B4D3-59926E29D5B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7200" y="873000"/>
            <a:ext cx="83059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速率慢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nt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切酶活性，有一定校对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福平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基专一性结合，可抑制结核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，而对真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不敏感。利用此特点可研制杀菌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2DCC-5347-462C-985C-6963FD8D0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900000" y="1123920"/>
            <a:ext cx="7632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体系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基本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起始、链的延长、链的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后加工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信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m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t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糖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催化功能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4328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AF3D-75F3-445C-BD68-DB7F6D1463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AF43-D0E0-4BE5-BD95-1BE73EEBA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732D-1AC2-414D-A6F0-640EF3CFC8D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4600" y="914400"/>
            <a:ext cx="7445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聚合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3"/>
          <p:cNvGrpSpPr/>
          <p:nvPr/>
        </p:nvGrpSpPr>
        <p:grpSpPr>
          <a:xfrm>
            <a:off x="684360" y="2446200"/>
            <a:ext cx="7848360" cy="3386160"/>
            <a:chOff x="684360" y="2446200"/>
            <a:chExt cx="7848360" cy="3386160"/>
          </a:xfrm>
        </p:grpSpPr>
        <p:sp>
          <p:nvSpPr>
            <p:cNvPr id="367" name="AutoShape 6"/>
            <p:cNvSpPr/>
            <p:nvPr/>
          </p:nvSpPr>
          <p:spPr>
            <a:xfrm>
              <a:off x="684360" y="2446200"/>
              <a:ext cx="78483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95240" y="2473200"/>
              <a:ext cx="7413840" cy="1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826920" y="3094200"/>
              <a:ext cx="7239240" cy="10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>
              <a:off x="755640" y="5830920"/>
              <a:ext cx="7412040" cy="1440"/>
            </a:xfrm>
            <a:prstGeom prst="line">
              <a:avLst/>
            </a:prstGeom>
            <a:ln w="540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284120" y="260496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种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4483440" y="2589120"/>
              <a:ext cx="21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5948640" y="258912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2408760" y="3813120"/>
              <a:ext cx="148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.8s/18s/28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4067280" y="3813120"/>
              <a:ext cx="121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hn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1032840" y="38131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转录产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2771640" y="2589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7450560" y="258912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121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280296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438732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9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7390080" y="32385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>
              <a:off x="5651280" y="3813120"/>
              <a:ext cx="1302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sr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"/>
            <p:cNvSpPr/>
            <p:nvPr/>
          </p:nvSpPr>
          <p:spPr>
            <a:xfrm>
              <a:off x="7020000" y="3957480"/>
              <a:ext cx="975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0"/>
            <p:cNvSpPr/>
            <p:nvPr/>
          </p:nvSpPr>
          <p:spPr>
            <a:xfrm>
              <a:off x="755640" y="47498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酶活性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1"/>
            <p:cNvSpPr/>
            <p:nvPr/>
          </p:nvSpPr>
          <p:spPr>
            <a:xfrm>
              <a:off x="2268360" y="474984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900000" y="5254560"/>
              <a:ext cx="70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福平      不敏感       不敏感       不敏感     敏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2C08-56DF-4F0C-A3BD-770479407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55640" y="620640"/>
            <a:ext cx="741672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0F5F-7942-44FD-9805-36147460C25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54936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的基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87280" y="3068640"/>
            <a:ext cx="57643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转录过程可以分为三个阶段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403280" y="4005360"/>
            <a:ext cx="576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录起始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niti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终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ermin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979640" y="2205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核生物的转录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11BD-7BC3-4556-BC49-43969D0FC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1B17-07B0-4A2A-9C82-F59E85967B2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838080" y="1371600"/>
            <a:ext cx="71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一、转录起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Initiation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85960" y="3645000"/>
            <a:ext cx="7800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必须准确结合转录模板的起始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解开，使其中的一条链作为转录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6084720" y="2492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2091600" y="270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起始需解决两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00F1-AC88-4E88-AD1D-21944ED0E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A087-6749-4AA8-A545-4F7BCFAC5E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897440" cy="6408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964040" y="1676520"/>
            <a:ext cx="36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启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896000" y="335268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与启动子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952880" y="48769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5520" y="685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转录起始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859280" y="18900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6553080" y="4267080"/>
            <a:ext cx="0" cy="6098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6553080" y="269892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AB5D-8522-49EA-A350-1482729F9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6E60-B729-43A8-8C52-42EE3D58D7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408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952880" y="549360"/>
            <a:ext cx="3614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851360" y="25909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开始，形成第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’,5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需引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5520" y="48261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核心酶形式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4716360" y="18900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781680" y="182880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6781680" y="3657600"/>
            <a:ext cx="2175120" cy="1066680"/>
            <a:chOff x="6781680" y="3657600"/>
            <a:chExt cx="2175120" cy="1066680"/>
          </a:xfrm>
        </p:grpSpPr>
        <p:sp>
          <p:nvSpPr>
            <p:cNvPr id="421" name="Rectangle 8"/>
            <p:cNvSpPr/>
            <p:nvPr/>
          </p:nvSpPr>
          <p:spPr>
            <a:xfrm>
              <a:off x="6859440" y="3733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934320" y="3809880"/>
              <a:ext cx="20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（循环使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6781680" y="3657600"/>
              <a:ext cx="0" cy="10666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1"/>
            <p:cNvSpPr/>
            <p:nvPr/>
          </p:nvSpPr>
          <p:spPr>
            <a:xfrm>
              <a:off x="6781680" y="4038480"/>
              <a:ext cx="45720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9877-9DF5-468D-88A4-CFFF4D393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C422-0760-4A25-B8C3-935B36E264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523880" y="137160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链向下游方向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969840" y="58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滑过的部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很快恢复双螺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900000" y="378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延长，暂时形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DNA•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交体（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b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806560" y="47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逐步脱离模板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319640" y="198900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4319640" y="306864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4319640" y="414972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4319640" y="522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304920" y="2637000"/>
            <a:ext cx="8424720" cy="459720"/>
            <a:chOff x="304920" y="2637000"/>
            <a:chExt cx="8424720" cy="459720"/>
          </a:xfrm>
        </p:grpSpPr>
        <p:sp>
          <p:nvSpPr>
            <p:cNvPr id="436" name="Text Box 7"/>
            <p:cNvSpPr/>
            <p:nvPr/>
          </p:nvSpPr>
          <p:spPr>
            <a:xfrm>
              <a:off x="304920" y="263700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TP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二酯键逐个相连形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链，方向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7505640" y="2852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85800" y="476280"/>
            <a:ext cx="763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6E44-3180-4E28-8C0A-547AD5CBA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DDE3-75EA-492A-83EF-BC84F186FDB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219640" y="220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64000" y="2060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14600" y="114300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核心酶滑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1AA9-2D2D-4C32-AE1D-7DCB1241B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7829-1EC4-4FF9-BF19-A42F4AFEEC5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85800" y="0"/>
            <a:ext cx="7672320" cy="11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合成的转录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在局部形成的结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000080" y="1909800"/>
            <a:ext cx="7272000" cy="4591080"/>
            <a:chOff x="1000080" y="1909800"/>
            <a:chExt cx="7272000" cy="4591080"/>
          </a:xfrm>
        </p:grpSpPr>
        <p:pic>
          <p:nvPicPr>
            <p:cNvPr id="449" name="Picture 4" descr="Fig 26-01a"/>
            <p:cNvPicPr/>
            <p:nvPr/>
          </p:nvPicPr>
          <p:blipFill>
            <a:blip r:embed="rId1"/>
            <a:stretch/>
          </p:blipFill>
          <p:spPr>
            <a:xfrm>
              <a:off x="1000080" y="1909800"/>
              <a:ext cx="72720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6"/>
            <p:cNvSpPr/>
            <p:nvPr/>
          </p:nvSpPr>
          <p:spPr>
            <a:xfrm>
              <a:off x="3182040" y="2273040"/>
              <a:ext cx="0" cy="97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3182040" y="2273040"/>
              <a:ext cx="1963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45840" y="2273040"/>
              <a:ext cx="0" cy="908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FFE6-D993-4187-8F43-71353A89A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D00F-3E30-4A3B-9976-713B8EFC996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116000" y="836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链的终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1763640" y="1628640"/>
            <a:ext cx="5040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心酶遇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的终止信号和／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2411280" y="32148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核心酶继续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2124000" y="443700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从模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835280" y="5589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链脱落，转录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067280" y="2565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067280" y="378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067280" y="5157720"/>
            <a:ext cx="0" cy="504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9A90-EDA2-4442-A022-32C1C5992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3809880"/>
            <a:ext cx="784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0880" y="1066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信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top signa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基因单位中，具有停止转录作用的部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终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9AB7-57D6-495D-8A4F-84B43BAB7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539C-8863-4FA7-BF75-432CB68048B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3059280" y="7650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生物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684360" y="1773360"/>
            <a:ext cx="8172360" cy="3328560"/>
            <a:chOff x="684360" y="1773360"/>
            <a:chExt cx="8172360" cy="3328560"/>
          </a:xfrm>
        </p:grpSpPr>
        <p:grpSp>
          <p:nvGrpSpPr>
            <p:cNvPr id="58" name="Group 43"/>
            <p:cNvGrpSpPr/>
            <p:nvPr/>
          </p:nvGrpSpPr>
          <p:grpSpPr>
            <a:xfrm>
              <a:off x="1979640" y="4581360"/>
              <a:ext cx="6840360" cy="520560"/>
              <a:chOff x="1979640" y="4581360"/>
              <a:chExt cx="6840360" cy="520560"/>
            </a:xfrm>
          </p:grpSpPr>
          <p:sp>
            <p:nvSpPr>
              <p:cNvPr id="59" name="Text Box 23"/>
              <p:cNvSpPr/>
              <p:nvPr/>
            </p:nvSpPr>
            <p:spPr>
              <a:xfrm>
                <a:off x="1979640" y="4581360"/>
                <a:ext cx="68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N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转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前体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加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成熟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4"/>
              <p:cNvSpPr/>
              <p:nvPr/>
            </p:nvSpPr>
            <p:spPr>
              <a:xfrm>
                <a:off x="2843280" y="4869000"/>
                <a:ext cx="874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>
                <a:off x="5292720" y="4869000"/>
                <a:ext cx="800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26"/>
            <p:cNvSpPr/>
            <p:nvPr/>
          </p:nvSpPr>
          <p:spPr>
            <a:xfrm>
              <a:off x="684360" y="1773360"/>
              <a:ext cx="81723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 flipV="1" rot="21336600">
              <a:off x="1733040" y="2276640"/>
              <a:ext cx="675000" cy="817560"/>
            </a:xfrm>
            <a:custGeom>
              <a:avLst/>
              <a:gdLst>
                <a:gd name="textAreaLeft" fmla="*/ 90360 w 675000"/>
                <a:gd name="textAreaRight" fmla="*/ 584640 w 675000"/>
                <a:gd name="textAreaTop" fmla="*/ 161280 h 817560"/>
                <a:gd name="textAreaBottom" fmla="*/ 57384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1" stAng="-5400000" swAng="-5400000"/>
                  <a:lnTo>
                    <a:pt x="0" y="10899"/>
                  </a:lnTo>
                  <a:arcTo wR="21600" hR="8541" stAng="10800000" swAng="-2891951"/>
                  <a:lnTo>
                    <a:pt x="14400" y="21112"/>
                  </a:lnTo>
                  <a:lnTo>
                    <a:pt x="21600" y="18261"/>
                  </a:lnTo>
                  <a:lnTo>
                    <a:pt x="14400" y="14434"/>
                  </a:lnTo>
                  <a:lnTo>
                    <a:pt x="14400" y="16594"/>
                  </a:lnTo>
                  <a:arcTo wR="21600" hR="8541" stAng="7908049" swAng="2702685"/>
                  <a:lnTo>
                    <a:pt x="207" y="9720"/>
                  </a:lnTo>
                  <a:arcTo wR="21600" hR="8541" stAng="-10610734" swAng="5210734"/>
                  <a:close/>
                </a:path>
                <a:path fill="darkenLess" w="21600" h="21600">
                  <a:moveTo>
                    <a:pt x="21600" y="0"/>
                  </a:moveTo>
                  <a:arcTo wR="21600" hR="8541" stAng="-5400000" swAng="-5400000"/>
                  <a:lnTo>
                    <a:pt x="0" y="8541"/>
                  </a:lnTo>
                  <a:arcTo wR="21600" hR="8541" stAng="10800000" swAng="-189266"/>
                  <a:lnTo>
                    <a:pt x="207" y="9720"/>
                  </a:lnTo>
                  <a:arcTo wR="21600" hR="8541" stAng="-10610734" swAng="5210734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8"/>
            <p:cNvSpPr/>
            <p:nvPr/>
          </p:nvSpPr>
          <p:spPr>
            <a:xfrm>
              <a:off x="3157560" y="2924280"/>
              <a:ext cx="14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3232080" y="2637000"/>
              <a:ext cx="1200240" cy="142560"/>
            </a:xfrm>
            <a:prstGeom prst="rightArrow">
              <a:avLst>
                <a:gd name="adj1" fmla="val 50000"/>
                <a:gd name="adj2" fmla="val 2104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3157560" y="2781360"/>
              <a:ext cx="1241280" cy="142920"/>
            </a:xfrm>
            <a:prstGeom prst="leftArrow">
              <a:avLst>
                <a:gd name="adj1" fmla="val 50000"/>
                <a:gd name="adj2" fmla="val 21712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2"/>
            <p:cNvSpPr/>
            <p:nvPr/>
          </p:nvSpPr>
          <p:spPr>
            <a:xfrm>
              <a:off x="6081840" y="2708280"/>
              <a:ext cx="1199880" cy="144360"/>
            </a:xfrm>
            <a:prstGeom prst="rightArrow">
              <a:avLst>
                <a:gd name="adj1" fmla="val 50000"/>
                <a:gd name="adj2" fmla="val 20779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3"/>
            <p:cNvSpPr/>
            <p:nvPr/>
          </p:nvSpPr>
          <p:spPr>
            <a:xfrm>
              <a:off x="833400" y="184464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2162160" y="2421000"/>
              <a:ext cx="6657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6"/>
            <p:cNvSpPr/>
            <p:nvPr/>
          </p:nvSpPr>
          <p:spPr>
            <a:xfrm>
              <a:off x="3381480" y="21319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7"/>
            <p:cNvSpPr/>
            <p:nvPr/>
          </p:nvSpPr>
          <p:spPr>
            <a:xfrm>
              <a:off x="6157800" y="22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403280" y="3645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录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指导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D30D-E555-4CC7-8DF1-6FE3C008B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838080" y="990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80880" y="2590920"/>
            <a:ext cx="8077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区处有特殊的碱基序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G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，使转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发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茎环结构和多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列，促使转录终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C0AF-9B3A-4410-9E2A-1C73BB37A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6531-8459-41CB-A3CF-76E3D2A7F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85800" y="762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72000" cy="46371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1187280" y="2637000"/>
            <a:ext cx="36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识别终止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聚合酶构象改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解螺旋酶活性，释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078920" y="1773360"/>
            <a:ext cx="11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因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anniou-1.gif (2699 bytes)"/>
          <p:cNvPicPr/>
          <p:nvPr/>
        </p:nvPicPr>
        <p:blipFill>
          <a:blip r:embed="rId2"/>
          <a:stretch/>
        </p:blipFill>
        <p:spPr>
          <a:xfrm>
            <a:off x="755640" y="2781360"/>
            <a:ext cx="358920" cy="26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anniou-1.gif (2699 bytes)"/>
          <p:cNvPicPr/>
          <p:nvPr/>
        </p:nvPicPr>
        <p:blipFill>
          <a:blip r:embed="rId3"/>
          <a:stretch/>
        </p:blipFill>
        <p:spPr>
          <a:xfrm>
            <a:off x="755640" y="3500280"/>
            <a:ext cx="35892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anniou-1.gif (2699 bytes)"/>
          <p:cNvPicPr/>
          <p:nvPr/>
        </p:nvPicPr>
        <p:blipFill>
          <a:blip r:embed="rId4"/>
          <a:stretch/>
        </p:blipFill>
        <p:spPr>
          <a:xfrm>
            <a:off x="755640" y="4221000"/>
            <a:ext cx="3589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C668-6BB7-4054-AD2C-B884EB155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EC22-62FF-4E94-9E38-AF6DBB44486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671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2"/>
          <p:cNvSpPr/>
          <p:nvPr/>
        </p:nvSpPr>
        <p:spPr>
          <a:xfrm>
            <a:off x="1044720" y="476280"/>
            <a:ext cx="69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原核生物转录过程中的羽毛状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5253120" y="1628640"/>
            <a:ext cx="3890880" cy="4321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7227720" y="155736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 flipV="1">
            <a:off x="5462640" y="1700280"/>
            <a:ext cx="1736640" cy="144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948360" y="26114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聚合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>
            <a:off x="6732360" y="2924280"/>
            <a:ext cx="1042920" cy="72072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 flipV="1">
            <a:off x="6094080" y="2492280"/>
            <a:ext cx="1320840" cy="216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5429160" y="5157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5983200" y="3716280"/>
            <a:ext cx="208080" cy="144144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7524720" y="40053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 flipH="1">
            <a:off x="7783560" y="4365720"/>
            <a:ext cx="208080" cy="215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H="1">
            <a:off x="8143920" y="4365720"/>
            <a:ext cx="20808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8567640" y="4365720"/>
            <a:ext cx="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3662-94F1-4AE9-9E7E-7F5D21E8A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8EBD-0488-47E7-BC5E-95E0B42F391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124000" y="4365720"/>
            <a:ext cx="482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切及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55640" y="1916280"/>
            <a:ext cx="7775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转录作用产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本（前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转变为成熟的、有活性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826920" y="3570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工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84360" y="692280"/>
            <a:ext cx="798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后的加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4A7B-71F1-4E7D-BE77-400660A51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B33E-AEFE-4723-A149-770B6E8830E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09480" y="1066680"/>
            <a:ext cx="56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信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2057400"/>
            <a:ext cx="789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携带遗传信息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通过翻译将遗传信息传到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57200" y="312408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成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33520" y="4191120"/>
            <a:ext cx="7924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核细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生成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核内不均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(heterogeneous-nuclear RNA, hn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C624-3D96-4A03-8EFF-70BA48D79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A8F0-D7E0-4B6B-B15F-59191CD9F3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33520" y="2362320"/>
            <a:ext cx="49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去除内含子，连接外显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苷酸编辑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492360" cy="46814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68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2577240" y="3657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A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1BF2-0EEF-4605-8F6B-9F19FA010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B8CC-7FB8-4BA1-A9B8-9C80E902E8A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0" y="357120"/>
            <a:ext cx="446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生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pppNm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5003640" y="2276640"/>
            <a:ext cx="38163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基鸟嘌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’methyl guan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羟基甲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ylation of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ca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940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帽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1"/>
          <p:cNvGrpSpPr/>
          <p:nvPr/>
        </p:nvGrpSpPr>
        <p:grpSpPr>
          <a:xfrm>
            <a:off x="358920" y="1500120"/>
            <a:ext cx="4356000" cy="5065560"/>
            <a:chOff x="358920" y="1500120"/>
            <a:chExt cx="4356000" cy="5065560"/>
          </a:xfrm>
        </p:grpSpPr>
        <p:pic>
          <p:nvPicPr>
            <p:cNvPr id="520" name="Picture 37" descr=""/>
            <p:cNvPicPr/>
            <p:nvPr/>
          </p:nvPicPr>
          <p:blipFill>
            <a:blip r:embed="rId1"/>
            <a:stretch/>
          </p:blipFill>
          <p:spPr>
            <a:xfrm>
              <a:off x="358920" y="1500120"/>
              <a:ext cx="43560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3"/>
            <p:cNvSpPr/>
            <p:nvPr/>
          </p:nvSpPr>
          <p:spPr>
            <a:xfrm>
              <a:off x="1798560" y="3568320"/>
              <a:ext cx="504720" cy="57636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57"/>
          <p:cNvSpPr/>
          <p:nvPr/>
        </p:nvSpPr>
        <p:spPr>
          <a:xfrm flipH="1">
            <a:off x="4572000" y="256536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8"/>
          <p:cNvSpPr/>
          <p:nvPr/>
        </p:nvSpPr>
        <p:spPr>
          <a:xfrm flipH="1">
            <a:off x="2700360" y="4221000"/>
            <a:ext cx="324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9"/>
          <p:cNvSpPr/>
          <p:nvPr/>
        </p:nvSpPr>
        <p:spPr>
          <a:xfrm flipH="1" flipV="1">
            <a:off x="3564000" y="5072040"/>
            <a:ext cx="1936800" cy="571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3857760" y="5805360"/>
            <a:ext cx="1650960" cy="552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2"/>
          <p:cNvSpPr/>
          <p:nvPr/>
        </p:nvSpPr>
        <p:spPr>
          <a:xfrm flipH="1" flipV="1">
            <a:off x="2410920" y="3716280"/>
            <a:ext cx="28908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BF8A-2169-445F-87C0-FC0904DA7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2286-1EB0-449F-8B4A-0673B08F14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58920" y="113832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功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pppNmp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618920" y="2781000"/>
            <a:ext cx="5832360" cy="25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新合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免被降解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翻译活性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EAE7-C8F8-497D-8931-801A46FD0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6B13-A215-44D1-ADCF-A78F535D494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571680"/>
            <a:ext cx="56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多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1CA4-D03A-4272-8280-04B7C8F67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5CBE-8D06-4AE6-AD72-8F256314365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93080" cy="60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一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转录体系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90720" y="4114800"/>
            <a:ext cx="7613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催化下，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模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三磷酸核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P,GTP,CTP,U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为原料进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430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转录的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一）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108D-4119-4D22-BED9-3FC32BC8F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18C7-6617-4860-8A51-9921E4B8F11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25892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加多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908000" y="364500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翻译活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最后一个内含子的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1260360" y="1628640"/>
            <a:ext cx="7199280" cy="797760"/>
            <a:chOff x="1260360" y="1628640"/>
            <a:chExt cx="7199280" cy="797760"/>
          </a:xfrm>
        </p:grpSpPr>
        <p:sp>
          <p:nvSpPr>
            <p:cNvPr id="540" name="Text Box 13"/>
            <p:cNvSpPr/>
            <p:nvPr/>
          </p:nvSpPr>
          <p:spPr>
            <a:xfrm>
              <a:off x="1260360" y="1917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421080" y="220500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5219640" y="1916280"/>
              <a:ext cx="32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(AMP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+  n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276720" y="162864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聚合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20"/>
          <p:cNvSpPr/>
          <p:nvPr/>
        </p:nvSpPr>
        <p:spPr>
          <a:xfrm>
            <a:off x="111600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EE12-A064-4F65-858C-1BBF23667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0BF0-F34C-43B7-BDB1-A44749B749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571680"/>
            <a:ext cx="53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接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 splic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0920" y="162576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显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具有表达活性的编码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无表达活性，不能编码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"/>
          <p:cNvGrpSpPr/>
          <p:nvPr/>
        </p:nvGrpSpPr>
        <p:grpSpPr>
          <a:xfrm>
            <a:off x="611280" y="3573360"/>
            <a:ext cx="8172360" cy="886320"/>
            <a:chOff x="611280" y="3573360"/>
            <a:chExt cx="8172360" cy="886320"/>
          </a:xfrm>
        </p:grpSpPr>
        <p:sp>
          <p:nvSpPr>
            <p:cNvPr id="550" name="Text Box 10"/>
            <p:cNvSpPr/>
            <p:nvPr/>
          </p:nvSpPr>
          <p:spPr>
            <a:xfrm>
              <a:off x="755640" y="3573360"/>
              <a:ext cx="727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转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nRNA   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加工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RNA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1"/>
            <p:cNvSpPr/>
            <p:nvPr/>
          </p:nvSpPr>
          <p:spPr>
            <a:xfrm>
              <a:off x="1835280" y="3933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>
              <a:off x="4716360" y="39337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611280" y="3933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构基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277164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含子、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372360" y="3933720"/>
              <a:ext cx="24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有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611280" y="4726080"/>
            <a:ext cx="7956360" cy="1825560"/>
            <a:chOff x="611280" y="4726080"/>
            <a:chExt cx="7956360" cy="1825560"/>
          </a:xfrm>
        </p:grpSpPr>
        <p:grpSp>
          <p:nvGrpSpPr>
            <p:cNvPr id="557" name="Group 17"/>
            <p:cNvGrpSpPr/>
            <p:nvPr/>
          </p:nvGrpSpPr>
          <p:grpSpPr>
            <a:xfrm>
              <a:off x="611280" y="4726080"/>
              <a:ext cx="6985080" cy="1825560"/>
              <a:chOff x="611280" y="4726080"/>
              <a:chExt cx="6985080" cy="1825560"/>
            </a:xfrm>
          </p:grpSpPr>
          <p:sp>
            <p:nvSpPr>
              <p:cNvPr id="558" name="Rectangle 18"/>
              <p:cNvSpPr/>
              <p:nvPr/>
            </p:nvSpPr>
            <p:spPr>
              <a:xfrm>
                <a:off x="611280" y="5238720"/>
                <a:ext cx="6985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"/>
              <p:cNvSpPr/>
              <p:nvPr/>
            </p:nvSpPr>
            <p:spPr>
              <a:xfrm>
                <a:off x="1332000" y="5238720"/>
                <a:ext cx="8636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"/>
              <p:cNvSpPr/>
              <p:nvPr/>
            </p:nvSpPr>
            <p:spPr>
              <a:xfrm>
                <a:off x="3419640" y="52387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1"/>
              <p:cNvSpPr/>
              <p:nvPr/>
            </p:nvSpPr>
            <p:spPr>
              <a:xfrm>
                <a:off x="5508720" y="52387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2"/>
              <p:cNvSpPr/>
              <p:nvPr/>
            </p:nvSpPr>
            <p:spPr>
              <a:xfrm>
                <a:off x="2050920" y="5695920"/>
                <a:ext cx="8654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3"/>
              <p:cNvSpPr/>
              <p:nvPr/>
            </p:nvSpPr>
            <p:spPr>
              <a:xfrm>
                <a:off x="2266920" y="6229440"/>
                <a:ext cx="649440" cy="152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4"/>
              <p:cNvSpPr/>
              <p:nvPr/>
            </p:nvSpPr>
            <p:spPr>
              <a:xfrm>
                <a:off x="2916360" y="56959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5"/>
              <p:cNvSpPr/>
              <p:nvPr/>
            </p:nvSpPr>
            <p:spPr>
              <a:xfrm>
                <a:off x="3995640" y="56959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6"/>
              <p:cNvSpPr/>
              <p:nvPr/>
            </p:nvSpPr>
            <p:spPr>
              <a:xfrm>
                <a:off x="3924360" y="6229440"/>
                <a:ext cx="718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7"/>
              <p:cNvSpPr/>
              <p:nvPr/>
            </p:nvSpPr>
            <p:spPr>
              <a:xfrm>
                <a:off x="2916360" y="6229440"/>
                <a:ext cx="1079280" cy="152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8"/>
              <p:cNvSpPr/>
              <p:nvPr/>
            </p:nvSpPr>
            <p:spPr>
              <a:xfrm>
                <a:off x="5390640" y="55692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mR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1332000" y="4726080"/>
                <a:ext cx="14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30"/>
              <p:cNvSpPr/>
              <p:nvPr/>
            </p:nvSpPr>
            <p:spPr>
              <a:xfrm>
                <a:off x="3421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1"/>
              <p:cNvSpPr/>
              <p:nvPr/>
            </p:nvSpPr>
            <p:spPr>
              <a:xfrm>
                <a:off x="5653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267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3"/>
              <p:cNvSpPr/>
              <p:nvPr/>
            </p:nvSpPr>
            <p:spPr>
              <a:xfrm>
                <a:off x="4499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34"/>
              <p:cNvSpPr/>
              <p:nvPr/>
            </p:nvSpPr>
            <p:spPr>
              <a:xfrm>
                <a:off x="5247720" y="602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5"/>
              <p:cNvSpPr/>
              <p:nvPr/>
            </p:nvSpPr>
            <p:spPr>
              <a:xfrm>
                <a:off x="2195640" y="6120000"/>
                <a:ext cx="3871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36"/>
            <p:cNvSpPr/>
            <p:nvPr/>
          </p:nvSpPr>
          <p:spPr>
            <a:xfrm>
              <a:off x="7596360" y="508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36C7-F066-4BB7-8C96-B334806C9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D1A8-8B6A-4B20-BBF4-A99B6386C4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鸡卵清蛋白"/>
          <p:cNvPicPr/>
          <p:nvPr/>
        </p:nvPicPr>
        <p:blipFill>
          <a:blip r:embed="rId1"/>
          <a:stretch/>
        </p:blipFill>
        <p:spPr>
          <a:xfrm>
            <a:off x="2195640" y="981000"/>
            <a:ext cx="6697440" cy="5661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9528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24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4000" y="369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、尾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95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528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及其转录、转录后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44D8-4C24-4100-BD23-BF2BC1D9B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E6A4-BA90-4A7B-9B49-6AD431F8926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95280" y="981000"/>
            <a:ext cx="8748720" cy="4826160"/>
            <a:chOff x="395280" y="981000"/>
            <a:chExt cx="8748720" cy="4826160"/>
          </a:xfrm>
        </p:grpSpPr>
        <p:sp>
          <p:nvSpPr>
            <p:cNvPr id="589" name="Text Box 7"/>
            <p:cNvSpPr/>
            <p:nvPr/>
          </p:nvSpPr>
          <p:spPr>
            <a:xfrm>
              <a:off x="1476360" y="5446800"/>
              <a:ext cx="1192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alcito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1547640" y="5157720"/>
              <a:ext cx="819360" cy="260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6227640" y="5446800"/>
              <a:ext cx="7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G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197964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>
              <a:off x="1979640" y="4581360"/>
              <a:ext cx="1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1979640" y="4654440"/>
              <a:ext cx="475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anslation and posttranslationa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"/>
            <p:cNvSpPr/>
            <p:nvPr/>
          </p:nvSpPr>
          <p:spPr>
            <a:xfrm>
              <a:off x="6588000" y="4581360"/>
              <a:ext cx="18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58800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5"/>
            <p:cNvGrpSpPr/>
            <p:nvPr/>
          </p:nvGrpSpPr>
          <p:grpSpPr>
            <a:xfrm>
              <a:off x="1116000" y="4221000"/>
              <a:ext cx="1871640" cy="258480"/>
              <a:chOff x="1116000" y="4221000"/>
              <a:chExt cx="1871640" cy="258480"/>
            </a:xfrm>
          </p:grpSpPr>
          <p:sp>
            <p:nvSpPr>
              <p:cNvPr id="598" name="Rectangle 16"/>
              <p:cNvSpPr/>
              <p:nvPr/>
            </p:nvSpPr>
            <p:spPr>
              <a:xfrm>
                <a:off x="1267560" y="4221000"/>
                <a:ext cx="4550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1116000" y="4221000"/>
                <a:ext cx="15156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1672200" y="4221000"/>
                <a:ext cx="30348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1976040" y="4221000"/>
                <a:ext cx="30312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2279520" y="4221000"/>
                <a:ext cx="606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2836080" y="4221000"/>
                <a:ext cx="1515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22"/>
            <p:cNvSpPr/>
            <p:nvPr/>
          </p:nvSpPr>
          <p:spPr>
            <a:xfrm>
              <a:off x="1332000" y="3933720"/>
              <a:ext cx="220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 4 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3"/>
            <p:cNvGrpSpPr/>
            <p:nvPr/>
          </p:nvGrpSpPr>
          <p:grpSpPr>
            <a:xfrm>
              <a:off x="5508720" y="4221000"/>
              <a:ext cx="2160000" cy="258480"/>
              <a:chOff x="5508720" y="4221000"/>
              <a:chExt cx="2160000" cy="258480"/>
            </a:xfrm>
          </p:grpSpPr>
          <p:sp>
            <p:nvSpPr>
              <p:cNvPr id="606" name="Rectangle 24"/>
              <p:cNvSpPr/>
              <p:nvPr/>
            </p:nvSpPr>
            <p:spPr>
              <a:xfrm>
                <a:off x="5508720" y="4221000"/>
                <a:ext cx="14832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5657040" y="4221000"/>
                <a:ext cx="444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6052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6349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6646320" y="4221000"/>
                <a:ext cx="44532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092000" y="4221000"/>
                <a:ext cx="44496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520760" y="4221000"/>
                <a:ext cx="1479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Text Box 31"/>
            <p:cNvSpPr/>
            <p:nvPr/>
          </p:nvSpPr>
          <p:spPr>
            <a:xfrm>
              <a:off x="5724360" y="3933720"/>
              <a:ext cx="266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5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2"/>
            <p:cNvSpPr/>
            <p:nvPr/>
          </p:nvSpPr>
          <p:spPr>
            <a:xfrm>
              <a:off x="1979640" y="3357360"/>
              <a:ext cx="5473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plicing                                             Spl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3"/>
            <p:cNvSpPr/>
            <p:nvPr/>
          </p:nvSpPr>
          <p:spPr>
            <a:xfrm flipH="1">
              <a:off x="2123640" y="1989000"/>
              <a:ext cx="792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395280" y="2997000"/>
              <a:ext cx="2952360" cy="260280"/>
              <a:chOff x="395280" y="2997000"/>
              <a:chExt cx="2952360" cy="260280"/>
            </a:xfrm>
          </p:grpSpPr>
          <p:sp>
            <p:nvSpPr>
              <p:cNvPr id="617" name="Rectangle 35"/>
              <p:cNvSpPr/>
              <p:nvPr/>
            </p:nvSpPr>
            <p:spPr>
              <a:xfrm>
                <a:off x="550440" y="2997000"/>
                <a:ext cx="279720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6"/>
              <p:cNvSpPr/>
              <p:nvPr/>
            </p:nvSpPr>
            <p:spPr>
              <a:xfrm>
                <a:off x="550440" y="2997000"/>
                <a:ext cx="465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7"/>
              <p:cNvGrpSpPr/>
              <p:nvPr/>
            </p:nvGrpSpPr>
            <p:grpSpPr>
              <a:xfrm>
                <a:off x="395280" y="2997000"/>
                <a:ext cx="2952360" cy="259920"/>
                <a:chOff x="395280" y="2997000"/>
                <a:chExt cx="2952360" cy="259920"/>
              </a:xfrm>
            </p:grpSpPr>
            <p:sp>
              <p:nvSpPr>
                <p:cNvPr id="620" name="Rectangle 38"/>
                <p:cNvSpPr/>
                <p:nvPr/>
              </p:nvSpPr>
              <p:spPr>
                <a:xfrm>
                  <a:off x="395280" y="2997000"/>
                  <a:ext cx="155160" cy="2599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39"/>
                <p:cNvSpPr/>
                <p:nvPr/>
              </p:nvSpPr>
              <p:spPr>
                <a:xfrm>
                  <a:off x="137916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0"/>
                <p:cNvSpPr/>
                <p:nvPr/>
              </p:nvSpPr>
              <p:spPr>
                <a:xfrm>
                  <a:off x="196632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41"/>
                <p:cNvSpPr/>
                <p:nvPr/>
              </p:nvSpPr>
              <p:spPr>
                <a:xfrm>
                  <a:off x="2570760" y="2997000"/>
                  <a:ext cx="62136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42"/>
                <p:cNvSpPr/>
                <p:nvPr/>
              </p:nvSpPr>
              <p:spPr>
                <a:xfrm>
                  <a:off x="3192480" y="2997000"/>
                  <a:ext cx="155160" cy="259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43"/>
            <p:cNvSpPr/>
            <p:nvPr/>
          </p:nvSpPr>
          <p:spPr>
            <a:xfrm>
              <a:off x="611280" y="2636640"/>
              <a:ext cx="3744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4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4"/>
            <p:cNvSpPr/>
            <p:nvPr/>
          </p:nvSpPr>
          <p:spPr>
            <a:xfrm>
              <a:off x="5796000" y="198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5"/>
            <p:cNvGrpSpPr/>
            <p:nvPr/>
          </p:nvGrpSpPr>
          <p:grpSpPr>
            <a:xfrm>
              <a:off x="3995640" y="2997000"/>
              <a:ext cx="4537080" cy="260280"/>
              <a:chOff x="3995640" y="2997000"/>
              <a:chExt cx="4537080" cy="260280"/>
            </a:xfrm>
          </p:grpSpPr>
          <p:sp>
            <p:nvSpPr>
              <p:cNvPr id="628" name="Rectangle 46"/>
              <p:cNvSpPr/>
              <p:nvPr/>
            </p:nvSpPr>
            <p:spPr>
              <a:xfrm>
                <a:off x="4151880" y="2997000"/>
                <a:ext cx="438084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7"/>
              <p:cNvSpPr/>
              <p:nvPr/>
            </p:nvSpPr>
            <p:spPr>
              <a:xfrm>
                <a:off x="3995640" y="2997000"/>
                <a:ext cx="156240" cy="260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8"/>
              <p:cNvSpPr/>
              <p:nvPr/>
            </p:nvSpPr>
            <p:spPr>
              <a:xfrm>
                <a:off x="4151880" y="2997000"/>
                <a:ext cx="4694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9"/>
              <p:cNvSpPr/>
              <p:nvPr/>
            </p:nvSpPr>
            <p:spPr>
              <a:xfrm>
                <a:off x="4986360" y="2997000"/>
                <a:ext cx="3124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50"/>
              <p:cNvSpPr/>
              <p:nvPr/>
            </p:nvSpPr>
            <p:spPr>
              <a:xfrm>
                <a:off x="5577480" y="2997000"/>
                <a:ext cx="312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1"/>
              <p:cNvSpPr/>
              <p:nvPr/>
            </p:nvSpPr>
            <p:spPr>
              <a:xfrm>
                <a:off x="6185880" y="2997000"/>
                <a:ext cx="6256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52"/>
              <p:cNvSpPr/>
              <p:nvPr/>
            </p:nvSpPr>
            <p:spPr>
              <a:xfrm>
                <a:off x="7437600" y="2997000"/>
                <a:ext cx="46908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53"/>
              <p:cNvSpPr/>
              <p:nvPr/>
            </p:nvSpPr>
            <p:spPr>
              <a:xfrm>
                <a:off x="7906680" y="2997000"/>
                <a:ext cx="46944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4"/>
              <p:cNvSpPr/>
              <p:nvPr/>
            </p:nvSpPr>
            <p:spPr>
              <a:xfrm>
                <a:off x="8376480" y="2997000"/>
                <a:ext cx="156240" cy="260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 Box 55"/>
            <p:cNvSpPr/>
            <p:nvPr/>
          </p:nvSpPr>
          <p:spPr>
            <a:xfrm>
              <a:off x="4211640" y="2636640"/>
              <a:ext cx="4932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2         3           4                   5 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6"/>
            <p:cNvGrpSpPr/>
            <p:nvPr/>
          </p:nvGrpSpPr>
          <p:grpSpPr>
            <a:xfrm>
              <a:off x="1979640" y="1628640"/>
              <a:ext cx="4968360" cy="259920"/>
              <a:chOff x="1979640" y="1628640"/>
              <a:chExt cx="4968360" cy="259920"/>
            </a:xfrm>
          </p:grpSpPr>
          <p:sp>
            <p:nvSpPr>
              <p:cNvPr id="639" name="Rectangle 57"/>
              <p:cNvSpPr/>
              <p:nvPr/>
            </p:nvSpPr>
            <p:spPr>
              <a:xfrm>
                <a:off x="2134800" y="1628640"/>
                <a:ext cx="4813200" cy="25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58"/>
              <p:cNvSpPr/>
              <p:nvPr/>
            </p:nvSpPr>
            <p:spPr>
              <a:xfrm>
                <a:off x="1979640" y="1628640"/>
                <a:ext cx="155160" cy="259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9"/>
              <p:cNvSpPr/>
              <p:nvPr/>
            </p:nvSpPr>
            <p:spPr>
              <a:xfrm>
                <a:off x="2134800" y="1628640"/>
                <a:ext cx="46548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0"/>
              <p:cNvSpPr/>
              <p:nvPr/>
            </p:nvSpPr>
            <p:spPr>
              <a:xfrm>
                <a:off x="296280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1"/>
              <p:cNvSpPr/>
              <p:nvPr/>
            </p:nvSpPr>
            <p:spPr>
              <a:xfrm>
                <a:off x="354924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2"/>
              <p:cNvSpPr/>
              <p:nvPr/>
            </p:nvSpPr>
            <p:spPr>
              <a:xfrm>
                <a:off x="4153320" y="1628640"/>
                <a:ext cx="62100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63"/>
              <p:cNvSpPr/>
              <p:nvPr/>
            </p:nvSpPr>
            <p:spPr>
              <a:xfrm>
                <a:off x="5395320" y="1628640"/>
                <a:ext cx="46584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4"/>
              <p:cNvSpPr/>
              <p:nvPr/>
            </p:nvSpPr>
            <p:spPr>
              <a:xfrm>
                <a:off x="5861520" y="1628640"/>
                <a:ext cx="46548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Text Box 65"/>
            <p:cNvSpPr/>
            <p:nvPr/>
          </p:nvSpPr>
          <p:spPr>
            <a:xfrm>
              <a:off x="2195640" y="1270080"/>
              <a:ext cx="504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 4                 5     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66"/>
            <p:cNvSpPr/>
            <p:nvPr/>
          </p:nvSpPr>
          <p:spPr>
            <a:xfrm>
              <a:off x="6300720" y="12700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67"/>
            <p:cNvSpPr/>
            <p:nvPr/>
          </p:nvSpPr>
          <p:spPr>
            <a:xfrm>
              <a:off x="4788000" y="12700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4284720" y="981000"/>
              <a:ext cx="31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oly A site          Poly A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2843280" y="1917720"/>
              <a:ext cx="334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leavage and polyadeny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70"/>
            <p:cNvSpPr/>
            <p:nvPr/>
          </p:nvSpPr>
          <p:spPr>
            <a:xfrm>
              <a:off x="826920" y="1485720"/>
              <a:ext cx="1225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rimary tran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71"/>
            <p:cNvGrpSpPr/>
            <p:nvPr/>
          </p:nvGrpSpPr>
          <p:grpSpPr>
            <a:xfrm>
              <a:off x="6156360" y="5157720"/>
              <a:ext cx="872640" cy="258840"/>
              <a:chOff x="6156360" y="5157720"/>
              <a:chExt cx="872640" cy="258840"/>
            </a:xfrm>
          </p:grpSpPr>
          <p:sp>
            <p:nvSpPr>
              <p:cNvPr id="654" name="Rectangle 72"/>
              <p:cNvSpPr/>
              <p:nvPr/>
            </p:nvSpPr>
            <p:spPr>
              <a:xfrm>
                <a:off x="6156360" y="5157720"/>
                <a:ext cx="554760" cy="25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73"/>
              <p:cNvSpPr/>
              <p:nvPr/>
            </p:nvSpPr>
            <p:spPr>
              <a:xfrm>
                <a:off x="6711120" y="5157720"/>
                <a:ext cx="317880" cy="258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74"/>
            <p:cNvSpPr/>
            <p:nvPr/>
          </p:nvSpPr>
          <p:spPr>
            <a:xfrm>
              <a:off x="1476360" y="2349360"/>
              <a:ext cx="9349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75"/>
            <p:cNvSpPr/>
            <p:nvPr/>
          </p:nvSpPr>
          <p:spPr>
            <a:xfrm>
              <a:off x="1476360" y="2349360"/>
              <a:ext cx="1152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yr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6300720" y="2349360"/>
              <a:ext cx="720720" cy="28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7"/>
            <p:cNvSpPr/>
            <p:nvPr/>
          </p:nvSpPr>
          <p:spPr>
            <a:xfrm>
              <a:off x="6300720" y="2349360"/>
              <a:ext cx="762120" cy="360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78"/>
          <p:cNvSpPr/>
          <p:nvPr/>
        </p:nvSpPr>
        <p:spPr>
          <a:xfrm>
            <a:off x="5796720" y="5359320"/>
            <a:ext cx="188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基因相关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1620720" y="54309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0A1B-FB7F-452D-AD48-A931AC444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A905-80A0-4132-AFA5-235D5B66B43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76"/>
          <p:cNvSpPr/>
          <p:nvPr/>
        </p:nvSpPr>
        <p:spPr>
          <a:xfrm>
            <a:off x="1116000" y="1197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基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077"/>
          <p:cNvSpPr/>
          <p:nvPr/>
        </p:nvSpPr>
        <p:spPr>
          <a:xfrm>
            <a:off x="1116000" y="3270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基化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078"/>
          <p:cNvSpPr/>
          <p:nvPr/>
        </p:nvSpPr>
        <p:spPr>
          <a:xfrm>
            <a:off x="3059280" y="3270240"/>
            <a:ext cx="215640" cy="5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079"/>
          <p:cNvSpPr/>
          <p:nvPr/>
        </p:nvSpPr>
        <p:spPr>
          <a:xfrm>
            <a:off x="1116000" y="21891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核生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中含甲基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nRNA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端帽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编码区分子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080"/>
          <p:cNvSpPr/>
          <p:nvPr/>
        </p:nvSpPr>
        <p:spPr>
          <a:xfrm>
            <a:off x="1116000" y="44942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供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A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甲基转移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DD96-E443-4FFB-906C-C36512649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9D19-CB44-4025-A1E5-CB57327ACC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28"/>
          <p:cNvSpPr/>
          <p:nvPr/>
        </p:nvSpPr>
        <p:spPr>
          <a:xfrm>
            <a:off x="762120" y="177336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核苷酸序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生成转录产物后还需插入、删除或取代一些核苷酸残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方能生成具有正确翻译功能的模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30"/>
          <p:cNvSpPr/>
          <p:nvPr/>
        </p:nvSpPr>
        <p:spPr>
          <a:xfrm>
            <a:off x="1066680" y="480060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的编码序列经过转录后加工，可有多用途分化，称分化加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1"/>
          <p:cNvSpPr/>
          <p:nvPr/>
        </p:nvSpPr>
        <p:spPr>
          <a:xfrm>
            <a:off x="838080" y="407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2"/>
          <p:cNvSpPr/>
          <p:nvPr/>
        </p:nvSpPr>
        <p:spPr>
          <a:xfrm>
            <a:off x="457200" y="91440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467C-ED05-4497-A75F-297117885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F363-2A39-4FCD-B7DE-C0A762E144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5CE7-E7D7-4B8F-97BC-0F5A31A3A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899E-1472-46CB-88BD-4A8B8B505AF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8"/>
          <p:cNvSpPr/>
          <p:nvPr/>
        </p:nvSpPr>
        <p:spPr>
          <a:xfrm>
            <a:off x="1042920" y="83664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0"/>
          <p:cNvSpPr/>
          <p:nvPr/>
        </p:nvSpPr>
        <p:spPr>
          <a:xfrm>
            <a:off x="1547640" y="2205000"/>
            <a:ext cx="34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和剪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037" descr="trna1"/>
          <p:cNvPicPr/>
          <p:nvPr/>
        </p:nvPicPr>
        <p:blipFill>
          <a:blip r:embed="rId1"/>
          <a:stretch/>
        </p:blipFill>
        <p:spPr>
          <a:xfrm>
            <a:off x="5029200" y="2209680"/>
            <a:ext cx="340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78E8-6BF6-4E80-B83D-0FB433F1E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C79B-A2D6-4A53-95F2-9C42BB751DE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15640" y="357120"/>
            <a:ext cx="8459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切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6" name="Picture 10" descr="trna3"/>
          <p:cNvPicPr/>
          <p:nvPr/>
        </p:nvPicPr>
        <p:blipFill>
          <a:blip r:embed="rId1"/>
          <a:stretch/>
        </p:blipFill>
        <p:spPr>
          <a:xfrm>
            <a:off x="6197760" y="2932200"/>
            <a:ext cx="2525400" cy="3619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trna1"/>
          <p:cNvPicPr/>
          <p:nvPr/>
        </p:nvPicPr>
        <p:blipFill>
          <a:blip r:embed="rId2"/>
          <a:stretch/>
        </p:blipFill>
        <p:spPr>
          <a:xfrm>
            <a:off x="611280" y="2500200"/>
            <a:ext cx="3173400" cy="4083120"/>
          </a:xfrm>
          <a:prstGeom prst="rect">
            <a:avLst/>
          </a:prstGeom>
          <a:ln w="0">
            <a:noFill/>
          </a:ln>
        </p:spPr>
      </p:pic>
      <p:sp>
        <p:nvSpPr>
          <p:cNvPr id="688" name="Line 12"/>
          <p:cNvSpPr/>
          <p:nvPr/>
        </p:nvSpPr>
        <p:spPr>
          <a:xfrm>
            <a:off x="3921120" y="4948200"/>
            <a:ext cx="1789200" cy="1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059360" y="4424400"/>
            <a:ext cx="15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250920" y="170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lic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去除内含子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2627-2962-4421-B1E1-3F99B9B95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EF05-F95B-4ECF-AB75-24863BD481C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1617120" y="760320"/>
            <a:ext cx="27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8" descr="trna 副本"/>
          <p:cNvPicPr/>
          <p:nvPr/>
        </p:nvPicPr>
        <p:blipFill>
          <a:blip r:embed="rId1"/>
          <a:stretch/>
        </p:blipFill>
        <p:spPr>
          <a:xfrm>
            <a:off x="6156360" y="1557360"/>
            <a:ext cx="2778120" cy="4475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9" descr="trna3"/>
          <p:cNvPicPr/>
          <p:nvPr/>
        </p:nvPicPr>
        <p:blipFill>
          <a:blip r:embed="rId2"/>
          <a:stretch/>
        </p:blipFill>
        <p:spPr>
          <a:xfrm>
            <a:off x="250920" y="1641600"/>
            <a:ext cx="2808360" cy="43783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2"/>
          <p:cNvSpPr/>
          <p:nvPr/>
        </p:nvSpPr>
        <p:spPr>
          <a:xfrm>
            <a:off x="3182760" y="43657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754520" y="4343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4"/>
          <p:cNvSpPr/>
          <p:nvPr/>
        </p:nvSpPr>
        <p:spPr>
          <a:xfrm rot="19928400">
            <a:off x="3995280" y="4005000"/>
            <a:ext cx="1008000" cy="6458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952" h="529">
                <a:moveTo>
                  <a:pt x="0" y="76"/>
                </a:moveTo>
                <a:cubicBezTo>
                  <a:pt x="215" y="38"/>
                  <a:pt x="430" y="0"/>
                  <a:pt x="589" y="76"/>
                </a:cubicBezTo>
                <a:cubicBezTo>
                  <a:pt x="748" y="152"/>
                  <a:pt x="892" y="454"/>
                  <a:pt x="952" y="5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3200400" y="2743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RN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苷酸转移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3352680" y="40384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81E7-31B2-41EB-A24E-9C125B49F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D4DD-7865-4AAA-888F-6D77561DB6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2441520"/>
            <a:ext cx="78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NTP (ATP,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UTP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GTP, CT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anniou-1.gif (2699 bytes)"/>
          <p:cNvPicPr/>
          <p:nvPr/>
        </p:nvPicPr>
        <p:blipFill>
          <a:blip r:embed="rId1"/>
          <a:stretch/>
        </p:blipFill>
        <p:spPr>
          <a:xfrm>
            <a:off x="152280" y="2630520"/>
            <a:ext cx="397080" cy="270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228600" y="3611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合成原料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dNTP(dATP, dTTP, dGTP,dC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84280" y="126828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niou-1.gif (2699 bytes)"/>
          <p:cNvPicPr/>
          <p:nvPr/>
        </p:nvPicPr>
        <p:blipFill>
          <a:blip r:embed="rId2"/>
          <a:stretch/>
        </p:blipFill>
        <p:spPr>
          <a:xfrm>
            <a:off x="152280" y="141300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niou-1.gif (2699 bytes)"/>
          <p:cNvPicPr/>
          <p:nvPr/>
        </p:nvPicPr>
        <p:blipFill>
          <a:blip r:embed="rId3"/>
          <a:stretch/>
        </p:blipFill>
        <p:spPr>
          <a:xfrm>
            <a:off x="228600" y="4821120"/>
            <a:ext cx="396720" cy="2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404000" y="465300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时新链合成的方向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E3E2-1D89-440D-BC21-0C197F81D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0288-2B3D-48C2-A044-D6CF9B5D945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435640" y="4572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碱基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4643280" y="2924280"/>
            <a:ext cx="4114800" cy="1130040"/>
            <a:chOff x="4643280" y="2924280"/>
            <a:chExt cx="4114800" cy="1130040"/>
          </a:xfrm>
        </p:grpSpPr>
        <p:sp>
          <p:nvSpPr>
            <p:cNvPr id="705" name="Text Box 4"/>
            <p:cNvSpPr/>
            <p:nvPr/>
          </p:nvSpPr>
          <p:spPr>
            <a:xfrm>
              <a:off x="4643280" y="2924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还原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"/>
            <p:cNvSpPr/>
            <p:nvPr/>
          </p:nvSpPr>
          <p:spPr>
            <a:xfrm>
              <a:off x="5709960" y="3533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D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"/>
          <p:cNvGrpSpPr/>
          <p:nvPr/>
        </p:nvGrpSpPr>
        <p:grpSpPr>
          <a:xfrm>
            <a:off x="4500720" y="4149720"/>
            <a:ext cx="4647960" cy="1099800"/>
            <a:chOff x="4500720" y="4149720"/>
            <a:chExt cx="4647960" cy="1099800"/>
          </a:xfrm>
        </p:grpSpPr>
        <p:sp>
          <p:nvSpPr>
            <p:cNvPr id="708" name="Text Box 7"/>
            <p:cNvSpPr/>
            <p:nvPr/>
          </p:nvSpPr>
          <p:spPr>
            <a:xfrm>
              <a:off x="4500720" y="41497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核苷内的转位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8"/>
            <p:cNvSpPr/>
            <p:nvPr/>
          </p:nvSpPr>
          <p:spPr>
            <a:xfrm>
              <a:off x="5719680" y="4606920"/>
              <a:ext cx="27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4716360" y="5300640"/>
            <a:ext cx="4114800" cy="1130040"/>
            <a:chOff x="4716360" y="5300640"/>
            <a:chExt cx="4114800" cy="1130040"/>
          </a:xfrm>
        </p:grpSpPr>
        <p:sp>
          <p:nvSpPr>
            <p:cNvPr id="711" name="Text Box 10"/>
            <p:cNvSpPr/>
            <p:nvPr/>
          </p:nvSpPr>
          <p:spPr>
            <a:xfrm>
              <a:off x="4716360" y="53006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脱氨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1"/>
            <p:cNvSpPr/>
            <p:nvPr/>
          </p:nvSpPr>
          <p:spPr>
            <a:xfrm>
              <a:off x="5783040" y="59101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5" descr="trna22"/>
          <p:cNvPicPr/>
          <p:nvPr/>
        </p:nvPicPr>
        <p:blipFill>
          <a:blip r:embed="rId1"/>
          <a:stretch/>
        </p:blipFill>
        <p:spPr>
          <a:xfrm>
            <a:off x="250920" y="0"/>
            <a:ext cx="4495680" cy="645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1719720" y="1989000"/>
            <a:ext cx="3324600" cy="1430280"/>
            <a:chOff x="1719720" y="1989000"/>
            <a:chExt cx="3324600" cy="1430280"/>
          </a:xfrm>
        </p:grpSpPr>
        <p:sp>
          <p:nvSpPr>
            <p:cNvPr id="715" name="Line 17"/>
            <p:cNvSpPr/>
            <p:nvPr/>
          </p:nvSpPr>
          <p:spPr>
            <a:xfrm>
              <a:off x="4659120" y="2428920"/>
              <a:ext cx="0" cy="68580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2144520" y="280980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9"/>
            <p:cNvSpPr/>
            <p:nvPr/>
          </p:nvSpPr>
          <p:spPr>
            <a:xfrm>
              <a:off x="4233960" y="198900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"/>
            <p:cNvSpPr/>
            <p:nvPr/>
          </p:nvSpPr>
          <p:spPr>
            <a:xfrm>
              <a:off x="1719720" y="237024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3873960" y="4221000"/>
            <a:ext cx="810360" cy="980280"/>
            <a:chOff x="3873960" y="4221000"/>
            <a:chExt cx="810360" cy="980280"/>
          </a:xfrm>
        </p:grpSpPr>
        <p:sp>
          <p:nvSpPr>
            <p:cNvPr id="720" name="Line 22"/>
            <p:cNvSpPr/>
            <p:nvPr/>
          </p:nvSpPr>
          <p:spPr>
            <a:xfrm>
              <a:off x="4299120" y="4221000"/>
              <a:ext cx="0" cy="53352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"/>
            <p:cNvSpPr/>
            <p:nvPr/>
          </p:nvSpPr>
          <p:spPr>
            <a:xfrm>
              <a:off x="3873960" y="477216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4"/>
          <p:cNvGrpSpPr/>
          <p:nvPr/>
        </p:nvGrpSpPr>
        <p:grpSpPr>
          <a:xfrm>
            <a:off x="416160" y="2133720"/>
            <a:ext cx="810360" cy="1048680"/>
            <a:chOff x="416160" y="2133720"/>
            <a:chExt cx="810360" cy="1048680"/>
          </a:xfrm>
        </p:grpSpPr>
        <p:sp>
          <p:nvSpPr>
            <p:cNvPr id="723" name="Line 25"/>
            <p:cNvSpPr/>
            <p:nvPr/>
          </p:nvSpPr>
          <p:spPr>
            <a:xfrm>
              <a:off x="841320" y="257292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6"/>
            <p:cNvSpPr/>
            <p:nvPr/>
          </p:nvSpPr>
          <p:spPr>
            <a:xfrm>
              <a:off x="416160" y="213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"/>
          <p:cNvGrpSpPr/>
          <p:nvPr/>
        </p:nvGrpSpPr>
        <p:grpSpPr>
          <a:xfrm>
            <a:off x="3103920" y="5373720"/>
            <a:ext cx="1148400" cy="429120"/>
            <a:chOff x="3103920" y="5373720"/>
            <a:chExt cx="1148400" cy="429120"/>
          </a:xfrm>
        </p:grpSpPr>
        <p:sp>
          <p:nvSpPr>
            <p:cNvPr id="726" name="Line 28"/>
            <p:cNvSpPr/>
            <p:nvPr/>
          </p:nvSpPr>
          <p:spPr>
            <a:xfrm flipV="1">
              <a:off x="3103920" y="5575680"/>
              <a:ext cx="532800" cy="3096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3441960" y="537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8"/>
          <p:cNvGrpSpPr/>
          <p:nvPr/>
        </p:nvGrpSpPr>
        <p:grpSpPr>
          <a:xfrm>
            <a:off x="4645080" y="1484280"/>
            <a:ext cx="4038480" cy="1312920"/>
            <a:chOff x="4645080" y="1484280"/>
            <a:chExt cx="4038480" cy="1312920"/>
          </a:xfrm>
        </p:grpSpPr>
        <p:grpSp>
          <p:nvGrpSpPr>
            <p:cNvPr id="729" name="Group 12"/>
            <p:cNvGrpSpPr/>
            <p:nvPr/>
          </p:nvGrpSpPr>
          <p:grpSpPr>
            <a:xfrm>
              <a:off x="4645080" y="1484280"/>
              <a:ext cx="4038480" cy="977760"/>
              <a:chOff x="4645080" y="1484280"/>
              <a:chExt cx="4038480" cy="977760"/>
            </a:xfrm>
          </p:grpSpPr>
          <p:sp>
            <p:nvSpPr>
              <p:cNvPr id="730" name="Text Box 13"/>
              <p:cNvSpPr/>
              <p:nvPr/>
            </p:nvSpPr>
            <p:spPr>
              <a:xfrm>
                <a:off x="5635440" y="1941480"/>
                <a:ext cx="304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如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A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Arial"/>
                    <a:ea typeface="黑体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14"/>
              <p:cNvSpPr/>
              <p:nvPr/>
            </p:nvSpPr>
            <p:spPr>
              <a:xfrm>
                <a:off x="4645080" y="1484280"/>
                <a:ext cx="30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甲基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7"/>
            <p:cNvSpPr/>
            <p:nvPr/>
          </p:nvSpPr>
          <p:spPr>
            <a:xfrm>
              <a:off x="6492240" y="2276640"/>
              <a:ext cx="14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5959-D0B4-40AC-A247-7B4739B2E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B0E8-D90D-4877-974B-622880D8BB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91"/>
          <p:cNvSpPr/>
          <p:nvPr/>
        </p:nvSpPr>
        <p:spPr>
          <a:xfrm>
            <a:off x="-7632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265"/>
          <p:cNvSpPr/>
          <p:nvPr/>
        </p:nvSpPr>
        <p:spPr>
          <a:xfrm>
            <a:off x="1042920" y="76500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290"/>
          <p:cNvGrpSpPr/>
          <p:nvPr/>
        </p:nvGrpSpPr>
        <p:grpSpPr>
          <a:xfrm>
            <a:off x="1260360" y="1700280"/>
            <a:ext cx="6840360" cy="2741760"/>
            <a:chOff x="1260360" y="1700280"/>
            <a:chExt cx="6840360" cy="2741760"/>
          </a:xfrm>
        </p:grpSpPr>
        <p:sp>
          <p:nvSpPr>
            <p:cNvPr id="738" name="Text Box 2266"/>
            <p:cNvSpPr/>
            <p:nvPr/>
          </p:nvSpPr>
          <p:spPr>
            <a:xfrm>
              <a:off x="1260360" y="1700280"/>
              <a:ext cx="6840360" cy="23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基因多拷贝，串联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剪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甲基化修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87"/>
            <p:cNvSpPr/>
            <p:nvPr/>
          </p:nvSpPr>
          <p:spPr>
            <a:xfrm>
              <a:off x="2045880" y="3860640"/>
              <a:ext cx="43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我剪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膜虫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的加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Line 2293"/>
          <p:cNvSpPr/>
          <p:nvPr/>
        </p:nvSpPr>
        <p:spPr>
          <a:xfrm>
            <a:off x="611280" y="528336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94"/>
          <p:cNvSpPr/>
          <p:nvPr/>
        </p:nvSpPr>
        <p:spPr>
          <a:xfrm>
            <a:off x="611280" y="5587920"/>
            <a:ext cx="769608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95"/>
          <p:cNvSpPr/>
          <p:nvPr/>
        </p:nvSpPr>
        <p:spPr>
          <a:xfrm>
            <a:off x="15256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96"/>
          <p:cNvSpPr/>
          <p:nvPr/>
        </p:nvSpPr>
        <p:spPr>
          <a:xfrm>
            <a:off x="16779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97"/>
          <p:cNvSpPr/>
          <p:nvPr/>
        </p:nvSpPr>
        <p:spPr>
          <a:xfrm>
            <a:off x="21351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8"/>
          <p:cNvSpPr/>
          <p:nvPr/>
        </p:nvSpPr>
        <p:spPr>
          <a:xfrm>
            <a:off x="396396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99"/>
          <p:cNvSpPr/>
          <p:nvPr/>
        </p:nvSpPr>
        <p:spPr>
          <a:xfrm>
            <a:off x="41162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00"/>
          <p:cNvSpPr/>
          <p:nvPr/>
        </p:nvSpPr>
        <p:spPr>
          <a:xfrm>
            <a:off x="45734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01"/>
          <p:cNvSpPr/>
          <p:nvPr/>
        </p:nvSpPr>
        <p:spPr>
          <a:xfrm>
            <a:off x="63262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02"/>
          <p:cNvSpPr/>
          <p:nvPr/>
        </p:nvSpPr>
        <p:spPr>
          <a:xfrm>
            <a:off x="64785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03"/>
          <p:cNvSpPr/>
          <p:nvPr/>
        </p:nvSpPr>
        <p:spPr>
          <a:xfrm>
            <a:off x="69357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04"/>
          <p:cNvSpPr/>
          <p:nvPr/>
        </p:nvSpPr>
        <p:spPr>
          <a:xfrm>
            <a:off x="6156360" y="5877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C587-2E81-4C37-B322-20746B6EB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3421-6137-419A-81B8-3502C549FAC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80"/>
          <p:cNvSpPr/>
          <p:nvPr/>
        </p:nvSpPr>
        <p:spPr>
          <a:xfrm>
            <a:off x="0" y="500040"/>
            <a:ext cx="54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核核糖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081"/>
          <p:cNvGrpSpPr/>
          <p:nvPr/>
        </p:nvGrpSpPr>
        <p:grpSpPr>
          <a:xfrm>
            <a:off x="0" y="1341360"/>
            <a:ext cx="8294760" cy="5078520"/>
            <a:chOff x="0" y="1341360"/>
            <a:chExt cx="8294760" cy="5078520"/>
          </a:xfrm>
        </p:grpSpPr>
        <p:sp>
          <p:nvSpPr>
            <p:cNvPr id="756" name="Rectangle 1082"/>
            <p:cNvSpPr/>
            <p:nvPr/>
          </p:nvSpPr>
          <p:spPr>
            <a:xfrm>
              <a:off x="761760" y="184788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083"/>
            <p:cNvSpPr/>
            <p:nvPr/>
          </p:nvSpPr>
          <p:spPr>
            <a:xfrm>
              <a:off x="761760" y="283860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84"/>
            <p:cNvSpPr/>
            <p:nvPr/>
          </p:nvSpPr>
          <p:spPr>
            <a:xfrm>
              <a:off x="2666880" y="3981600"/>
              <a:ext cx="42670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085"/>
            <p:cNvSpPr/>
            <p:nvPr/>
          </p:nvSpPr>
          <p:spPr>
            <a:xfrm>
              <a:off x="838080" y="5048280"/>
              <a:ext cx="213372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86"/>
            <p:cNvSpPr/>
            <p:nvPr/>
          </p:nvSpPr>
          <p:spPr>
            <a:xfrm>
              <a:off x="3657600" y="5048280"/>
              <a:ext cx="34290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087"/>
            <p:cNvSpPr/>
            <p:nvPr/>
          </p:nvSpPr>
          <p:spPr>
            <a:xfrm>
              <a:off x="914400" y="6267600"/>
              <a:ext cx="190476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088"/>
            <p:cNvSpPr/>
            <p:nvPr/>
          </p:nvSpPr>
          <p:spPr>
            <a:xfrm>
              <a:off x="3809880" y="6267600"/>
              <a:ext cx="29718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89"/>
            <p:cNvSpPr/>
            <p:nvPr/>
          </p:nvSpPr>
          <p:spPr>
            <a:xfrm>
              <a:off x="3276360" y="6267600"/>
              <a:ext cx="2286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90"/>
            <p:cNvSpPr/>
            <p:nvPr/>
          </p:nvSpPr>
          <p:spPr>
            <a:xfrm>
              <a:off x="7543800" y="62676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91"/>
            <p:cNvSpPr/>
            <p:nvPr/>
          </p:nvSpPr>
          <p:spPr>
            <a:xfrm>
              <a:off x="7543800" y="1847880"/>
              <a:ext cx="1522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92"/>
            <p:cNvSpPr/>
            <p:nvPr/>
          </p:nvSpPr>
          <p:spPr>
            <a:xfrm>
              <a:off x="2898360" y="13413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93"/>
            <p:cNvSpPr/>
            <p:nvPr/>
          </p:nvSpPr>
          <p:spPr>
            <a:xfrm>
              <a:off x="4168440" y="328464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1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094"/>
            <p:cNvSpPr/>
            <p:nvPr/>
          </p:nvSpPr>
          <p:spPr>
            <a:xfrm>
              <a:off x="4320720" y="45147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2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95"/>
            <p:cNvSpPr/>
            <p:nvPr/>
          </p:nvSpPr>
          <p:spPr>
            <a:xfrm>
              <a:off x="4321080" y="5810400"/>
              <a:ext cx="16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8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96"/>
            <p:cNvSpPr/>
            <p:nvPr/>
          </p:nvSpPr>
          <p:spPr>
            <a:xfrm>
              <a:off x="993240" y="459108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97"/>
            <p:cNvSpPr/>
            <p:nvPr/>
          </p:nvSpPr>
          <p:spPr>
            <a:xfrm>
              <a:off x="0" y="5810400"/>
              <a:ext cx="38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8S rRN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.8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98"/>
            <p:cNvSpPr/>
            <p:nvPr/>
          </p:nvSpPr>
          <p:spPr>
            <a:xfrm>
              <a:off x="6379560" y="137160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99"/>
            <p:cNvSpPr/>
            <p:nvPr/>
          </p:nvSpPr>
          <p:spPr>
            <a:xfrm>
              <a:off x="6701040" y="58104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00"/>
            <p:cNvSpPr/>
            <p:nvPr/>
          </p:nvSpPr>
          <p:spPr>
            <a:xfrm>
              <a:off x="3886200" y="2076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01"/>
            <p:cNvSpPr/>
            <p:nvPr/>
          </p:nvSpPr>
          <p:spPr>
            <a:xfrm>
              <a:off x="3886200" y="3143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02"/>
            <p:cNvSpPr/>
            <p:nvPr/>
          </p:nvSpPr>
          <p:spPr>
            <a:xfrm>
              <a:off x="4267080" y="4286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03"/>
            <p:cNvSpPr/>
            <p:nvPr/>
          </p:nvSpPr>
          <p:spPr>
            <a:xfrm>
              <a:off x="441936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04"/>
            <p:cNvSpPr/>
            <p:nvPr/>
          </p:nvSpPr>
          <p:spPr>
            <a:xfrm flipH="1">
              <a:off x="3188880" y="4404240"/>
              <a:ext cx="48348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105"/>
            <p:cNvSpPr/>
            <p:nvPr/>
          </p:nvSpPr>
          <p:spPr>
            <a:xfrm>
              <a:off x="198108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6"/>
            <p:cNvSpPr/>
            <p:nvPr/>
          </p:nvSpPr>
          <p:spPr>
            <a:xfrm>
              <a:off x="2490120" y="5409360"/>
              <a:ext cx="48420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07"/>
            <p:cNvSpPr/>
            <p:nvPr/>
          </p:nvSpPr>
          <p:spPr>
            <a:xfrm>
              <a:off x="7619760" y="210348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08"/>
            <p:cNvSpPr/>
            <p:nvPr/>
          </p:nvSpPr>
          <p:spPr>
            <a:xfrm>
              <a:off x="4533840" y="2354400"/>
              <a:ext cx="1655640" cy="358560"/>
            </a:xfrm>
            <a:prstGeom prst="rect">
              <a:avLst/>
            </a:prstGeom>
            <a:solidFill>
              <a:srgbClr val="ffcc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109"/>
            <p:cNvSpPr/>
            <p:nvPr/>
          </p:nvSpPr>
          <p:spPr>
            <a:xfrm>
              <a:off x="4649040" y="2262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基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10"/>
            <p:cNvSpPr/>
            <p:nvPr/>
          </p:nvSpPr>
          <p:spPr>
            <a:xfrm>
              <a:off x="4220280" y="2282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BD81-FFDB-4649-96C8-1C9153FC8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2556000" y="991800"/>
            <a:ext cx="4105080" cy="82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节  核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124000" y="357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有酶促活性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称为核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332000" y="2739600"/>
            <a:ext cx="58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核酶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ribozym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7C26-18D9-4D54-A65A-40379DD81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rRNA自我剪接1之1"/>
          <p:cNvPicPr/>
          <p:nvPr/>
        </p:nvPicPr>
        <p:blipFill>
          <a:blip r:embed="rId1"/>
          <a:stretch/>
        </p:blipFill>
        <p:spPr>
          <a:xfrm>
            <a:off x="324000" y="1413000"/>
            <a:ext cx="5041800" cy="407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17928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含子的二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2400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剪接采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ea typeface="华文楷体"/>
              </a:rPr>
              <a:t>自我剪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897120" y="2208240"/>
            <a:ext cx="1626840" cy="2581560"/>
            <a:chOff x="897120" y="2208240"/>
            <a:chExt cx="1626840" cy="2581560"/>
          </a:xfrm>
        </p:grpSpPr>
        <p:sp>
          <p:nvSpPr>
            <p:cNvPr id="794" name="Oval 6"/>
            <p:cNvSpPr/>
            <p:nvPr/>
          </p:nvSpPr>
          <p:spPr>
            <a:xfrm rot="468000">
              <a:off x="1633320" y="2254680"/>
              <a:ext cx="790920" cy="1521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H="1">
              <a:off x="897120" y="3445560"/>
              <a:ext cx="76716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H="1">
              <a:off x="963360" y="3647160"/>
              <a:ext cx="767160" cy="114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897120" y="4588920"/>
              <a:ext cx="66240" cy="20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10" descr="rRNA自我剪接2"/>
          <p:cNvPicPr/>
          <p:nvPr/>
        </p:nvPicPr>
        <p:blipFill>
          <a:blip r:embed="rId2"/>
          <a:stretch/>
        </p:blipFill>
        <p:spPr>
          <a:xfrm>
            <a:off x="6300720" y="1773360"/>
            <a:ext cx="2343240" cy="43923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1"/>
          <p:cNvSpPr/>
          <p:nvPr/>
        </p:nvSpPr>
        <p:spPr>
          <a:xfrm>
            <a:off x="2195640" y="6093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端核苷酸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FC5C-D511-455D-9F1F-3B913254A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4000" y="1527120"/>
            <a:ext cx="5846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核酶研究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175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，对中心法则作了重要补充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是对传统酶学的挑战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利用核酶的结构设计合成人工核酶。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8EB8-075D-48D4-A409-44B014041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8587-E13A-4E73-B5AA-15083155ACD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5760" y="1219320"/>
            <a:ext cx="843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    G    C   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碱基配对规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C    G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苷酸连接方式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式：不对称转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93380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726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6518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723744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529080" y="1940040"/>
            <a:ext cx="223920" cy="863640"/>
          </a:xfrm>
          <a:custGeom>
            <a:avLst/>
            <a:gdLst>
              <a:gd name="textAreaLeft" fmla="*/ 143280 w 223920"/>
              <a:gd name="textAreaRight" fmla="*/ 224280 w 223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anniou-1.gif (2699 bytes)"/>
          <p:cNvPicPr/>
          <p:nvPr/>
        </p:nvPicPr>
        <p:blipFill>
          <a:blip r:embed="rId1"/>
          <a:stretch/>
        </p:blipFill>
        <p:spPr>
          <a:xfrm>
            <a:off x="217440" y="222732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anniou-1.gif (2699 bytes)"/>
          <p:cNvPicPr/>
          <p:nvPr/>
        </p:nvPicPr>
        <p:blipFill>
          <a:blip r:embed="rId2"/>
          <a:stretch/>
        </p:blipFill>
        <p:spPr>
          <a:xfrm>
            <a:off x="217440" y="4941720"/>
            <a:ext cx="39708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niou-1.gif (2699 bytes)"/>
          <p:cNvPicPr/>
          <p:nvPr/>
        </p:nvPicPr>
        <p:blipFill>
          <a:blip r:embed="rId3"/>
          <a:stretch/>
        </p:blipFill>
        <p:spPr>
          <a:xfrm>
            <a:off x="217440" y="3522600"/>
            <a:ext cx="397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42B3-5CE0-4A3B-8D11-B11C809D1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5727-5134-4EB9-8BFB-2A06EACC4DC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341360"/>
            <a:ext cx="8064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片段转录时，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只有一条链作为转录的模板，这种转录方式称作不对称转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27236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00360" y="627120"/>
            <a:ext cx="35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4A5E-0B5B-4867-ACEF-1D7F775B9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F615-F2E6-426C-8D12-2649B94870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2555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中按碱基配对规律能指引转录生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一股单链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的另一股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作为转录模板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编码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2D34-3A66-43C0-A121-7FFB89F93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8295-117C-4B9C-B00B-5ED887AAEF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760320" y="2130480"/>
            <a:ext cx="7368480" cy="2227680"/>
            <a:chOff x="760320" y="2130480"/>
            <a:chExt cx="7368480" cy="2227680"/>
          </a:xfrm>
        </p:grpSpPr>
        <p:sp>
          <p:nvSpPr>
            <p:cNvPr id="110" name="Rectangle 13"/>
            <p:cNvSpPr/>
            <p:nvPr/>
          </p:nvSpPr>
          <p:spPr>
            <a:xfrm>
              <a:off x="760320" y="2758680"/>
              <a:ext cx="576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1"/>
            <p:cNvGrpSpPr/>
            <p:nvPr/>
          </p:nvGrpSpPr>
          <p:grpSpPr>
            <a:xfrm>
              <a:off x="1335960" y="2130480"/>
              <a:ext cx="6792840" cy="2227680"/>
              <a:chOff x="1335960" y="2130480"/>
              <a:chExt cx="6792840" cy="2227680"/>
            </a:xfrm>
          </p:grpSpPr>
          <p:sp>
            <p:nvSpPr>
              <p:cNvPr id="112" name="Text Box 6"/>
              <p:cNvSpPr/>
              <p:nvPr/>
            </p:nvSpPr>
            <p:spPr>
              <a:xfrm>
                <a:off x="6562800" y="2130480"/>
                <a:ext cx="156600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编码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模板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 flipH="1" flipV="1">
                <a:off x="5527080" y="3697200"/>
                <a:ext cx="86364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27080" y="2328480"/>
                <a:ext cx="863640" cy="47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>
                <a:off x="1335960" y="2715840"/>
                <a:ext cx="593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A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AA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GCC–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 gt cga gcg acg at t a ccgg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6"/>
              <p:cNvSpPr/>
              <p:nvPr/>
            </p:nvSpPr>
            <p:spPr>
              <a:xfrm>
                <a:off x="2128680" y="2327040"/>
                <a:ext cx="352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双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60320" y="4976640"/>
            <a:ext cx="7267320" cy="1179360"/>
            <a:chOff x="760320" y="4976640"/>
            <a:chExt cx="7267320" cy="1179360"/>
          </a:xfrm>
        </p:grpSpPr>
        <p:sp>
          <p:nvSpPr>
            <p:cNvPr id="118" name="Text Box 5"/>
            <p:cNvSpPr/>
            <p:nvPr/>
          </p:nvSpPr>
          <p:spPr>
            <a:xfrm>
              <a:off x="760320" y="4976640"/>
              <a:ext cx="72673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–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A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AA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GCC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036600" y="563544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RNA transcri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8"/>
          <p:cNvSpPr/>
          <p:nvPr/>
        </p:nvSpPr>
        <p:spPr>
          <a:xfrm>
            <a:off x="3687840" y="3722760"/>
            <a:ext cx="25200" cy="11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68360" y="39099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08480" y="749160"/>
            <a:ext cx="34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6"/>
          <p:cNvGrpSpPr/>
          <p:nvPr/>
        </p:nvGrpSpPr>
        <p:grpSpPr>
          <a:xfrm>
            <a:off x="1447920" y="5410080"/>
            <a:ext cx="5029200" cy="0"/>
            <a:chOff x="1447920" y="5410080"/>
            <a:chExt cx="5029200" cy="0"/>
          </a:xfrm>
        </p:grpSpPr>
        <p:sp>
          <p:nvSpPr>
            <p:cNvPr id="124" name="Line 23"/>
            <p:cNvSpPr/>
            <p:nvPr/>
          </p:nvSpPr>
          <p:spPr>
            <a:xfrm>
              <a:off x="1447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2286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40384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4876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715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1600200" y="3200400"/>
            <a:ext cx="5029200" cy="0"/>
            <a:chOff x="1600200" y="3200400"/>
            <a:chExt cx="5029200" cy="0"/>
          </a:xfrm>
        </p:grpSpPr>
        <p:sp>
          <p:nvSpPr>
            <p:cNvPr id="131" name="Line 30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2438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2767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41911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029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5867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3:41:02Z</dcterms:created>
  <dc:creator>thtfpc user</dc:creator>
  <dc:description/>
  <dc:language>en-US</dc:language>
  <cp:lastModifiedBy>ZhangLL</cp:lastModifiedBy>
  <dcterms:modified xsi:type="dcterms:W3CDTF">2014-12-04T02:30:24Z</dcterms:modified>
  <cp:revision>35</cp:revision>
  <dc:subject/>
  <dc:title>幻灯片 1</dc:title>
</cp:coreProperties>
</file>