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5.jpeg" ContentType="image/jpe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wmf" ContentType="image/x-wmf"/>
  <Override PartName="/ppt/media/image13.png" ContentType="image/png"/>
  <Override PartName="/ppt/media/image12.jpeg" ContentType="image/jpeg"/>
  <Override PartName="/ppt/media/image11.png" ContentType="image/png"/>
  <Override PartName="/ppt/media/image6.wmf" ContentType="image/x-wmf"/>
  <Override PartName="/ppt/media/image7.wmf" ContentType="image/x-wmf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8587-EDA0-47ED-9D9C-2959ABCEA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F082-D4C9-4747-9C3D-951A667F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DB9E-7CE0-474C-900B-E0CB8A74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994E-355C-4C13-91A1-465F091A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79E1-0A62-4F43-98B0-8B46A662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355A-ECBD-45CA-8756-B6907061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9846-E6A8-4A73-84D3-47D0FD48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E24B-95E1-4154-82BE-34725140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41D5-34F5-4848-80B4-EB391580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78D3-C491-46D3-91D7-CF6FBDF0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DDBC-865C-4519-B908-DB432185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15D5-D1E6-4214-AF02-F8E98F69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10A6-1E5E-4A05-92A7-4B2976C78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268360" y="1557360"/>
            <a:ext cx="47246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 九 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84320" y="2421000"/>
            <a:ext cx="88930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物质代谢的联系与调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a66"/>
                </a:solidFill>
                <a:latin typeface="Arial"/>
              </a:rPr>
              <a:t>Metabolic Interrelationships and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DDAC-5479-4180-98B5-040DC0720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"/>
          <p:cNvGrpSpPr/>
          <p:nvPr/>
        </p:nvGrpSpPr>
        <p:grpSpPr>
          <a:xfrm>
            <a:off x="2127240" y="2324160"/>
            <a:ext cx="6191280" cy="545760"/>
            <a:chOff x="2127240" y="2324160"/>
            <a:chExt cx="6191280" cy="545760"/>
          </a:xfrm>
        </p:grpSpPr>
        <p:sp>
          <p:nvSpPr>
            <p:cNvPr id="169" name="Rectangle 3"/>
            <p:cNvSpPr/>
            <p:nvPr/>
          </p:nvSpPr>
          <p:spPr>
            <a:xfrm>
              <a:off x="2127240" y="234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"/>
            <p:cNvSpPr/>
            <p:nvPr/>
          </p:nvSpPr>
          <p:spPr>
            <a:xfrm>
              <a:off x="334980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"/>
            <p:cNvSpPr/>
            <p:nvPr/>
          </p:nvSpPr>
          <p:spPr>
            <a:xfrm>
              <a:off x="4384440" y="2324160"/>
              <a:ext cx="138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608508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7093080" y="2349360"/>
              <a:ext cx="12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8"/>
          <p:cNvSpPr/>
          <p:nvPr/>
        </p:nvSpPr>
        <p:spPr>
          <a:xfrm>
            <a:off x="971640" y="1557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蛋白质可以转变为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900000" y="2997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氨基酸可作为合成磷脂的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0"/>
          <p:cNvGrpSpPr/>
          <p:nvPr/>
        </p:nvGrpSpPr>
        <p:grpSpPr>
          <a:xfrm>
            <a:off x="2462040" y="3789360"/>
            <a:ext cx="5272200" cy="2436480"/>
            <a:chOff x="2462040" y="3789360"/>
            <a:chExt cx="5272200" cy="2436480"/>
          </a:xfrm>
        </p:grpSpPr>
        <p:sp>
          <p:nvSpPr>
            <p:cNvPr id="177" name="Rectangle 11"/>
            <p:cNvSpPr/>
            <p:nvPr/>
          </p:nvSpPr>
          <p:spPr>
            <a:xfrm>
              <a:off x="2485800" y="378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>
              <a:off x="3733560" y="4066560"/>
              <a:ext cx="152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3"/>
            <p:cNvSpPr/>
            <p:nvPr/>
          </p:nvSpPr>
          <p:spPr>
            <a:xfrm>
              <a:off x="5219640" y="378936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脂酰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2916000" y="4363560"/>
              <a:ext cx="0" cy="321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5"/>
            <p:cNvSpPr/>
            <p:nvPr/>
          </p:nvSpPr>
          <p:spPr>
            <a:xfrm>
              <a:off x="2629800" y="47466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6"/>
            <p:cNvSpPr/>
            <p:nvPr/>
          </p:nvSpPr>
          <p:spPr>
            <a:xfrm>
              <a:off x="3816360" y="4997160"/>
              <a:ext cx="1331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7"/>
            <p:cNvSpPr/>
            <p:nvPr/>
          </p:nvSpPr>
          <p:spPr>
            <a:xfrm>
              <a:off x="5302080" y="47761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脑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8"/>
            <p:cNvSpPr/>
            <p:nvPr/>
          </p:nvSpPr>
          <p:spPr>
            <a:xfrm>
              <a:off x="2925720" y="5302800"/>
              <a:ext cx="0" cy="338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9"/>
            <p:cNvSpPr/>
            <p:nvPr/>
          </p:nvSpPr>
          <p:spPr>
            <a:xfrm>
              <a:off x="2462040" y="56869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0"/>
            <p:cNvSpPr/>
            <p:nvPr/>
          </p:nvSpPr>
          <p:spPr>
            <a:xfrm>
              <a:off x="5292720" y="570528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卵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1"/>
            <p:cNvSpPr/>
            <p:nvPr/>
          </p:nvSpPr>
          <p:spPr>
            <a:xfrm>
              <a:off x="3708360" y="5959800"/>
              <a:ext cx="1447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22"/>
          <p:cNvSpPr/>
          <p:nvPr/>
        </p:nvSpPr>
        <p:spPr>
          <a:xfrm>
            <a:off x="179280" y="69228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三）脂类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1850-9AF2-4EB0-870E-D3A57FB45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1208160" y="554508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黑体"/>
              </a:rPr>
              <a:t>——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但不能说，脂类可转变为氨基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1044720" y="2060640"/>
            <a:ext cx="6948360" cy="3139920"/>
            <a:chOff x="1044720" y="2060640"/>
            <a:chExt cx="6948360" cy="3139920"/>
          </a:xfrm>
        </p:grpSpPr>
        <p:sp>
          <p:nvSpPr>
            <p:cNvPr id="192" name="Rectangle 4"/>
            <p:cNvSpPr/>
            <p:nvPr/>
          </p:nvSpPr>
          <p:spPr>
            <a:xfrm>
              <a:off x="1117080" y="2076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5"/>
            <p:cNvSpPr/>
            <p:nvPr/>
          </p:nvSpPr>
          <p:spPr>
            <a:xfrm>
              <a:off x="20066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"/>
            <p:cNvSpPr/>
            <p:nvPr/>
          </p:nvSpPr>
          <p:spPr>
            <a:xfrm>
              <a:off x="2837880" y="2079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7"/>
            <p:cNvSpPr/>
            <p:nvPr/>
          </p:nvSpPr>
          <p:spPr>
            <a:xfrm>
              <a:off x="38354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4673880" y="206064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甘油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>
              <a:off x="5969160" y="2698920"/>
              <a:ext cx="0" cy="609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012000" y="27244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糖酵解途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5131080" y="330840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2"/>
            <p:cNvSpPr/>
            <p:nvPr/>
          </p:nvSpPr>
          <p:spPr>
            <a:xfrm>
              <a:off x="5969160" y="3994200"/>
              <a:ext cx="0" cy="609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3"/>
            <p:cNvSpPr/>
            <p:nvPr/>
          </p:nvSpPr>
          <p:spPr>
            <a:xfrm>
              <a:off x="4826160" y="468000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其他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α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1044720" y="387684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某些非必需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 flipH="1">
              <a:off x="4278600" y="3660840"/>
              <a:ext cx="838080" cy="38124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 flipH="1" flipV="1">
              <a:off x="4278240" y="4346640"/>
              <a:ext cx="685800" cy="53352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7"/>
          <p:cNvSpPr/>
          <p:nvPr/>
        </p:nvSpPr>
        <p:spPr>
          <a:xfrm>
            <a:off x="826920" y="1125360"/>
            <a:ext cx="7921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脂肪的甘油部分可转变为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3277-FA39-4A4E-BA02-DB65432CA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338640" y="90504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79280" y="40464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  <a:ea typeface="黑体"/>
              </a:rPr>
              <a:t>（四）核酸与糖、蛋白质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839960" y="968400"/>
            <a:ext cx="182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990720" y="1316160"/>
            <a:ext cx="76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是体内合成核酸的重要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1302840" y="2205000"/>
            <a:ext cx="6594840" cy="2687400"/>
            <a:chOff x="1302840" y="2205000"/>
            <a:chExt cx="6594840" cy="2687400"/>
          </a:xfrm>
        </p:grpSpPr>
        <p:sp>
          <p:nvSpPr>
            <p:cNvPr id="212" name="Rectangle 7"/>
            <p:cNvSpPr/>
            <p:nvPr/>
          </p:nvSpPr>
          <p:spPr>
            <a:xfrm>
              <a:off x="1302840" y="2738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甘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2736360" y="2205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天冬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4620960" y="224784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谷氨酰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6449760" y="2705040"/>
              <a:ext cx="14479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一碳单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2243160" y="4371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嘌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2"/>
            <p:cNvSpPr/>
            <p:nvPr/>
          </p:nvSpPr>
          <p:spPr>
            <a:xfrm>
              <a:off x="1801800" y="3238560"/>
              <a:ext cx="304560" cy="990360"/>
            </a:xfrm>
            <a:prstGeom prst="line">
              <a:avLst/>
            </a:prstGeom>
            <a:ln w="3816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3"/>
            <p:cNvSpPr/>
            <p:nvPr/>
          </p:nvSpPr>
          <p:spPr>
            <a:xfrm flipH="1">
              <a:off x="2868480" y="2705040"/>
              <a:ext cx="7632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 flipH="1">
              <a:off x="3554280" y="2781360"/>
              <a:ext cx="129528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5"/>
            <p:cNvSpPr/>
            <p:nvPr/>
          </p:nvSpPr>
          <p:spPr>
            <a:xfrm flipH="1">
              <a:off x="3934800" y="3238560"/>
              <a:ext cx="2590920" cy="10666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6"/>
            <p:cNvSpPr/>
            <p:nvPr/>
          </p:nvSpPr>
          <p:spPr>
            <a:xfrm>
              <a:off x="6059520" y="4371840"/>
              <a:ext cx="1034280" cy="520560"/>
            </a:xfrm>
            <a:prstGeom prst="rect">
              <a:avLst/>
            </a:prstGeom>
            <a:noFill/>
            <a:ln cap="sq" w="12600">
              <a:solidFill>
                <a:srgbClr val="7cb7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嘧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7"/>
            <p:cNvSpPr/>
            <p:nvPr/>
          </p:nvSpPr>
          <p:spPr>
            <a:xfrm>
              <a:off x="3706560" y="2628720"/>
              <a:ext cx="2210040" cy="152424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8"/>
            <p:cNvSpPr/>
            <p:nvPr/>
          </p:nvSpPr>
          <p:spPr>
            <a:xfrm>
              <a:off x="5611680" y="2705040"/>
              <a:ext cx="990720" cy="13716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9"/>
            <p:cNvSpPr/>
            <p:nvPr/>
          </p:nvSpPr>
          <p:spPr>
            <a:xfrm flipH="1">
              <a:off x="7059240" y="3238560"/>
              <a:ext cx="152280" cy="91440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0"/>
          <p:cNvSpPr/>
          <p:nvPr/>
        </p:nvSpPr>
        <p:spPr>
          <a:xfrm>
            <a:off x="1042920" y="5084640"/>
            <a:ext cx="750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核糖由磷酸戊糖途径提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嘧啶的代谢终产物为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27C1-ED5D-40EB-ADB2-D836105AA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438280" y="228600"/>
            <a:ext cx="2362320" cy="520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葡萄糖、糖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"/>
          <p:cNvSpPr/>
          <p:nvPr/>
        </p:nvSpPr>
        <p:spPr>
          <a:xfrm>
            <a:off x="3657600" y="83808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2771640" y="2286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3657600" y="2743200"/>
            <a:ext cx="0" cy="38088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209680" y="3068640"/>
            <a:ext cx="253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7"/>
          <p:cNvSpPr/>
          <p:nvPr/>
        </p:nvSpPr>
        <p:spPr>
          <a:xfrm>
            <a:off x="2438280" y="3886200"/>
            <a:ext cx="2743200" cy="2743200"/>
          </a:xfrm>
          <a:prstGeom prst="ellipse">
            <a:avLst/>
          </a:prstGeom>
          <a:noFill/>
          <a:ln cap="sq" w="57240">
            <a:solidFill>
              <a:srgbClr val="007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8"/>
          <p:cNvSpPr/>
          <p:nvPr/>
        </p:nvSpPr>
        <p:spPr>
          <a:xfrm rot="20472600">
            <a:off x="3817800" y="3575160"/>
            <a:ext cx="285840" cy="390240"/>
          </a:xfrm>
          <a:custGeom>
            <a:avLst/>
            <a:gdLst>
              <a:gd name="textAreaLeft" fmla="*/ 0 w 285840"/>
              <a:gd name="textAreaRight" fmla="*/ 286200 w 285840"/>
              <a:gd name="textAreaTop" fmla="*/ 0 h 390240"/>
              <a:gd name="textAreaBottom" fmla="*/ 390600 h 390240"/>
            </a:gdLst>
            <a:ahLst/>
            <a:rect l="textAreaLeft" t="textAreaTop" r="textAreaRight" b="textAreaBottom"/>
            <a:pathLst>
              <a:path w="528" h="576">
                <a:moveTo>
                  <a:pt x="0" y="0"/>
                </a:moveTo>
                <a:cubicBezTo>
                  <a:pt x="28" y="144"/>
                  <a:pt x="56" y="288"/>
                  <a:pt x="144" y="384"/>
                </a:cubicBezTo>
                <a:cubicBezTo>
                  <a:pt x="232" y="480"/>
                  <a:pt x="464" y="544"/>
                  <a:pt x="528" y="576"/>
                </a:cubicBezTo>
              </a:path>
            </a:pathLst>
          </a:custGeom>
          <a:noFill/>
          <a:ln cap="sq" w="28440">
            <a:solidFill>
              <a:srgbClr val="0074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7740720" y="549360"/>
            <a:ext cx="91440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 flipH="1">
            <a:off x="4419720" y="2209680"/>
            <a:ext cx="2133360" cy="990720"/>
          </a:xfrm>
          <a:prstGeom prst="line">
            <a:avLst/>
          </a:prstGeom>
          <a:ln w="2844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1"/>
          <p:cNvSpPr/>
          <p:nvPr/>
        </p:nvSpPr>
        <p:spPr>
          <a:xfrm flipH="1">
            <a:off x="4495680" y="2286000"/>
            <a:ext cx="2286000" cy="1066680"/>
          </a:xfrm>
          <a:prstGeom prst="line">
            <a:avLst/>
          </a:prstGeom>
          <a:ln cap="sq" w="28440">
            <a:solidFill>
              <a:srgbClr val="00743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2"/>
          <p:cNvGrpSpPr/>
          <p:nvPr/>
        </p:nvGrpSpPr>
        <p:grpSpPr>
          <a:xfrm>
            <a:off x="4419720" y="3580920"/>
            <a:ext cx="3429000" cy="520920"/>
            <a:chOff x="4419720" y="3580920"/>
            <a:chExt cx="3429000" cy="520920"/>
          </a:xfrm>
        </p:grpSpPr>
        <p:sp>
          <p:nvSpPr>
            <p:cNvPr id="238" name="Rectangle 13"/>
            <p:cNvSpPr/>
            <p:nvPr/>
          </p:nvSpPr>
          <p:spPr>
            <a:xfrm>
              <a:off x="5334120" y="358128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eu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y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4"/>
            <p:cNvSpPr/>
            <p:nvPr/>
          </p:nvSpPr>
          <p:spPr>
            <a:xfrm flipH="1" flipV="1">
              <a:off x="4419720" y="3580920"/>
              <a:ext cx="914400" cy="30492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5"/>
          <p:cNvSpPr/>
          <p:nvPr/>
        </p:nvSpPr>
        <p:spPr>
          <a:xfrm>
            <a:off x="1752480" y="4495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草酰乙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3851280" y="4869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α-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酮戊二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3924360" y="60930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琥珀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8"/>
          <p:cNvSpPr/>
          <p:nvPr/>
        </p:nvSpPr>
        <p:spPr>
          <a:xfrm>
            <a:off x="18288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延胡索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9"/>
          <p:cNvGrpSpPr/>
          <p:nvPr/>
        </p:nvGrpSpPr>
        <p:grpSpPr>
          <a:xfrm>
            <a:off x="324000" y="5589720"/>
            <a:ext cx="1447200" cy="825480"/>
            <a:chOff x="324000" y="5589720"/>
            <a:chExt cx="1447200" cy="825480"/>
          </a:xfrm>
        </p:grpSpPr>
        <p:sp>
          <p:nvSpPr>
            <p:cNvPr id="245" name="Rectangle 20"/>
            <p:cNvSpPr/>
            <p:nvPr/>
          </p:nvSpPr>
          <p:spPr>
            <a:xfrm>
              <a:off x="324000" y="5589720"/>
              <a:ext cx="91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1"/>
            <p:cNvSpPr/>
            <p:nvPr/>
          </p:nvSpPr>
          <p:spPr>
            <a:xfrm>
              <a:off x="1161720" y="60732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22"/>
          <p:cNvGrpSpPr/>
          <p:nvPr/>
        </p:nvGrpSpPr>
        <p:grpSpPr>
          <a:xfrm>
            <a:off x="5148000" y="5445000"/>
            <a:ext cx="2895840" cy="1252080"/>
            <a:chOff x="5148000" y="5445000"/>
            <a:chExt cx="2895840" cy="1252080"/>
          </a:xfrm>
        </p:grpSpPr>
        <p:sp>
          <p:nvSpPr>
            <p:cNvPr id="248" name="Rectangle 23"/>
            <p:cNvSpPr/>
            <p:nvPr/>
          </p:nvSpPr>
          <p:spPr>
            <a:xfrm>
              <a:off x="6215040" y="5445000"/>
              <a:ext cx="182880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Val, Ile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Met, 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4"/>
            <p:cNvSpPr/>
            <p:nvPr/>
          </p:nvSpPr>
          <p:spPr>
            <a:xfrm flipH="1">
              <a:off x="5148000" y="6359400"/>
              <a:ext cx="99036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5"/>
          <p:cNvGrpSpPr/>
          <p:nvPr/>
        </p:nvGrpSpPr>
        <p:grpSpPr>
          <a:xfrm>
            <a:off x="324000" y="4437000"/>
            <a:ext cx="1523880" cy="459720"/>
            <a:chOff x="324000" y="4437000"/>
            <a:chExt cx="1523880" cy="459720"/>
          </a:xfrm>
        </p:grpSpPr>
        <p:sp>
          <p:nvSpPr>
            <p:cNvPr id="251" name="Rectangle 26"/>
            <p:cNvSpPr/>
            <p:nvPr/>
          </p:nvSpPr>
          <p:spPr>
            <a:xfrm>
              <a:off x="324000" y="4437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7"/>
            <p:cNvSpPr/>
            <p:nvPr/>
          </p:nvSpPr>
          <p:spPr>
            <a:xfrm>
              <a:off x="1238400" y="47808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8"/>
          <p:cNvGrpSpPr/>
          <p:nvPr/>
        </p:nvGrpSpPr>
        <p:grpSpPr>
          <a:xfrm>
            <a:off x="3886200" y="1219320"/>
            <a:ext cx="2133360" cy="228240"/>
            <a:chOff x="3886200" y="1219320"/>
            <a:chExt cx="2133360" cy="228240"/>
          </a:xfrm>
        </p:grpSpPr>
        <p:sp>
          <p:nvSpPr>
            <p:cNvPr id="254" name="Line 29"/>
            <p:cNvSpPr/>
            <p:nvPr/>
          </p:nvSpPr>
          <p:spPr>
            <a:xfrm flipH="1">
              <a:off x="5056200" y="1219320"/>
              <a:ext cx="963360" cy="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30"/>
            <p:cNvSpPr/>
            <p:nvPr/>
          </p:nvSpPr>
          <p:spPr>
            <a:xfrm flipH="1">
              <a:off x="3886200" y="1219320"/>
              <a:ext cx="1032480" cy="22824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1"/>
          <p:cNvGrpSpPr/>
          <p:nvPr/>
        </p:nvGrpSpPr>
        <p:grpSpPr>
          <a:xfrm>
            <a:off x="4038480" y="1295280"/>
            <a:ext cx="1980720" cy="152640"/>
            <a:chOff x="4038480" y="1295280"/>
            <a:chExt cx="1980720" cy="152640"/>
          </a:xfrm>
        </p:grpSpPr>
        <p:sp>
          <p:nvSpPr>
            <p:cNvPr id="257" name="Line 32"/>
            <p:cNvSpPr/>
            <p:nvPr/>
          </p:nvSpPr>
          <p:spPr>
            <a:xfrm flipH="1">
              <a:off x="4038480" y="1447920"/>
              <a:ext cx="1022400" cy="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33"/>
            <p:cNvSpPr/>
            <p:nvPr/>
          </p:nvSpPr>
          <p:spPr>
            <a:xfrm flipH="1">
              <a:off x="5124600" y="1295280"/>
              <a:ext cx="894600" cy="15264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Freeform 34"/>
          <p:cNvSpPr/>
          <p:nvPr/>
        </p:nvSpPr>
        <p:spPr>
          <a:xfrm>
            <a:off x="2362320" y="2743200"/>
            <a:ext cx="838080" cy="1752480"/>
          </a:xfrm>
          <a:custGeom>
            <a:avLst/>
            <a:gdLst>
              <a:gd name="textAreaLeft" fmla="*/ 0 w 838080"/>
              <a:gd name="textAreaRight" fmla="*/ 838440 w 8380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60" h="864">
                <a:moveTo>
                  <a:pt x="960" y="0"/>
                </a:moveTo>
                <a:cubicBezTo>
                  <a:pt x="960" y="4"/>
                  <a:pt x="960" y="8"/>
                  <a:pt x="864" y="48"/>
                </a:cubicBezTo>
                <a:cubicBezTo>
                  <a:pt x="768" y="88"/>
                  <a:pt x="528" y="104"/>
                  <a:pt x="384" y="240"/>
                </a:cubicBezTo>
                <a:cubicBezTo>
                  <a:pt x="240" y="376"/>
                  <a:pt x="56" y="760"/>
                  <a:pt x="0" y="864"/>
                </a:cubicBezTo>
              </a:path>
            </a:pathLst>
          </a:custGeom>
          <a:noFill/>
          <a:ln cap="sq"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35"/>
          <p:cNvGrpSpPr/>
          <p:nvPr/>
        </p:nvGrpSpPr>
        <p:grpSpPr>
          <a:xfrm>
            <a:off x="1981080" y="838080"/>
            <a:ext cx="1524240" cy="3657600"/>
            <a:chOff x="1981080" y="838080"/>
            <a:chExt cx="1524240" cy="3657600"/>
          </a:xfrm>
        </p:grpSpPr>
        <p:sp>
          <p:nvSpPr>
            <p:cNvPr id="261" name="Freeform 36"/>
            <p:cNvSpPr/>
            <p:nvPr/>
          </p:nvSpPr>
          <p:spPr>
            <a:xfrm>
              <a:off x="1981080" y="1828800"/>
              <a:ext cx="1524240" cy="266688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666880"/>
                <a:gd name="textAreaBottom" fmla="*/ 2667240 h 2666880"/>
              </a:gdLst>
              <a:ahLst/>
              <a:rect l="textAreaLeft" t="textAreaTop" r="textAreaRight" b="textAreaBottom"/>
              <a:pathLst>
                <a:path w="960" h="864">
                  <a:moveTo>
                    <a:pt x="960" y="0"/>
                  </a:moveTo>
                  <a:cubicBezTo>
                    <a:pt x="960" y="4"/>
                    <a:pt x="960" y="8"/>
                    <a:pt x="864" y="48"/>
                  </a:cubicBezTo>
                  <a:cubicBezTo>
                    <a:pt x="768" y="88"/>
                    <a:pt x="528" y="104"/>
                    <a:pt x="384" y="240"/>
                  </a:cubicBezTo>
                  <a:cubicBezTo>
                    <a:pt x="240" y="376"/>
                    <a:pt x="56" y="760"/>
                    <a:pt x="0" y="864"/>
                  </a:cubicBezTo>
                </a:path>
              </a:pathLst>
            </a:custGeom>
            <a:noFill/>
            <a:ln cap="sq" w="28440">
              <a:solidFill>
                <a:srgbClr val="0066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37"/>
            <p:cNvSpPr/>
            <p:nvPr/>
          </p:nvSpPr>
          <p:spPr>
            <a:xfrm>
              <a:off x="3505320" y="838080"/>
              <a:ext cx="0" cy="914400"/>
            </a:xfrm>
            <a:prstGeom prst="line">
              <a:avLst/>
            </a:prstGeom>
            <a:ln cap="sq" w="28440">
              <a:solidFill>
                <a:srgbClr val="00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38"/>
          <p:cNvSpPr/>
          <p:nvPr/>
        </p:nvSpPr>
        <p:spPr>
          <a:xfrm>
            <a:off x="3657600" y="1219320"/>
            <a:ext cx="0" cy="30456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9"/>
          <p:cNvSpPr/>
          <p:nvPr/>
        </p:nvSpPr>
        <p:spPr>
          <a:xfrm>
            <a:off x="3657600" y="160020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0"/>
          <p:cNvSpPr/>
          <p:nvPr/>
        </p:nvSpPr>
        <p:spPr>
          <a:xfrm>
            <a:off x="3657600" y="1981080"/>
            <a:ext cx="0" cy="38124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2"/>
          <p:cNvSpPr/>
          <p:nvPr/>
        </p:nvSpPr>
        <p:spPr>
          <a:xfrm>
            <a:off x="6013440" y="5013360"/>
            <a:ext cx="433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3"/>
          <p:cNvSpPr/>
          <p:nvPr/>
        </p:nvSpPr>
        <p:spPr>
          <a:xfrm>
            <a:off x="5221440" y="6237360"/>
            <a:ext cx="1009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4"/>
          <p:cNvSpPr/>
          <p:nvPr/>
        </p:nvSpPr>
        <p:spPr>
          <a:xfrm>
            <a:off x="1116000" y="595008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5"/>
          <p:cNvSpPr/>
          <p:nvPr/>
        </p:nvSpPr>
        <p:spPr>
          <a:xfrm>
            <a:off x="1187280" y="465300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46"/>
          <p:cNvGrpSpPr/>
          <p:nvPr/>
        </p:nvGrpSpPr>
        <p:grpSpPr>
          <a:xfrm>
            <a:off x="5940000" y="4437000"/>
            <a:ext cx="2790720" cy="1191240"/>
            <a:chOff x="5940000" y="4437000"/>
            <a:chExt cx="2790720" cy="1191240"/>
          </a:xfrm>
        </p:grpSpPr>
        <p:sp>
          <p:nvSpPr>
            <p:cNvPr id="271" name="Rectangle 47"/>
            <p:cNvSpPr/>
            <p:nvPr/>
          </p:nvSpPr>
          <p:spPr>
            <a:xfrm>
              <a:off x="6445080" y="4797360"/>
              <a:ext cx="99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48"/>
            <p:cNvSpPr/>
            <p:nvPr/>
          </p:nvSpPr>
          <p:spPr>
            <a:xfrm flipH="1">
              <a:off x="5940000" y="5157720"/>
              <a:ext cx="45684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49"/>
            <p:cNvSpPr/>
            <p:nvPr/>
          </p:nvSpPr>
          <p:spPr>
            <a:xfrm>
              <a:off x="7740360" y="443700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r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H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0"/>
            <p:cNvSpPr/>
            <p:nvPr/>
          </p:nvSpPr>
          <p:spPr>
            <a:xfrm flipH="1">
              <a:off x="7165800" y="515772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1"/>
            <p:cNvSpPr/>
            <p:nvPr/>
          </p:nvSpPr>
          <p:spPr>
            <a:xfrm flipH="1">
              <a:off x="7165800" y="501336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52"/>
          <p:cNvGrpSpPr/>
          <p:nvPr/>
        </p:nvGrpSpPr>
        <p:grpSpPr>
          <a:xfrm>
            <a:off x="4572000" y="3124080"/>
            <a:ext cx="4114800" cy="520560"/>
            <a:chOff x="4572000" y="3124080"/>
            <a:chExt cx="4114800" cy="520560"/>
          </a:xfrm>
        </p:grpSpPr>
        <p:sp>
          <p:nvSpPr>
            <p:cNvPr id="277" name="Line 53"/>
            <p:cNvSpPr/>
            <p:nvPr/>
          </p:nvSpPr>
          <p:spPr>
            <a:xfrm>
              <a:off x="4572000" y="3429000"/>
              <a:ext cx="1676520" cy="0"/>
            </a:xfrm>
            <a:prstGeom prst="line">
              <a:avLst/>
            </a:prstGeom>
            <a:ln cap="sq" w="28440">
              <a:solidFill>
                <a:srgbClr val="00743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6248520" y="312408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胆固醇、酮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55"/>
          <p:cNvGrpSpPr/>
          <p:nvPr/>
        </p:nvGrpSpPr>
        <p:grpSpPr>
          <a:xfrm>
            <a:off x="539640" y="981000"/>
            <a:ext cx="2438280" cy="2288520"/>
            <a:chOff x="539640" y="981000"/>
            <a:chExt cx="2438280" cy="2288520"/>
          </a:xfrm>
        </p:grpSpPr>
        <p:sp>
          <p:nvSpPr>
            <p:cNvPr id="280" name="Rectangle 56"/>
            <p:cNvSpPr/>
            <p:nvPr/>
          </p:nvSpPr>
          <p:spPr>
            <a:xfrm>
              <a:off x="539640" y="981000"/>
              <a:ext cx="990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l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r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Cy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7"/>
            <p:cNvSpPr/>
            <p:nvPr/>
          </p:nvSpPr>
          <p:spPr>
            <a:xfrm>
              <a:off x="1454040" y="2581200"/>
              <a:ext cx="15238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58"/>
          <p:cNvGrpSpPr/>
          <p:nvPr/>
        </p:nvGrpSpPr>
        <p:grpSpPr>
          <a:xfrm>
            <a:off x="6019920" y="914400"/>
            <a:ext cx="1828800" cy="1358640"/>
            <a:chOff x="6019920" y="914400"/>
            <a:chExt cx="1828800" cy="1358640"/>
          </a:xfrm>
        </p:grpSpPr>
        <p:sp>
          <p:nvSpPr>
            <p:cNvPr id="283" name="Rectangle 59"/>
            <p:cNvSpPr/>
            <p:nvPr/>
          </p:nvSpPr>
          <p:spPr>
            <a:xfrm>
              <a:off x="6019920" y="9144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60"/>
            <p:cNvSpPr/>
            <p:nvPr/>
          </p:nvSpPr>
          <p:spPr>
            <a:xfrm>
              <a:off x="6553080" y="175248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1"/>
            <p:cNvSpPr/>
            <p:nvPr/>
          </p:nvSpPr>
          <p:spPr>
            <a:xfrm flipH="1">
              <a:off x="7308720" y="1052640"/>
              <a:ext cx="432000" cy="720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62"/>
            <p:cNvSpPr/>
            <p:nvPr/>
          </p:nvSpPr>
          <p:spPr>
            <a:xfrm flipH="1">
              <a:off x="6948000" y="1052640"/>
              <a:ext cx="792360" cy="72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2FF7-9F9E-460A-BD05-05440A416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2279160" y="4549680"/>
            <a:ext cx="41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019920" y="3254400"/>
            <a:ext cx="28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酵解      乳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505320" y="2819520"/>
            <a:ext cx="160020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黑体"/>
                <a:ea typeface="黑体"/>
              </a:rPr>
              <a:t>3-P-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甘油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5"/>
          <p:cNvSpPr/>
          <p:nvPr/>
        </p:nvSpPr>
        <p:spPr>
          <a:xfrm flipV="1">
            <a:off x="2743200" y="3123720"/>
            <a:ext cx="762120" cy="2286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6"/>
          <p:cNvSpPr/>
          <p:nvPr/>
        </p:nvSpPr>
        <p:spPr>
          <a:xfrm flipH="1" flipV="1">
            <a:off x="4187520" y="1786320"/>
            <a:ext cx="23040" cy="95472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7"/>
          <p:cNvSpPr/>
          <p:nvPr/>
        </p:nvSpPr>
        <p:spPr>
          <a:xfrm flipH="1">
            <a:off x="2437920" y="3352680"/>
            <a:ext cx="1295640" cy="1143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8"/>
          <p:cNvSpPr/>
          <p:nvPr/>
        </p:nvSpPr>
        <p:spPr>
          <a:xfrm>
            <a:off x="4267080" y="3352680"/>
            <a:ext cx="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2819520" y="4876920"/>
            <a:ext cx="3200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0"/>
          <p:cNvSpPr/>
          <p:nvPr/>
        </p:nvSpPr>
        <p:spPr>
          <a:xfrm>
            <a:off x="4572000" y="4267080"/>
            <a:ext cx="152388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"/>
          <p:cNvSpPr/>
          <p:nvPr/>
        </p:nvSpPr>
        <p:spPr>
          <a:xfrm>
            <a:off x="2057400" y="5029200"/>
            <a:ext cx="0" cy="6094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>
            <a:off x="5105520" y="3276720"/>
            <a:ext cx="8380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3"/>
          <p:cNvSpPr/>
          <p:nvPr/>
        </p:nvSpPr>
        <p:spPr>
          <a:xfrm>
            <a:off x="6934320" y="3581280"/>
            <a:ext cx="7617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2134080" y="28260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5"/>
          <p:cNvSpPr/>
          <p:nvPr/>
        </p:nvSpPr>
        <p:spPr>
          <a:xfrm flipH="1" flipV="1">
            <a:off x="2851560" y="2222640"/>
            <a:ext cx="830880" cy="539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3852720" y="1268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661680" y="1981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8"/>
          <p:cNvSpPr/>
          <p:nvPr/>
        </p:nvSpPr>
        <p:spPr>
          <a:xfrm>
            <a:off x="581400" y="3124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228600" y="892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-P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0"/>
          <p:cNvSpPr/>
          <p:nvPr/>
        </p:nvSpPr>
        <p:spPr>
          <a:xfrm>
            <a:off x="5939640" y="2036880"/>
            <a:ext cx="26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-6-P   G-1-P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 flipV="1">
            <a:off x="5181480" y="2362320"/>
            <a:ext cx="533520" cy="457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2"/>
          <p:cNvSpPr/>
          <p:nvPr/>
        </p:nvSpPr>
        <p:spPr>
          <a:xfrm>
            <a:off x="6516720" y="230832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3"/>
          <p:cNvSpPr/>
          <p:nvPr/>
        </p:nvSpPr>
        <p:spPr>
          <a:xfrm>
            <a:off x="7728120" y="228276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4"/>
          <p:cNvSpPr/>
          <p:nvPr/>
        </p:nvSpPr>
        <p:spPr>
          <a:xfrm>
            <a:off x="1218240" y="5516640"/>
            <a:ext cx="181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H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5"/>
          <p:cNvSpPr/>
          <p:nvPr/>
        </p:nvSpPr>
        <p:spPr>
          <a:xfrm>
            <a:off x="3879360" y="3962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F43D-09B5-41B3-A638-E922AD65F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6705720" y="3124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5867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3581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809880" y="3124080"/>
            <a:ext cx="1828800" cy="6098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1219320" y="838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457200" y="22860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：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葡萄糖      脂肪酸      酮体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-25000">
                <a:solidFill>
                  <a:srgbClr val="333399"/>
                </a:solidFill>
                <a:latin typeface="Times New Roman"/>
              </a:rPr>
              <a:t>           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酮氨基酸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胆固醇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糖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8"/>
          <p:cNvSpPr/>
          <p:nvPr/>
        </p:nvSpPr>
        <p:spPr>
          <a:xfrm>
            <a:off x="2603520" y="278604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9"/>
          <p:cNvSpPr/>
          <p:nvPr/>
        </p:nvSpPr>
        <p:spPr>
          <a:xfrm>
            <a:off x="4724280" y="1371600"/>
            <a:ext cx="0" cy="1676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0"/>
          <p:cNvSpPr/>
          <p:nvPr/>
        </p:nvSpPr>
        <p:spPr>
          <a:xfrm flipV="1">
            <a:off x="4343400" y="1447560"/>
            <a:ext cx="0" cy="1600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1"/>
          <p:cNvSpPr/>
          <p:nvPr/>
        </p:nvSpPr>
        <p:spPr>
          <a:xfrm flipV="1">
            <a:off x="5562720" y="1371240"/>
            <a:ext cx="1066680" cy="16765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2"/>
          <p:cNvSpPr/>
          <p:nvPr/>
        </p:nvSpPr>
        <p:spPr>
          <a:xfrm flipH="1">
            <a:off x="5257440" y="1295280"/>
            <a:ext cx="1143000" cy="17528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3"/>
          <p:cNvSpPr/>
          <p:nvPr/>
        </p:nvSpPr>
        <p:spPr>
          <a:xfrm>
            <a:off x="2514600" y="1371600"/>
            <a:ext cx="1447920" cy="17524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4"/>
          <p:cNvSpPr/>
          <p:nvPr/>
        </p:nvSpPr>
        <p:spPr>
          <a:xfrm>
            <a:off x="2743200" y="3429000"/>
            <a:ext cx="9907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5"/>
          <p:cNvSpPr/>
          <p:nvPr/>
        </p:nvSpPr>
        <p:spPr>
          <a:xfrm>
            <a:off x="5638680" y="3352680"/>
            <a:ext cx="10670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3886200" y="4648320"/>
            <a:ext cx="1905120" cy="1066680"/>
          </a:xfrm>
          <a:prstGeom prst="flowChartMagneticTap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三羧酸循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7"/>
          <p:cNvSpPr/>
          <p:nvPr/>
        </p:nvSpPr>
        <p:spPr>
          <a:xfrm>
            <a:off x="5562720" y="5638680"/>
            <a:ext cx="380880" cy="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8"/>
          <p:cNvSpPr/>
          <p:nvPr/>
        </p:nvSpPr>
        <p:spPr>
          <a:xfrm>
            <a:off x="4724280" y="3733920"/>
            <a:ext cx="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9"/>
          <p:cNvSpPr/>
          <p:nvPr/>
        </p:nvSpPr>
        <p:spPr>
          <a:xfrm>
            <a:off x="755640" y="314172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0"/>
          <p:cNvSpPr/>
          <p:nvPr/>
        </p:nvSpPr>
        <p:spPr>
          <a:xfrm>
            <a:off x="1314360" y="3102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1"/>
          <p:cNvSpPr/>
          <p:nvPr/>
        </p:nvSpPr>
        <p:spPr>
          <a:xfrm>
            <a:off x="1475280" y="6165720"/>
            <a:ext cx="4021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900E-4B8C-44F9-994A-3BCA53CAF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5960" y="1600200"/>
            <a:ext cx="881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水平的调节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活性调节（变构调节和化学修饰调节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同工酶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量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内酶的隔离分布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激素水平的调节（膜受体激素、胞内受体激素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整体水平的调节（短期饥饿、长期饥饿 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908000" y="476280"/>
            <a:ext cx="5400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物质代谢的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9F30-B747-4D11-9E67-2A1A4D2AF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684360" y="3284640"/>
            <a:ext cx="7524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cc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24000" y="981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、细胞中酶的调节是最基本的调节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198900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水平的代谢调节主要是酶水平的调节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内酶呈隔离分布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途径的速度、方向由其中的调节酶活性决定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调节主要是通过对调节酶活性的调节而实现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AFB3-6751-4CE7-ADC4-A3AD0F7E4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250920" y="692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一）细胞内酶的隔离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971640" y="1989000"/>
            <a:ext cx="7632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30000"/>
              </a:lnSpc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代谢途径有关酶类常常组成多酶体系，分布于细胞的某一区域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胞内分区"/>
          <p:cNvPicPr/>
          <p:nvPr/>
        </p:nvPicPr>
        <p:blipFill>
          <a:blip r:embed="rId1"/>
          <a:stretch/>
        </p:blipFill>
        <p:spPr>
          <a:xfrm>
            <a:off x="1042920" y="1628640"/>
            <a:ext cx="7274160" cy="468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AABB-3DA3-42D4-BDC9-DA2B6DC59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1908000" y="549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多酶体系在细胞内的分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3"/>
          <p:cNvGraphicFramePr/>
          <p:nvPr/>
        </p:nvGraphicFramePr>
        <p:xfrm>
          <a:off x="762120" y="1523880"/>
          <a:ext cx="7124760" cy="45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124760" cy="45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A24E-3181-4E19-BE2E-E9258ADFD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特点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几类重要物质代谢的相互联系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类物质分解代谢的共同途径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糖和脂肪供能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羧酸循环的枢纽作用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酶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激素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整体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504D-461A-4B59-858D-E6B874980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Object 2"/>
          <p:cNvGraphicFramePr/>
          <p:nvPr/>
        </p:nvGraphicFramePr>
        <p:xfrm>
          <a:off x="1114560" y="1376280"/>
          <a:ext cx="691488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1376280"/>
                    <a:ext cx="691488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D01E-C2C8-4AC7-B269-C711FBF22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187280" y="5084640"/>
            <a:ext cx="6901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的隔离分布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避免了各种代谢途径互相干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3"/>
          <p:cNvGraphicFramePr/>
          <p:nvPr/>
        </p:nvGraphicFramePr>
        <p:xfrm>
          <a:off x="826920" y="1197000"/>
          <a:ext cx="7201080" cy="35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20108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5E51-75A5-41C9-A651-09C2BD6BC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706320" y="1801800"/>
            <a:ext cx="29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快速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777960" y="42512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迟缓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1116000" y="2565360"/>
            <a:ext cx="3529080" cy="1096920"/>
            <a:chOff x="1116000" y="2565360"/>
            <a:chExt cx="3529080" cy="1096920"/>
          </a:xfrm>
        </p:grpSpPr>
        <p:sp>
          <p:nvSpPr>
            <p:cNvPr id="359" name="Rectangle 5"/>
            <p:cNvSpPr/>
            <p:nvPr/>
          </p:nvSpPr>
          <p:spPr>
            <a:xfrm>
              <a:off x="1116000" y="2565360"/>
              <a:ext cx="260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秒、数分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6"/>
            <p:cNvSpPr/>
            <p:nvPr/>
          </p:nvSpPr>
          <p:spPr>
            <a:xfrm>
              <a:off x="1116000" y="314172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活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7"/>
          <p:cNvGrpSpPr/>
          <p:nvPr/>
        </p:nvGrpSpPr>
        <p:grpSpPr>
          <a:xfrm>
            <a:off x="1138320" y="4937040"/>
            <a:ext cx="3044880" cy="1130040"/>
            <a:chOff x="1138320" y="4937040"/>
            <a:chExt cx="3044880" cy="1130040"/>
          </a:xfrm>
        </p:grpSpPr>
        <p:sp>
          <p:nvSpPr>
            <p:cNvPr id="362" name="Rectangle 8"/>
            <p:cNvSpPr/>
            <p:nvPr/>
          </p:nvSpPr>
          <p:spPr>
            <a:xfrm>
              <a:off x="1138320" y="493704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小时、几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9"/>
            <p:cNvSpPr/>
            <p:nvPr/>
          </p:nvSpPr>
          <p:spPr>
            <a:xfrm>
              <a:off x="1138320" y="5546520"/>
              <a:ext cx="304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含量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0"/>
          <p:cNvGrpSpPr/>
          <p:nvPr/>
        </p:nvGrpSpPr>
        <p:grpSpPr>
          <a:xfrm>
            <a:off x="4140360" y="2492280"/>
            <a:ext cx="4875120" cy="2039040"/>
            <a:chOff x="4140360" y="2492280"/>
            <a:chExt cx="4875120" cy="2039040"/>
          </a:xfrm>
        </p:grpSpPr>
        <p:sp>
          <p:nvSpPr>
            <p:cNvPr id="365" name="AutoShape 11"/>
            <p:cNvSpPr/>
            <p:nvPr/>
          </p:nvSpPr>
          <p:spPr>
            <a:xfrm>
              <a:off x="4140360" y="2852640"/>
              <a:ext cx="217440" cy="10796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640"/>
                <a:gd name="textAreaBottom" fmla="*/ 105156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2"/>
            <p:cNvSpPr/>
            <p:nvPr/>
          </p:nvSpPr>
          <p:spPr>
            <a:xfrm>
              <a:off x="4284720" y="2492280"/>
              <a:ext cx="47307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变构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indent="258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allosteric regul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3"/>
            <p:cNvSpPr/>
            <p:nvPr/>
          </p:nvSpPr>
          <p:spPr>
            <a:xfrm>
              <a:off x="4357800" y="3645000"/>
              <a:ext cx="403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化学修饰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5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chemical modific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Rectangle 14"/>
          <p:cNvSpPr/>
          <p:nvPr/>
        </p:nvSpPr>
        <p:spPr>
          <a:xfrm>
            <a:off x="2093040" y="765000"/>
            <a:ext cx="53611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黑体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代谢调节主要是通过对</a:t>
            </a:r>
            <a:r>
              <a:rPr b="1" lang="zh-CN" sz="2800" spc="-1" strike="noStrike" u="sng">
                <a:solidFill>
                  <a:srgbClr val="a50021"/>
                </a:solidFill>
                <a:uFillTx/>
                <a:latin typeface="黑体"/>
                <a:ea typeface="黑体"/>
              </a:rPr>
              <a:t>调节酶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活性的调节而实现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8453-40CC-4C9C-A235-9E17795D1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539640" y="2602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例：糖代谢的调节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09480" y="808200"/>
          <a:ext cx="7994880" cy="5662440"/>
        </p:xfrm>
        <a:graphic>
          <a:graphicData uri="http://schemas.openxmlformats.org/drawingml/2006/table">
            <a:tbl>
              <a:tblPr/>
              <a:tblGrid>
                <a:gridCol w="3151440"/>
                <a:gridCol w="4843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代谢途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调节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降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酵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有氧氧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异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己糖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果糖激酶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脱氢酶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柠檬酸合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异柠檬酸脱氢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羧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烯醇式丙酮酸羧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果糖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，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二磷酸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Line 14"/>
          <p:cNvSpPr/>
          <p:nvPr/>
        </p:nvSpPr>
        <p:spPr>
          <a:xfrm>
            <a:off x="609480" y="18288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5"/>
          <p:cNvSpPr/>
          <p:nvPr/>
        </p:nvSpPr>
        <p:spPr>
          <a:xfrm>
            <a:off x="685800" y="2330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6"/>
          <p:cNvSpPr/>
          <p:nvPr/>
        </p:nvSpPr>
        <p:spPr>
          <a:xfrm>
            <a:off x="646200" y="35179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7"/>
          <p:cNvSpPr/>
          <p:nvPr/>
        </p:nvSpPr>
        <p:spPr>
          <a:xfrm>
            <a:off x="639720" y="4886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EA11-2E16-41A2-AEF5-3F3D0E3EA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1332000" y="198900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变构调节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1116000" y="2924280"/>
            <a:ext cx="691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分子化合物与酶分子活性中心以外的某一部位特异结合，引起酶蛋白分子构象变化，从而改变酶的活性，这种调节称为酶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变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别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468360" y="9079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调节酶的变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838080" y="2054160"/>
            <a:ext cx="38124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9972-FA4C-4824-A303-C831D38FF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wy 副本"/>
          <p:cNvPicPr/>
          <p:nvPr/>
        </p:nvPicPr>
        <p:blipFill>
          <a:blip r:embed="rId1"/>
          <a:stretch/>
        </p:blipFill>
        <p:spPr>
          <a:xfrm>
            <a:off x="1981080" y="0"/>
            <a:ext cx="593424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"/>
          <p:cNvSpPr/>
          <p:nvPr/>
        </p:nvSpPr>
        <p:spPr>
          <a:xfrm>
            <a:off x="4191120" y="2362320"/>
            <a:ext cx="2514600" cy="243828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6324480" y="5361120"/>
            <a:ext cx="281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6400800" y="3352680"/>
            <a:ext cx="914400" cy="6098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6877080" y="765000"/>
            <a:ext cx="1309680" cy="505080"/>
          </a:xfrm>
          <a:prstGeom prst="wedgeRoundRectCallout">
            <a:avLst>
              <a:gd name="adj1" fmla="val -146000"/>
              <a:gd name="adj2" fmla="val 398111"/>
              <a:gd name="adj3" fmla="val 16667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底 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7"/>
          <p:cNvSpPr/>
          <p:nvPr/>
        </p:nvSpPr>
        <p:spPr>
          <a:xfrm>
            <a:off x="684360" y="836640"/>
            <a:ext cx="2592360" cy="1008000"/>
          </a:xfrm>
          <a:prstGeom prst="wedgeRoundRectCallout">
            <a:avLst>
              <a:gd name="adj1" fmla="val 74250"/>
              <a:gd name="adj2" fmla="val 258976"/>
              <a:gd name="adj3" fmla="val 16667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</a:rPr>
              <a:t>活性中心以外的必需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8"/>
          <p:cNvSpPr/>
          <p:nvPr/>
        </p:nvSpPr>
        <p:spPr>
          <a:xfrm>
            <a:off x="755640" y="5589720"/>
            <a:ext cx="1743120" cy="609480"/>
          </a:xfrm>
          <a:prstGeom prst="wedgeRoundRectCallout">
            <a:avLst>
              <a:gd name="adj1" fmla="val 202004"/>
              <a:gd name="adj2" fmla="val -237500"/>
              <a:gd name="adj3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结合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9"/>
          <p:cNvSpPr/>
          <p:nvPr/>
        </p:nvSpPr>
        <p:spPr>
          <a:xfrm>
            <a:off x="8229600" y="365760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0"/>
          <p:cNvSpPr/>
          <p:nvPr/>
        </p:nvSpPr>
        <p:spPr>
          <a:xfrm>
            <a:off x="7010280" y="3352680"/>
            <a:ext cx="1809720" cy="507960"/>
          </a:xfrm>
          <a:prstGeom prst="wedgeRoundRectCallout">
            <a:avLst>
              <a:gd name="adj1" fmla="val -97370"/>
              <a:gd name="adj2" fmla="val 4064"/>
              <a:gd name="adj3" fmla="val 16667"/>
            </a:avLst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催化基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1"/>
          <p:cNvSpPr/>
          <p:nvPr/>
        </p:nvSpPr>
        <p:spPr>
          <a:xfrm>
            <a:off x="6781680" y="5867280"/>
            <a:ext cx="1751040" cy="533520"/>
          </a:xfrm>
          <a:prstGeom prst="wedgeRoundRectCallout">
            <a:avLst>
              <a:gd name="adj1" fmla="val -106300"/>
              <a:gd name="adj2" fmla="val -254166"/>
              <a:gd name="adj3" fmla="val 16667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活性中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7" dur="1" fill="hold"/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D692-EBE9-4CC5-A8AD-231A1C0E1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826920" y="907920"/>
            <a:ext cx="792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被调节的酶称为变构酶或别构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22720" indent="7920">
              <a:lnSpc>
                <a:spcPct val="12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nzy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使酶发生变构效应的物质，称为变构效应剂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                   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ffector)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1600200" y="3657600"/>
            <a:ext cx="684036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激活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activa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增加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抑制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inhibi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降低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7117-0680-45C7-A3A8-C07F501C5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539640" y="9810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（三）酶的化学修饰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1403280" y="2060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971640" y="2997360"/>
            <a:ext cx="7129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酶蛋白肽链上某些残基在酶的催化下发生可逆的共价修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covalent modification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从而引起酶活性改变，这种调节称为酶的化学修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B76E-53E5-4CDC-9383-4683AAC92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"/>
          <p:cNvSpPr/>
          <p:nvPr/>
        </p:nvSpPr>
        <p:spPr>
          <a:xfrm>
            <a:off x="900000" y="9079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主要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2771640" y="1989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磷酸化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- - - 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去磷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2789280" y="281304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乙酰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乙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2771640" y="3645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甲基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去甲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2771640" y="4437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腺苷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腺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2484360" y="530064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H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 — S –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互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3FE0-9B38-4746-87FC-8094F213F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484360" y="5516640"/>
            <a:ext cx="53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酶的磷酸化与去磷酸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3"/>
          <p:cNvGrpSpPr/>
          <p:nvPr/>
        </p:nvGrpSpPr>
        <p:grpSpPr>
          <a:xfrm>
            <a:off x="1258920" y="1916280"/>
            <a:ext cx="2484000" cy="2615760"/>
            <a:chOff x="1258920" y="1916280"/>
            <a:chExt cx="2484000" cy="2615760"/>
          </a:xfrm>
        </p:grpSpPr>
        <p:sp>
          <p:nvSpPr>
            <p:cNvPr id="409" name="Text Box 4"/>
            <p:cNvSpPr/>
            <p:nvPr/>
          </p:nvSpPr>
          <p:spPr>
            <a:xfrm>
              <a:off x="2447640" y="2643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1258920" y="1916280"/>
              <a:ext cx="1836000" cy="2615760"/>
              <a:chOff x="1258920" y="1916280"/>
              <a:chExt cx="1836000" cy="2615760"/>
            </a:xfrm>
          </p:grpSpPr>
          <p:grpSp>
            <p:nvGrpSpPr>
              <p:cNvPr id="411" name="Group 6"/>
              <p:cNvGrpSpPr/>
              <p:nvPr/>
            </p:nvGrpSpPr>
            <p:grpSpPr>
              <a:xfrm>
                <a:off x="1258920" y="1916280"/>
                <a:ext cx="1295280" cy="1981080"/>
                <a:chOff x="1258920" y="1916280"/>
                <a:chExt cx="1295280" cy="1981080"/>
              </a:xfrm>
            </p:grpSpPr>
            <p:sp>
              <p:nvSpPr>
                <p:cNvPr id="412" name="Oval 7"/>
                <p:cNvSpPr/>
                <p:nvPr/>
              </p:nvSpPr>
              <p:spPr>
                <a:xfrm>
                  <a:off x="1258920" y="1916280"/>
                  <a:ext cx="1295280" cy="1981080"/>
                </a:xfrm>
                <a:prstGeom prst="ellipse">
                  <a:avLst/>
                </a:prstGeom>
                <a:solidFill>
                  <a:srgbClr val="99ccff"/>
                </a:solidFill>
                <a:ln cap="sq" w="1260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Text Box 8"/>
                <p:cNvSpPr/>
                <p:nvPr/>
              </p:nvSpPr>
              <p:spPr>
                <a:xfrm>
                  <a:off x="1715760" y="2068560"/>
                  <a:ext cx="761760" cy="15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h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Se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y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Text Box 9"/>
              <p:cNvSpPr/>
              <p:nvPr/>
            </p:nvSpPr>
            <p:spPr>
              <a:xfrm>
                <a:off x="1295280" y="4011480"/>
                <a:ext cx="179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酶蛋白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Group 10"/>
          <p:cNvGrpSpPr/>
          <p:nvPr/>
        </p:nvGrpSpPr>
        <p:grpSpPr>
          <a:xfrm>
            <a:off x="2514240" y="3505320"/>
            <a:ext cx="3809880" cy="1653120"/>
            <a:chOff x="2514240" y="3505320"/>
            <a:chExt cx="3809880" cy="1653120"/>
          </a:xfrm>
        </p:grpSpPr>
        <p:sp>
          <p:nvSpPr>
            <p:cNvPr id="416" name="Freeform 11"/>
            <p:cNvSpPr/>
            <p:nvPr/>
          </p:nvSpPr>
          <p:spPr>
            <a:xfrm flipH="1">
              <a:off x="3200400" y="4267080"/>
              <a:ext cx="2286000" cy="381240"/>
            </a:xfrm>
            <a:custGeom>
              <a:avLst/>
              <a:gdLst>
                <a:gd name="textAreaLeft" fmla="*/ 360 w 2286000"/>
                <a:gd name="textAreaRight" fmla="*/ 2286720 w 22860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2"/>
            <p:cNvSpPr/>
            <p:nvPr/>
          </p:nvSpPr>
          <p:spPr>
            <a:xfrm>
              <a:off x="5257800" y="464832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H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3"/>
            <p:cNvGrpSpPr/>
            <p:nvPr/>
          </p:nvGrpSpPr>
          <p:grpSpPr>
            <a:xfrm>
              <a:off x="2514240" y="3505320"/>
              <a:ext cx="3809880" cy="1602720"/>
              <a:chOff x="2514240" y="3505320"/>
              <a:chExt cx="3809880" cy="1602720"/>
            </a:xfrm>
          </p:grpSpPr>
          <p:sp>
            <p:nvSpPr>
              <p:cNvPr id="419" name="Freeform 14"/>
              <p:cNvSpPr/>
              <p:nvPr/>
            </p:nvSpPr>
            <p:spPr>
              <a:xfrm flipH="1" flipV="1">
                <a:off x="2513880" y="3733200"/>
                <a:ext cx="3809880" cy="533160"/>
              </a:xfrm>
              <a:custGeom>
                <a:avLst/>
                <a:gdLst>
                  <a:gd name="textAreaLeft" fmla="*/ -360 w 3809880"/>
                  <a:gd name="textAreaRight" fmla="*/ 3809880 w 3809880"/>
                  <a:gd name="textAreaTop" fmla="*/ -360 h 533160"/>
                  <a:gd name="textAreaBottom" fmla="*/ 533160 h 533160"/>
                </a:gdLst>
                <a:ahLst/>
                <a:rect l="textAreaLeft" t="textAreaTop" r="textAreaRight" b="textAreaBottom"/>
                <a:pathLst>
                  <a:path w="2688" h="240">
                    <a:moveTo>
                      <a:pt x="0" y="240"/>
                    </a:moveTo>
                    <a:cubicBezTo>
                      <a:pt x="424" y="120"/>
                      <a:pt x="848" y="0"/>
                      <a:pt x="1296" y="0"/>
                    </a:cubicBezTo>
                    <a:cubicBezTo>
                      <a:pt x="1744" y="0"/>
                      <a:pt x="2456" y="200"/>
                      <a:pt x="2688" y="240"/>
                    </a:cubicBezTo>
                  </a:path>
                </a:pathLst>
              </a:custGeom>
              <a:noFill/>
              <a:ln cap="sq"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15"/>
              <p:cNvSpPr/>
              <p:nvPr/>
            </p:nvSpPr>
            <p:spPr>
              <a:xfrm>
                <a:off x="2895480" y="464832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P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16"/>
              <p:cNvSpPr/>
              <p:nvPr/>
            </p:nvSpPr>
            <p:spPr>
              <a:xfrm>
                <a:off x="3276720" y="3505320"/>
                <a:ext cx="251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磷蛋白磷酸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Group 17"/>
          <p:cNvGrpSpPr/>
          <p:nvPr/>
        </p:nvGrpSpPr>
        <p:grpSpPr>
          <a:xfrm>
            <a:off x="2556000" y="692280"/>
            <a:ext cx="6408360" cy="4266720"/>
            <a:chOff x="2556000" y="692280"/>
            <a:chExt cx="6408360" cy="4266720"/>
          </a:xfrm>
        </p:grpSpPr>
        <p:sp>
          <p:nvSpPr>
            <p:cNvPr id="423" name="Freeform 18"/>
            <p:cNvSpPr/>
            <p:nvPr/>
          </p:nvSpPr>
          <p:spPr>
            <a:xfrm>
              <a:off x="2556000" y="1606680"/>
              <a:ext cx="3898440" cy="533520"/>
            </a:xfrm>
            <a:custGeom>
              <a:avLst/>
              <a:gdLst>
                <a:gd name="textAreaLeft" fmla="*/ 0 w 3898440"/>
                <a:gd name="textAreaRight" fmla="*/ 3898440 w 389844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9"/>
            <p:cNvSpPr/>
            <p:nvPr/>
          </p:nvSpPr>
          <p:spPr>
            <a:xfrm>
              <a:off x="2711520" y="692280"/>
              <a:ext cx="101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0"/>
            <p:cNvSpPr/>
            <p:nvPr/>
          </p:nvSpPr>
          <p:spPr>
            <a:xfrm flipV="1">
              <a:off x="3335400" y="1225440"/>
              <a:ext cx="2339280" cy="380880"/>
            </a:xfrm>
            <a:custGeom>
              <a:avLst/>
              <a:gdLst>
                <a:gd name="textAreaLeft" fmla="*/ 0 w 2339280"/>
                <a:gd name="textAreaRight" fmla="*/ 2339640 w 2339280"/>
                <a:gd name="textAreaTop" fmla="*/ 360 h 380880"/>
                <a:gd name="textAreaBottom" fmla="*/ 381600 h 38088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1"/>
            <p:cNvSpPr/>
            <p:nvPr/>
          </p:nvSpPr>
          <p:spPr>
            <a:xfrm>
              <a:off x="5362920" y="692280"/>
              <a:ext cx="101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2"/>
            <p:cNvSpPr/>
            <p:nvPr/>
          </p:nvSpPr>
          <p:spPr>
            <a:xfrm>
              <a:off x="3647520" y="1758960"/>
              <a:ext cx="202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蛋白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23"/>
            <p:cNvGrpSpPr/>
            <p:nvPr/>
          </p:nvGrpSpPr>
          <p:grpSpPr>
            <a:xfrm>
              <a:off x="6350760" y="1995480"/>
              <a:ext cx="1324800" cy="1981440"/>
              <a:chOff x="6350760" y="1995480"/>
              <a:chExt cx="1324800" cy="1981440"/>
            </a:xfrm>
          </p:grpSpPr>
          <p:sp>
            <p:nvSpPr>
              <p:cNvPr id="429" name="Oval 24"/>
              <p:cNvSpPr/>
              <p:nvPr/>
            </p:nvSpPr>
            <p:spPr>
              <a:xfrm>
                <a:off x="6350760" y="1995480"/>
                <a:ext cx="1324800" cy="1981440"/>
              </a:xfrm>
              <a:prstGeom prst="ellipse">
                <a:avLst/>
              </a:prstGeom>
              <a:solidFill>
                <a:srgbClr val="99ccff"/>
              </a:solidFill>
              <a:ln cap="sq" w="1260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25"/>
              <p:cNvSpPr/>
              <p:nvPr/>
            </p:nvSpPr>
            <p:spPr>
              <a:xfrm>
                <a:off x="6818040" y="2148120"/>
                <a:ext cx="779400" cy="15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h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S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y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Text Box 26"/>
            <p:cNvSpPr/>
            <p:nvPr/>
          </p:nvSpPr>
          <p:spPr>
            <a:xfrm>
              <a:off x="7588440" y="2679840"/>
              <a:ext cx="137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-PO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3</a:t>
              </a:r>
              <a:r>
                <a:rPr b="1" lang="en-US" sz="2400" spc="-1" strike="noStrike" baseline="30000">
                  <a:solidFill>
                    <a:srgbClr val="333399"/>
                  </a:solidFill>
                  <a:latin typeface="Times New Roman"/>
                  <a:ea typeface="黑体"/>
                </a:rPr>
                <a:t>2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27"/>
            <p:cNvSpPr/>
            <p:nvPr/>
          </p:nvSpPr>
          <p:spPr>
            <a:xfrm>
              <a:off x="6498360" y="4011840"/>
              <a:ext cx="1621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磷酸化的酶蛋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B8F0-126C-463B-8867-32AA3438C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233280" y="5691240"/>
            <a:ext cx="865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6.NADP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合成代谢所需的还原当量，还原酶的辅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547640" y="404640"/>
            <a:ext cx="58564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节   物质代谢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08000" y="1197000"/>
            <a:ext cx="56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体内外物质形成共有的代谢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79280" y="1828800"/>
            <a:ext cx="7620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调节保持代谢的动态平衡，以防止中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产物的堆积和缺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79280" y="3103560"/>
            <a:ext cx="7910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细胞、激素和整体水平的调节控制代谢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调；不同组织、器官代谢各具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81080" y="4349880"/>
            <a:ext cx="87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代谢是相互联系，互相转变、制约、形成一个整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282760" y="4997520"/>
            <a:ext cx="15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5.ATP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机体能量利用的共同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1B7D-48D8-4902-9759-053EA7398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61128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化学修饰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042920" y="838080"/>
            <a:ext cx="72741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酶蛋白的共价修饰是可逆的酶促反应，在不同酶的作用下，酶蛋白的活性状态可互相转变。催化互变反应的酶在体内可受调节因素如激素的调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一个酶可催化多个酶蛋白修饰，即出现级联放大效应，效率较变构调节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化与去磷酸是最常见的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611280" y="55897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同一个酶可以同时受变构调节和化学修饰调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663A-F06E-4A19-9345-BFE1F5228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539640" y="9079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四）酶量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1332000" y="198900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酶蛋白合成的诱导与阻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1547640" y="3213000"/>
            <a:ext cx="67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加速酶合成的化合物称为诱导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induc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1547640" y="45086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减少酶合成的化合物称为阻遏剂（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represso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7013-10A3-4EFA-A743-BC0980234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"/>
          <p:cNvSpPr/>
          <p:nvPr/>
        </p:nvSpPr>
        <p:spPr>
          <a:xfrm>
            <a:off x="1042920" y="7650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酶蛋白降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3"/>
          <p:cNvGrpSpPr/>
          <p:nvPr/>
        </p:nvGrpSpPr>
        <p:grpSpPr>
          <a:xfrm>
            <a:off x="1258920" y="3068640"/>
            <a:ext cx="6879960" cy="2702160"/>
            <a:chOff x="1258920" y="3068640"/>
            <a:chExt cx="6879960" cy="2702160"/>
          </a:xfrm>
        </p:grpSpPr>
        <p:sp>
          <p:nvSpPr>
            <p:cNvPr id="445" name="Rectangle 4"/>
            <p:cNvSpPr/>
            <p:nvPr/>
          </p:nvSpPr>
          <p:spPr>
            <a:xfrm>
              <a:off x="1258920" y="306864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溶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5"/>
            <p:cNvSpPr/>
            <p:nvPr/>
          </p:nvSpPr>
          <p:spPr>
            <a:xfrm>
              <a:off x="1258920" y="42210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蛋白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6"/>
            <p:cNvSpPr/>
            <p:nvPr/>
          </p:nvSpPr>
          <p:spPr>
            <a:xfrm>
              <a:off x="2195280" y="3573360"/>
              <a:ext cx="583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释放蛋白水解酶，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7"/>
            <p:cNvSpPr/>
            <p:nvPr/>
          </p:nvSpPr>
          <p:spPr>
            <a:xfrm>
              <a:off x="2195280" y="4653000"/>
              <a:ext cx="59436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泛素识别、结合蛋白质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8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蛋白水解酶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8"/>
          <p:cNvSpPr/>
          <p:nvPr/>
        </p:nvSpPr>
        <p:spPr>
          <a:xfrm>
            <a:off x="1042920" y="1628640"/>
            <a:ext cx="6913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2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改变酶蛋白分子的降解速度，也能调节酶的含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59CC-D1F2-4FDA-90EA-93F4AD726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1368360" y="28065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内、外环境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3"/>
          <p:cNvGrpSpPr/>
          <p:nvPr/>
        </p:nvGrpSpPr>
        <p:grpSpPr>
          <a:xfrm>
            <a:off x="4300560" y="2589120"/>
            <a:ext cx="3282840" cy="947160"/>
            <a:chOff x="4300560" y="2589120"/>
            <a:chExt cx="3282840" cy="947160"/>
          </a:xfrm>
        </p:grpSpPr>
        <p:sp>
          <p:nvSpPr>
            <p:cNvPr id="453" name="Line 4"/>
            <p:cNvSpPr/>
            <p:nvPr/>
          </p:nvSpPr>
          <p:spPr>
            <a:xfrm>
              <a:off x="4300560" y="311112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5"/>
            <p:cNvSpPr/>
            <p:nvPr/>
          </p:nvSpPr>
          <p:spPr>
            <a:xfrm>
              <a:off x="5329080" y="2589120"/>
              <a:ext cx="2254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机体相关组织分泌激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6"/>
          <p:cNvGrpSpPr/>
          <p:nvPr/>
        </p:nvGrpSpPr>
        <p:grpSpPr>
          <a:xfrm>
            <a:off x="5508720" y="3716280"/>
            <a:ext cx="2333520" cy="2153880"/>
            <a:chOff x="5508720" y="3716280"/>
            <a:chExt cx="2333520" cy="2153880"/>
          </a:xfrm>
        </p:grpSpPr>
        <p:sp>
          <p:nvSpPr>
            <p:cNvPr id="456" name="Line 7"/>
            <p:cNvSpPr/>
            <p:nvPr/>
          </p:nvSpPr>
          <p:spPr>
            <a:xfrm>
              <a:off x="6402240" y="3716280"/>
              <a:ext cx="0" cy="990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8"/>
            <p:cNvSpPr/>
            <p:nvPr/>
          </p:nvSpPr>
          <p:spPr>
            <a:xfrm>
              <a:off x="5508720" y="4923000"/>
              <a:ext cx="2333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激素与靶细胞上的受体结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9"/>
          <p:cNvGrpSpPr/>
          <p:nvPr/>
        </p:nvGrpSpPr>
        <p:grpSpPr>
          <a:xfrm>
            <a:off x="1116000" y="4869000"/>
            <a:ext cx="4230720" cy="947160"/>
            <a:chOff x="1116000" y="4869000"/>
            <a:chExt cx="4230720" cy="947160"/>
          </a:xfrm>
        </p:grpSpPr>
        <p:sp>
          <p:nvSpPr>
            <p:cNvPr id="459" name="Line 10"/>
            <p:cNvSpPr/>
            <p:nvPr/>
          </p:nvSpPr>
          <p:spPr>
            <a:xfrm>
              <a:off x="4356360" y="544356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1"/>
            <p:cNvSpPr/>
            <p:nvPr/>
          </p:nvSpPr>
          <p:spPr>
            <a:xfrm>
              <a:off x="1116000" y="4869000"/>
              <a:ext cx="3218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靶细胞产生生物学效应，适应内外环境改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Rectangle 12"/>
          <p:cNvSpPr/>
          <p:nvPr/>
        </p:nvSpPr>
        <p:spPr>
          <a:xfrm>
            <a:off x="250920" y="177336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楷体"/>
                <a:ea typeface="黑体"/>
              </a:rPr>
              <a:t>激素作用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1403280" y="692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二、激素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6D51-81A6-4518-A953-93FEFDE6A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1116000" y="1268280"/>
            <a:ext cx="51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激素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2700360" y="3573360"/>
            <a:ext cx="39067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黑体"/>
                <a:ea typeface="黑体"/>
              </a:rPr>
              <a:t> </a:t>
            </a:r>
            <a:r>
              <a:rPr b="1" lang="el-GR" sz="2800" spc="-1" strike="noStrike">
                <a:solidFill>
                  <a:srgbClr val="333399"/>
                </a:solidFill>
                <a:latin typeface="黑体"/>
                <a:ea typeface="黑体"/>
              </a:rPr>
              <a:t>Ι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膜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Ⅱ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胞内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1258920" y="2421000"/>
            <a:ext cx="65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激素受体在细胞的部位不同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97F7-C3C5-4457-A86D-323DD7716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"/>
          <p:cNvSpPr/>
          <p:nvPr/>
        </p:nvSpPr>
        <p:spPr>
          <a:xfrm>
            <a:off x="755640" y="1341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膜受体激素的作用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900000" y="476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a5002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激素作用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" descr="膜受体作用方式807"/>
          <p:cNvPicPr/>
          <p:nvPr/>
        </p:nvPicPr>
        <p:blipFill>
          <a:blip r:embed="rId1"/>
          <a:stretch/>
        </p:blipFill>
        <p:spPr>
          <a:xfrm>
            <a:off x="1835280" y="2205000"/>
            <a:ext cx="540072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3023-715D-42C9-B4FA-32EC723AF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7848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1.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腺苷酸环化酶体系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肾上腺素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膜受体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腺苷酸环化酶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T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转化为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PK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）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效应蛋白磷酸化       产生一系列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3780000" y="2060640"/>
            <a:ext cx="718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5"/>
          <p:cNvSpPr/>
          <p:nvPr/>
        </p:nvSpPr>
        <p:spPr>
          <a:xfrm>
            <a:off x="5076720" y="234936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6"/>
          <p:cNvSpPr/>
          <p:nvPr/>
        </p:nvSpPr>
        <p:spPr>
          <a:xfrm flipH="1">
            <a:off x="3058920" y="2924280"/>
            <a:ext cx="86508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7"/>
          <p:cNvSpPr/>
          <p:nvPr/>
        </p:nvSpPr>
        <p:spPr>
          <a:xfrm flipH="1">
            <a:off x="3419640" y="3860640"/>
            <a:ext cx="1008000" cy="50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8"/>
          <p:cNvSpPr/>
          <p:nvPr/>
        </p:nvSpPr>
        <p:spPr>
          <a:xfrm>
            <a:off x="3635280" y="450864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9"/>
          <p:cNvSpPr/>
          <p:nvPr/>
        </p:nvSpPr>
        <p:spPr>
          <a:xfrm>
            <a:off x="3708360" y="364500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539640" y="5300640"/>
            <a:ext cx="82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是重要的第二信使，胰高血糖素、肾上腺素、促肾上腺皮质激素、甲状旁腺素及降钙素等都是通过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发挥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3D98-E465-4CD5-BAE2-9AB5EF964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92170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磷脂酰肌醇体系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如：去甲肾上腺素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AD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等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激素与膜受体结合      激活另一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蛋白    激活磷脂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C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催化膜上磷脂酰肌醇二磷酸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(PIP2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）水解 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 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甘油二酯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DG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）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+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三磷酸肌醇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(IP3)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755640" y="3357720"/>
            <a:ext cx="244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539640" y="436572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 (PK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826920" y="580536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催化一些蛋白质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8"/>
          <p:cNvSpPr/>
          <p:nvPr/>
        </p:nvSpPr>
        <p:spPr>
          <a:xfrm>
            <a:off x="1692360" y="378936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9"/>
          <p:cNvSpPr/>
          <p:nvPr/>
        </p:nvSpPr>
        <p:spPr>
          <a:xfrm>
            <a:off x="4716360" y="3789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0"/>
          <p:cNvSpPr/>
          <p:nvPr/>
        </p:nvSpPr>
        <p:spPr>
          <a:xfrm>
            <a:off x="464328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3635280" y="580536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与钙调蛋白结合调节酶或蛋白质活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2"/>
          <p:cNvSpPr/>
          <p:nvPr/>
        </p:nvSpPr>
        <p:spPr>
          <a:xfrm>
            <a:off x="169236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3"/>
          <p:cNvSpPr/>
          <p:nvPr/>
        </p:nvSpPr>
        <p:spPr>
          <a:xfrm flipH="1">
            <a:off x="2916000" y="4653000"/>
            <a:ext cx="865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7451640" y="378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3851280" y="4437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内质网中钙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Ca</a:t>
            </a:r>
            <a:r>
              <a:rPr b="1" lang="en-US" sz="16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2</a:t>
            </a:r>
            <a:r>
              <a:rPr b="1" lang="zh-CN" sz="1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＋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）释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6"/>
          <p:cNvSpPr/>
          <p:nvPr/>
        </p:nvSpPr>
        <p:spPr>
          <a:xfrm>
            <a:off x="6227640" y="227664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7"/>
          <p:cNvSpPr/>
          <p:nvPr/>
        </p:nvSpPr>
        <p:spPr>
          <a:xfrm>
            <a:off x="6732720" y="3645000"/>
            <a:ext cx="57600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8"/>
          <p:cNvSpPr/>
          <p:nvPr/>
        </p:nvSpPr>
        <p:spPr>
          <a:xfrm flipV="1">
            <a:off x="6948360" y="4292640"/>
            <a:ext cx="36036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9"/>
          <p:cNvSpPr/>
          <p:nvPr/>
        </p:nvSpPr>
        <p:spPr>
          <a:xfrm>
            <a:off x="2843280" y="2276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0"/>
          <p:cNvSpPr/>
          <p:nvPr/>
        </p:nvSpPr>
        <p:spPr>
          <a:xfrm>
            <a:off x="971640" y="270828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1"/>
          <p:cNvSpPr/>
          <p:nvPr/>
        </p:nvSpPr>
        <p:spPr>
          <a:xfrm>
            <a:off x="7308720" y="2708280"/>
            <a:ext cx="865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1FE0-C161-4741-A81D-00545C73C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468360" y="1557360"/>
            <a:ext cx="83516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酪氨酸蛋白激酶体系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生长因子、胰岛素与受体结合       激活酪氨酸蛋白激酶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质酪氨酸残基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导致蛋白质活性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"/>
          <p:cNvSpPr/>
          <p:nvPr/>
        </p:nvSpPr>
        <p:spPr>
          <a:xfrm>
            <a:off x="4859280" y="299736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5"/>
          <p:cNvSpPr/>
          <p:nvPr/>
        </p:nvSpPr>
        <p:spPr>
          <a:xfrm>
            <a:off x="6732720" y="314172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6"/>
          <p:cNvSpPr/>
          <p:nvPr/>
        </p:nvSpPr>
        <p:spPr>
          <a:xfrm>
            <a:off x="6732720" y="4292640"/>
            <a:ext cx="0" cy="649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826920" y="5589720"/>
            <a:ext cx="734544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多参与调节和细胞增殖分化有关的信息传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5637-9712-410E-B7EC-8E0558CA8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33480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靶向抗癌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3855518293"/>
          <p:cNvPicPr/>
          <p:nvPr/>
        </p:nvPicPr>
        <p:blipFill>
          <a:blip r:embed="rId1"/>
          <a:stretch/>
        </p:blipFill>
        <p:spPr>
          <a:xfrm>
            <a:off x="5651640" y="404640"/>
            <a:ext cx="2854080" cy="1754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5" descr="1_120727015005_1"/>
          <p:cNvPicPr/>
          <p:nvPr/>
        </p:nvPicPr>
        <p:blipFill>
          <a:blip r:embed="rId2"/>
          <a:stretch/>
        </p:blipFill>
        <p:spPr>
          <a:xfrm>
            <a:off x="468360" y="1830240"/>
            <a:ext cx="6480000" cy="5026320"/>
          </a:xfrm>
          <a:prstGeom prst="rect">
            <a:avLst/>
          </a:prstGeom>
          <a:ln w="0">
            <a:noFill/>
          </a:ln>
        </p:spPr>
      </p:pic>
      <p:sp>
        <p:nvSpPr>
          <p:cNvPr id="512" name="AutoShape 6"/>
          <p:cNvSpPr/>
          <p:nvPr/>
        </p:nvSpPr>
        <p:spPr>
          <a:xfrm>
            <a:off x="2771640" y="1197000"/>
            <a:ext cx="914400" cy="9144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8" descr="u=3851015655,3093469676&amp;fm=21&amp;gp=0"/>
          <p:cNvPicPr/>
          <p:nvPr/>
        </p:nvPicPr>
        <p:blipFill>
          <a:blip r:embed="rId3"/>
          <a:stretch/>
        </p:blipFill>
        <p:spPr>
          <a:xfrm>
            <a:off x="5148360" y="4059360"/>
            <a:ext cx="8636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A7F5-CD4A-4078-AB9A-FDF7D8933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914400" y="10666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黑体"/>
              </a:rPr>
              <a:t>共同的代谢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39640" y="243540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消化吸收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39640" y="3719520"/>
            <a:ext cx="23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肝糖原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92280" y="4851360"/>
            <a:ext cx="173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6"/>
          <p:cNvGrpSpPr/>
          <p:nvPr/>
        </p:nvGrpSpPr>
        <p:grpSpPr>
          <a:xfrm>
            <a:off x="2641680" y="2554560"/>
            <a:ext cx="1423440" cy="2759040"/>
            <a:chOff x="2641680" y="2554560"/>
            <a:chExt cx="1423440" cy="2759040"/>
          </a:xfrm>
        </p:grpSpPr>
        <p:sp>
          <p:nvSpPr>
            <p:cNvPr id="60" name="AutoShape 7"/>
            <p:cNvSpPr/>
            <p:nvPr/>
          </p:nvSpPr>
          <p:spPr>
            <a:xfrm>
              <a:off x="2745360" y="379332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8"/>
            <p:cNvSpPr/>
            <p:nvPr/>
          </p:nvSpPr>
          <p:spPr>
            <a:xfrm rot="1102800">
              <a:off x="2820960" y="273636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9"/>
            <p:cNvSpPr/>
            <p:nvPr/>
          </p:nvSpPr>
          <p:spPr>
            <a:xfrm rot="20626200">
              <a:off x="2669760" y="477468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0"/>
          <p:cNvGrpSpPr/>
          <p:nvPr/>
        </p:nvGrpSpPr>
        <p:grpSpPr>
          <a:xfrm>
            <a:off x="4267080" y="3040200"/>
            <a:ext cx="1900080" cy="2112480"/>
            <a:chOff x="4267080" y="3040200"/>
            <a:chExt cx="1900080" cy="2112480"/>
          </a:xfrm>
        </p:grpSpPr>
        <p:sp>
          <p:nvSpPr>
            <p:cNvPr id="64" name="AutoShape 11"/>
            <p:cNvSpPr/>
            <p:nvPr/>
          </p:nvSpPr>
          <p:spPr>
            <a:xfrm>
              <a:off x="4267080" y="3040200"/>
              <a:ext cx="1900080" cy="2112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5050"/>
                </a:gs>
                <a:gs pos="50000">
                  <a:srgbClr val="ffffff"/>
                </a:gs>
                <a:gs pos="100000">
                  <a:srgbClr val="ff505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2"/>
            <p:cNvSpPr/>
            <p:nvPr/>
          </p:nvSpPr>
          <p:spPr>
            <a:xfrm>
              <a:off x="4722480" y="4019760"/>
              <a:ext cx="91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血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AutoShape 13"/>
          <p:cNvSpPr/>
          <p:nvPr/>
        </p:nvSpPr>
        <p:spPr>
          <a:xfrm>
            <a:off x="6324480" y="3948120"/>
            <a:ext cx="1150920" cy="358920"/>
          </a:xfrm>
          <a:custGeom>
            <a:avLst/>
            <a:gdLst>
              <a:gd name="textAreaLeft" fmla="*/ 143640 w 1150920"/>
              <a:gd name="textAreaRight" fmla="*/ 1007280 w 115092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4"/>
          <p:cNvGrpSpPr/>
          <p:nvPr/>
        </p:nvGrpSpPr>
        <p:grpSpPr>
          <a:xfrm>
            <a:off x="7543800" y="3124080"/>
            <a:ext cx="936360" cy="2160720"/>
            <a:chOff x="7543800" y="3124080"/>
            <a:chExt cx="936360" cy="2160720"/>
          </a:xfrm>
        </p:grpSpPr>
        <p:sp>
          <p:nvSpPr>
            <p:cNvPr id="68" name="Rectangle 15"/>
            <p:cNvSpPr/>
            <p:nvPr/>
          </p:nvSpPr>
          <p:spPr>
            <a:xfrm>
              <a:off x="7543800" y="3124080"/>
              <a:ext cx="936360" cy="216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6"/>
            <p:cNvSpPr/>
            <p:nvPr/>
          </p:nvSpPr>
          <p:spPr>
            <a:xfrm>
              <a:off x="7700400" y="3133800"/>
              <a:ext cx="606960" cy="20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全身组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9A24-341C-42CB-B579-3629673E1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"/>
          <p:cNvGrpSpPr/>
          <p:nvPr/>
        </p:nvGrpSpPr>
        <p:grpSpPr>
          <a:xfrm>
            <a:off x="687240" y="1197000"/>
            <a:ext cx="8169480" cy="5718240"/>
            <a:chOff x="687240" y="1197000"/>
            <a:chExt cx="8169480" cy="5718240"/>
          </a:xfrm>
        </p:grpSpPr>
        <p:pic>
          <p:nvPicPr>
            <p:cNvPr id="516" name="Picture 3" descr="未标题-1"/>
            <p:cNvPicPr/>
            <p:nvPr/>
          </p:nvPicPr>
          <p:blipFill>
            <a:blip r:embed="rId1"/>
            <a:stretch/>
          </p:blipFill>
          <p:spPr>
            <a:xfrm>
              <a:off x="900000" y="1197000"/>
              <a:ext cx="7956720" cy="5718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7" name="Group 4"/>
            <p:cNvGrpSpPr/>
            <p:nvPr/>
          </p:nvGrpSpPr>
          <p:grpSpPr>
            <a:xfrm>
              <a:off x="687240" y="1346040"/>
              <a:ext cx="6795720" cy="4790520"/>
              <a:chOff x="687240" y="1346040"/>
              <a:chExt cx="6795720" cy="4790520"/>
            </a:xfrm>
          </p:grpSpPr>
          <p:sp>
            <p:nvSpPr>
              <p:cNvPr id="518" name="Text Box 5"/>
              <p:cNvSpPr/>
              <p:nvPr/>
            </p:nvSpPr>
            <p:spPr>
              <a:xfrm>
                <a:off x="687240" y="1346040"/>
                <a:ext cx="94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类固醇激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1650600" y="2709720"/>
                <a:ext cx="91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"/>
              <p:cNvSpPr/>
              <p:nvPr/>
            </p:nvSpPr>
            <p:spPr>
              <a:xfrm>
                <a:off x="1538280" y="4532400"/>
                <a:ext cx="1326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活化的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8"/>
              <p:cNvSpPr/>
              <p:nvPr/>
            </p:nvSpPr>
            <p:spPr>
              <a:xfrm>
                <a:off x="3830040" y="28386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Text Box 9"/>
              <p:cNvSpPr/>
              <p:nvPr/>
            </p:nvSpPr>
            <p:spPr>
              <a:xfrm>
                <a:off x="5613840" y="207792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0033"/>
                    </a:solidFill>
                    <a:latin typeface="Arial"/>
                    <a:ea typeface="楷体_GB2312"/>
                  </a:rPr>
                  <a:t>细胞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Text Box 10"/>
              <p:cNvSpPr/>
              <p:nvPr/>
            </p:nvSpPr>
            <p:spPr>
              <a:xfrm>
                <a:off x="5612040" y="321300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细胞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11"/>
              <p:cNvSpPr/>
              <p:nvPr/>
            </p:nvSpPr>
            <p:spPr>
              <a:xfrm>
                <a:off x="6581160" y="5102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基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Text Box 12"/>
              <p:cNvSpPr/>
              <p:nvPr/>
            </p:nvSpPr>
            <p:spPr>
              <a:xfrm>
                <a:off x="5371560" y="522288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Text Box 13"/>
              <p:cNvSpPr/>
              <p:nvPr/>
            </p:nvSpPr>
            <p:spPr>
              <a:xfrm>
                <a:off x="4828680" y="576756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Text Box 14"/>
              <p:cNvSpPr/>
              <p:nvPr/>
            </p:nvSpPr>
            <p:spPr>
              <a:xfrm>
                <a:off x="3792240" y="579924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蛋白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Text Box 15"/>
              <p:cNvSpPr/>
              <p:nvPr/>
            </p:nvSpPr>
            <p:spPr>
              <a:xfrm>
                <a:off x="2470680" y="57992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生物效应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16"/>
              <p:cNvSpPr/>
              <p:nvPr/>
            </p:nvSpPr>
            <p:spPr>
              <a:xfrm>
                <a:off x="4451760" y="564048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翻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Text Box 17"/>
              <p:cNvSpPr/>
              <p:nvPr/>
            </p:nvSpPr>
            <p:spPr>
              <a:xfrm>
                <a:off x="6753600" y="37782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转录起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10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（二 ）胞内受体激素的作用方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E86D-DC94-443B-B373-63A82944E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468360" y="11556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饥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1692360" y="26668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原消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4572000" y="2666880"/>
            <a:ext cx="29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糖趋于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5"/>
          <p:cNvSpPr/>
          <p:nvPr/>
        </p:nvSpPr>
        <p:spPr>
          <a:xfrm>
            <a:off x="3637080" y="2954160"/>
            <a:ext cx="7920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6"/>
          <p:cNvSpPr/>
          <p:nvPr/>
        </p:nvSpPr>
        <p:spPr>
          <a:xfrm>
            <a:off x="5796000" y="3314880"/>
            <a:ext cx="0" cy="457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3924360" y="3890880"/>
            <a:ext cx="3672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岛素分泌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高血糖素分泌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5796000" y="5043600"/>
            <a:ext cx="0" cy="4604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3419640" y="5589720"/>
            <a:ext cx="48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引起一系列的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0"/>
          <p:cNvSpPr/>
          <p:nvPr/>
        </p:nvSpPr>
        <p:spPr>
          <a:xfrm>
            <a:off x="1258920" y="19479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短期饥饿（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天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1908000" y="47628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整体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697F-F9F7-482D-9439-6D70C7A19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1116000" y="1052640"/>
            <a:ext cx="50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1763640" y="184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解加强，氨基酸异生成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1260360" y="25639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1763640" y="3284640"/>
            <a:ext cx="62658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加强，主要原料为氨基酸和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对葡萄糖利用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1351080" y="473724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1835280" y="53737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加强，酮体生成增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BBC2-C192-44EB-A779-B1D732CD0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755640" y="54936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长期饥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250920" y="14130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2700360" y="213372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蛋白质分解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324000" y="29242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2700360" y="3429000"/>
            <a:ext cx="590544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糖异生增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糖异生减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的主要原料为乳酸、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0" y="4724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2700360" y="5229360"/>
            <a:ext cx="45370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进一步加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组织利用酮体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11"/>
          <p:cNvGrpSpPr/>
          <p:nvPr/>
        </p:nvGrpSpPr>
        <p:grpSpPr>
          <a:xfrm>
            <a:off x="5076720" y="176040"/>
            <a:ext cx="3816360" cy="2022480"/>
            <a:chOff x="5076720" y="176040"/>
            <a:chExt cx="3816360" cy="2022480"/>
          </a:xfrm>
        </p:grpSpPr>
        <p:pic>
          <p:nvPicPr>
            <p:cNvPr id="559" name="Picture 9" descr="8374145_143501035301_2"/>
            <p:cNvPicPr/>
            <p:nvPr/>
          </p:nvPicPr>
          <p:blipFill>
            <a:blip r:embed="rId1"/>
            <a:srcRect l="4400" t="3523" r="4106" b="18257"/>
            <a:stretch/>
          </p:blipFill>
          <p:spPr>
            <a:xfrm>
              <a:off x="5076720" y="176040"/>
              <a:ext cx="3816360" cy="20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10" descr="20120216_fe4430309c21f5f1c911Ljpq3hyROHuB"/>
            <p:cNvPicPr/>
            <p:nvPr/>
          </p:nvPicPr>
          <p:blipFill>
            <a:blip r:embed="rId2"/>
            <a:srcRect l="0" t="0" r="0" b="6562"/>
            <a:stretch/>
          </p:blipFill>
          <p:spPr>
            <a:xfrm>
              <a:off x="6732720" y="660240"/>
              <a:ext cx="1657080" cy="1536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2438-1A65-48C1-927C-D41C651C0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-252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一、在能量代谢上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9640" y="2637000"/>
            <a:ext cx="2070360" cy="520560"/>
          </a:xfrm>
          <a:prstGeom prst="rect">
            <a:avLst/>
          </a:prstGeom>
          <a:solidFill>
            <a:srgbClr val="a3cae7"/>
          </a:solidFill>
          <a:ln cap="sq" w="12600">
            <a:solidFill>
              <a:srgbClr val="a3ca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三大营养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635280" y="328464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共同中间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083280" y="2421000"/>
            <a:ext cx="1778040" cy="947160"/>
          </a:xfrm>
          <a:prstGeom prst="rect">
            <a:avLst/>
          </a:prstGeom>
          <a:solidFill>
            <a:srgbClr val="ffccff"/>
          </a:solidFill>
          <a:ln cap="sq"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共同最终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265040" y="3500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161720" y="4444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1106280" y="5435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378240" y="4410000"/>
            <a:ext cx="1871640" cy="520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2154240" y="4699080"/>
            <a:ext cx="844560" cy="0"/>
          </a:xfrm>
          <a:prstGeom prst="line">
            <a:avLst/>
          </a:prstGeom>
          <a:ln cap="sq" w="57240">
            <a:solidFill>
              <a:srgbClr val="0099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2081160" y="3906720"/>
            <a:ext cx="909720" cy="33516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 flipV="1">
            <a:off x="2297160" y="5130720"/>
            <a:ext cx="770040" cy="457200"/>
          </a:xfrm>
          <a:prstGeom prst="line">
            <a:avLst/>
          </a:prstGeom>
          <a:ln w="38160">
            <a:solidFill>
              <a:srgbClr val="a3cae7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4"/>
          <p:cNvSpPr/>
          <p:nvPr/>
        </p:nvSpPr>
        <p:spPr>
          <a:xfrm>
            <a:off x="5570640" y="4122720"/>
            <a:ext cx="1511280" cy="1617840"/>
          </a:xfrm>
          <a:prstGeom prst="ellipse">
            <a:avLst/>
          </a:prstGeom>
          <a:solidFill>
            <a:srgbClr val="ff33cc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6402240" y="4122720"/>
            <a:ext cx="648000" cy="1443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6978600" y="4051440"/>
            <a:ext cx="15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7369200" y="4483080"/>
            <a:ext cx="833400" cy="14400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"/>
          <p:cNvSpPr/>
          <p:nvPr/>
        </p:nvSpPr>
        <p:spPr>
          <a:xfrm rot="19759200">
            <a:off x="7701840" y="430524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氧化磷酸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7842240" y="59230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6978600" y="549108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1"/>
          <p:cNvSpPr/>
          <p:nvPr/>
        </p:nvSpPr>
        <p:spPr>
          <a:xfrm rot="4656600">
            <a:off x="6855120" y="5238000"/>
            <a:ext cx="576360" cy="73080"/>
          </a:xfrm>
          <a:custGeom>
            <a:avLst/>
            <a:gdLst>
              <a:gd name="textAreaLeft" fmla="*/ 0 w 576360"/>
              <a:gd name="textAreaRight" fmla="*/ 576720 w 5763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536" h="304">
                <a:moveTo>
                  <a:pt x="0" y="96"/>
                </a:moveTo>
                <a:cubicBezTo>
                  <a:pt x="256" y="200"/>
                  <a:pt x="512" y="304"/>
                  <a:pt x="768" y="288"/>
                </a:cubicBezTo>
                <a:cubicBezTo>
                  <a:pt x="1024" y="272"/>
                  <a:pt x="1408" y="48"/>
                  <a:pt x="1536" y="0"/>
                </a:cubicBezTo>
              </a:path>
            </a:pathLst>
          </a:custGeom>
          <a:noFill/>
          <a:ln cap="sq"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2"/>
          <p:cNvSpPr/>
          <p:nvPr/>
        </p:nvSpPr>
        <p:spPr>
          <a:xfrm flipV="1">
            <a:off x="5394240" y="4157280"/>
            <a:ext cx="647640" cy="289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324000" y="141300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lnSpc>
                <a:spcPct val="120000"/>
              </a:lnSpc>
              <a:buClr>
                <a:srgbClr val="333399"/>
              </a:buClr>
              <a:buSzPct val="65000"/>
              <a:buFont typeface="Arial Unicode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三大营养素可在体内氧化供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611280" y="115920"/>
            <a:ext cx="8532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 几类重要物质代谢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916E-3067-4F04-9899-BFE62A195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50920" y="1557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糖代谢与脂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42920" y="2637000"/>
            <a:ext cx="65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摄入的糖量超过能量消耗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38080" y="4572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宋体"/>
                <a:ea typeface="黑体"/>
              </a:rPr>
              <a:t>二、糖、脂和蛋白质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之间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187280" y="3933720"/>
            <a:ext cx="7391520" cy="2113200"/>
            <a:chOff x="1187280" y="3933720"/>
            <a:chExt cx="7391520" cy="2113200"/>
          </a:xfrm>
        </p:grpSpPr>
        <p:sp>
          <p:nvSpPr>
            <p:cNvPr id="98" name="Rectangle 6"/>
            <p:cNvSpPr/>
            <p:nvPr/>
          </p:nvSpPr>
          <p:spPr>
            <a:xfrm>
              <a:off x="1187280" y="4581360"/>
              <a:ext cx="648000" cy="94716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7"/>
            <p:cNvSpPr/>
            <p:nvPr/>
          </p:nvSpPr>
          <p:spPr>
            <a:xfrm>
              <a:off x="1908000" y="5518080"/>
              <a:ext cx="649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8"/>
            <p:cNvSpPr/>
            <p:nvPr/>
          </p:nvSpPr>
          <p:spPr>
            <a:xfrm>
              <a:off x="3203640" y="5265720"/>
              <a:ext cx="174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9"/>
            <p:cNvSpPr/>
            <p:nvPr/>
          </p:nvSpPr>
          <p:spPr>
            <a:xfrm>
              <a:off x="6084720" y="5014800"/>
              <a:ext cx="2494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（脂肪组织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0"/>
            <p:cNvSpPr/>
            <p:nvPr/>
          </p:nvSpPr>
          <p:spPr>
            <a:xfrm flipV="1">
              <a:off x="2340000" y="42937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1"/>
            <p:cNvSpPr/>
            <p:nvPr/>
          </p:nvSpPr>
          <p:spPr>
            <a:xfrm>
              <a:off x="2786040" y="3933720"/>
              <a:ext cx="495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糖原储存（肝、肌肉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2"/>
            <p:cNvSpPr/>
            <p:nvPr/>
          </p:nvSpPr>
          <p:spPr>
            <a:xfrm flipV="1">
              <a:off x="1824120" y="46969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3"/>
            <p:cNvSpPr/>
            <p:nvPr/>
          </p:nvSpPr>
          <p:spPr>
            <a:xfrm>
              <a:off x="2700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4"/>
            <p:cNvSpPr/>
            <p:nvPr/>
          </p:nvSpPr>
          <p:spPr>
            <a:xfrm>
              <a:off x="4932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5"/>
            <p:cNvSpPr/>
            <p:nvPr/>
          </p:nvSpPr>
          <p:spPr>
            <a:xfrm>
              <a:off x="565308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16" descr="3f036cc4d5204e7d"/>
          <p:cNvPicPr/>
          <p:nvPr/>
        </p:nvPicPr>
        <p:blipFill>
          <a:blip r:embed="rId1"/>
          <a:srcRect l="0" t="20512" r="6789" b="21343"/>
          <a:stretch/>
        </p:blipFill>
        <p:spPr>
          <a:xfrm>
            <a:off x="6659640" y="1197000"/>
            <a:ext cx="2484360" cy="122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D9C1-24BA-40FA-8E8D-3C7A9BD65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324000" y="47628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脂肪的甘油部分能在体内转变为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684360" y="3116160"/>
            <a:ext cx="7745400" cy="3049200"/>
            <a:chOff x="684360" y="3116160"/>
            <a:chExt cx="7745400" cy="3049200"/>
          </a:xfrm>
        </p:grpSpPr>
        <p:sp>
          <p:nvSpPr>
            <p:cNvPr id="112" name="Rectangle 4"/>
            <p:cNvSpPr/>
            <p:nvPr/>
          </p:nvSpPr>
          <p:spPr>
            <a:xfrm>
              <a:off x="1763640" y="5635440"/>
              <a:ext cx="115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>
              <a:off x="2843280" y="5924520"/>
              <a:ext cx="838080" cy="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3708360" y="5635440"/>
              <a:ext cx="18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6516720" y="5635440"/>
              <a:ext cx="147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8"/>
            <p:cNvGrpSpPr/>
            <p:nvPr/>
          </p:nvGrpSpPr>
          <p:grpSpPr>
            <a:xfrm>
              <a:off x="5435280" y="5708520"/>
              <a:ext cx="457200" cy="456840"/>
              <a:chOff x="5435280" y="5708520"/>
              <a:chExt cx="457200" cy="456840"/>
            </a:xfrm>
          </p:grpSpPr>
          <p:sp>
            <p:nvSpPr>
              <p:cNvPr id="117" name="Line 9"/>
              <p:cNvSpPr/>
              <p:nvPr/>
            </p:nvSpPr>
            <p:spPr>
              <a:xfrm flipH="1">
                <a:off x="543528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0"/>
              <p:cNvSpPr/>
              <p:nvPr/>
            </p:nvSpPr>
            <p:spPr>
              <a:xfrm>
                <a:off x="543564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Line 11"/>
            <p:cNvSpPr/>
            <p:nvPr/>
          </p:nvSpPr>
          <p:spPr>
            <a:xfrm>
              <a:off x="1187280" y="5275080"/>
              <a:ext cx="576360" cy="57636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684360" y="4195800"/>
              <a:ext cx="574560" cy="10688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3"/>
            <p:cNvSpPr/>
            <p:nvPr/>
          </p:nvSpPr>
          <p:spPr>
            <a:xfrm flipV="1">
              <a:off x="1258920" y="3908520"/>
              <a:ext cx="533520" cy="3808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1692360" y="3548160"/>
              <a:ext cx="107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5"/>
            <p:cNvSpPr/>
            <p:nvPr/>
          </p:nvSpPr>
          <p:spPr>
            <a:xfrm>
              <a:off x="2765520" y="3805200"/>
              <a:ext cx="202248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2916360" y="325908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2916360" y="383544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肝、肾、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4975200" y="350028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9"/>
            <p:cNvSpPr/>
            <p:nvPr/>
          </p:nvSpPr>
          <p:spPr>
            <a:xfrm>
              <a:off x="680400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0"/>
            <p:cNvSpPr/>
            <p:nvPr/>
          </p:nvSpPr>
          <p:spPr>
            <a:xfrm>
              <a:off x="730872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7667640" y="3116160"/>
              <a:ext cx="762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2"/>
            <p:cNvSpPr/>
            <p:nvPr/>
          </p:nvSpPr>
          <p:spPr>
            <a:xfrm>
              <a:off x="5364000" y="5924520"/>
              <a:ext cx="57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3"/>
            <p:cNvSpPr/>
            <p:nvPr/>
          </p:nvSpPr>
          <p:spPr>
            <a:xfrm>
              <a:off x="6012000" y="5924520"/>
              <a:ext cx="57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24" descr="untitled"/>
          <p:cNvPicPr/>
          <p:nvPr/>
        </p:nvPicPr>
        <p:blipFill>
          <a:blip r:embed="rId1"/>
          <a:stretch/>
        </p:blipFill>
        <p:spPr>
          <a:xfrm>
            <a:off x="5796000" y="476280"/>
            <a:ext cx="2833560" cy="215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722E-3A0F-4B93-89F1-DFB8876A8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179280" y="11253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糖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900000" y="3716280"/>
            <a:ext cx="34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40472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42908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2568600" y="5257800"/>
            <a:ext cx="15699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700360" y="465300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脱氨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5724360" y="5257800"/>
            <a:ext cx="1568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940360" y="4724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异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7308720" y="49258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826920" y="1989000"/>
            <a:ext cx="777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大部分氨基酸脱氨基后，生成相应的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酮酸，可转变为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A351-1C7D-4E3C-8776-4960DA6DF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826920" y="836640"/>
            <a:ext cx="7415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糖代谢的中间产物可氨基化生成某些  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628560" y="3476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11635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124000" y="350028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3492360" y="37893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4645080" y="3500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草酰乙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7062480" y="327672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>
            <a:off x="6494400" y="3817800"/>
            <a:ext cx="885960" cy="979560"/>
          </a:xfrm>
          <a:custGeom>
            <a:avLst/>
            <a:gdLst>
              <a:gd name="textAreaLeft" fmla="*/ 0 w 885960"/>
              <a:gd name="textAreaRight" fmla="*/ 886320 w 8859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H="1">
            <a:off x="7379640" y="3932280"/>
            <a:ext cx="73080" cy="530280"/>
          </a:xfrm>
          <a:custGeom>
            <a:avLst/>
            <a:gdLst>
              <a:gd name="textAreaLeft" fmla="*/ -360 w 73080"/>
              <a:gd name="textAreaRight" fmla="*/ 73080 w 730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732720" y="4797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柠檬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H="1">
            <a:off x="5580000" y="501336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3564000" y="4797360"/>
            <a:ext cx="27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酮戊二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16207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5"/>
          <p:cNvGrpSpPr/>
          <p:nvPr/>
        </p:nvGrpSpPr>
        <p:grpSpPr>
          <a:xfrm>
            <a:off x="2987640" y="2708280"/>
            <a:ext cx="1630440" cy="820440"/>
            <a:chOff x="2987640" y="2708280"/>
            <a:chExt cx="1630440" cy="820440"/>
          </a:xfrm>
        </p:grpSpPr>
        <p:sp>
          <p:nvSpPr>
            <p:cNvPr id="159" name="Line 16"/>
            <p:cNvSpPr/>
            <p:nvPr/>
          </p:nvSpPr>
          <p:spPr>
            <a:xfrm flipV="1">
              <a:off x="2987640" y="314784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3797280" y="2708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8"/>
          <p:cNvGrpSpPr/>
          <p:nvPr/>
        </p:nvGrpSpPr>
        <p:grpSpPr>
          <a:xfrm>
            <a:off x="5651640" y="2637000"/>
            <a:ext cx="2158920" cy="914400"/>
            <a:chOff x="5651640" y="2637000"/>
            <a:chExt cx="2158920" cy="914400"/>
          </a:xfrm>
        </p:grpSpPr>
        <p:sp>
          <p:nvSpPr>
            <p:cNvPr id="162" name="Line 19"/>
            <p:cNvSpPr/>
            <p:nvPr/>
          </p:nvSpPr>
          <p:spPr>
            <a:xfrm flipV="1">
              <a:off x="5651640" y="3141720"/>
              <a:ext cx="647640" cy="4096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>
              <a:off x="6032520" y="2637000"/>
              <a:ext cx="177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天冬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1"/>
          <p:cNvGrpSpPr/>
          <p:nvPr/>
        </p:nvGrpSpPr>
        <p:grpSpPr>
          <a:xfrm>
            <a:off x="3421080" y="5373720"/>
            <a:ext cx="1110960" cy="807840"/>
            <a:chOff x="3421080" y="5373720"/>
            <a:chExt cx="1110960" cy="807840"/>
          </a:xfrm>
        </p:grpSpPr>
        <p:sp>
          <p:nvSpPr>
            <p:cNvPr id="165" name="Line 22"/>
            <p:cNvSpPr/>
            <p:nvPr/>
          </p:nvSpPr>
          <p:spPr>
            <a:xfrm flipH="1">
              <a:off x="3922560" y="537372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3"/>
            <p:cNvSpPr/>
            <p:nvPr/>
          </p:nvSpPr>
          <p:spPr>
            <a:xfrm>
              <a:off x="3421080" y="5661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谷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7:15:09Z</dcterms:created>
  <dc:creator>thtfpc user</dc:creator>
  <dc:description/>
  <dc:language>en-US</dc:language>
  <cp:lastModifiedBy>ZhangLL</cp:lastModifiedBy>
  <dcterms:modified xsi:type="dcterms:W3CDTF">2014-12-04T06:31:33Z</dcterms:modified>
  <cp:revision>32</cp:revision>
  <dc:subject/>
  <dc:title>幻灯片 1</dc:title>
</cp:coreProperties>
</file>