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DD659-4272-48BC-BED6-6DE8B12E0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E25F-AA52-4C7F-98A0-94B27942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C3A41-3560-4620-ACD9-5328B469D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70225-0B23-4159-A8EC-9C7C03A5B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56FF0-D8E4-4A66-B6DB-C80AD7A75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ABFAD-8C9E-4E60-A574-CD89FA804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47769-F091-4A62-B433-94D82DDD2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A58D8-3BB3-4CDC-821B-418DBC763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962B2-DF8B-4433-AB85-79448C55E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7C28A-A3B9-4D37-9F07-01C4C3C1A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13FAB-2B0B-42D0-A5F2-F095BC4F5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9588-CCF1-4FF2-8919-F003AB5AE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7FD56-C40D-472F-8892-542CD1B13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3C461-8CF8-4087-A864-B867BFDCA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E0EE3-0B01-46F9-844E-E4301FEE6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AE6B9-BEFC-4EA4-A277-A337136ED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217CD-26BA-473A-830D-F3AC25C5B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F31C8-4CD1-41CF-A0A8-F91C00F24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BA857-F60F-4027-B2A4-08954359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FA87-BCC8-43F4-B2EC-6280F555D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AF172-B909-4446-9CFA-377DACE0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D608-E563-4D71-A43B-3EF08EDB8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187BE-521C-4140-B297-33E3B48C7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6EA5-8537-4767-A999-CE1342BA3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0A10-84EC-4903-898B-CDCA8FD94ACD}" type="datetime3">
              <a:rPr b="0" lang="en-US" sz="1400" spc="-1" strike="noStrike">
                <a:solidFill>
                  <a:srgbClr val="000000"/>
                </a:solidFill>
                <a:latin typeface="Arial"/>
              </a:rPr>
              <a:t>July 29,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2AA0-2B38-41DF-B31F-1C7BA44FC14A}"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DDA5-2C58-422E-B4E6-52DFDFD38F4C}" type="datetime3">
              <a:rPr b="0" lang="en-US" sz="1400" spc="-1" strike="noStrike">
                <a:solidFill>
                  <a:srgbClr val="ffffff"/>
                </a:solidFill>
                <a:latin typeface="Arial"/>
              </a:rPr>
              <a:t>July 29,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01A6-DFC7-4E30-AFDC-F34137187833}"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2176-FB02-42AC-A585-444B8B82061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ADDB-605F-46A4-B055-A8991EC0EDB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7B2A-90CC-40E4-8562-1D77FF1A712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79A9-B0E4-4B93-8B63-E1E022D8AA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D7B9-9E73-4F4F-9244-E6D58932AA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DC56-06D0-4DF2-B4A5-9B9C32120DA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78B0-842F-4884-853D-CC12D15589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9FC2-2947-43C3-8A25-5FB5432A5F6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3096-9112-4028-8524-25CF4AA563B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3317-4B3A-4204-8955-C7FFD4F934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C2DE-C708-4EDC-845F-159C7C9B943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9A67-CE8E-42A2-B526-4B0F4AF73BA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4F96-1A2C-43F1-B3D9-52CDACA6CCD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DBC8-A3EF-4B65-ABE5-06EB42F00C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22CD-C91E-4227-90D5-3063BAEC61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4D15-C137-4FCF-B3C0-44503178835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030F-6D42-4DBC-81D5-6CD5341660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F94F-FC00-46B6-9389-E1E2002C87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B3AE-49E7-4994-A979-831EE3E21BC9}"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DF03-5F94-49C3-A135-F7D4B48484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9ECF-4F64-4BFC-9CAF-3105C916B3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6DA4-FA04-4B2E-9D5C-CEE99735A98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BF15-B639-485E-91CC-CEBC984B62C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9A01-7EA4-4F1B-BA1D-2AE2A4CCBD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94DE-F70E-4F21-A54B-4DA0241253C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0A0C-9FE3-4098-BA34-C889B8893A85}"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1750-A11E-4850-A299-EFFBF449A93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71EE-6850-40F2-AFF1-C91CDC092C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E696-086D-4D01-872D-AACB2324412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C974-A4A6-4A03-BCDF-D626290F573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7E8E-D79B-449A-B97B-7B44D0AAA1A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EA86-8C0B-43FA-A307-75C24B4DBDE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F704-634A-49BF-896F-EBEE633FFEC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F049-EB77-4F8E-B294-0904FD7E775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01E3-E03E-4B5F-A1E4-3FC39E2B20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C491-7032-445C-A86E-C6174E82938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22B6-2A37-4263-913C-239F9459772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77AB-7B0B-4363-97B5-5F2D2B5C65E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53A9-0B57-4F34-BCB6-ABC7482326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3005-C39E-4668-BD82-B4F24C977F50}"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AB72-0CB1-4FEC-B305-0532B276C36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08E3-0AA2-450D-85D8-A6E9C90B60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