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231C6-0679-4B85-B404-69D3D2648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5CBB6-DE46-40D0-BE1C-2FAA34ED9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D5A27-3938-4360-91D1-075D236F7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C9F0F-12A3-4A92-B913-50324AA17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EA7D8-348A-45FC-A2D3-13CC9F87F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946BC-CC43-4BFA-B4A4-9E7422EB9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32ECC-A823-410E-B49B-76A5E79D1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8B1AE-D0EF-4B5F-BC73-DB326C247D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1FD94-46FF-430F-BFB4-5FC1F529C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E68A9-6FDB-4DFC-8895-A2A07B064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5F237-02F5-4756-8006-426E77907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459FA-51CA-4BCF-8563-6B016ACF8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7748F-EF83-41E1-A407-20E06C0AA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468E3-CEDF-41A9-9EB1-14BB7D3A9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8930B-D041-4DDE-BAA9-995BA6009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4B7F12-F199-4FE2-BA2F-09210824A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FB77E-EA4E-4EE4-BE6E-AF4D147467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3D6EA-9AA3-4A62-93A4-557283A14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E8E6E-11A2-4D70-9D64-F7884E893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90669-D92C-467C-A2BF-F610D28B9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1C696-6A27-4318-B9EA-54B431EC5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8165-F934-4875-9E18-C2D2D3F56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AB20D-9933-4CF3-8CD7-782965428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4DF64-5CDD-493E-B3A3-8C1A4A354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D03A-119F-4B2A-B7F8-F76671A55745}" type="datetime3">
              <a:rPr b="0" lang="en-US" sz="1400" spc="-1" strike="noStrike">
                <a:solidFill>
                  <a:srgbClr val="000000"/>
                </a:solidFill>
                <a:latin typeface="Arial"/>
              </a:rPr>
              <a:t>July 28,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C433-A33E-47DD-A106-D208CA03E70A}"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868B-B70F-4C7D-B24E-FEE8A1339C7D}" type="datetime3">
              <a:rPr b="0" lang="en-US" sz="1400" spc="-1" strike="noStrike">
                <a:solidFill>
                  <a:srgbClr val="ffffff"/>
                </a:solidFill>
                <a:latin typeface="Arial"/>
              </a:rPr>
              <a:t>July 28,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D995-196A-422D-AA88-8FD5E6AA4C50}"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560C-401B-4050-A87D-FD226B0FE2B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35E1-D2E6-498D-8B88-64369728C7E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E8B0-870B-45F5-BC88-1A8184F3412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0C62-10AB-4DEA-B7BD-56F6BE759C9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309F-F672-4E31-A986-E3E82FA6CC4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942EB-2B60-4B77-9201-7A3D25FF28B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C5BD-75C9-4FDD-A8FA-5CDB1FAAC4F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D8F6-F44C-4C9F-97FE-6A6F56E5C3F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9057-A4EC-48B0-B9E8-107F8B16B01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BE1D-1DA4-43FA-9C48-328C10A1F73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2448-79DF-475D-ACE8-44C75E1FB62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4901-5E9B-4356-ADC4-6CFDD18EA06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B605-A44B-4028-8ECE-DA808531377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7CA0-78AE-4BEE-A597-50CF8DEDB54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55EA-131C-4EE8-B6F4-868BC736747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03CC-6449-4674-928A-8B48887EC20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913D-EA84-43BD-9C59-8B8218D8964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5344-F8F3-4A34-A7EA-8089218F926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F2B7-2F11-4006-80EA-A05D3E1EAF8D}"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7604-43D9-4085-B40B-9804C216CC2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B25B-D277-47D7-B1D1-CB2B03EED93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D6D2-7C75-4F59-8B8E-9090FC3DE6F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9522F-9BAA-489B-9F39-D3D9B75F504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D48E-CC51-4CC0-93C5-E7839E1B8C4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072B-FA8C-4F43-BAEC-1580D6EC817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723E-E003-4586-B7F5-838628CA1DCA}"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1011-2A6D-4DFB-B2E8-7E9E525CAF0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E7B16-5B34-4CC2-B453-90893EC9394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CC3F-5760-43B3-96C7-768F361C93E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DE06-36DC-4A6A-9F9D-C500D329738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2CDC-1406-479F-9DB1-883D59E6E2D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3B85-755E-4664-BD18-93FFD030C38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32286-B38C-47E4-A9E1-B3A74355CC9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C8F8-5AFA-4537-B4E7-398023B64FE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02063-44EA-4909-A9EB-DE138BE41F7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5DDC-47E5-4C8E-9698-33100F5D392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D109-B04F-4199-8F3D-83DE3FB623E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3926-BB54-4A3D-92F9-F11EE2A1E7C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4ABC-A520-4BBC-A8B4-B32D052BA0B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DA2B-B161-4CD2-9274-5EC84C8F750C}"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55C6-87A0-4016-B413-BA1ED821AFB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6867-5303-46E2-A012-6AD9665134B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