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C6D92-FBD8-404A-8959-4C4A6E458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02831-F60D-4DB8-8EAC-085843A4A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12F38-762E-476B-94BB-A3E3469AA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42289-23B7-4B31-A484-4BB555C89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3DC8A9-6ECE-452E-AAD0-58FE5843AA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3D53D-CB6A-4724-BDF0-F1178DEDB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356D6-93D7-4E42-A45F-326A15EB1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1519A-A1E4-459A-8A10-E9D597906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13450-38F2-49FB-A2C0-61E02AF33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143D7-564A-48C4-B975-F0FD8B0D0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74A2E-A8E4-4FD9-9F68-5F814E3E1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49E68-A622-42D2-9381-384278860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3E7DC-A068-4EA7-BBF3-F7F4C0D65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68B25-A195-4FB1-8D66-03A85C31C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B3A65-93EA-4BD5-9CB6-708537174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87B026-6634-41E9-B4D2-F589536B51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D0131-DA30-4DB9-A8A3-AB0C2A396B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70E89-A0C7-4C32-AC3F-C5C595D66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BCA3A-62E5-4E36-851E-A81B291C9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038B3-73D7-430A-829E-9C196BB6E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7934A-BE22-4DAC-B7DC-71315321B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DF2EC-FBFE-4517-B0B8-1FE76D1BA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EB635-3ABA-4B9B-87CB-F04CB16D7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9B167-4767-40D9-AB15-5BCC04E4C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AAF9-FA93-480A-93A5-2D8E41350DB2}" type="datetime3">
              <a:rPr b="0" lang="en-US" sz="1400" spc="-1" strike="noStrike">
                <a:solidFill>
                  <a:srgbClr val="000000"/>
                </a:solidFill>
                <a:latin typeface="Arial"/>
              </a:rPr>
              <a:t>July 30,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7D14-7FD8-4C4F-A7BE-EC1965F6B66C}"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BA73-2C5A-4F8D-B355-57C5A5E7C1E9}" type="datetime3">
              <a:rPr b="0" lang="en-US" sz="1400" spc="-1" strike="noStrike">
                <a:solidFill>
                  <a:srgbClr val="ffffff"/>
                </a:solidFill>
                <a:latin typeface="Arial"/>
              </a:rPr>
              <a:t>July 30,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C40B1-1607-4578-A51B-92B4F4243186}"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CCDB4-548D-411A-83A7-21021940F78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6566-78E0-4338-82B9-E5819131503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8209-20AC-4E3E-98D9-9DBC9789D4B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DFF9E-FC7B-4885-96E1-74196166D43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510D-A11B-4CCB-B774-973D471BDE4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F9E3-6A1D-4A11-BE22-C9DB4CE1C6B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AD290-806E-48BC-8ECA-C51D13B26C3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4A0F-E441-4DF7-82ED-69F7A14B49E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477D-87CB-426F-8E0F-4FF5FFC61BE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C5B38-A773-4E43-9A83-B78B22D204A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D544-81D2-4EDF-B396-029F09E24D3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C28E4-FAFB-4375-B3A6-2BD5BCC4B27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8A579-4716-446A-AB7E-9784BF009F9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5C8A-E594-484B-B9BA-DE0E2CD57DF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0BB4C-43DA-41AF-9E8F-17901F693B1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57478-904F-415A-A719-038EC737824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FFC63-F0A8-4225-A436-A8D2D725065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C21B-49FC-47E1-943A-9DC399DC4BE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5686-F298-42C6-878F-0C7C72E25374}"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616E-CADF-4524-A2EB-D1F081FCD96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127F-45A6-40E3-9999-CC525B13770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879C-D4C1-4B53-BE2E-7B15EA9FEE1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B42E-DD97-4A90-B0CC-2B8FA300868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6747F-AA98-4AAC-A790-9A6949BF89A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DE7E-50EA-43EC-9EF3-A74DF9A1406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A8BB-F4F2-494B-B088-1776C3C69543}"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C307-8F09-4409-A9D9-CD6F8803771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92B8C-F78E-408F-BAA0-8EFB535E845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90E0-89C9-4488-8EBC-C5481FAC260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041E-7445-4EA4-9A13-B0D81F54E48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81824-CE58-4040-8C54-D02D014BDB1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210A-4196-46BC-B169-D2E7E0962E7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56E2-35E5-4F20-B5AF-74103320BE1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58CF-7C76-445F-89DD-2D3D14391FA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7A80-405E-48CE-9B0E-FEF6FA8F6DA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48A3-5246-49F0-B160-6C28B95579C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D96C-64D9-4E84-80E3-9518E957A3B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6AC5A-DA3B-4F9B-B7C1-50FD7D0CFE7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0F03F-03C4-4B0F-B6FC-3EB791309E8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838F0-FC25-442B-9132-CF9F1A208474}"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3B1A-3BC7-4F3B-8EE4-09B163DC988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0DFAA-60AF-400F-A931-AC46EC1786D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