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0CEC-18BD-4D8B-928D-6BA61C59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2E92-86EC-4943-B186-0B2C1C6D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A087-86B5-4EA0-8EF5-66115832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D5E6-FC3F-417C-9BD2-AD0ADA51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55EA-7CB1-4664-8BAF-6129F62F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6AD0F-102C-402E-9FF6-C8081FF3FD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85527-AF88-4CF3-B729-830494DB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A1EC7-0584-47FA-AEF6-D8A24DFD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A2BF2-0152-421E-AB8A-0469950E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35103-29E4-4E04-865E-1156782D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28E6-C05E-4B04-ADE6-CEC34A80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D23C1-1083-4BA2-88A7-8FA77F9B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691D7-6546-4862-B956-74009F04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D315A-DD50-481A-A5CF-D2DDDCD7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152CB-63C7-4AC6-97DE-EBFAAB31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37358-ABCF-483A-A099-47501A53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FE2EC-5AC4-45CC-94D3-49176D9B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AAD52-F26E-4320-A0B8-D8FABDD460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7571-9CD0-485A-A026-16C32C1A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31EB-E76C-4628-AE5A-93902DD4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D610-C13D-4B2B-9202-7053B9E5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E8E0-7403-4560-9174-B2BA236B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2239-278B-4AD5-99F1-4EF1B2B7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CDA4-1231-4E38-931E-C286EB69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dddddd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4467-C038-4A70-8A39-879210F8513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Oval 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5409720" y="304920"/>
            <a:ext cx="2667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6019560" y="64767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2"/>
          <p:cNvSpPr/>
          <p:nvPr/>
        </p:nvSpPr>
        <p:spPr>
          <a:xfrm>
            <a:off x="684360" y="33336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dddddd">
                  <a:alpha val="48235"/>
                </a:srgbClr>
              </a:gs>
              <a:gs pos="100000">
                <a:srgbClr val="ffffff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3851280" y="3500280"/>
            <a:ext cx="1582560" cy="1582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dddddd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3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24b98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1F10-5DE0-4091-872D-CB4998DD336E}" type="slidenum">
              <a:rPr b="0" lang="zh-CN" sz="1000" spc="-1" strike="noStrike">
                <a:solidFill>
                  <a:srgbClr val="124b9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5"/>
          </p:nvPr>
        </p:nvSpPr>
        <p:spPr>
          <a:xfrm>
            <a:off x="5409720" y="304920"/>
            <a:ext cx="2667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3505320" y="685800"/>
            <a:ext cx="54115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4b98"/>
                </a:solidFill>
                <a:latin typeface="Arial"/>
                <a:ea typeface="宋体"/>
              </a:rPr>
              <a:t>病原生物学与免疫学</a:t>
            </a:r>
            <a:endParaRPr b="0" lang="en-US" sz="4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主    编  陆予云  汪晓静</a:t>
            </a:r>
            <a:br>
              <a:rPr sz="2400"/>
            </a:b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副主编  孙庶强  李    睿  郝   燕</a:t>
            </a:r>
            <a:br>
              <a:rPr sz="2400"/>
            </a:b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编    委  曹美香  李旭文  李福玲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梅    蕾   魏桂芬 万巧风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杨冬华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北京大学医学出版社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270800" y="2133720"/>
            <a:ext cx="453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微生物的分布及与人类的关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医学微生物学的发展与现状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经验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实验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现代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28600" y="1639800"/>
            <a:ext cx="89154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二、人体寄生虫学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人体寄生虫学的概念与分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人体寄生虫学是研究人体寄生虫的形态结构、生长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繁殖规律、致病机制、实验诊断、流行规律和防治原则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科学。人体寄生虫包括医学原虫、医学蠕虫和医学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肢动物三大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蠕虫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原虫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节肢动物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（二）人体寄生虫学的发展与现状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学习目标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解释免疫的概念与功能；解释微生物、病原微生物、寄生虫的概念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说出免疫的类型；说出微生物、寄生虫的分类及其类型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知道免疫学、医学微生物学与人体寄生虫学的发展与现状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00200" y="57150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495080" y="1676520"/>
            <a:ext cx="6201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一、免疫的概念与功能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免疫的概念  免疫是机体免疫系统识别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自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己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非己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抗原性异物，并通过免疫应答排除抗原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性异物，以维持机体生理功能平衡与稳定的功能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免疫的功能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防御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稳定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监视</a:t>
            </a:r>
            <a:r>
              <a:rPr b="0" lang="zh-CN" sz="1800" spc="-1" strike="noStrike">
                <a:solidFill>
                  <a:srgbClr val="124b98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95920" y="1793880"/>
            <a:ext cx="958428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124b98"/>
                </a:solidFill>
                <a:latin typeface="Arial"/>
                <a:ea typeface="宋体"/>
              </a:rPr>
              <a:t>免疫的功能及其表现</a:t>
            </a:r>
            <a:endParaRPr b="0" lang="en-US" sz="32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___________________________________________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功能     正常表现（有利）         异常表现 （有害）   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------------------------------------------------------------------------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防御     抵抗病原生物入侵        过高：超敏反应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过低：免疫缺陷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稳定     清除衰老、损伤细胞    自身免疫病                 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监视     清除突变细胞               恶性肿瘤</a:t>
            </a:r>
            <a:r>
              <a:rPr b="0" lang="zh-CN" sz="1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b98"/>
                </a:solidFill>
                <a:latin typeface="Arial"/>
                <a:ea typeface="宋体"/>
              </a:rPr>
              <a:t>____________________________________________________________________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723680" y="1828800"/>
            <a:ext cx="603324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免疫的类型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固有免疫  又称非特异性免疫或先天性免疫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是人类在长期的种系发生和进化过程中与微生物接触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逐渐建立起来的防御功能。特点：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生来就有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可以遗传，相对稳定；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无特异性，对各种抗原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异物可迅速应答，产生非特异性的抗感染免疫作用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1828800"/>
            <a:ext cx="1772604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适应性免疫 又称特异性免疫或获得性免疫。是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指人出生后，在后天生活过程中与抗原性物质接触后产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生的免疫。特点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是机体后天生活过程中受抗原物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质刺激产生；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作用特异性，即只对刺激产生该免疫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抗原物质发生作用。适应性免疫是在固有免疫的基础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上建交起来的，主要通过抗体和效应淋巴细胞而发挥体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液免疫和细胞免疫作用（见第四章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应答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。</a:t>
            </a:r>
            <a:r>
              <a:rPr b="0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5"/>
          <p:cNvSpPr/>
          <p:nvPr/>
        </p:nvSpPr>
        <p:spPr>
          <a:xfrm>
            <a:off x="7391520" y="6553080"/>
            <a:ext cx="1523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28600" y="2209680"/>
            <a:ext cx="89154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二、免疫学的发展史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经验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科学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现代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至今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5"/>
          <p:cNvSpPr/>
          <p:nvPr/>
        </p:nvSpPr>
        <p:spPr>
          <a:xfrm>
            <a:off x="7315200" y="6477120"/>
            <a:ext cx="1523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027880" y="1981080"/>
            <a:ext cx="551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一、医学微生物学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微生物的概念与分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微生物是一群个体微小、结构简单，肉眼不能直接见到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必须借助光学或电子显微镜放大几百倍、几千倍甚至几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万倍才能看到的微小生物。微生物具有种类多、分布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广、繁殖快的特点，有的种类与人类关系密切。按其结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构与组成不同，可将它们分为三型八大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640160" y="1752480"/>
            <a:ext cx="6027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非细胞型微生物 无典型的细胞结构，仅由核心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和蛋白质外壳组成，是最小的一类微生物，能通过滤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器。核心中只有单一的核酸（</a:t>
            </a:r>
            <a:r>
              <a:rPr b="0" lang="en-US" sz="2800" spc="-1" strike="noStrike">
                <a:solidFill>
                  <a:srgbClr val="124b98"/>
                </a:solidFill>
                <a:latin typeface="Times New Roman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或</a:t>
            </a:r>
            <a:r>
              <a:rPr b="0" lang="en-US" sz="2800" spc="-1" strike="noStrike">
                <a:solidFill>
                  <a:srgbClr val="124b98"/>
                </a:solidFill>
                <a:latin typeface="Times New Roman"/>
                <a:ea typeface="楷体_GB2312"/>
              </a:rPr>
              <a:t>RNA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，缺乏酶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统，只能在活细胞内增殖。病毒为其代表，另外，近年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发现的结构中没有核酸只有蛋白质的朊粒也归为此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原核细胞型微生物 细胞的分化程度较低，仅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原始核质，无核仁和核膜，胞质内细胞器不完整。包括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细菌、支原体、衣原体、放线菌、立克次体和螺旋体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真核细胞型微生物 细胞核分化程度较高，有核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膜、核仁和染色体，胞质内细胞器完整，真菌属此类微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生物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cp:keywords/>
  <dc:language>en-US</dc:language>
  <cp:lastModifiedBy>USER</cp:lastModifiedBy>
  <cp:lastPrinted>1899-12-30T00:00:00Z</cp:lastPrinted>
  <dcterms:modified xsi:type="dcterms:W3CDTF">2014-04-16T06:42:00Z</dcterms:modified>
  <cp:revision>8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