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B51-BD14-4F5F-AF65-34C3E273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34C-A62C-42BB-930B-96514D3F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B7A-2E3F-448F-8D36-4A289DA4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89E-079C-4BA6-AC2F-C813F179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175F-BE72-42B8-B419-61164394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848A-E1E0-42D4-9AF1-8388540D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AD8D-2701-49D7-B6F7-5C8B15AD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122D-80DE-4CC5-BC92-CCF2758F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ADA9-C01F-4F53-9E1A-0341663E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0657-5F1C-4E7E-8D04-C15D8F19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509A-28A4-4E1F-9765-8398A205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04D-AC15-4088-BDC8-9CD16FA0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29B7-BD73-416E-B649-7C24EB0E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F242-1C67-4DB7-BB91-FA6B93F2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3AB6-1F37-481E-B319-A3F39E71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8E56-F803-4422-82F3-8EE91E0D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57F2-2120-43F5-A46E-8BA93D5C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A28-BCEE-48D0-8C37-6EE82A5C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764-9AFD-4500-A180-76DECB65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A11-5B2A-470E-B400-791565F8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F0E-D645-4E16-96F4-F1896F37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A5B-5B30-4BC6-99E9-A3138066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D1B-81BB-4C85-B5D9-62422842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FF4-B856-46E0-87F4-7016B63F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C12E-A99F-4501-886C-E96D9872DFB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879E-01FE-44CE-8E9D-6A57374AAA5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297180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的发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20968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医学节肢动物的形态特征与主要种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04920"/>
            <a:ext cx="8991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九节 医学节肢动物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44960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对人体的危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5181480"/>
            <a:ext cx="44960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重要医学节肢动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34340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的生态与防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362320" cy="217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2361960" cy="2063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1957680" cy="2133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白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28600" y="3200400"/>
            <a:ext cx="2666880" cy="194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429000" y="3200400"/>
            <a:ext cx="208764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095880" y="3276720"/>
            <a:ext cx="2438640" cy="193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90720" y="541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阴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5562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臭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562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硬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554200" cy="2819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8120" y="3809880"/>
            <a:ext cx="2743200" cy="2244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867280" y="304920"/>
            <a:ext cx="1862280" cy="2590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9880" y="3124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蠕形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312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疥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软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6095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恙螨幼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886200" y="380880"/>
            <a:ext cx="930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" y="380880"/>
          <a:ext cx="8229600" cy="5747040"/>
        </p:xfrm>
        <a:graphic>
          <a:graphicData uri="http://schemas.openxmlformats.org/drawingml/2006/table">
            <a:tbl>
              <a:tblPr/>
              <a:tblGrid>
                <a:gridCol w="2378160"/>
                <a:gridCol w="58514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  <a:ea typeface="楷体_GB2312"/>
                        </a:rPr>
                        <a:t>媒介节肢动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  <a:ea typeface="楷体_GB2312"/>
                        </a:rPr>
                        <a:t>虫媒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疟疾、丝虫病、流行性乙型脑炎、登革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结膜吸吮线虫病；多种消化道、呼吸道、眼部、皮肤的细菌性、病毒性和寄生虫性疾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白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黑热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蚤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鼠疫、地方性斑疹伤寒、膜壳绦虫病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蟑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美丽筒线虫病、缩小膜壳绦虫病等；多种消化道的细菌性、病毒性和寄生虫性疾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流行性斑疹伤寒、虱性回归热、战壕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森林脑炎、新疆出血热、蜱媒回归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恙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恙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革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流行性出血热、森林脑炎、立克次体痘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57400"/>
            <a:ext cx="777240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医学节肢动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直接或间接方式危害人体健康的节肢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媒介节肢动物或传播媒介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能传播疾病的节肢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虫媒病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由媒介节肢动物所传播的疾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九节 医学节肢动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楷体_GB2312"/>
              </a:rPr>
              <a:t>医学节肢动物的形态特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身体分节，两侧对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体表由坚韧的外骨骼组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附肢成对、分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循环系统为开放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节肢动物的形态特征与主要种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楷体_GB2312"/>
              </a:rPr>
              <a:t>医学节肢动物的主要种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昆虫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蚊、蝇、蚤、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蛛形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蜱、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甲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蟹、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蝲蛄、剑水蚤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唇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蜈蚣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倍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马陆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节肢动物的形态特征与主要种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节肢动物由卵到成虫的发育过程中所经历的形态、生理和生活习性等一系列的改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育过程经历蛹期，蛹前发育期的幼虫在形态和生活习性等方面与成虫完全不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半变态或不完全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育过程中无需经历蛹期，成虫前发育期的若虫在形态和生活习性等方面与成虫相似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仅表现为虫体较小，生殖器官未发育成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节肢动物的发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一）直接危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叮刺、吸血和骚扰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蚊、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疥螨、蝇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害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硬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敏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尘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节肢动物对人体的危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间接危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械性传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病原体在节肢动物体内或体表没有发育和繁殖只是被机械性携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物性传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病原体在节肢动物体内必须经过发育、繁殖具有感染性后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才能传播给新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节肢动物对人体的危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楷体_GB2312"/>
              </a:rPr>
              <a:t>（一）医学节肢动物的生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指医学节肢动物与其所生存环境之间的相互关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医学节肢动物的防制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治理、物理防制、化学防制、生物防制、遗传防制以及法规防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四、医学节肢动物的生态与防制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重要医学节肢动物的形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重要医学节肢动物与其传播的虫媒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五、重要医学节肢动物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11:0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