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E8B-3345-4925-9BC7-A9005BD7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81F-AC95-415D-B8A8-8C424A5A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2F5-7962-4708-B091-44F588B5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817-3FAF-4A1E-8155-0F5C3D6B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F0C2-1778-4C4C-AA7F-CF0CBB3B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4EA6-67FD-4399-A460-09F61062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4331-693F-4F51-99D3-DCF8D42D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A4CD-69FF-4116-AEAB-542E778F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F4B0-F503-4361-B8A3-E8D6D8F5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37BD-6DCA-425F-8568-1CEFF3CE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E4DF-B4D0-4407-8D7C-56A86B88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2B8-DE4C-4854-A412-DB26974E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7823-FFA2-40AF-A2B4-FB918EEF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CEF7-48C8-4D0B-86B2-6071E643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DCCE-645A-42D7-AEC1-F6A432BC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FF42-1415-4F20-830E-F587C56B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58B1-D03B-4BC5-A5F8-C0FA85B7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A4A-8E2B-4A1F-A4BD-38648446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D4E-B64F-4CA3-8D79-E05656BB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E11-8657-4871-9E8A-08F75BE2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92B-5468-413B-B95F-882F3573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1525-CA76-45A8-95A4-42A6B1A8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893-FDD2-4294-9CEA-E8906385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571-95C5-4B56-9A75-2D1055A7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D389-5C3F-4C96-9B65-2DCE29AC867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42A2-1674-4092-9D68-693438E8322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52480" y="1143000"/>
            <a:ext cx="5867640" cy="9907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七节 鞭  毛  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2590920"/>
            <a:ext cx="7086600" cy="36576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3048120"/>
            <a:ext cx="472464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阴道毛滴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ahoma"/>
                <a:ea typeface="楷体_GB2312"/>
              </a:rPr>
              <a:t>蓝氏贾第鞭毛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流行因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传染源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男、女性感染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传染途径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直接或间接接触传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滋养体的抵抗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80880"/>
            <a:ext cx="86868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流行与防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057400"/>
            <a:ext cx="8458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３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善共公卫生设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个人卫生，规范个人行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甲硝唑（灭滴灵）内服、外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%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乳酸或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高锰酸钾溶液外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的“自净作用”</a:t>
            </a:r>
            <a:br>
              <a:rPr sz="40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133720"/>
            <a:ext cx="19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乳酸杆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13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上皮细胞中的糖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3048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4197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维持阴道内的酸性环境，抑制了包括滴虫在内的病原生物的生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4382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32004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581280"/>
            <a:ext cx="75960" cy="762120"/>
          </a:xfrm>
          <a:prstGeom prst="downArrow">
            <a:avLst>
              <a:gd name="adj1" fmla="val 50000"/>
              <a:gd name="adj2" fmla="val 25082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外阴瘙痒或烧灼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阴道分泌物增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典型白带为灰黄色泡沫状，有臭味，有时会混有血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滴虫性阴道炎的临床表现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e5ffff"/>
                </a:solidFill>
                <a:latin typeface="Tahoma"/>
                <a:ea typeface="楷体_GB2312"/>
              </a:rPr>
              <a:t>阴道毛滴虫的形态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47920" y="2232000"/>
            <a:ext cx="5562360" cy="321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19520" y="5867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生理盐水直接涂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5ffff"/>
                </a:solidFill>
                <a:latin typeface="Tahoma"/>
                <a:ea typeface="楷体_GB2312"/>
              </a:rPr>
              <a:t>阴道毛滴虫的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5105520" cy="4221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14040" y="2514600"/>
            <a:ext cx="11552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瑞氏或姬氏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滋养体的抵抗力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58080" y="2181960"/>
            <a:ext cx="7827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厕所板上可生存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3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276720"/>
            <a:ext cx="792468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4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中能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0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中可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65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，普通肥皂水中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5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钟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4800600"/>
            <a:ext cx="82296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在潮湿的毛巾、衣裤中可存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3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小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304920"/>
            <a:ext cx="82296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二、蓝氏贾第鞭毛虫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267080" y="2286000"/>
            <a:ext cx="4114800" cy="349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9320" y="23623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32004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4572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2578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2286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蓝氏贾第鞭毛虫的形态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895480"/>
            <a:ext cx="3200400" cy="3581640"/>
          </a:xfrm>
          <a:custGeom>
            <a:avLst/>
            <a:gdLst>
              <a:gd name="textAreaLeft" fmla="*/ 162720 w 3200400"/>
              <a:gd name="textAreaRight" fmla="*/ 3037680 w 3200400"/>
              <a:gd name="textAreaTop" fmla="*/ 162720 h 3581640"/>
              <a:gd name="textAreaBottom" fmla="*/ 3418920 h 3581640"/>
            </a:gdLst>
            <a:ahLst/>
            <a:rect l="textAreaLeft" t="textAreaTop" r="textAreaRight" b="textAreaBottom"/>
            <a:pathLst>
              <a:path w="21600" h="24173">
                <a:moveTo>
                  <a:pt x="3750" y="0"/>
                </a:moveTo>
                <a:arcTo wR="3750" hR="3750" stAng="16200000" swAng="-5400000"/>
                <a:lnTo>
                  <a:pt x="0" y="20423"/>
                </a:lnTo>
                <a:arcTo wR="3750" hR="3750" stAng="10800000" swAng="-5400000"/>
                <a:lnTo>
                  <a:pt x="17850" y="24173"/>
                </a:lnTo>
                <a:arcTo wR="3750" hR="3750" stAng="5400000" swAng="-5400000"/>
                <a:lnTo>
                  <a:pt x="21600" y="3750"/>
                </a:lnTo>
                <a:arcTo wR="3750" hR="3750" stAng="0" swAng="-5400000"/>
                <a:close/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梨形，背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吸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细胞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翻滚式运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057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１．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86200" y="1981080"/>
            <a:ext cx="2200320" cy="2876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41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</a:t>
            </a: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蓝氏贾第鞭毛虫的形态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905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２．包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276720"/>
            <a:ext cx="3352680" cy="3047760"/>
          </a:xfrm>
          <a:prstGeom prst="roundRect">
            <a:avLst>
              <a:gd name="adj" fmla="val 17361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椭圆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囊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丝状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1752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成熟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590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未成熟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19051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302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022560" cy="365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4572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一、阴道毛滴虫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3623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12408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47242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55627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3352680"/>
            <a:ext cx="2133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3276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4572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124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经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3048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分裂增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十二指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4956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随粪便排出体外，发育至四核成熟包囊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蓝氏贾第鞭毛虫的生活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6576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3581280"/>
            <a:ext cx="1295280" cy="76320"/>
          </a:xfrm>
          <a:prstGeom prst="rightArrow">
            <a:avLst>
              <a:gd name="adj1" fmla="val 50000"/>
              <a:gd name="adj2" fmla="val 42429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48006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1337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基本过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蓝氏贾第鞭毛虫的生活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752480"/>
            <a:ext cx="7619760" cy="33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主要知识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寄生部位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十二指肠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阶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成熟的四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方式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经口感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致病阶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152280"/>
            <a:ext cx="815364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蓝氏贾第鞭毛虫的致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828800"/>
            <a:ext cx="723924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致病机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盘的吸附以及化学性刺激对肠黏膜的损伤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量虫体形成的机械性屏障作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宿主的免疫力降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828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临床类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无症状带虫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贾第虫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蓝氏贾第鞭毛虫的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蓝氏贾第鞭毛虫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2209680"/>
            <a:ext cx="64008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病原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粪检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囊   碘液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  生理盐水直接　　　　涂片或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十二指肠引流液检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蓝氏贾第鞭毛虫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1337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31240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区域分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4495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好发人群   免疫力低下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54864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流行因素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包囊的外排量大且抵抗力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2590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卫生条件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657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医疗水平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28954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2209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３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治疗药物：甲硝唑、丙硫咪唑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注意饮食卫生，加强水源、粪便管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蓝氏贾第鞭毛虫流行与防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533520"/>
            <a:ext cx="6299280" cy="4514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362320" y="5562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ahoma"/>
                <a:ea typeface="楷体_GB2312"/>
              </a:rPr>
              <a:t>大量滋养体覆盖于小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腹痛、腹泻、腹胀、呕吐、发热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厌食等。以腹泻为主，腹泻呈水样，量大、恶臭、一般无脓血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贾第虫病的临床表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133720" y="457200"/>
            <a:ext cx="4647960" cy="4600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971800" y="55627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碘液染色中的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女性的阴道、尿道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男性的尿道、生殖系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的寄生部位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5410080" cy="4554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86000" y="5334120"/>
            <a:ext cx="43434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姬氏染色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囊在水中和粪便中分别可以存活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和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以上；加氯消毒饮水不能杀死包囊；在传播媒介蝇的消化道可存活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贾第虫包囊的抵抗力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286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（一）阴道毛滴虫的形态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2286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梨形或椭圆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鞭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波动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2682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228600"/>
            <a:ext cx="853416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（二）阴道毛滴虫的生活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209680"/>
            <a:ext cx="7467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繁殖方式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感染阶段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感染方式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直接或间接接触传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致病阶段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阴道毛滴虫的致病</a:t>
            </a:r>
            <a:br>
              <a:rPr sz="40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057400"/>
            <a:ext cx="64771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致病机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与乳酸杆菌争夺糖原，破坏阴道的“自净作用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致病细菌的协同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机体生理机能失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临床类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滴虫性阴道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滴虫性尿道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男性前列腺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阴道毛滴虫的致病</a:t>
            </a:r>
            <a:br>
              <a:rPr sz="40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阴道毛滴虫的实验诊断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286000"/>
            <a:ext cx="541008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阴道分泌物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理盐水涂片法镜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涂片染色法镜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尿液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前列腺液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2057400"/>
            <a:ext cx="701028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世界性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中青年女性感染居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性传播疾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05:36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