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FB0-A298-4595-9B7D-EA80BB85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1C9-914E-4820-BE5E-FB924A5A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F17-42AC-408D-B558-605B4633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C1B-6A1D-4993-92F9-736809F1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D417-C6F0-4712-95CE-80D4D836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EEA2-42DC-4B1E-989F-30266DB9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CCB1-8EA8-4FD6-AEE5-C464E825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B793-F75D-4548-BF6E-E7B16960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7C3B-3CF1-4B44-A2B7-5218BB55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FE4D-6713-48AA-8398-35B18283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BBE4-65B0-41AD-A528-D67A56A7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C41-A663-4334-A6AD-CACD66DC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85EA-5CEA-469A-A77A-5C60CC1D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A315-D641-4A26-A679-02B977C8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A740-683B-4E95-8420-2F5A6C7B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02DC-6BE8-433F-B5D8-6A9C4A49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9D39-4EDE-41D0-B08E-89D9CD71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DED-1C15-4D33-A410-5CF68AF6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0C9-FA41-45B2-A0B3-89A6E7EC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2B5-2216-4E5C-8FF8-89F4D5D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844-25E6-411A-B906-B6A6E204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A92-0C16-41ED-B967-8B7F193D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CA9-3AC0-46E7-AD6C-B19519F3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D07-E1D6-4D48-BABC-771034CD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2D36-E9CF-4351-ABE9-0B9DFEE23F9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4785-8690-4EA5-BDAC-466BA065C4F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致病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活史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5562720"/>
            <a:ext cx="47242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五节 医学原虫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0"/>
            <a:ext cx="792468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14600"/>
            <a:ext cx="7696080" cy="2971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据运动细胞器分类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足虫纲：阿米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鞭毛虫纲：阴道毛滴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孢子虫纲：疟原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纤毛虫纲：结肠小袋纤毛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医学原虫的分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伪足作为运动器官，做变形运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多有滋养体和包囊两个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于人体的种类只有溶组织内阿米巴致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六节 根 足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溶组织内阿米巴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770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溶组织内阿米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419720" cy="282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5780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外质活动度大，伪足明显，内质含红细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5486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410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45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肠腔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8456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体小、</a:t>
            </a: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楷体_GB2312"/>
              </a:rPr>
              <a:t>伪足不明显，运动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不活泼，内质不含红细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未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2244960" cy="312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5410080"/>
            <a:ext cx="1981080" cy="876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铁苏木素染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13720" y="1981080"/>
            <a:ext cx="233028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0" y="5486400"/>
            <a:ext cx="2057400" cy="862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碘液染色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971800"/>
            <a:ext cx="2133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核包囊双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280" y="184644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7242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514600"/>
            <a:ext cx="1219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7432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514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743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4197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97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562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909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隶书"/>
              </a:rPr>
              <a:t>经口感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819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</a:rPr>
              <a:t>在小肠下段脱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895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结肠下段</a:t>
            </a: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1560" y="4343400"/>
            <a:ext cx="6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侵入组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81040" y="2819520"/>
            <a:ext cx="6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5791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114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59520" y="2438280"/>
            <a:ext cx="100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粪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发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08920" y="38862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稀水样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38800" y="5334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脓血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362320"/>
            <a:ext cx="48006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养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与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核包囊，误食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盲部、结肠黏膜皱褶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殖方式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81080"/>
            <a:ext cx="228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基本形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828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362320"/>
            <a:ext cx="6629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致病因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株毒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的协同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的机体抵抗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057400"/>
            <a:ext cx="52578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临床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症状带虫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784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、细胞质、细胞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个组成部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905120"/>
            <a:ext cx="8001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粪便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理盐水涂片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碘液染色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活组织检查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肠镜检、脓腔穿刺检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免疫学诊断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外阿米巴病的诊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IS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H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法检测抗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625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子生物学检查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针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C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88928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流行于热带和亚热带地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人群的经济状况、卫生条件及饮食习惯等有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方高于北方、农村高于城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流行因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染源外排包囊数量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抵抗力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方式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水源污染，食物污染，蝇、蟑螂等昆虫携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9343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消化道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   甲硝唑、大蒜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3809880" cy="57150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5715000"/>
              <a:gd name="textAreaBottom" fmla="*/ 5529240 h 5715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724280" y="2057400"/>
          <a:ext cx="340848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057400"/>
                    <a:ext cx="3408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24280" y="380880"/>
          <a:ext cx="335304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80880"/>
                    <a:ext cx="33530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895480" y="47242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343400"/>
            <a:ext cx="20574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914400"/>
            <a:ext cx="4114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1430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发部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盲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乙状结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19520"/>
            <a:ext cx="3962160" cy="190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971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溃疡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火山口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孤立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800600"/>
            <a:ext cx="3962520" cy="2057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952880"/>
            <a:ext cx="2819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粪便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果酱样黏液          脓血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9880" y="457200"/>
          <a:ext cx="4953240" cy="29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57200"/>
                    <a:ext cx="4953240" cy="293544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57200" y="990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05740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肝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肺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脑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91320" y="58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阿米巴肝脓肿组织切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0"/>
            <a:ext cx="701064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04812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送：及时、保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2362320"/>
            <a:ext cx="32004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取：脓、黏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676520"/>
            <a:ext cx="50292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看：酱红色黏液，腥臭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762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滋养体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5053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包囊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648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阴性结果时，应间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再查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1080" y="3962520"/>
            <a:ext cx="693432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功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动、营养、排泄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侵袭、感觉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结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单位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质—代谢的中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905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基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971800" y="160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凝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9718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溶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3526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352680" y="31240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膜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8098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352680" y="464832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35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56272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含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5943600" y="327672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伪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943600" y="38098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6019920" y="4343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纤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288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3048120" y="5638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小体、代谢产物、共生物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"/>
            <a:ext cx="8229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52680"/>
            <a:ext cx="8153280" cy="32004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部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核膜   核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仁   染色质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伪足运动  鞭毛运动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毛运动  滑行运动或扭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419720"/>
            <a:ext cx="76960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养与代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摄食与排泄方式多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世代交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性生殖与无性交替出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无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有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2193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接合生殖  纤毛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7432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362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配子生殖   疟原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3807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多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724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出芽生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1337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523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429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2096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发育型  不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际传播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转换宿主型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原虫的生活史类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6668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124080"/>
            <a:ext cx="78487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播散倾向</a:t>
            </a:r>
            <a:br>
              <a:rPr sz="40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巴：血流    肝、肺、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49568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105520"/>
            <a:ext cx="731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弓形虫、肺孢子虫、隐孢子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原虫的致病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600200"/>
            <a:ext cx="83818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增殖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疟原虫：裂体增殖   寒战、发热、出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2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