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F4FC-BA8C-4F0E-93F4-26882B66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0D3A-B69F-45AC-9152-AA09AA28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5040-32B1-4B7D-B88C-8B209394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38F9-7A90-4553-A12B-80B1F033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8AF5-82C2-48F6-A9C3-6E02D7306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0802-F8BE-4E65-B661-BAED58FC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477B-82E3-4B14-BD1F-2F14E016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7816-6D47-4870-9A7E-943160DC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150B-F920-43E2-9BA9-41165965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B7F7-6793-41E0-9654-15ED5258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009C-1A58-4CA6-B364-AEAF059E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46CD-F196-4D48-8C7D-D4C6C695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3667-33B2-46EF-8676-31DD9583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E712-3A2B-45F0-B08E-60DC9A16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D26D-98C3-4369-9F38-5958B6FE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D6A6-332C-4CA5-B754-08B331DA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9A89-C13A-4390-BB4C-CDA05EEC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B4FD-D23F-465F-BC3F-68332AA9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F76B-F413-4684-BBF9-0963653D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0A06-5CEA-416D-8844-D5969282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C31-F292-4EEA-8BD3-8E6F3ACB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6239-5060-46F1-A509-33B6E92B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B5B7-3EE9-4350-BE1C-33616433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6F84-7743-482C-A29E-3B2812B2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49A5-7333-4EF4-B4E9-F673ECD5D0F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A4A6-71D8-482D-91A7-D88C963CF5C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十五章  常见人体寄生虫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熟记常见医学蠕虫、医学原虫的生活史，流行因素与防治原则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学会识别常见医学蠕虫虫和医学原虫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说出各种医学蠕虫、医学原虫的致病机制与所致疾病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归纳常见与人类疾病相关医学节肢动物的发育与变态，对人体的危害与防制原则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解释世代交替、媒介节肢动物、虫媒病、变态、机械性传播、生物性传播的概念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培养学生认真负责的工作态度，能对常见病原检查标本进行采集与送检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ffff"/>
                </a:solidFill>
                <a:latin typeface="楷体_GB2312"/>
                <a:ea typeface="楷体_GB2312"/>
              </a:rPr>
              <a:t>第一节  医学蠕虫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蠕虫是一类内无骨骼，外无甲壳，借肌肉伸缩而蠕动的多细胞无脊椎动物。寄生于人体与医学有关的蠕虫称为医学蠕虫。由蠕虫引起的疾病称为蠕虫病。其中既可寄生在人体也可寄生在某些动物体所致疾病，称人兽共患寄生虫病。蠕虫的幼虫如侵入非适宜宿主体内，造成局部或全身损害的病变，称幼虫移行症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09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ffff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e5ffff"/>
                </a:solidFill>
                <a:latin typeface="Tahoma"/>
              </a:rPr>
              <a:t>依据蠕虫生活史过程中是否需要中间宿主，可将蠕虫分为两大类型：</a:t>
            </a:r>
            <a:br>
              <a:rPr sz="2800"/>
            </a:br>
            <a:r>
              <a:rPr b="1" lang="zh-CN" sz="2800" spc="-1" strike="noStrike">
                <a:solidFill>
                  <a:srgbClr val="e5ffff"/>
                </a:solidFill>
                <a:latin typeface="Tahoma"/>
              </a:rPr>
              <a:t>       ①土源性蠕虫：生活史中不需要中间宿主，其虫卵或幼虫直接在外界（通常在土壤中）发育为感染阶段，经消化道途径或接触途径使人感染。大部分线虫属此类寄生虫。</a:t>
            </a:r>
            <a:br>
              <a:rPr sz="2800"/>
            </a:br>
            <a:r>
              <a:rPr b="1" lang="zh-CN" sz="2800" spc="-1" strike="noStrike">
                <a:solidFill>
                  <a:srgbClr val="e5ffff"/>
                </a:solidFill>
                <a:latin typeface="Tahoma"/>
              </a:rPr>
              <a:t>       ②生物源性蠕虫：生活史中至少需要一个中间宿主，必须经历中间宿主体内发育阶段，才能最终发育成感染阶段。吸虫、大部分绦虫以及部分线虫等属此类寄生虫。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7:44:59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