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FD7E-131B-4D77-A0BC-8E8433CCD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E72E-D784-4A5B-95A8-7D200FBF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7653-A1B4-446E-B239-F12B56008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0EB3-DEF6-447E-B07F-B20E33CAB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6B4D-1288-4005-80A5-E5FBAE3E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EB8F-BC41-4A03-93D8-A78B4DFC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29B8-1BE0-4A5B-81F7-8EE38B02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D2B5-367C-4FFC-A7BA-0EAFC15D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5CE9-0CBC-498C-8886-EABEEF93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D527-7AAE-4273-AC71-F3E0474E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59D1-A3A9-403D-9B77-73815FCA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2C63-4948-44FA-B895-C2DFCE9D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1884-110E-41AF-B5E7-377BCD96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0D70-5E8B-4A28-8925-E13AA260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EAA5-51AD-4DB2-B62B-0DD32F86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5877-DA99-464F-82D7-CE62EAF98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DFE4-B25F-42F6-B4A4-547B1C55B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72F9-60AE-4651-8AFA-D0F9CBFD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E36B-AB99-4729-801D-AD5F0003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B724-C07F-40EF-A869-90D307B5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CA86-00EF-49BC-9C3E-7FE138C3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08B3-50A6-4655-9C3A-041E887F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4D84-C1DD-4337-B5C0-E0A8A875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28CC-365E-469B-A51D-ABD50A00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60FD-B54E-4DBB-8937-9B906C5606A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1544-EE45-4C1E-9C21-D79F393ED24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971800" y="4800600"/>
            <a:ext cx="548640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4114800"/>
            <a:ext cx="45720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3352680"/>
            <a:ext cx="449568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2590920"/>
            <a:ext cx="548640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52280"/>
            <a:ext cx="8839080" cy="228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第十四章 </a:t>
            </a:r>
            <a:br>
              <a:rPr sz="6000"/>
            </a:br>
            <a:r>
              <a:rPr b="1" lang="zh-CN" sz="6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人体寄生虫学概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77840" y="2658960"/>
            <a:ext cx="53866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．解释寄生关系、寄生虫、机会致病性寄生虫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宿主、中间宿主、终宿主、保虫宿主、转续宿主、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活史、感染阶段、非消除性免疫的概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．说出寄生虫对人体的损害以及人体对寄生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的免疫特点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．知道寄生虫病流行的环节、特点和防治原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以及其实验诊断方法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二、寄生虫病的流行状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寄生虫的感染虫种和人数多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食源性寄生虫病的发病率升高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机会致病性寄生虫病的发病人数增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与行为方式有关的寄生虫感染普遍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重要寄生虫病的疫情还不稳定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三节 寄生虫病的流行与防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三、寄生虫病的防治原则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三节 寄生虫病的流行与防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2988000"/>
            <a:ext cx="7238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20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控制传染源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20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切断传播途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20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保护易感人群  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疫情监测、个人防护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一、病原检查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血液、组织液、排泄物或活组织检出寄生虫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二、免疫学诊断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诊断早期、轻度、深部、单性寄生的寄生虫感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四节  寄生虫病的实验诊断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寄生虫感染途径与方式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途径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、食物、土壤、空气、中间宿主、昆虫媒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方式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口感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皮肤感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接触感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媒介节肢动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：经输血、胎盘、呼吸、乳汁及自身感染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控制传染源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17528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  <a:ea typeface="楷体_GB2312"/>
              </a:rPr>
              <a:t>普查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2666880"/>
            <a:ext cx="4572000" cy="838440"/>
          </a:xfrm>
          <a:prstGeom prst="roundRect">
            <a:avLst>
              <a:gd name="adj" fmla="val 22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治疗患者、带虫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3886200"/>
            <a:ext cx="5715000" cy="762120"/>
          </a:xfrm>
          <a:prstGeom prst="roundRect">
            <a:avLst>
              <a:gd name="adj" fmla="val 22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治疗家畜和捕杀野生动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切断传播途径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加强粪便和水源管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注意环境和个人卫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防制媒介节肢动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控制中间宿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2027160"/>
            <a:ext cx="7772400" cy="39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一、寄生虫及其分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概念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营寄生生活的低等小动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分类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体外寄生虫与体内寄生虫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专性寄生虫与兼性寄生虫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机会致病性寄生虫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6094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第一节  寄生虫与宿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560" y="1980720"/>
            <a:ext cx="8839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楷体_GB2312"/>
              </a:rPr>
              <a:t>二、宿主及其种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概念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寄生关系中被寄生虫寄生并受害的生物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种类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终宿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中间宿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保虫宿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转续宿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第一节  寄生虫与宿主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4800600" y="396252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ahoma"/>
                <a:ea typeface="楷体_GB2312"/>
              </a:rPr>
              <a:t>前三种宿主为正常宿主，转续宿主为非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ahoma"/>
                <a:ea typeface="楷体_GB2312"/>
              </a:rPr>
              <a:t>常宿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三、寄生虫的生活史与感染阶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活史：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寄生虫完成一代生长发育繁殖的全过程及其所需要的外界环境条件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感染阶段：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寄生虫生活史中具有感染人体能力的发育阶段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第一节 寄生虫与宿主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一、寄生虫对宿主的损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夺取营养：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寄生虫的共性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机械性损伤：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压迫、损伤、梗阻等多种形式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毒害作用与免疫病理损伤：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由分泌物、排泄物等    所致，为寄生虫最严重的致病作用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-360" y="228600"/>
            <a:ext cx="89917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二节 寄生虫与宿主的相互关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144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二、宿主对寄生虫的免疫作用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固有免疫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非特异性免疫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适应性免疫（特异性免疫）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消除性免疫    少见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非消除性免疫  多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-360" y="228600"/>
            <a:ext cx="89917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二节 寄生虫与宿主的相互关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寄生虫与宿主相互作用的结果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寄生虫被彻底清除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寄生病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带虫感染：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为寄生虫病重要的传染源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-360" y="228600"/>
            <a:ext cx="89917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二节 寄生虫与宿主的相互关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一、寄生虫病的流行环节与特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寄生虫病的流行环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传染源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、带虫者、保虫宿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传播途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易感人群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三节 寄生虫病的流行与防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920" y="1905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寄生虫病的流行特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地方性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寄生虫病在某一地区持续或经常发生的情况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季节性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寄生虫病的发病率与季节变换相关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人兽共患性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些寄生虫病可以在人和动物之间自然地传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6840" y="380880"/>
            <a:ext cx="85345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三节 寄生虫病的流行与防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7:44:06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