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gif" ContentType="image/gif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6863-225B-477C-9CDA-71FB4C9EF7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D566-13CA-4A80-B258-7049524647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3CC6-B707-4FE1-89F2-AD07264ECE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AAB-6E9E-4AEF-A677-BA17137C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CA19-E5EC-4FD7-82B7-6ECCA9E0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76B-669E-4241-B519-E8F57902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738-42FC-4115-8633-6B7B4E1E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3DB-9411-497B-82FD-B7CC2E35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D4ED-6ABC-4754-8235-ED6C27AE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F962-2314-4F7E-8F7D-C60EF5B8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E151-FC09-4C39-9FCE-9927F8B4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F45-3816-4CD8-BAE7-2DB5AEF8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C08-FBD3-47E9-BCBC-88FEE49E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6639-AA2A-4837-BE27-B392BB5C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3B1-E1D7-4078-AE93-CF34F3B2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488F-3145-4D73-898F-989DA7D9FF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03280" y="1413000"/>
            <a:ext cx="61340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1.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霍乱弧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古典生物型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lassical  biotyp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：引起典型的霍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L To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生物型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L-Tor biotyp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：引起副霍乱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2.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不典型的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可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血清凝集，但不产生肠毒素，无致病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3.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非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霍乱弧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生化反应与霍乱弧菌相似，但不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霍乱弧菌血清凝集，一般不致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26920" y="2205000"/>
            <a:ext cx="4464360" cy="117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淡水、咸水中可生存，与浮游生物和藻类等结合，夏季可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黑体"/>
                <a:ea typeface="黑体"/>
              </a:rPr>
              <a:t>对热、干燥、日光、化学消毒剂和酸均很敏感，耐低温和碱性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对外环境抵抗力：古典生物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埃尔托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119700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抵抗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64000" y="4005360"/>
            <a:ext cx="3384720" cy="2477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651640" y="1413000"/>
            <a:ext cx="2950920" cy="2106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4292640"/>
            <a:ext cx="4032360" cy="89244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用漂白粉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1:4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处理病人排泄物与呕吐物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小时可达到消毒的目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本菌对大多数抗生素，如红霉素、氯霉素敏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00000" y="1557360"/>
            <a:ext cx="777096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致病物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）鞭毛与菌毛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细菌进入小肠后，依靠活泼的鞭毛运动穿过黏膜表面的黏液层，通过菌毛黏附于肠壁上皮细胞刷状缘的微绒毛上，并在其上繁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） 霍乱肠毒素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CT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毒素，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T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转变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M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 胞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MP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浓度增高后，促进肠黏膜细胞的分泌功能，结果肠液大量分泌，导致严重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腹泻和呕吐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692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（二）致病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042920" y="2349360"/>
            <a:ext cx="44658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是惟一易感者，患者是主要传染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污染的水和食物经粪口途径传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典型症状：无痛性腹泻，先泄后吐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不伴里急后重，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米泔水样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脱水明显，腓肠肌痉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大）流行、暴发、散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55640" y="1125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所致疾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364000" y="1916280"/>
            <a:ext cx="3600720" cy="431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042920" y="1268280"/>
            <a:ext cx="4105440" cy="4824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典型病例一般在吞食细菌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突然出现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剧烈腹泻和呕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在疾病最严重时，每小时失水量可高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排出如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米泔水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腹泻物。脱水，代谢性酸中毒，低碱血症和低容量性休克及心率不齐和肾衰竭，如未经治疗处理，病死率高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副霍乱弧菌所致疾病较古典生物型所致疾病症状要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vib-4p"/>
          <p:cNvPicPr/>
          <p:nvPr/>
        </p:nvPicPr>
        <p:blipFill>
          <a:blip r:embed="rId1"/>
          <a:srcRect l="72766" t="13706" r="0" b="0"/>
          <a:stretch/>
        </p:blipFill>
        <p:spPr>
          <a:xfrm>
            <a:off x="5580000" y="836640"/>
            <a:ext cx="2562120" cy="324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sta-4"/>
          <p:cNvPicPr/>
          <p:nvPr/>
        </p:nvPicPr>
        <p:blipFill>
          <a:blip r:embed="rId2"/>
          <a:stretch/>
        </p:blipFill>
        <p:spPr>
          <a:xfrm>
            <a:off x="5651640" y="4005360"/>
            <a:ext cx="2449440" cy="2395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268360" y="2205000"/>
            <a:ext cx="37846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再感染少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性抗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肠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亚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抗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原抗体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带菌者少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979640" y="134136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（三）免疫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26920" y="2565360"/>
            <a:ext cx="5832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1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标本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米泔水样粪便、肛拭或呕吐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2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镜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悬滴法检查有无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“鱼群”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穿梭运动的弧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革兰染色观察细菌形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3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培养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标本接种于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碱性蛋白胨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增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选择培养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C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9700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四）微生物学检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80360" y="4292640"/>
            <a:ext cx="1631520" cy="2153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霍乱是烈性传染病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对首例病人的病原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诊断应快速、准确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并及时作出疫情报告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7080" y="3284640"/>
            <a:ext cx="1081080" cy="1079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1773360"/>
            <a:ext cx="392436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预防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加强水源和粪便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培养良好的个人卫生习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疫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死菌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口服菌苗研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疫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发病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上报疫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补充体液和电介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抗生素治疗减少外毒素产生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052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五）防治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081320" y="1844640"/>
            <a:ext cx="46674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2852640"/>
            <a:ext cx="813780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嗜盐：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3.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%NaCl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最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不耐热，不耐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存在于近海的海水、海底沉积物和鱼类、贝类等海产品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引起食物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传播途径：烹饪不当的海产品、盐腌制品或生熟不分所传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潜伏期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7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小时，可从自限性腹泻至中度霍乱样病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强，可重复感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268280"/>
            <a:ext cx="52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副溶血性弧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2714" t="0" r="-636" b="0"/>
          <a:stretch/>
        </p:blipFill>
        <p:spPr>
          <a:xfrm>
            <a:off x="4427640" y="1557360"/>
            <a:ext cx="4016160" cy="2216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835280" y="5445000"/>
            <a:ext cx="56577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海滨旅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吃海鲜要小心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61016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0880" y="1755720"/>
            <a:ext cx="7304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四、弧菌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（</a:t>
            </a: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Vibrio</a:t>
            </a: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19280" y="1628640"/>
            <a:ext cx="540072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弧菌属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ibrio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菌是一大群短小、弯曲成弧形或逗点状的革兰阴性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本属细菌的主要特点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适合生长在碱性培养基中，具有单端单鞭毛，运动活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细菌种类多，对人致病的主要有霍乱弧菌和副溶血性弧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16000" y="1700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四、霍乱弧菌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(</a:t>
            </a:r>
            <a:r>
              <a:rPr b="1" i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V. Chole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2781360"/>
            <a:ext cx="7975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霍乱弧菌（</a:t>
            </a:r>
            <a:r>
              <a:rPr b="1" lang="zh-CN" sz="2400" spc="-1" strike="noStrike">
                <a:solidFill>
                  <a:srgbClr val="ff0000"/>
                </a:solidFill>
                <a:latin typeface="Arial Narrow"/>
                <a:ea typeface="黑体"/>
              </a:rPr>
              <a:t>V.choler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引起霍乱的病原菌。霍乱是一种烈性消化道传染病，属国际检疫的传染病，曾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发生世界性大流行。主要表现为剧烈呕吐、腹泻、脱水，重者可导致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87280" y="1998360"/>
            <a:ext cx="691380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26—183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欧洲发生霍乱流行，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3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就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，共死亡数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40—186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世界霍乱流行，持续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余年，死亡数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63—187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世界霍乱流行持续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之久，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6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东欧就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多万人，总死亡人口超过千万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92—189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3—19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第六次世界霍乱大流行，死亡千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印度霍乱流行，造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死亡。同期发生淋巴腺鼠疫，造成数百万人死亡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印度再次发生霍乱，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907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1628640"/>
            <a:ext cx="69120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弧形逗点革兰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单根鞭毛助运动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鱼群样穿梭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没有芽胞有菌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多数没有荚膜裹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黑体"/>
              </a:rPr>
              <a:t>O139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除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2.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培养与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兼性厌氧要求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嗜碱厌酸助分离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pH8.8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～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9.0 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碱性蛋白胨水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多种糖类都爱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生化反应很活跃      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硝酸盐＋、吲哚＋、过氧化氢酶＋、氧化酶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3480" y="4613400"/>
            <a:ext cx="16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4978" t="4757" r="5688" b="6451"/>
          <a:stretch/>
        </p:blipFill>
        <p:spPr>
          <a:xfrm>
            <a:off x="5796000" y="1125360"/>
            <a:ext cx="2800440" cy="309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17338" t="21337" r="17338" b="38558"/>
          <a:stretch/>
        </p:blipFill>
        <p:spPr>
          <a:xfrm>
            <a:off x="6227640" y="4365720"/>
            <a:ext cx="2232000" cy="1028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3743280" cy="2544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31425" t="1290" r="20855" b="20586"/>
          <a:stretch/>
        </p:blipFill>
        <p:spPr>
          <a:xfrm>
            <a:off x="5435640" y="1197000"/>
            <a:ext cx="2352600" cy="3529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51280" y="4869000"/>
            <a:ext cx="43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霍乱弧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碱性蛋白胨水培养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中生长。液体呈均匀混浊，有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菌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8h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，左侧为阴性对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32000" y="1341360"/>
            <a:ext cx="64818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抗原构造与分型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霍乱弧菌有菌体抗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）和鞭毛抗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）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与其他弧菌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相同，无特异性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特异性高，根据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的不同将其分为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余个血清群，其中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O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群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O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39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引起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霍乱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3284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目前在世界范围内既存在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，也存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血清群霍乱弧菌引起的霍乱流行。由于它们传播速度快，波及面广，如不及时控制，便有可能于短期内造成流行或大流行。因此，由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V.cholera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所引起的霍乱被世界卫生组织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列为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国境卫生检疫传染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也是我国《传染病防治法》中规定强制管理的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甲类传染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之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908000" y="735120"/>
          <a:ext cx="5248440" cy="6122880"/>
        </p:xfrm>
        <a:graphic>
          <a:graphicData uri="http://schemas.openxmlformats.org/drawingml/2006/table">
            <a:tbl>
              <a:tblPr/>
              <a:tblGrid>
                <a:gridCol w="1470240"/>
                <a:gridCol w="1438200"/>
                <a:gridCol w="2340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World-wide cholera pande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ime 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V. choler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17-1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29-18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52-1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63-1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5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81-1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99-1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7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961-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El Tor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8</a:t>
                      </a:r>
                      <a:r>
                        <a:rPr b="1" lang="en-US" sz="18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199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O139 sero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e: 1883 - Robert Koch cultured </a:t>
                      </a:r>
                      <a:r>
                        <a:rPr b="1" i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. choler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2:04:40Z</dcterms:created>
  <dc:creator>JieLi</dc:creator>
  <dc:description/>
  <dc:language>en-US</dc:language>
  <cp:lastModifiedBy>微软用户</cp:lastModifiedBy>
  <dcterms:modified xsi:type="dcterms:W3CDTF">2014-04-17T16:46:29Z</dcterms:modified>
  <cp:revision>22</cp:revision>
  <dc:subject/>
  <dc:title>幻灯片 1</dc:title>
</cp:coreProperties>
</file>